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73D9-63BD-4ACF-AF89-2DF65AD8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68EF-559F-4149-9FFF-BDB6524A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45E9-1F83-4CB1-ACFE-41C12D53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DD80-9DF4-4FC2-AE6F-77713155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4186-8593-4A0B-99E6-3AE3CABB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58A2-BFD4-4BFB-99C4-98A00177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0C11-8656-473D-8600-563654B4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DCDA-524F-478B-A0CA-B3092CF7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ADFB-CCB7-4B66-90CB-1CE94266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D7E-1481-44B4-8D0D-83EB16DA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DF8E-9E23-4FE4-A485-5A5E5585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9A1A-B1F2-49DF-BD62-ECA1A9CC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07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5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F139-5F05-4405-B962-AE76939B73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228760" y="2637000"/>
            <a:ext cx="3313080" cy="1400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25600" y="2747880"/>
            <a:ext cx="296712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在识字时又有新发现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rcRect l="-10101" t="-7188" r="-9754" b="-5203"/>
          <a:stretch/>
        </p:blipFill>
        <p:spPr>
          <a:xfrm>
            <a:off x="5537160" y="1657440"/>
            <a:ext cx="2222640" cy="4044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61550" t="78528" r="0" b="0"/>
          <a:stretch/>
        </p:blipFill>
        <p:spPr>
          <a:xfrm>
            <a:off x="606600" y="679320"/>
            <a:ext cx="1995480" cy="925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58920" y="2441520"/>
            <a:ext cx="7273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趣      干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赶       方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仿       子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袋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代      活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舌       题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页       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48040" y="3571920"/>
            <a:ext cx="68450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„†</a:t>
            </a:r>
            <a:r>
              <a:rPr b="0" lang="zh-CN" sz="23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ˆ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772400" y="2278080"/>
            <a:ext cx="5446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</a:t>
            </a:r>
            <a:r>
              <a:rPr b="0" lang="zh-CN" sz="23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Œ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61550" t="78528" r="0" b="0"/>
          <a:stretch/>
        </p:blipFill>
        <p:spPr>
          <a:xfrm>
            <a:off x="606600" y="679320"/>
            <a:ext cx="1995480" cy="925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915480" y="2333520"/>
            <a:ext cx="7537680" cy="2173320"/>
            <a:chOff x="915480" y="2333520"/>
            <a:chExt cx="7537680" cy="2173320"/>
          </a:xfrm>
        </p:grpSpPr>
        <p:grpSp>
          <p:nvGrpSpPr>
            <p:cNvPr id="50" name=""/>
            <p:cNvGrpSpPr/>
            <p:nvPr/>
          </p:nvGrpSpPr>
          <p:grpSpPr>
            <a:xfrm>
              <a:off x="7048080" y="2852640"/>
              <a:ext cx="1368360" cy="1609920"/>
              <a:chOff x="7048080" y="2852640"/>
              <a:chExt cx="1368360" cy="1609920"/>
            </a:xfrm>
          </p:grpSpPr>
          <p:sp>
            <p:nvSpPr>
              <p:cNvPr id="51" name=""/>
              <p:cNvSpPr/>
              <p:nvPr/>
            </p:nvSpPr>
            <p:spPr>
              <a:xfrm>
                <a:off x="7048080" y="3959280"/>
                <a:ext cx="1368360" cy="503280"/>
              </a:xfrm>
              <a:prstGeom prst="roundRect">
                <a:avLst>
                  <a:gd name="adj" fmla="val 16667"/>
                </a:avLst>
              </a:prstGeom>
              <a:solidFill>
                <a:srgbClr val="00cc00">
                  <a:alpha val="2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425720" y="2852640"/>
                <a:ext cx="576000" cy="576360"/>
              </a:xfrm>
              <a:prstGeom prst="ellipse">
                <a:avLst/>
              </a:prstGeom>
              <a:solidFill>
                <a:srgbClr val="00cc00">
                  <a:alpha val="2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003640" y="2852640"/>
              <a:ext cx="1368000" cy="1609920"/>
              <a:chOff x="5003640" y="2852640"/>
              <a:chExt cx="1368000" cy="1609920"/>
            </a:xfrm>
          </p:grpSpPr>
          <p:sp>
            <p:nvSpPr>
              <p:cNvPr id="54" name=""/>
              <p:cNvSpPr/>
              <p:nvPr/>
            </p:nvSpPr>
            <p:spPr>
              <a:xfrm>
                <a:off x="5003640" y="3959280"/>
                <a:ext cx="1368000" cy="503280"/>
              </a:xfrm>
              <a:prstGeom prst="roundRect">
                <a:avLst>
                  <a:gd name="adj" fmla="val 16667"/>
                </a:avLst>
              </a:prstGeom>
              <a:solidFill>
                <a:srgbClr val="cc0099">
                  <a:alpha val="1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380920" y="2852640"/>
                <a:ext cx="576000" cy="576360"/>
              </a:xfrm>
              <a:prstGeom prst="ellipse">
                <a:avLst/>
              </a:prstGeom>
              <a:solidFill>
                <a:srgbClr val="cc0099">
                  <a:alpha val="1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016080" y="2852640"/>
              <a:ext cx="1368000" cy="1609920"/>
              <a:chOff x="3016080" y="2852640"/>
              <a:chExt cx="1368000" cy="1609920"/>
            </a:xfrm>
          </p:grpSpPr>
          <p:sp>
            <p:nvSpPr>
              <p:cNvPr id="57" name=""/>
              <p:cNvSpPr/>
              <p:nvPr/>
            </p:nvSpPr>
            <p:spPr>
              <a:xfrm>
                <a:off x="3016080" y="3959280"/>
                <a:ext cx="1368000" cy="503280"/>
              </a:xfrm>
              <a:prstGeom prst="roundRect">
                <a:avLst>
                  <a:gd name="adj" fmla="val 16667"/>
                </a:avLst>
              </a:prstGeom>
              <a:solidFill>
                <a:srgbClr val="00ccff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393360" y="2852640"/>
                <a:ext cx="576000" cy="576360"/>
              </a:xfrm>
              <a:prstGeom prst="ellipse">
                <a:avLst/>
              </a:prstGeom>
              <a:solidFill>
                <a:srgbClr val="00ccff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971640" y="2852640"/>
              <a:ext cx="1368000" cy="1609920"/>
              <a:chOff x="971640" y="2852640"/>
              <a:chExt cx="1368000" cy="1609920"/>
            </a:xfrm>
          </p:grpSpPr>
          <p:sp>
            <p:nvSpPr>
              <p:cNvPr id="60" name=""/>
              <p:cNvSpPr/>
              <p:nvPr/>
            </p:nvSpPr>
            <p:spPr>
              <a:xfrm>
                <a:off x="971640" y="3959280"/>
                <a:ext cx="1368000" cy="503280"/>
              </a:xfrm>
              <a:prstGeom prst="roundRect">
                <a:avLst>
                  <a:gd name="adj" fmla="val 16667"/>
                </a:avLst>
              </a:prstGeom>
              <a:solidFill>
                <a:srgbClr val="ffcc00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349280" y="2852640"/>
                <a:ext cx="575640" cy="576360"/>
              </a:xfrm>
              <a:prstGeom prst="ellipse">
                <a:avLst/>
              </a:prstGeom>
              <a:solidFill>
                <a:srgbClr val="ffcc00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915480" y="2749680"/>
              <a:ext cx="1460880" cy="17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FuturaBlack BT"/>
                  <a:ea typeface="楷体_GB2312"/>
                </a:rPr>
                <a:t>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FuturaBlack BT"/>
                  <a:ea typeface="楷体_GB2312"/>
                </a:rPr>
                <a:t>禾    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992280" y="2749680"/>
              <a:ext cx="1460880" cy="17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FuturaBlack BT"/>
                  <a:ea typeface="楷体_GB2312"/>
                </a:rPr>
                <a:t>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FuturaBlack BT"/>
                  <a:ea typeface="楷体_GB2312"/>
                </a:rPr>
                <a:t>火    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47840" y="2749680"/>
              <a:ext cx="1460880" cy="17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FuturaBlack BT"/>
                  <a:ea typeface="楷体_GB2312"/>
                </a:rPr>
                <a:t>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FuturaBlack BT"/>
                  <a:ea typeface="楷体_GB2312"/>
                </a:rPr>
                <a:t>火    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60280" y="2749680"/>
              <a:ext cx="1460880" cy="17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FuturaBlack BT"/>
                  <a:ea typeface="楷体_GB2312"/>
                </a:rPr>
                <a:t>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FuturaBlack BT"/>
                  <a:ea typeface="楷体_GB2312"/>
                </a:rPr>
                <a:t>禾    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74920" y="2333520"/>
              <a:ext cx="48970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00" spc="-1" strike="noStrike">
                  <a:solidFill>
                    <a:srgbClr val="000000"/>
                  </a:solidFill>
                  <a:latin typeface="Kingsoft Phonetic Plain"/>
                  <a:ea typeface="Kingsoft Phonetic Plain"/>
                </a:rPr>
                <a:t></a:t>
              </a:r>
              <a:r>
                <a:rPr b="0" lang="zh-CN" sz="2300" spc="-1" strike="noStrike">
                  <a:solidFill>
                    <a:srgbClr val="000000"/>
                  </a:solidFill>
                  <a:latin typeface="Kingsoft Phonetic Plain"/>
                  <a:ea typeface="Kingsoft Phonetic Plain"/>
                </a:rPr>
                <a:t>ƒƒ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2"/>
          <a:srcRect l="61550" t="78528" r="0" b="0"/>
          <a:stretch/>
        </p:blipFill>
        <p:spPr>
          <a:xfrm>
            <a:off x="606600" y="679320"/>
            <a:ext cx="1995480" cy="925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674640" y="1133640"/>
            <a:ext cx="7785000" cy="4671720"/>
            <a:chOff x="674640" y="1133640"/>
            <a:chExt cx="7785000" cy="4671720"/>
          </a:xfrm>
        </p:grpSpPr>
        <p:pic>
          <p:nvPicPr>
            <p:cNvPr id="69" name="" descr=""/>
            <p:cNvPicPr/>
            <p:nvPr/>
          </p:nvPicPr>
          <p:blipFill>
            <a:blip r:embed="rId2"/>
            <a:srcRect l="54818" t="0" r="2755" b="0"/>
            <a:stretch/>
          </p:blipFill>
          <p:spPr>
            <a:xfrm>
              <a:off x="5227560" y="1133640"/>
              <a:ext cx="3232080" cy="46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3"/>
            <a:srcRect l="0" t="0" r="40277" b="0"/>
            <a:stretch/>
          </p:blipFill>
          <p:spPr>
            <a:xfrm>
              <a:off x="674640" y="1133640"/>
              <a:ext cx="4549680" cy="46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"/>
          <p:cNvGrpSpPr/>
          <p:nvPr/>
        </p:nvGrpSpPr>
        <p:grpSpPr>
          <a:xfrm>
            <a:off x="1555920" y="2662200"/>
            <a:ext cx="6324120" cy="911160"/>
            <a:chOff x="1555920" y="2662200"/>
            <a:chExt cx="6324120" cy="911160"/>
          </a:xfrm>
        </p:grpSpPr>
        <p:sp>
          <p:nvSpPr>
            <p:cNvPr id="72" name=""/>
            <p:cNvSpPr/>
            <p:nvPr/>
          </p:nvSpPr>
          <p:spPr>
            <a:xfrm>
              <a:off x="1555920" y="3573360"/>
              <a:ext cx="632412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55920" y="2662200"/>
              <a:ext cx="632412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547640" y="2611440"/>
            <a:ext cx="646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uturaBlack BT"/>
                <a:ea typeface="楷体_GB2312"/>
              </a:rPr>
              <a:t>字　代　舌　页　弓　秒   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87280" y="1844640"/>
            <a:ext cx="7056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uturaBlack BT"/>
                <a:ea typeface="楷体_GB2312"/>
              </a:rPr>
              <a:t>奇怪　  聪明      活泼　  冰凉　  可口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uturaBlack BT"/>
                <a:ea typeface="楷体_GB2312"/>
              </a:rPr>
              <a:t>准备      赶快　  观看　  包围　  堆积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uturaBlack BT"/>
                <a:ea typeface="楷体_GB2312"/>
              </a:rPr>
              <a:t>花花绿绿　  干干净净　  高高兴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78240" y="1057320"/>
            <a:ext cx="5118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uturaBlack BT"/>
                <a:ea typeface="楷体_GB2312"/>
              </a:rPr>
              <a:t>小鸟，小鸟，你轻轻地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uturaBlack BT"/>
                <a:ea typeface="楷体_GB2312"/>
              </a:rPr>
              <a:t>我栽的小树，它还太小太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uturaBlack BT"/>
                <a:ea typeface="楷体_GB2312"/>
              </a:rPr>
              <a:t>小鸟，小鸟，你轻轻地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uturaBlack BT"/>
                <a:ea typeface="楷体_GB2312"/>
              </a:rPr>
              <a:t>可爱的小树，它还在睡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uturaBlack BT"/>
                <a:ea typeface="楷体_GB2312"/>
              </a:rPr>
              <a:t>小鸟你轻轻地跳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uturaBlack BT"/>
                <a:ea typeface="楷体_GB2312"/>
              </a:rPr>
              <a:t>再轻一点儿，好不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uturaBlack BT"/>
                <a:ea typeface="楷体_GB2312"/>
              </a:rPr>
              <a:t>跳来跳去的小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62600" y="476280"/>
            <a:ext cx="793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uturaBlack BT"/>
                <a:ea typeface="方正美黑简体"/>
              </a:rPr>
              <a:t>小  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93720" y="189000"/>
            <a:ext cx="1357200" cy="1368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00000" y="2451240"/>
            <a:ext cx="7920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垃圾是从哪里来的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跟同学们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交流一下你的发现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怎么处理生活垃圾呢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说你的想法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组合作，把你们的想法画一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60720" y="15573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美黑简体"/>
                <a:ea typeface="黑体"/>
              </a:rPr>
              <a:t>我们身边的垃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940360" y="2198520"/>
            <a:ext cx="2492280" cy="2187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rcRect l="61550" t="23365" r="0" b="53208"/>
          <a:stretch/>
        </p:blipFill>
        <p:spPr>
          <a:xfrm>
            <a:off x="631800" y="690480"/>
            <a:ext cx="1995480" cy="1009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773520" y="2249640"/>
            <a:ext cx="4686120" cy="2284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356000" y="2533680"/>
            <a:ext cx="40323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在商店买东西的时候认识了很多字，还收集了一些食品商标呢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401840" y="2278080"/>
            <a:ext cx="2151000" cy="3095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2:45:17Z</dcterms:created>
  <dc:creator>zhangshufang</dc:creator>
  <dc:description/>
  <dc:language>en-US</dc:language>
  <cp:lastModifiedBy>zhangshufang</cp:lastModifiedBy>
  <dcterms:modified xsi:type="dcterms:W3CDTF">2007-08-13T01:06:43Z</dcterms:modified>
  <cp:revision>10</cp:revision>
  <dc:subject/>
  <dc:title>幻灯片 1</dc:title>
</cp:coreProperties>
</file>