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8.gif" ContentType="image/gif"/>
  <Override PartName="/ppt/media/image20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gif" ContentType="image/gif"/>
  <Override PartName="/ppt/media/image19.gif" ContentType="image/gif"/>
  <Override PartName="/ppt/media/image17.gif" ContentType="image/gif"/>
  <Override PartName="/ppt/media/image2.jpeg" ContentType="image/jpeg"/>
  <Override PartName="/ppt/media/image16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A3A8-C2D7-4269-91DD-FF0E13A6F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4F54-BCA3-4434-96DC-545EF193F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B2CD-53EE-4903-B6D7-0936E36D1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CACA-6573-4B61-9F52-C2A26819D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506ED-EE80-413A-B1E7-84703DF22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70FDC-7F69-440A-85E4-929AC3CED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21582-22CA-4048-9767-DCBE0A26B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1FD36-1F44-466E-BFB7-CF1F335BF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75FEC-45D0-4987-BCEC-C46E5969C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9C9E3-28D6-4707-9ACD-794B183FC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8EE35-E192-4AE7-A474-26E9CD40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4C57-1021-4A1D-BCD2-02290DF12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10888-BE68-4B46-B0DC-EC39AE50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FB726-0413-4284-8CA3-E79C8D13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9E095-1896-4AF3-8981-81DDD26E0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41436-BC68-4F02-ABE2-56001BB71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70C4E-EF99-4AC3-B6AB-D149EC4BE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A8C31-360E-4A7B-B0FB-BAA21A81E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D8A26-79DA-4B3B-8DEC-AFD9A7E4B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811EF-6F76-4CF7-B3E3-DF7FECC49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8B33C-8C78-4746-AA3B-A4F835D7C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E4E82-0798-4FE6-B126-CED12B191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E82F-5D92-4F69-A2D0-E83BA2C31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018EF-51A8-4CA5-AE46-D5C5B325F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0DACB-1687-48CA-AD28-E11B4521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0352B-9597-4FF7-AB7E-F1EA5F97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EF58E-3B15-4FA4-9D30-03F73D85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DDA6D-EEAF-413B-BC42-A188D7E04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4EC9E-6274-4BEE-99ED-5C4725D03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9FBEF-2DC4-4A65-B7C0-AD9BE3EA2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B924C-196B-481B-ABE2-3659E4A10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B7640-DA98-40DB-901D-ACFBBE5F4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BCE03-41BD-4F9B-AC77-4E26F7D9A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4B32-BD6A-4455-B0AF-1AE1E1923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46DA6-2A39-4D03-B6C1-3551D1019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21097-5C69-4458-BE27-2A0860C46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723EF-8DCD-41D7-9F89-32C823538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BE497-F98A-4B7B-9B1A-BDEA93F0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76698-CFD9-4BD3-8089-E8E5E0E4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ED6DC-5AE9-4F17-84C3-B5F54BFC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1DFAF-458E-4870-9250-F94F056AF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F8F6F-0DF4-406E-AAC2-56F3D630F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D465D-F918-4B96-B758-F9BD9DF5C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039F8-25E1-4F1B-A245-DB8F3A148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23C8-BC65-41A2-9041-6DD308BB2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BA000-5137-4999-A43F-78BE889EF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5ECB7-84AD-4C69-91C1-FF4539760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B27D1-F8F5-45E4-BE6D-65EFE0454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CB68A-3FA5-4CF5-BB43-179AC4D3B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971C3-E936-40E5-A233-71929D83E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38FA3-CE37-492A-9879-A4F0D660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4A032-9B0C-49EB-8AFC-8CE416C9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C1BF3-73B6-4321-9FF9-9628AC4E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5BEB6-370A-4D95-95DA-D0EC74EEE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6B347-2921-407C-8844-9720E372F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EAAF-0406-430D-9B1A-ABDF41938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07C13-EDD4-487A-AFA5-6A060C5FD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7B863-EAE6-46B8-9F27-76C40CEF1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4914FF-F4B8-4A08-A877-2E4F9E59E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DE443-B6C2-460A-BAD3-AC084D465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A5B55-FA66-48DB-9150-CE57FE749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37BD5-A057-4AA5-8481-CC11A35E3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018A3E-DD14-482E-ABD0-A5D931651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B96E1-1A91-442F-93F2-7688203D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77BE2-0C00-478C-8C6F-3804F422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AD35B-780C-416A-876F-24105E35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9E57-AB1A-47FA-AC69-C28FC5C9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C80A3A-BF57-4133-8855-20AA3BFDE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795143-6A71-42BD-997D-8885C49C5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70EF42-D885-43FC-B152-DCA1C45DF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A93551-89F2-4E3A-8F39-94959F30A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264CD-BBFC-4443-929B-14AF14663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9DD650-06DA-4A2B-ACA5-DE0ABFF28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4A5C42-854F-4121-8163-973017667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45601B-E2BB-47FE-A48F-507663565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048533-0F4C-4A8C-B510-D9D7C79F1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82341-E116-4830-9F62-131FCAB1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4584-D304-4B97-9874-08682460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D5B2F4-43F1-4F10-BBBA-33D47B4D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2662D-B9D8-4BDF-AAC3-725912016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835FF-EF56-4405-A15B-85A83385B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6D515-F658-4695-91B3-E57C18AD7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82D5F-9639-42FF-AE16-ACC078A9C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1156-058C-4D95-8CD1-15DA140A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257D5-670B-49FC-8BCE-41CDCD346A6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42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46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1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A5E6C-F530-4F37-92A6-9748126C5933}" type="slidenum">
              <a:rPr b="0" lang="zh-CN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20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24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9332C-2162-4ABC-8839-A4BA2A01E69D}" type="slidenum">
              <a:rPr b="0" lang="zh-CN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0"/>
          </p:nvPr>
        </p:nvSpPr>
        <p:spPr>
          <a:xfrm>
            <a:off x="3013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1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AE72D-F113-4381-A94D-B54B4A366A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D1ECC-6C40-4158-B9C1-582A1F4196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ffff"/>
              </a:buClr>
              <a:buSzPct val="7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ffff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081FE-39AF-4E4E-83ED-A85946FEAE0F}" type="slidenum">
              <a:rPr b="0" lang="zh-CN" sz="14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3BBC4-121D-4385-8CD5-3AC0649A2CC7}" type="slidenum">
              <a:rPr b="0" lang="zh-CN" sz="14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image" Target="../media/image20.gif"/><Relationship Id="rId5" Type="http://schemas.openxmlformats.org/officeDocument/2006/relationships/image" Target="../media/image21.gi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5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4140360" y="2997360"/>
            <a:ext cx="338436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识字  </a:t>
            </a: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4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0"/>
            <a:ext cx="57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义务教育课程标准实验教科书一年级下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5219640" y="3860640"/>
            <a:ext cx="1629000" cy="171468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2"/>
          <a:stretch/>
        </p:blipFill>
        <p:spPr>
          <a:xfrm>
            <a:off x="5724360" y="1628640"/>
            <a:ext cx="8859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25" name=""/>
          <p:cNvGrpSpPr/>
          <p:nvPr/>
        </p:nvGrpSpPr>
        <p:grpSpPr>
          <a:xfrm>
            <a:off x="0" y="1268280"/>
            <a:ext cx="4057560" cy="2260800"/>
            <a:chOff x="0" y="1268280"/>
            <a:chExt cx="4057560" cy="2260800"/>
          </a:xfrm>
        </p:grpSpPr>
        <p:pic>
          <p:nvPicPr>
            <p:cNvPr id="426" name="" descr=""/>
            <p:cNvPicPr/>
            <p:nvPr/>
          </p:nvPicPr>
          <p:blipFill>
            <a:blip r:embed="rId3"/>
            <a:stretch/>
          </p:blipFill>
          <p:spPr>
            <a:xfrm>
              <a:off x="0" y="1557360"/>
              <a:ext cx="4057560" cy="197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4"/>
            <a:stretch/>
          </p:blipFill>
          <p:spPr>
            <a:xfrm>
              <a:off x="1258920" y="1268280"/>
              <a:ext cx="2486160" cy="1676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28" name="" descr=""/>
          <p:cNvPicPr/>
          <p:nvPr/>
        </p:nvPicPr>
        <p:blipFill>
          <a:blip r:embed="rId5"/>
          <a:stretch/>
        </p:blipFill>
        <p:spPr>
          <a:xfrm>
            <a:off x="1403280" y="5157720"/>
            <a:ext cx="504720" cy="60984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1547640" y="357336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青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227640" y="299736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蜜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195640" y="587700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瓢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236000" y="5229360"/>
            <a:ext cx="122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2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华文彩云"/>
              </a:rPr>
              <a:t>作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１、收集一些带“虫”的动物的有关资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680" y="-1179360"/>
            <a:ext cx="8540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24000" y="765000"/>
            <a:ext cx="933264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80000"/>
              </a:lnSpc>
              <a:spcBef>
                <a:spcPts val="134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80808"/>
                </a:solidFill>
                <a:latin typeface="Arial"/>
              </a:rPr>
              <a:t>                         </a:t>
            </a:r>
            <a:r>
              <a:rPr b="1" lang="zh-CN" sz="5400" spc="-1" strike="noStrike">
                <a:solidFill>
                  <a:srgbClr val="080808"/>
                </a:solidFill>
                <a:latin typeface="Arial"/>
              </a:rPr>
              <a:t>白兔地上蹦蹦跳。</a:t>
            </a:r>
            <a:endParaRPr b="0" lang="en-US" sz="5400" spc="-1" strike="noStrike">
              <a:solidFill>
                <a:srgbClr val="080808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134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80808"/>
                </a:solidFill>
                <a:latin typeface="Arial"/>
              </a:rPr>
              <a:t> </a:t>
            </a:r>
            <a:br>
              <a:rPr sz="5400"/>
            </a:br>
            <a:r>
              <a:rPr b="1" lang="zh-CN" sz="5400" spc="-1" strike="noStrike">
                <a:solidFill>
                  <a:srgbClr val="080808"/>
                </a:solidFill>
                <a:latin typeface="Arial"/>
              </a:rPr>
              <a:t>    </a:t>
            </a:r>
            <a:r>
              <a:rPr b="1" lang="zh-CN" sz="5400" spc="-1" strike="noStrike">
                <a:solidFill>
                  <a:srgbClr val="080808"/>
                </a:solidFill>
                <a:latin typeface="Arial"/>
              </a:rPr>
              <a:t>小猫房前喵喵叫。</a:t>
            </a:r>
            <a:endParaRPr b="0" lang="en-US" sz="5400" spc="-1" strike="noStrike">
              <a:solidFill>
                <a:srgbClr val="080808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134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80808"/>
                </a:solidFill>
                <a:latin typeface="Arial"/>
              </a:rPr>
              <a:t> </a:t>
            </a:r>
            <a:br>
              <a:rPr sz="5400"/>
            </a:br>
            <a:r>
              <a:rPr b="1" lang="zh-CN" sz="5400" spc="-1" strike="noStrike">
                <a:solidFill>
                  <a:srgbClr val="080808"/>
                </a:solidFill>
                <a:latin typeface="Arial"/>
              </a:rPr>
              <a:t>    </a:t>
            </a:r>
            <a:r>
              <a:rPr b="1" lang="zh-CN" sz="5400" spc="-1" strike="noStrike">
                <a:solidFill>
                  <a:srgbClr val="080808"/>
                </a:solidFill>
                <a:latin typeface="Arial"/>
              </a:rPr>
              <a:t>小狗屋里汪汪叫。 </a:t>
            </a:r>
            <a:br>
              <a:rPr sz="5400"/>
            </a:br>
            <a:r>
              <a:rPr b="1" lang="zh-CN" sz="54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80808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134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80808"/>
                </a:solidFill>
                <a:latin typeface="Arial"/>
              </a:rPr>
              <a:t>    </a:t>
            </a:r>
            <a:r>
              <a:rPr b="1" lang="zh-CN" sz="5400" spc="-1" strike="noStrike">
                <a:solidFill>
                  <a:srgbClr val="080808"/>
                </a:solidFill>
                <a:latin typeface="Arial"/>
              </a:rPr>
              <a:t>大象河边在洗澡。 </a:t>
            </a:r>
            <a:br>
              <a:rPr sz="5400"/>
            </a:br>
            <a:br>
              <a:rPr sz="5400"/>
            </a:br>
            <a:r>
              <a:rPr b="1" lang="zh-CN" sz="54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95280" y="1773360"/>
            <a:ext cx="28814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Arial"/>
              </a:rPr>
              <a:t>qīng tíng</a:t>
            </a:r>
            <a:br>
              <a:rPr sz="4000"/>
            </a:br>
            <a:r>
              <a:rPr b="0" lang="zh-CN" sz="4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蜻  蜓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-181080" y="5300280"/>
            <a:ext cx="266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Arial"/>
              </a:rPr>
              <a:t>mǎ yǐ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Arial"/>
                <a:ea typeface="楷体_GB2312"/>
              </a:rPr>
              <a:t>蚂 蚁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2519280" cy="133200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3708360" y="260280"/>
            <a:ext cx="2158920" cy="161928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443640" y="333360"/>
            <a:ext cx="2089080" cy="173052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755640" y="3357720"/>
            <a:ext cx="2160720" cy="162216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5"/>
          <a:stretch/>
        </p:blipFill>
        <p:spPr>
          <a:xfrm>
            <a:off x="3995640" y="3429000"/>
            <a:ext cx="1484280" cy="158436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6"/>
          <a:stretch/>
        </p:blipFill>
        <p:spPr>
          <a:xfrm>
            <a:off x="6948360" y="3141720"/>
            <a:ext cx="1714680" cy="215892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500720" y="2276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780000" y="1916280"/>
            <a:ext cx="223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Arial"/>
              </a:rPr>
              <a:t>hú</a:t>
            </a:r>
            <a:r>
              <a:rPr b="0" lang="zh-CN" sz="40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4000" spc="-1" strike="noStrike">
                <a:solidFill>
                  <a:srgbClr val="cc0000"/>
                </a:solidFill>
                <a:latin typeface="Arial"/>
              </a:rPr>
              <a:t>di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Arial"/>
                <a:ea typeface="楷体_GB2312"/>
              </a:rPr>
              <a:t>蝴　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443640" y="1916280"/>
            <a:ext cx="237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Arial"/>
              </a:rPr>
              <a:t>qiū</a:t>
            </a:r>
            <a:r>
              <a:rPr b="0" lang="zh-CN" sz="40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4000" spc="-1" strike="noStrike">
                <a:solidFill>
                  <a:srgbClr val="cc0000"/>
                </a:solidFill>
                <a:latin typeface="Arial"/>
              </a:rPr>
              <a:t>yǐ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Arial"/>
                <a:ea typeface="楷体_GB2312"/>
              </a:rPr>
              <a:t>蚯　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635280" y="5229360"/>
            <a:ext cx="230508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Arial"/>
              </a:rPr>
              <a:t>kē</a:t>
            </a:r>
            <a:r>
              <a:rPr b="0" lang="zh-CN" sz="40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4000" spc="-1" strike="noStrike">
                <a:solidFill>
                  <a:srgbClr val="cc0000"/>
                </a:solidFill>
                <a:latin typeface="Arial"/>
              </a:rPr>
              <a:t>dǒ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Arial"/>
                <a:ea typeface="楷体_GB2312"/>
              </a:rPr>
              <a:t>蝌　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555240" y="5229360"/>
            <a:ext cx="242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Arial"/>
              </a:rPr>
              <a:t>zhī</a:t>
            </a:r>
            <a:r>
              <a:rPr b="0" lang="zh-CN" sz="40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4000" spc="-1" strike="noStrike">
                <a:solidFill>
                  <a:srgbClr val="cc0000"/>
                </a:solidFill>
                <a:latin typeface="Arial"/>
              </a:rPr>
              <a:t>zh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Arial"/>
                <a:ea typeface="楷体_GB2312"/>
              </a:rPr>
              <a:t>蜘　  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68000" y="-81144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-757080" y="1700280"/>
            <a:ext cx="349236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Arial"/>
              </a:rPr>
              <a:t>qīng tíng</a:t>
            </a:r>
            <a:br>
              <a:rPr sz="4800"/>
            </a:br>
            <a:r>
              <a:rPr b="1" lang="zh-CN" sz="4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蜻  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-900000" y="3860640"/>
            <a:ext cx="3519360" cy="18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Arial"/>
              </a:rPr>
              <a:t>mǎ</a:t>
            </a:r>
            <a:r>
              <a:rPr b="0" lang="zh-CN" sz="40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4000" spc="-1" strike="noStrike">
                <a:solidFill>
                  <a:srgbClr val="cc0000"/>
                </a:solidFill>
                <a:latin typeface="Arial"/>
              </a:rPr>
              <a:t>y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Arial"/>
                <a:ea typeface="楷体_GB2312"/>
              </a:rPr>
              <a:t>蚂　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492360" y="1844640"/>
            <a:ext cx="252108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Arial"/>
              </a:rPr>
              <a:t>hú</a:t>
            </a:r>
            <a:r>
              <a:rPr b="0" lang="zh-CN" sz="44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4400" spc="-1" strike="noStrike">
                <a:solidFill>
                  <a:srgbClr val="cc0000"/>
                </a:solidFill>
                <a:latin typeface="Arial"/>
              </a:rPr>
              <a:t>di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Arial"/>
                <a:ea typeface="楷体_GB2312"/>
              </a:rPr>
              <a:t>蝴　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119640" y="1773360"/>
            <a:ext cx="302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Arial"/>
              </a:rPr>
              <a:t>qiū</a:t>
            </a:r>
            <a:r>
              <a:rPr b="0" lang="zh-CN" sz="40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4000" spc="-1" strike="noStrike">
                <a:solidFill>
                  <a:srgbClr val="cc0000"/>
                </a:solidFill>
                <a:latin typeface="Arial"/>
              </a:rPr>
              <a:t>yǐ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Arial"/>
                <a:ea typeface="楷体_GB2312"/>
              </a:rPr>
              <a:t>蚯　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419640" y="3860640"/>
            <a:ext cx="27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Arial"/>
              </a:rPr>
              <a:t>kē</a:t>
            </a:r>
            <a:r>
              <a:rPr b="0" lang="zh-CN" sz="40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4000" spc="-1" strike="noStrike">
                <a:solidFill>
                  <a:srgbClr val="cc0000"/>
                </a:solidFill>
                <a:latin typeface="Arial"/>
              </a:rPr>
              <a:t>dǒ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Arial"/>
                <a:ea typeface="楷体_GB2312"/>
              </a:rPr>
              <a:t>蝌　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084720" y="3933720"/>
            <a:ext cx="244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Arial"/>
              </a:rPr>
              <a:t>zhī zh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Arial"/>
                <a:ea typeface="楷体_GB2312"/>
              </a:rPr>
              <a:t>蜘  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468000" y="1196640"/>
            <a:ext cx="80773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24000" y="1052640"/>
            <a:ext cx="8461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Times New Roman"/>
              </a:rPr>
              <a:t>蜻  蜓       </a:t>
            </a:r>
            <a:r>
              <a:rPr b="1" lang="zh-CN" sz="4800" spc="-1" strike="noStrike">
                <a:solidFill>
                  <a:srgbClr val="000066"/>
                </a:solidFill>
                <a:latin typeface="Times New Roman"/>
              </a:rPr>
              <a:t>蝴　蝶         蚯　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Times New Roman"/>
              </a:rPr>
              <a:t>蚂  蚁       </a:t>
            </a:r>
            <a:r>
              <a:rPr b="1" lang="zh-CN" sz="4800" spc="-1" strike="noStrike">
                <a:solidFill>
                  <a:srgbClr val="000066"/>
                </a:solidFill>
                <a:latin typeface="Times New Roman"/>
              </a:rPr>
              <a:t>蝌　蚪         蜘    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860112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-545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00000" y="-171360"/>
            <a:ext cx="8893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zhǎ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蜻蜓半空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展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翅飞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蝴蝶花间捉迷藏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蚯蚓土里造宫殿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yù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蚂蚁地上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运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食粮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蝌蚪池中游得欢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wǎ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蜘蛛房前结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网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忙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2340000" y="981000"/>
            <a:ext cx="4465440" cy="42055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4572000" y="5516640"/>
            <a:ext cx="216000" cy="189000"/>
          </a:xfrm>
          <a:prstGeom prst="ellipse">
            <a:avLst/>
          </a:prstGeom>
          <a:solidFill>
            <a:srgbClr val="008000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" restart="whenNotActive" nodeType="interactiveSeq" fill="hold">
                <p:stCondLst>
                  <p:cond evt="onClick">
                    <p:tgtEl>
                      <p:spTgt spid="389"/>
                    </p:tgtEl>
                  </p:cond>
                </p:stCondLst>
                <p:childTnLst>
                  <p:par>
                    <p:cTn id="185" fill="hold">
                      <p:stCondLst>
                        <p:cond evt="onClick">
                          <p:tgtEl>
                            <p:spTgt spid="389"/>
                          </p:tgtEl>
                        </p:cond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evt="onClick">
                          <p:tgtEl>
                            <p:spTgt spid="389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4" dur="5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rcRect l="5600" t="48468" r="74770" b="23529"/>
          <a:stretch/>
        </p:blipFill>
        <p:spPr>
          <a:xfrm>
            <a:off x="0" y="44280"/>
            <a:ext cx="2268360" cy="2808360"/>
          </a:xfrm>
          <a:prstGeom prst="rect">
            <a:avLst/>
          </a:prstGeom>
          <a:ln w="0">
            <a:noFill/>
          </a:ln>
        </p:spPr>
      </p:pic>
      <p:grpSp>
        <p:nvGrpSpPr>
          <p:cNvPr id="391" name=""/>
          <p:cNvGrpSpPr/>
          <p:nvPr/>
        </p:nvGrpSpPr>
        <p:grpSpPr>
          <a:xfrm>
            <a:off x="2627280" y="1247760"/>
            <a:ext cx="1295280" cy="1366920"/>
            <a:chOff x="2627280" y="1247760"/>
            <a:chExt cx="1295280" cy="1366920"/>
          </a:xfrm>
        </p:grpSpPr>
        <p:sp>
          <p:nvSpPr>
            <p:cNvPr id="392" name=""/>
            <p:cNvSpPr/>
            <p:nvPr/>
          </p:nvSpPr>
          <p:spPr>
            <a:xfrm>
              <a:off x="2627280" y="1247760"/>
              <a:ext cx="1295280" cy="136692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627280" y="1938600"/>
              <a:ext cx="1295280" cy="0"/>
            </a:xfrm>
            <a:prstGeom prst="line">
              <a:avLst/>
            </a:prstGeom>
            <a:ln cap="rnd" w="57240">
              <a:solidFill>
                <a:srgbClr val="ff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267720" y="1247760"/>
              <a:ext cx="0" cy="136692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2668680" y="1268280"/>
            <a:ext cx="168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5867280" y="1197000"/>
            <a:ext cx="1295640" cy="1366920"/>
            <a:chOff x="5867280" y="1197000"/>
            <a:chExt cx="1295640" cy="1366920"/>
          </a:xfrm>
        </p:grpSpPr>
        <p:sp>
          <p:nvSpPr>
            <p:cNvPr id="397" name=""/>
            <p:cNvSpPr/>
            <p:nvPr/>
          </p:nvSpPr>
          <p:spPr>
            <a:xfrm>
              <a:off x="5867280" y="1197000"/>
              <a:ext cx="1295640" cy="136692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867280" y="1887840"/>
              <a:ext cx="1295640" cy="0"/>
            </a:xfrm>
            <a:prstGeom prst="line">
              <a:avLst/>
            </a:prstGeom>
            <a:ln cap="rnd" w="57240">
              <a:solidFill>
                <a:srgbClr val="ff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507720" y="1197000"/>
              <a:ext cx="0" cy="136692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5724360" y="1517760"/>
            <a:ext cx="93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虫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300720" y="1270080"/>
            <a:ext cx="93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2711520" y="3718080"/>
            <a:ext cx="1295280" cy="1366560"/>
            <a:chOff x="2711520" y="3718080"/>
            <a:chExt cx="1295280" cy="1366560"/>
          </a:xfrm>
        </p:grpSpPr>
        <p:sp>
          <p:nvSpPr>
            <p:cNvPr id="403" name=""/>
            <p:cNvSpPr/>
            <p:nvPr/>
          </p:nvSpPr>
          <p:spPr>
            <a:xfrm>
              <a:off x="2711520" y="3718080"/>
              <a:ext cx="1295280" cy="136656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11520" y="4408560"/>
              <a:ext cx="1295280" cy="0"/>
            </a:xfrm>
            <a:prstGeom prst="line">
              <a:avLst/>
            </a:prstGeom>
            <a:ln cap="rnd" w="57240">
              <a:solidFill>
                <a:srgbClr val="ff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351960" y="3718080"/>
              <a:ext cx="0" cy="136656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2484360" y="3789360"/>
            <a:ext cx="93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虫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246480" y="3780000"/>
            <a:ext cx="934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"/>
          <p:cNvGrpSpPr/>
          <p:nvPr/>
        </p:nvGrpSpPr>
        <p:grpSpPr>
          <a:xfrm>
            <a:off x="1619280" y="233280"/>
            <a:ext cx="5799240" cy="6119640"/>
            <a:chOff x="1619280" y="233280"/>
            <a:chExt cx="5799240" cy="6119640"/>
          </a:xfrm>
        </p:grpSpPr>
        <p:sp>
          <p:nvSpPr>
            <p:cNvPr id="409" name=""/>
            <p:cNvSpPr/>
            <p:nvPr/>
          </p:nvSpPr>
          <p:spPr>
            <a:xfrm>
              <a:off x="1619280" y="233280"/>
              <a:ext cx="5799240" cy="6119640"/>
            </a:xfrm>
            <a:prstGeom prst="rect">
              <a:avLst/>
            </a:prstGeom>
            <a:noFill/>
            <a:ln w="381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619280" y="3265200"/>
              <a:ext cx="5799240" cy="0"/>
            </a:xfrm>
            <a:prstGeom prst="line">
              <a:avLst/>
            </a:prstGeom>
            <a:ln cap="rnd" w="57240">
              <a:solidFill>
                <a:srgbClr val="080808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486320" y="233280"/>
              <a:ext cx="0" cy="6119640"/>
            </a:xfrm>
            <a:prstGeom prst="line">
              <a:avLst/>
            </a:prstGeom>
            <a:ln w="57240">
              <a:solidFill>
                <a:srgbClr val="08080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1968480" y="264960"/>
            <a:ext cx="554508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蚁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482920" y="3052800"/>
            <a:ext cx="431640" cy="1079640"/>
          </a:xfrm>
          <a:custGeom>
            <a:avLst/>
            <a:gdLst/>
            <a:ahLst/>
            <a:rect l="l" t="t" r="r" b="b"/>
            <a:pathLst>
              <a:path w="272" h="680">
                <a:moveTo>
                  <a:pt x="0" y="0"/>
                </a:moveTo>
                <a:lnTo>
                  <a:pt x="91" y="0"/>
                </a:lnTo>
                <a:lnTo>
                  <a:pt x="181" y="45"/>
                </a:lnTo>
                <a:lnTo>
                  <a:pt x="227" y="226"/>
                </a:lnTo>
                <a:lnTo>
                  <a:pt x="227" y="317"/>
                </a:lnTo>
                <a:lnTo>
                  <a:pt x="227" y="453"/>
                </a:lnTo>
                <a:lnTo>
                  <a:pt x="272" y="544"/>
                </a:lnTo>
                <a:lnTo>
                  <a:pt x="272" y="680"/>
                </a:lnTo>
                <a:lnTo>
                  <a:pt x="181" y="680"/>
                </a:lnTo>
                <a:lnTo>
                  <a:pt x="136" y="544"/>
                </a:lnTo>
                <a:lnTo>
                  <a:pt x="91" y="408"/>
                </a:lnTo>
                <a:lnTo>
                  <a:pt x="45" y="226"/>
                </a:lnTo>
                <a:lnTo>
                  <a:pt x="45" y="90"/>
                </a:lnTo>
                <a:lnTo>
                  <a:pt x="0" y="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639880" y="2793960"/>
            <a:ext cx="1386000" cy="442800"/>
          </a:xfrm>
          <a:custGeom>
            <a:avLst/>
            <a:gdLst/>
            <a:ahLst/>
            <a:rect l="l" t="t" r="r" b="b"/>
            <a:pathLst>
              <a:path w="873" h="279">
                <a:moveTo>
                  <a:pt x="52" y="187"/>
                </a:moveTo>
                <a:cubicBezTo>
                  <a:pt x="162" y="151"/>
                  <a:pt x="265" y="122"/>
                  <a:pt x="380" y="108"/>
                </a:cubicBezTo>
                <a:cubicBezTo>
                  <a:pt x="456" y="89"/>
                  <a:pt x="524" y="72"/>
                  <a:pt x="602" y="56"/>
                </a:cubicBezTo>
                <a:cubicBezTo>
                  <a:pt x="629" y="51"/>
                  <a:pt x="655" y="39"/>
                  <a:pt x="681" y="30"/>
                </a:cubicBezTo>
                <a:cubicBezTo>
                  <a:pt x="694" y="26"/>
                  <a:pt x="720" y="17"/>
                  <a:pt x="720" y="17"/>
                </a:cubicBezTo>
                <a:cubicBezTo>
                  <a:pt x="805" y="28"/>
                  <a:pt x="873" y="0"/>
                  <a:pt x="812" y="121"/>
                </a:cubicBezTo>
                <a:cubicBezTo>
                  <a:pt x="806" y="133"/>
                  <a:pt x="786" y="131"/>
                  <a:pt x="772" y="134"/>
                </a:cubicBezTo>
                <a:cubicBezTo>
                  <a:pt x="746" y="140"/>
                  <a:pt x="720" y="143"/>
                  <a:pt x="694" y="148"/>
                </a:cubicBezTo>
                <a:cubicBezTo>
                  <a:pt x="532" y="181"/>
                  <a:pt x="579" y="186"/>
                  <a:pt x="380" y="200"/>
                </a:cubicBezTo>
                <a:cubicBezTo>
                  <a:pt x="282" y="232"/>
                  <a:pt x="400" y="190"/>
                  <a:pt x="301" y="239"/>
                </a:cubicBezTo>
                <a:cubicBezTo>
                  <a:pt x="282" y="249"/>
                  <a:pt x="226" y="261"/>
                  <a:pt x="209" y="265"/>
                </a:cubicBezTo>
                <a:cubicBezTo>
                  <a:pt x="165" y="261"/>
                  <a:pt x="113" y="279"/>
                  <a:pt x="78" y="252"/>
                </a:cubicBezTo>
                <a:cubicBezTo>
                  <a:pt x="0" y="191"/>
                  <a:pt x="167" y="149"/>
                  <a:pt x="52" y="187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851280" y="2771640"/>
            <a:ext cx="492120" cy="1074960"/>
          </a:xfrm>
          <a:custGeom>
            <a:avLst/>
            <a:gdLst/>
            <a:ahLst/>
            <a:rect l="l" t="t" r="r" b="b"/>
            <a:pathLst>
              <a:path w="310" h="677">
                <a:moveTo>
                  <a:pt x="22" y="4"/>
                </a:moveTo>
                <a:cubicBezTo>
                  <a:pt x="66" y="11"/>
                  <a:pt x="118" y="3"/>
                  <a:pt x="153" y="31"/>
                </a:cubicBezTo>
                <a:cubicBezTo>
                  <a:pt x="165" y="41"/>
                  <a:pt x="169" y="58"/>
                  <a:pt x="179" y="70"/>
                </a:cubicBezTo>
                <a:cubicBezTo>
                  <a:pt x="199" y="95"/>
                  <a:pt x="218" y="104"/>
                  <a:pt x="245" y="122"/>
                </a:cubicBezTo>
                <a:cubicBezTo>
                  <a:pt x="305" y="212"/>
                  <a:pt x="287" y="171"/>
                  <a:pt x="310" y="240"/>
                </a:cubicBezTo>
                <a:cubicBezTo>
                  <a:pt x="297" y="244"/>
                  <a:pt x="282" y="244"/>
                  <a:pt x="271" y="253"/>
                </a:cubicBezTo>
                <a:cubicBezTo>
                  <a:pt x="211" y="301"/>
                  <a:pt x="273" y="280"/>
                  <a:pt x="232" y="332"/>
                </a:cubicBezTo>
                <a:cubicBezTo>
                  <a:pt x="222" y="344"/>
                  <a:pt x="206" y="349"/>
                  <a:pt x="193" y="358"/>
                </a:cubicBezTo>
                <a:cubicBezTo>
                  <a:pt x="188" y="371"/>
                  <a:pt x="189" y="387"/>
                  <a:pt x="179" y="397"/>
                </a:cubicBezTo>
                <a:cubicBezTo>
                  <a:pt x="169" y="407"/>
                  <a:pt x="146" y="398"/>
                  <a:pt x="140" y="410"/>
                </a:cubicBezTo>
                <a:cubicBezTo>
                  <a:pt x="126" y="438"/>
                  <a:pt x="130" y="471"/>
                  <a:pt x="127" y="502"/>
                </a:cubicBezTo>
                <a:cubicBezTo>
                  <a:pt x="121" y="559"/>
                  <a:pt x="118" y="615"/>
                  <a:pt x="114" y="672"/>
                </a:cubicBezTo>
                <a:cubicBezTo>
                  <a:pt x="88" y="668"/>
                  <a:pt x="55" y="677"/>
                  <a:pt x="35" y="659"/>
                </a:cubicBezTo>
                <a:cubicBezTo>
                  <a:pt x="14" y="641"/>
                  <a:pt x="9" y="580"/>
                  <a:pt x="9" y="580"/>
                </a:cubicBezTo>
                <a:cubicBezTo>
                  <a:pt x="15" y="428"/>
                  <a:pt x="0" y="299"/>
                  <a:pt x="49" y="162"/>
                </a:cubicBezTo>
                <a:cubicBezTo>
                  <a:pt x="44" y="149"/>
                  <a:pt x="35" y="136"/>
                  <a:pt x="35" y="122"/>
                </a:cubicBezTo>
                <a:cubicBezTo>
                  <a:pt x="35" y="0"/>
                  <a:pt x="85" y="36"/>
                  <a:pt x="22" y="4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863800" y="3632040"/>
            <a:ext cx="1211400" cy="387360"/>
          </a:xfrm>
          <a:custGeom>
            <a:avLst/>
            <a:gdLst/>
            <a:ahLst/>
            <a:rect l="l" t="t" r="r" b="b"/>
            <a:pathLst>
              <a:path w="763" h="244">
                <a:moveTo>
                  <a:pt x="3" y="117"/>
                </a:moveTo>
                <a:cubicBezTo>
                  <a:pt x="102" y="103"/>
                  <a:pt x="196" y="83"/>
                  <a:pt x="291" y="52"/>
                </a:cubicBezTo>
                <a:cubicBezTo>
                  <a:pt x="366" y="27"/>
                  <a:pt x="449" y="38"/>
                  <a:pt x="527" y="25"/>
                </a:cubicBezTo>
                <a:cubicBezTo>
                  <a:pt x="599" y="1"/>
                  <a:pt x="648" y="0"/>
                  <a:pt x="723" y="12"/>
                </a:cubicBezTo>
                <a:cubicBezTo>
                  <a:pt x="732" y="25"/>
                  <a:pt x="747" y="36"/>
                  <a:pt x="749" y="52"/>
                </a:cubicBezTo>
                <a:cubicBezTo>
                  <a:pt x="763" y="179"/>
                  <a:pt x="691" y="133"/>
                  <a:pt x="579" y="143"/>
                </a:cubicBezTo>
                <a:cubicBezTo>
                  <a:pt x="535" y="147"/>
                  <a:pt x="492" y="152"/>
                  <a:pt x="448" y="156"/>
                </a:cubicBezTo>
                <a:cubicBezTo>
                  <a:pt x="359" y="201"/>
                  <a:pt x="273" y="200"/>
                  <a:pt x="173" y="209"/>
                </a:cubicBezTo>
                <a:cubicBezTo>
                  <a:pt x="118" y="227"/>
                  <a:pt x="86" y="244"/>
                  <a:pt x="16" y="209"/>
                </a:cubicBezTo>
                <a:cubicBezTo>
                  <a:pt x="0" y="201"/>
                  <a:pt x="7" y="174"/>
                  <a:pt x="3" y="156"/>
                </a:cubicBezTo>
                <a:cubicBezTo>
                  <a:pt x="17" y="113"/>
                  <a:pt x="30" y="117"/>
                  <a:pt x="3" y="117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097080" y="1677960"/>
            <a:ext cx="639720" cy="2951280"/>
          </a:xfrm>
          <a:custGeom>
            <a:avLst/>
            <a:gdLst/>
            <a:ahLst/>
            <a:rect l="l" t="t" r="r" b="b"/>
            <a:pathLst>
              <a:path w="403" h="1859">
                <a:moveTo>
                  <a:pt x="26" y="0"/>
                </a:moveTo>
                <a:cubicBezTo>
                  <a:pt x="61" y="4"/>
                  <a:pt x="98" y="0"/>
                  <a:pt x="131" y="13"/>
                </a:cubicBezTo>
                <a:cubicBezTo>
                  <a:pt x="146" y="19"/>
                  <a:pt x="145" y="42"/>
                  <a:pt x="157" y="52"/>
                </a:cubicBezTo>
                <a:cubicBezTo>
                  <a:pt x="169" y="62"/>
                  <a:pt x="256" y="98"/>
                  <a:pt x="275" y="104"/>
                </a:cubicBezTo>
                <a:cubicBezTo>
                  <a:pt x="292" y="122"/>
                  <a:pt x="317" y="140"/>
                  <a:pt x="314" y="170"/>
                </a:cubicBezTo>
                <a:cubicBezTo>
                  <a:pt x="311" y="195"/>
                  <a:pt x="271" y="325"/>
                  <a:pt x="262" y="353"/>
                </a:cubicBezTo>
                <a:cubicBezTo>
                  <a:pt x="272" y="670"/>
                  <a:pt x="258" y="967"/>
                  <a:pt x="249" y="1283"/>
                </a:cubicBezTo>
                <a:cubicBezTo>
                  <a:pt x="233" y="1813"/>
                  <a:pt x="403" y="1808"/>
                  <a:pt x="118" y="1859"/>
                </a:cubicBezTo>
                <a:cubicBezTo>
                  <a:pt x="109" y="1850"/>
                  <a:pt x="92" y="1844"/>
                  <a:pt x="92" y="1832"/>
                </a:cubicBezTo>
                <a:cubicBezTo>
                  <a:pt x="92" y="1805"/>
                  <a:pt x="118" y="1754"/>
                  <a:pt x="118" y="1754"/>
                </a:cubicBezTo>
                <a:cubicBezTo>
                  <a:pt x="88" y="1394"/>
                  <a:pt x="118" y="1840"/>
                  <a:pt x="118" y="1348"/>
                </a:cubicBezTo>
                <a:cubicBezTo>
                  <a:pt x="118" y="1191"/>
                  <a:pt x="97" y="1034"/>
                  <a:pt x="92" y="877"/>
                </a:cubicBezTo>
                <a:cubicBezTo>
                  <a:pt x="86" y="702"/>
                  <a:pt x="85" y="528"/>
                  <a:pt x="78" y="353"/>
                </a:cubicBezTo>
                <a:cubicBezTo>
                  <a:pt x="71" y="179"/>
                  <a:pt x="94" y="227"/>
                  <a:pt x="39" y="144"/>
                </a:cubicBezTo>
                <a:cubicBezTo>
                  <a:pt x="35" y="131"/>
                  <a:pt x="32" y="117"/>
                  <a:pt x="26" y="104"/>
                </a:cubicBezTo>
                <a:cubicBezTo>
                  <a:pt x="19" y="90"/>
                  <a:pt x="0" y="81"/>
                  <a:pt x="0" y="65"/>
                </a:cubicBezTo>
                <a:cubicBezTo>
                  <a:pt x="0" y="49"/>
                  <a:pt x="20" y="41"/>
                  <a:pt x="26" y="26"/>
                </a:cubicBezTo>
                <a:cubicBezTo>
                  <a:pt x="29" y="18"/>
                  <a:pt x="26" y="9"/>
                  <a:pt x="26" y="0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120760" y="4441680"/>
            <a:ext cx="2014560" cy="747720"/>
          </a:xfrm>
          <a:custGeom>
            <a:avLst/>
            <a:gdLst/>
            <a:ahLst/>
            <a:rect l="l" t="t" r="r" b="b"/>
            <a:pathLst>
              <a:path w="1269" h="471">
                <a:moveTo>
                  <a:pt x="117" y="235"/>
                </a:moveTo>
                <a:cubicBezTo>
                  <a:pt x="277" y="196"/>
                  <a:pt x="0" y="260"/>
                  <a:pt x="379" y="209"/>
                </a:cubicBezTo>
                <a:cubicBezTo>
                  <a:pt x="437" y="201"/>
                  <a:pt x="491" y="178"/>
                  <a:pt x="549" y="170"/>
                </a:cubicBezTo>
                <a:cubicBezTo>
                  <a:pt x="697" y="122"/>
                  <a:pt x="840" y="92"/>
                  <a:pt x="995" y="78"/>
                </a:cubicBezTo>
                <a:cubicBezTo>
                  <a:pt x="1078" y="23"/>
                  <a:pt x="1077" y="29"/>
                  <a:pt x="1165" y="0"/>
                </a:cubicBezTo>
                <a:cubicBezTo>
                  <a:pt x="1193" y="9"/>
                  <a:pt x="1269" y="49"/>
                  <a:pt x="1217" y="91"/>
                </a:cubicBezTo>
                <a:cubicBezTo>
                  <a:pt x="1203" y="102"/>
                  <a:pt x="1182" y="100"/>
                  <a:pt x="1165" y="104"/>
                </a:cubicBezTo>
                <a:cubicBezTo>
                  <a:pt x="1112" y="159"/>
                  <a:pt x="1028" y="160"/>
                  <a:pt x="955" y="170"/>
                </a:cubicBezTo>
                <a:cubicBezTo>
                  <a:pt x="924" y="191"/>
                  <a:pt x="898" y="221"/>
                  <a:pt x="864" y="235"/>
                </a:cubicBezTo>
                <a:cubicBezTo>
                  <a:pt x="831" y="249"/>
                  <a:pt x="759" y="262"/>
                  <a:pt x="759" y="262"/>
                </a:cubicBezTo>
                <a:cubicBezTo>
                  <a:pt x="697" y="303"/>
                  <a:pt x="619" y="304"/>
                  <a:pt x="563" y="340"/>
                </a:cubicBezTo>
                <a:cubicBezTo>
                  <a:pt x="550" y="349"/>
                  <a:pt x="538" y="360"/>
                  <a:pt x="523" y="366"/>
                </a:cubicBezTo>
                <a:cubicBezTo>
                  <a:pt x="498" y="377"/>
                  <a:pt x="472" y="385"/>
                  <a:pt x="445" y="392"/>
                </a:cubicBezTo>
                <a:cubicBezTo>
                  <a:pt x="410" y="401"/>
                  <a:pt x="340" y="419"/>
                  <a:pt x="340" y="419"/>
                </a:cubicBezTo>
                <a:cubicBezTo>
                  <a:pt x="283" y="457"/>
                  <a:pt x="280" y="471"/>
                  <a:pt x="183" y="432"/>
                </a:cubicBezTo>
                <a:cubicBezTo>
                  <a:pt x="170" y="427"/>
                  <a:pt x="176" y="405"/>
                  <a:pt x="170" y="392"/>
                </a:cubicBezTo>
                <a:cubicBezTo>
                  <a:pt x="143" y="337"/>
                  <a:pt x="117" y="297"/>
                  <a:pt x="117" y="235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844800" y="4108320"/>
            <a:ext cx="541440" cy="654120"/>
          </a:xfrm>
          <a:custGeom>
            <a:avLst/>
            <a:gdLst/>
            <a:ahLst/>
            <a:rect l="l" t="t" r="r" b="b"/>
            <a:pathLst>
              <a:path w="341" h="412">
                <a:moveTo>
                  <a:pt x="0" y="0"/>
                </a:moveTo>
                <a:cubicBezTo>
                  <a:pt x="39" y="4"/>
                  <a:pt x="80" y="2"/>
                  <a:pt x="118" y="13"/>
                </a:cubicBezTo>
                <a:cubicBezTo>
                  <a:pt x="130" y="16"/>
                  <a:pt x="133" y="33"/>
                  <a:pt x="144" y="40"/>
                </a:cubicBezTo>
                <a:cubicBezTo>
                  <a:pt x="156" y="47"/>
                  <a:pt x="170" y="49"/>
                  <a:pt x="183" y="53"/>
                </a:cubicBezTo>
                <a:cubicBezTo>
                  <a:pt x="214" y="83"/>
                  <a:pt x="288" y="131"/>
                  <a:pt x="288" y="131"/>
                </a:cubicBezTo>
                <a:cubicBezTo>
                  <a:pt x="302" y="174"/>
                  <a:pt x="326" y="207"/>
                  <a:pt x="341" y="249"/>
                </a:cubicBezTo>
                <a:cubicBezTo>
                  <a:pt x="336" y="288"/>
                  <a:pt x="337" y="329"/>
                  <a:pt x="327" y="367"/>
                </a:cubicBezTo>
                <a:cubicBezTo>
                  <a:pt x="323" y="382"/>
                  <a:pt x="316" y="401"/>
                  <a:pt x="301" y="406"/>
                </a:cubicBezTo>
                <a:cubicBezTo>
                  <a:pt x="284" y="412"/>
                  <a:pt x="266" y="397"/>
                  <a:pt x="249" y="393"/>
                </a:cubicBezTo>
                <a:cubicBezTo>
                  <a:pt x="188" y="332"/>
                  <a:pt x="220" y="369"/>
                  <a:pt x="157" y="275"/>
                </a:cubicBezTo>
                <a:cubicBezTo>
                  <a:pt x="148" y="262"/>
                  <a:pt x="140" y="249"/>
                  <a:pt x="131" y="236"/>
                </a:cubicBezTo>
                <a:cubicBezTo>
                  <a:pt x="122" y="223"/>
                  <a:pt x="105" y="197"/>
                  <a:pt x="105" y="197"/>
                </a:cubicBezTo>
                <a:cubicBezTo>
                  <a:pt x="77" y="112"/>
                  <a:pt x="22" y="92"/>
                  <a:pt x="0" y="0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646520" y="2027160"/>
            <a:ext cx="611280" cy="731880"/>
          </a:xfrm>
          <a:custGeom>
            <a:avLst/>
            <a:gdLst/>
            <a:ahLst/>
            <a:rect l="l" t="t" r="r" b="b"/>
            <a:pathLst>
              <a:path w="385" h="461">
                <a:moveTo>
                  <a:pt x="6" y="15"/>
                </a:moveTo>
                <a:cubicBezTo>
                  <a:pt x="76" y="20"/>
                  <a:pt x="158" y="0"/>
                  <a:pt x="215" y="41"/>
                </a:cubicBezTo>
                <a:cubicBezTo>
                  <a:pt x="235" y="56"/>
                  <a:pt x="250" y="76"/>
                  <a:pt x="268" y="94"/>
                </a:cubicBezTo>
                <a:cubicBezTo>
                  <a:pt x="279" y="105"/>
                  <a:pt x="294" y="111"/>
                  <a:pt x="307" y="120"/>
                </a:cubicBezTo>
                <a:cubicBezTo>
                  <a:pt x="350" y="185"/>
                  <a:pt x="361" y="257"/>
                  <a:pt x="385" y="329"/>
                </a:cubicBezTo>
                <a:cubicBezTo>
                  <a:pt x="376" y="338"/>
                  <a:pt x="369" y="348"/>
                  <a:pt x="359" y="356"/>
                </a:cubicBezTo>
                <a:cubicBezTo>
                  <a:pt x="347" y="366"/>
                  <a:pt x="331" y="371"/>
                  <a:pt x="320" y="382"/>
                </a:cubicBezTo>
                <a:cubicBezTo>
                  <a:pt x="261" y="441"/>
                  <a:pt x="331" y="409"/>
                  <a:pt x="254" y="434"/>
                </a:cubicBezTo>
                <a:cubicBezTo>
                  <a:pt x="220" y="332"/>
                  <a:pt x="267" y="461"/>
                  <a:pt x="215" y="356"/>
                </a:cubicBezTo>
                <a:cubicBezTo>
                  <a:pt x="209" y="343"/>
                  <a:pt x="210" y="328"/>
                  <a:pt x="202" y="316"/>
                </a:cubicBezTo>
                <a:cubicBezTo>
                  <a:pt x="192" y="301"/>
                  <a:pt x="175" y="291"/>
                  <a:pt x="163" y="277"/>
                </a:cubicBezTo>
                <a:cubicBezTo>
                  <a:pt x="153" y="265"/>
                  <a:pt x="147" y="250"/>
                  <a:pt x="137" y="238"/>
                </a:cubicBezTo>
                <a:cubicBezTo>
                  <a:pt x="121" y="219"/>
                  <a:pt x="84" y="185"/>
                  <a:pt x="84" y="185"/>
                </a:cubicBezTo>
                <a:cubicBezTo>
                  <a:pt x="51" y="87"/>
                  <a:pt x="95" y="208"/>
                  <a:pt x="45" y="107"/>
                </a:cubicBezTo>
                <a:cubicBezTo>
                  <a:pt x="39" y="95"/>
                  <a:pt x="39" y="80"/>
                  <a:pt x="32" y="68"/>
                </a:cubicBezTo>
                <a:cubicBezTo>
                  <a:pt x="0" y="14"/>
                  <a:pt x="6" y="68"/>
                  <a:pt x="6" y="15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741840" y="1952640"/>
            <a:ext cx="2368440" cy="3481200"/>
          </a:xfrm>
          <a:custGeom>
            <a:avLst/>
            <a:gdLst/>
            <a:ahLst/>
            <a:rect l="l" t="t" r="r" b="b"/>
            <a:pathLst>
              <a:path w="1492" h="2193">
                <a:moveTo>
                  <a:pt x="1217" y="23"/>
                </a:moveTo>
                <a:cubicBezTo>
                  <a:pt x="1238" y="173"/>
                  <a:pt x="1253" y="309"/>
                  <a:pt x="1204" y="455"/>
                </a:cubicBezTo>
                <a:cubicBezTo>
                  <a:pt x="1200" y="516"/>
                  <a:pt x="1198" y="577"/>
                  <a:pt x="1191" y="638"/>
                </a:cubicBezTo>
                <a:cubicBezTo>
                  <a:pt x="1189" y="652"/>
                  <a:pt x="1181" y="664"/>
                  <a:pt x="1178" y="678"/>
                </a:cubicBezTo>
                <a:cubicBezTo>
                  <a:pt x="1147" y="816"/>
                  <a:pt x="1104" y="948"/>
                  <a:pt x="1060" y="1083"/>
                </a:cubicBezTo>
                <a:cubicBezTo>
                  <a:pt x="1036" y="1156"/>
                  <a:pt x="1024" y="1252"/>
                  <a:pt x="968" y="1306"/>
                </a:cubicBezTo>
                <a:cubicBezTo>
                  <a:pt x="941" y="1359"/>
                  <a:pt x="919" y="1395"/>
                  <a:pt x="877" y="1437"/>
                </a:cubicBezTo>
                <a:cubicBezTo>
                  <a:pt x="855" y="1504"/>
                  <a:pt x="824" y="1529"/>
                  <a:pt x="772" y="1581"/>
                </a:cubicBezTo>
                <a:cubicBezTo>
                  <a:pt x="761" y="1592"/>
                  <a:pt x="757" y="1609"/>
                  <a:pt x="746" y="1620"/>
                </a:cubicBezTo>
                <a:cubicBezTo>
                  <a:pt x="717" y="1649"/>
                  <a:pt x="683" y="1670"/>
                  <a:pt x="654" y="1699"/>
                </a:cubicBezTo>
                <a:cubicBezTo>
                  <a:pt x="641" y="1712"/>
                  <a:pt x="632" y="1731"/>
                  <a:pt x="615" y="1738"/>
                </a:cubicBezTo>
                <a:cubicBezTo>
                  <a:pt x="584" y="1751"/>
                  <a:pt x="554" y="1764"/>
                  <a:pt x="523" y="1777"/>
                </a:cubicBezTo>
                <a:cubicBezTo>
                  <a:pt x="507" y="1799"/>
                  <a:pt x="439" y="1892"/>
                  <a:pt x="419" y="1908"/>
                </a:cubicBezTo>
                <a:cubicBezTo>
                  <a:pt x="408" y="1917"/>
                  <a:pt x="392" y="1915"/>
                  <a:pt x="379" y="1921"/>
                </a:cubicBezTo>
                <a:cubicBezTo>
                  <a:pt x="218" y="1995"/>
                  <a:pt x="328" y="1957"/>
                  <a:pt x="235" y="1987"/>
                </a:cubicBezTo>
                <a:cubicBezTo>
                  <a:pt x="200" y="2013"/>
                  <a:pt x="162" y="2034"/>
                  <a:pt x="131" y="2065"/>
                </a:cubicBezTo>
                <a:cubicBezTo>
                  <a:pt x="113" y="2083"/>
                  <a:pt x="102" y="2110"/>
                  <a:pt x="78" y="2118"/>
                </a:cubicBezTo>
                <a:cubicBezTo>
                  <a:pt x="52" y="2127"/>
                  <a:pt x="0" y="2144"/>
                  <a:pt x="0" y="2144"/>
                </a:cubicBezTo>
                <a:cubicBezTo>
                  <a:pt x="74" y="2193"/>
                  <a:pt x="117" y="2157"/>
                  <a:pt x="196" y="2131"/>
                </a:cubicBezTo>
                <a:cubicBezTo>
                  <a:pt x="269" y="2107"/>
                  <a:pt x="331" y="2070"/>
                  <a:pt x="406" y="2052"/>
                </a:cubicBezTo>
                <a:cubicBezTo>
                  <a:pt x="507" y="1985"/>
                  <a:pt x="454" y="2010"/>
                  <a:pt x="563" y="1974"/>
                </a:cubicBezTo>
                <a:cubicBezTo>
                  <a:pt x="585" y="1952"/>
                  <a:pt x="606" y="1930"/>
                  <a:pt x="628" y="1908"/>
                </a:cubicBezTo>
                <a:cubicBezTo>
                  <a:pt x="661" y="1874"/>
                  <a:pt x="713" y="1864"/>
                  <a:pt x="746" y="1830"/>
                </a:cubicBezTo>
                <a:cubicBezTo>
                  <a:pt x="782" y="1793"/>
                  <a:pt x="760" y="1807"/>
                  <a:pt x="811" y="1790"/>
                </a:cubicBezTo>
                <a:cubicBezTo>
                  <a:pt x="820" y="1781"/>
                  <a:pt x="827" y="1770"/>
                  <a:pt x="838" y="1764"/>
                </a:cubicBezTo>
                <a:cubicBezTo>
                  <a:pt x="850" y="1757"/>
                  <a:pt x="866" y="1760"/>
                  <a:pt x="877" y="1751"/>
                </a:cubicBezTo>
                <a:cubicBezTo>
                  <a:pt x="961" y="1684"/>
                  <a:pt x="844" y="1732"/>
                  <a:pt x="942" y="1699"/>
                </a:cubicBezTo>
                <a:cubicBezTo>
                  <a:pt x="973" y="1651"/>
                  <a:pt x="1001" y="1603"/>
                  <a:pt x="1034" y="1555"/>
                </a:cubicBezTo>
                <a:cubicBezTo>
                  <a:pt x="1052" y="1529"/>
                  <a:pt x="1086" y="1476"/>
                  <a:pt x="1086" y="1476"/>
                </a:cubicBezTo>
                <a:cubicBezTo>
                  <a:pt x="1119" y="1345"/>
                  <a:pt x="1074" y="1483"/>
                  <a:pt x="1126" y="1398"/>
                </a:cubicBezTo>
                <a:cubicBezTo>
                  <a:pt x="1133" y="1386"/>
                  <a:pt x="1133" y="1371"/>
                  <a:pt x="1139" y="1358"/>
                </a:cubicBezTo>
                <a:cubicBezTo>
                  <a:pt x="1191" y="1253"/>
                  <a:pt x="1144" y="1382"/>
                  <a:pt x="1178" y="1280"/>
                </a:cubicBezTo>
                <a:cubicBezTo>
                  <a:pt x="1182" y="1254"/>
                  <a:pt x="1179" y="1225"/>
                  <a:pt x="1191" y="1201"/>
                </a:cubicBezTo>
                <a:cubicBezTo>
                  <a:pt x="1198" y="1187"/>
                  <a:pt x="1219" y="1186"/>
                  <a:pt x="1230" y="1175"/>
                </a:cubicBezTo>
                <a:cubicBezTo>
                  <a:pt x="1241" y="1164"/>
                  <a:pt x="1246" y="1148"/>
                  <a:pt x="1256" y="1136"/>
                </a:cubicBezTo>
                <a:cubicBezTo>
                  <a:pt x="1264" y="1126"/>
                  <a:pt x="1274" y="1119"/>
                  <a:pt x="1283" y="1110"/>
                </a:cubicBezTo>
                <a:cubicBezTo>
                  <a:pt x="1300" y="1040"/>
                  <a:pt x="1301" y="969"/>
                  <a:pt x="1322" y="900"/>
                </a:cubicBezTo>
                <a:cubicBezTo>
                  <a:pt x="1330" y="874"/>
                  <a:pt x="1339" y="848"/>
                  <a:pt x="1348" y="822"/>
                </a:cubicBezTo>
                <a:cubicBezTo>
                  <a:pt x="1352" y="809"/>
                  <a:pt x="1361" y="782"/>
                  <a:pt x="1361" y="782"/>
                </a:cubicBezTo>
                <a:cubicBezTo>
                  <a:pt x="1365" y="738"/>
                  <a:pt x="1366" y="694"/>
                  <a:pt x="1374" y="651"/>
                </a:cubicBezTo>
                <a:cubicBezTo>
                  <a:pt x="1379" y="624"/>
                  <a:pt x="1394" y="600"/>
                  <a:pt x="1400" y="573"/>
                </a:cubicBezTo>
                <a:cubicBezTo>
                  <a:pt x="1405" y="551"/>
                  <a:pt x="1410" y="529"/>
                  <a:pt x="1414" y="507"/>
                </a:cubicBezTo>
                <a:cubicBezTo>
                  <a:pt x="1433" y="398"/>
                  <a:pt x="1457" y="286"/>
                  <a:pt x="1492" y="180"/>
                </a:cubicBezTo>
                <a:cubicBezTo>
                  <a:pt x="1465" y="73"/>
                  <a:pt x="1409" y="43"/>
                  <a:pt x="1309" y="10"/>
                </a:cubicBezTo>
                <a:cubicBezTo>
                  <a:pt x="1280" y="0"/>
                  <a:pt x="1248" y="19"/>
                  <a:pt x="1217" y="23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343400" y="2903400"/>
            <a:ext cx="2743200" cy="2473560"/>
          </a:xfrm>
          <a:custGeom>
            <a:avLst/>
            <a:gdLst/>
            <a:ahLst/>
            <a:rect l="l" t="t" r="r" b="b"/>
            <a:pathLst>
              <a:path w="1728" h="1558">
                <a:moveTo>
                  <a:pt x="26" y="0"/>
                </a:moveTo>
                <a:cubicBezTo>
                  <a:pt x="65" y="4"/>
                  <a:pt x="106" y="3"/>
                  <a:pt x="144" y="13"/>
                </a:cubicBezTo>
                <a:cubicBezTo>
                  <a:pt x="173" y="20"/>
                  <a:pt x="195" y="43"/>
                  <a:pt x="223" y="52"/>
                </a:cubicBezTo>
                <a:cubicBezTo>
                  <a:pt x="310" y="140"/>
                  <a:pt x="377" y="236"/>
                  <a:pt x="445" y="340"/>
                </a:cubicBezTo>
                <a:cubicBezTo>
                  <a:pt x="454" y="353"/>
                  <a:pt x="460" y="369"/>
                  <a:pt x="471" y="380"/>
                </a:cubicBezTo>
                <a:cubicBezTo>
                  <a:pt x="480" y="389"/>
                  <a:pt x="490" y="396"/>
                  <a:pt x="498" y="406"/>
                </a:cubicBezTo>
                <a:cubicBezTo>
                  <a:pt x="517" y="431"/>
                  <a:pt x="550" y="484"/>
                  <a:pt x="550" y="484"/>
                </a:cubicBezTo>
                <a:cubicBezTo>
                  <a:pt x="574" y="558"/>
                  <a:pt x="624" y="608"/>
                  <a:pt x="668" y="668"/>
                </a:cubicBezTo>
                <a:cubicBezTo>
                  <a:pt x="687" y="693"/>
                  <a:pt x="710" y="716"/>
                  <a:pt x="720" y="746"/>
                </a:cubicBezTo>
                <a:cubicBezTo>
                  <a:pt x="724" y="759"/>
                  <a:pt x="726" y="773"/>
                  <a:pt x="733" y="785"/>
                </a:cubicBezTo>
                <a:cubicBezTo>
                  <a:pt x="771" y="849"/>
                  <a:pt x="838" y="898"/>
                  <a:pt x="877" y="956"/>
                </a:cubicBezTo>
                <a:cubicBezTo>
                  <a:pt x="895" y="982"/>
                  <a:pt x="912" y="1008"/>
                  <a:pt x="930" y="1034"/>
                </a:cubicBezTo>
                <a:cubicBezTo>
                  <a:pt x="948" y="1060"/>
                  <a:pt x="982" y="1069"/>
                  <a:pt x="1008" y="1087"/>
                </a:cubicBezTo>
                <a:cubicBezTo>
                  <a:pt x="1023" y="1097"/>
                  <a:pt x="1032" y="1115"/>
                  <a:pt x="1047" y="1126"/>
                </a:cubicBezTo>
                <a:cubicBezTo>
                  <a:pt x="1114" y="1178"/>
                  <a:pt x="1106" y="1171"/>
                  <a:pt x="1165" y="1191"/>
                </a:cubicBezTo>
                <a:cubicBezTo>
                  <a:pt x="1276" y="1275"/>
                  <a:pt x="1413" y="1343"/>
                  <a:pt x="1545" y="1388"/>
                </a:cubicBezTo>
                <a:cubicBezTo>
                  <a:pt x="1591" y="1403"/>
                  <a:pt x="1611" y="1424"/>
                  <a:pt x="1650" y="1453"/>
                </a:cubicBezTo>
                <a:cubicBezTo>
                  <a:pt x="1675" y="1472"/>
                  <a:pt x="1728" y="1505"/>
                  <a:pt x="1728" y="1505"/>
                </a:cubicBezTo>
                <a:cubicBezTo>
                  <a:pt x="1719" y="1514"/>
                  <a:pt x="1713" y="1526"/>
                  <a:pt x="1702" y="1532"/>
                </a:cubicBezTo>
                <a:cubicBezTo>
                  <a:pt x="1677" y="1544"/>
                  <a:pt x="1623" y="1558"/>
                  <a:pt x="1623" y="1558"/>
                </a:cubicBezTo>
                <a:cubicBezTo>
                  <a:pt x="1440" y="1554"/>
                  <a:pt x="1257" y="1557"/>
                  <a:pt x="1074" y="1545"/>
                </a:cubicBezTo>
                <a:cubicBezTo>
                  <a:pt x="1058" y="1544"/>
                  <a:pt x="1025" y="1484"/>
                  <a:pt x="1021" y="1479"/>
                </a:cubicBezTo>
                <a:cubicBezTo>
                  <a:pt x="984" y="1434"/>
                  <a:pt x="991" y="1443"/>
                  <a:pt x="943" y="1427"/>
                </a:cubicBezTo>
                <a:cubicBezTo>
                  <a:pt x="912" y="1333"/>
                  <a:pt x="933" y="1371"/>
                  <a:pt x="890" y="1309"/>
                </a:cubicBezTo>
                <a:cubicBezTo>
                  <a:pt x="876" y="1266"/>
                  <a:pt x="839" y="1234"/>
                  <a:pt x="825" y="1191"/>
                </a:cubicBezTo>
                <a:cubicBezTo>
                  <a:pt x="821" y="1178"/>
                  <a:pt x="821" y="1163"/>
                  <a:pt x="812" y="1152"/>
                </a:cubicBezTo>
                <a:cubicBezTo>
                  <a:pt x="802" y="1140"/>
                  <a:pt x="786" y="1135"/>
                  <a:pt x="773" y="1126"/>
                </a:cubicBezTo>
                <a:cubicBezTo>
                  <a:pt x="731" y="1010"/>
                  <a:pt x="790" y="1156"/>
                  <a:pt x="733" y="1060"/>
                </a:cubicBezTo>
                <a:cubicBezTo>
                  <a:pt x="692" y="991"/>
                  <a:pt x="757" y="1046"/>
                  <a:pt x="681" y="995"/>
                </a:cubicBezTo>
                <a:cubicBezTo>
                  <a:pt x="635" y="858"/>
                  <a:pt x="711" y="1060"/>
                  <a:pt x="629" y="929"/>
                </a:cubicBezTo>
                <a:cubicBezTo>
                  <a:pt x="614" y="906"/>
                  <a:pt x="617" y="874"/>
                  <a:pt x="602" y="851"/>
                </a:cubicBezTo>
                <a:cubicBezTo>
                  <a:pt x="561" y="789"/>
                  <a:pt x="519" y="735"/>
                  <a:pt x="485" y="668"/>
                </a:cubicBezTo>
                <a:cubicBezTo>
                  <a:pt x="424" y="547"/>
                  <a:pt x="535" y="721"/>
                  <a:pt x="432" y="589"/>
                </a:cubicBezTo>
                <a:cubicBezTo>
                  <a:pt x="413" y="564"/>
                  <a:pt x="380" y="511"/>
                  <a:pt x="380" y="511"/>
                </a:cubicBezTo>
                <a:cubicBezTo>
                  <a:pt x="358" y="443"/>
                  <a:pt x="316" y="406"/>
                  <a:pt x="275" y="353"/>
                </a:cubicBezTo>
                <a:cubicBezTo>
                  <a:pt x="228" y="292"/>
                  <a:pt x="187" y="222"/>
                  <a:pt x="144" y="157"/>
                </a:cubicBezTo>
                <a:cubicBezTo>
                  <a:pt x="135" y="144"/>
                  <a:pt x="117" y="141"/>
                  <a:pt x="105" y="131"/>
                </a:cubicBezTo>
                <a:cubicBezTo>
                  <a:pt x="12" y="50"/>
                  <a:pt x="76" y="77"/>
                  <a:pt x="0" y="52"/>
                </a:cubicBezTo>
                <a:cubicBezTo>
                  <a:pt x="47" y="21"/>
                  <a:pt x="46" y="40"/>
                  <a:pt x="26" y="0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4000"/>
                            </p:stCondLst>
                            <p:childTnLst>
                              <p:par>
                                <p:cTn id="2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70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8000"/>
                            </p:stCondLst>
                            <p:childTnLst>
                              <p:par>
                                <p:cTn id="2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900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4T01:49:08Z</dcterms:created>
  <dc:creator>karon</dc:creator>
  <dc:description/>
  <dc:language>en-US</dc:language>
  <cp:lastModifiedBy>dell</cp:lastModifiedBy>
  <dcterms:modified xsi:type="dcterms:W3CDTF">2009-03-23T23:50:06Z</dcterms:modified>
  <cp:revision>29</cp:revision>
  <dc:subject/>
  <dc:title>幻灯片 1</dc:title>
</cp:coreProperties>
</file>