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BA1-0BCE-4E07-82EF-683D4768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2F4-4B95-45C1-A205-C8122188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249-2A15-4E52-99C5-0E234B96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2A3-45D2-4BC1-838C-1288BD63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CDC-7FCB-4777-A218-DE2AEF9D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4EA-9A81-41D2-9E6B-5F09C80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7D4-4E65-47A7-A029-A08F09AB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F7E-D565-4D89-909F-15894191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32E-903A-4491-BAF3-7DA28113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49E-3176-4AD3-A14C-091754A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6D2-F3F8-49F4-9ED7-29467FA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C02-488E-4817-936A-9EB57DD4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9DA9-E185-4C4E-A4D8-B84E6BD36A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58600" y="981000"/>
            <a:ext cx="4502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0000"/>
                </a:solidFill>
                <a:latin typeface="Arial"/>
              </a:rPr>
              <a:t>23    </a:t>
            </a:r>
            <a:r>
              <a:rPr b="0" lang="zh-CN" sz="7000" spc="-1" strike="noStrike">
                <a:solidFill>
                  <a:srgbClr val="ff0000"/>
                </a:solidFill>
                <a:latin typeface="Arial"/>
                <a:ea typeface="黑体"/>
              </a:rPr>
              <a:t>荷叶圆圆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4076640"/>
            <a:ext cx="184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8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4680"/>
            <a:ext cx="9144000" cy="327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15240" y="3716280"/>
            <a:ext cx="4897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小青蛙说：“荷叶是我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歌台。”小青蛙蹲在荷叶上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00ff"/>
                </a:solidFill>
                <a:latin typeface="Arial"/>
              </a:rPr>
              <a:t>呱呱地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放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声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歌唱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98280"/>
            <a:ext cx="9144000" cy="2899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7960" y="3429000"/>
            <a:ext cx="415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朋友说：“荷叶是我的凉帽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朋友戴上荷叶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笑嘻嘻、红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脸蛋儿，藏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绿油油、圆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荷叶下，比荷花还美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8120" y="625320"/>
            <a:ext cx="81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029320" y="2421000"/>
            <a:ext cx="5164200" cy="2075040"/>
            <a:chOff x="2029320" y="2421000"/>
            <a:chExt cx="5164200" cy="2075040"/>
          </a:xfrm>
        </p:grpSpPr>
        <p:sp>
          <p:nvSpPr>
            <p:cNvPr id="69" name=""/>
            <p:cNvSpPr/>
            <p:nvPr/>
          </p:nvSpPr>
          <p:spPr>
            <a:xfrm>
              <a:off x="2125080" y="2421000"/>
              <a:ext cx="49096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Arial"/>
                </a:rPr>
                <a:t>眼睛      亮晶晶     心明眼亮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29320" y="3716280"/>
              <a:ext cx="51642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Arial"/>
                </a:rPr>
                <a:t>月亮       荷   叶     放声歌唱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333360"/>
            <a:ext cx="33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我来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27080" y="1268280"/>
            <a:ext cx="420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水珠说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荷叶是我的摇篮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4280" y="2133720"/>
            <a:ext cx="6426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小鱼说：</a:t>
            </a:r>
            <a:r>
              <a:rPr b="0" lang="zh-CN" sz="5000" spc="-1" strike="noStrike">
                <a:solidFill>
                  <a:srgbClr val="ff0000"/>
                </a:solidFill>
                <a:latin typeface="Arial"/>
              </a:rPr>
              <a:t>“荷叶是我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5000" spc="-1" strike="noStrike">
                <a:solidFill>
                  <a:srgbClr val="ff0000"/>
                </a:solidFill>
                <a:latin typeface="Arial"/>
              </a:rPr>
              <a:t>（                    ）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95960" y="292428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雨伞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67600" y="278136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小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36561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）说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荷叶是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（                     ）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3586320"/>
            <a:ext cx="1454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青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2880" y="41497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舞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67240" y="41497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歌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493884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）说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荷叶是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（                     ）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5440" y="4869000"/>
            <a:ext cx="18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Arial"/>
              </a:rPr>
              <a:t>小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95960" y="544500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跑道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40320" y="551664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ff"/>
                </a:solidFill>
                <a:latin typeface="Arial"/>
              </a:rPr>
              <a:t>机坪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1280" y="260280"/>
          <a:ext cx="777708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777708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490840" y="4443480"/>
            <a:ext cx="388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荷叶</a:t>
            </a:r>
            <a:r>
              <a:rPr b="1" lang="zh-CN" sz="4500" spc="-1" strike="noStrike">
                <a:solidFill>
                  <a:srgbClr val="3333ff"/>
                </a:solidFill>
                <a:latin typeface="Arial"/>
              </a:rPr>
              <a:t>绿油油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，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圆溜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260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73760" y="3475080"/>
            <a:ext cx="4732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水珠说：“荷叶是我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摇篮。”小水珠躺在荷叶上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眨着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亮晶晶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眼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睛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37440" y="3645000"/>
            <a:ext cx="51962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小蜻蜓说：“荷叶是我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机坪。”小蜻蜓停在荷叶上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展开</a:t>
            </a:r>
            <a:r>
              <a:rPr b="1" lang="zh-CN" sz="4500" spc="-1" strike="noStrike">
                <a:solidFill>
                  <a:srgbClr val="6600ff"/>
                </a:solidFill>
                <a:latin typeface="Arial"/>
                <a:ea typeface="黑体"/>
              </a:rPr>
              <a:t>宽宽的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翅膀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4680"/>
            <a:ext cx="9144000" cy="3279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5240" y="3716280"/>
            <a:ext cx="4897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小青蛙说：“荷叶是我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歌台。”小青蛙蹲在荷叶上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00ff"/>
                </a:solidFill>
                <a:latin typeface="Arial"/>
              </a:rPr>
              <a:t>呱呱地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放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声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歌唱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98280"/>
            <a:ext cx="9144000" cy="289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67960" y="3429000"/>
            <a:ext cx="415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朋友说：“荷叶是我的凉帽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朋友戴上荷叶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笑嘻嘻、红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脸蛋儿，藏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绿油油、圆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荷叶下，比荷花还美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11280" y="260280"/>
          <a:ext cx="777708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777708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490840" y="4443480"/>
            <a:ext cx="388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荷叶</a:t>
            </a:r>
            <a:r>
              <a:rPr b="1" lang="zh-CN" sz="4500" spc="-1" strike="noStrike">
                <a:solidFill>
                  <a:srgbClr val="3333ff"/>
                </a:solidFill>
                <a:latin typeface="Arial"/>
              </a:rPr>
              <a:t>绿油油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，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圆溜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260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73760" y="3475080"/>
            <a:ext cx="4732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水珠说：“荷叶是我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摇篮。”小水珠躺在荷叶上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眨着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亮晶晶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眼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睛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73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7440" y="3645000"/>
            <a:ext cx="51962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小蜻蜓说：“荷叶是我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机坪。”小蜻蜓停在荷叶上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展开</a:t>
            </a:r>
            <a:r>
              <a:rPr b="1" lang="zh-CN" sz="4500" spc="-1" strike="noStrike">
                <a:solidFill>
                  <a:srgbClr val="6600ff"/>
                </a:solidFill>
                <a:latin typeface="Arial"/>
                <a:ea typeface="黑体"/>
              </a:rPr>
              <a:t>宽宽的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翅膀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44:59Z</dcterms:created>
  <dc:creator>qfxx</dc:creator>
  <dc:description/>
  <dc:language>en-US</dc:language>
  <cp:lastModifiedBy>datong</cp:lastModifiedBy>
  <dcterms:modified xsi:type="dcterms:W3CDTF">2010-06-11T04:47:18Z</dcterms:modified>
  <cp:revision>19</cp:revision>
  <dc:subject/>
  <dc:title>幻灯片 1</dc:title>
</cp:coreProperties>
</file>