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png" ContentType="image/png"/>
  <Override PartName="/ppt/media/image10.png" ContentType="image/png"/>
  <Override PartName="/ppt/media/chimes.wav" ContentType="audio/x-wav"/>
  <Override PartName="/ppt/media/image8.png" ContentType="image/png"/>
  <Override PartName="/ppt/media/image9.jpeg" ContentType="image/jpeg"/>
  <Override PartName="/ppt/media/image1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58E-436C-4972-828A-39C2A44A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709-6488-443D-B29A-F1E6E21F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9D5-5293-4465-BE10-21937649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551-F1C5-43AE-8ABB-FC14B7C0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2BE-2019-4B9A-9799-4427F571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6DF-A359-4CD8-AE51-99EE93C3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EA1-29D0-4F67-8EB4-1BCC6F5A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ED4A-7133-4F2C-823A-6A7A7C89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479-66BF-400E-915A-B5DBE7F7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CAB-8C66-4BB9-9444-5F74479C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5C7-5487-433F-A6B2-605BAF6D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EDE-C540-4D38-8A7F-711BE0C4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FBAC-6449-4232-B3D9-020D4FF554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4.gif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9.jpeg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:/&#25945;&#24072;E&#23478;/&#24278;&#38745;/13&#33655;&#21494;&#22278;&#22278;.ppt#18. &#24187;&#28783;&#29255; 18" TargetMode="External"/><Relationship Id="rId3" Type="http://schemas.openxmlformats.org/officeDocument/2006/relationships/hyperlink" Target="file:///D:/&#25945;&#24072;E&#23478;/&#24278;&#38745;/13&#33655;&#21494;&#22278;&#22278;.ppt#20. &#24187;&#28783;&#29255; 20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:/&#25945;&#24072;E&#23478;/&#24278;&#38745;/13&#33655;&#21494;&#22278;&#22278;.ppt#16. &#24187;&#28783;&#29255; 16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hyperlink" Target="http://image.baidu.com/i?ct=503316480&amp;z=0&amp;tn=baiduimagedetail&amp;word=%BA%C9&#1206;&#696;%C1%BF&#892;&amp;in=21139&amp;cl=2&amp;cm=1&amp;sc=0&amp;lm=-1&amp;pn=7&amp;rn=1&amp;di=1901710840&amp;ln=23" TargetMode="External"/><Relationship Id="rId8" Type="http://schemas.openxmlformats.org/officeDocument/2006/relationships/image" Target="../media/image9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4.gif"/><Relationship Id="rId7" Type="http://schemas.openxmlformats.org/officeDocument/2006/relationships/image" Target="../media/image9.jpe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10044000" cy="709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2000" y="981000"/>
            <a:ext cx="352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2421000"/>
            <a:ext cx="23767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92200" y="111744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59120" y="213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74920" y="2565360"/>
            <a:ext cx="676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Arial"/>
                <a:ea typeface="楷体_GB2312"/>
              </a:rPr>
              <a:t>荷</a:t>
            </a: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叶圆圆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1015640" cy="7750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0920" y="1700280"/>
            <a:ext cx="55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134136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荷叶是我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摇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70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3280" y="2492280"/>
            <a:ext cx="69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蜻蜓说：“荷叶是我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3645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青蛙说：“荷叶是我的歌台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4869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鱼儿说：“荷叶是我的凉伞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356000" y="5805360"/>
            <a:ext cx="2078280" cy="1252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419640" y="692280"/>
            <a:ext cx="6121080" cy="4895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0" y="5267160"/>
            <a:ext cx="2104920" cy="1590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403280" y="2133720"/>
            <a:ext cx="3240000" cy="1739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7451640" y="5877000"/>
            <a:ext cx="1692360" cy="1218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3320" y="6008760"/>
            <a:ext cx="583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7" action="ppaction://hlinksldjump"/>
              </a:rPr>
              <a:t>幻灯片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8" action="ppaction://hlinksldjump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67480" y="2997360"/>
            <a:ext cx="583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9" action="ppaction://hlinksldjump"/>
              </a:rPr>
              <a:t>幻灯片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0" action="ppaction://hlinksldjump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2000" y="6381720"/>
            <a:ext cx="1458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1" action="ppaction://hlinksldjump"/>
              </a:rPr>
              <a:t>幻灯片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2" action="ppaction://hlinksldjump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64560" y="1144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60040" y="1327320"/>
            <a:ext cx="583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3" action="ppaction://hlinksldjump"/>
              </a:rPr>
              <a:t>幻灯片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4" action="ppaction://hlinksldjump"/>
              </a:rPr>
              <a:t>2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5"/>
          <a:stretch/>
        </p:blipFill>
        <p:spPr>
          <a:xfrm>
            <a:off x="7308720" y="6095880"/>
            <a:ext cx="1835280" cy="762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1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152000" cy="7156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050920" y="1700280"/>
            <a:ext cx="55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278136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水珠躺在荷叶上，眨着亮晶晶的眼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270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3120" y="5896080"/>
            <a:ext cx="583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幻灯片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4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-612720" y="-298440"/>
            <a:ext cx="10152000" cy="7156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050920" y="1700280"/>
            <a:ext cx="55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270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2000" y="2492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蜻蜓停在荷叶上，展开透明的翅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62240" y="5935680"/>
            <a:ext cx="583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幻灯片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4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152000" cy="7156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050920" y="1700280"/>
            <a:ext cx="55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70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270828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青蛙蹲在荷叶上，呱呱的放声歌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62240" y="5864400"/>
            <a:ext cx="583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幻灯片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4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152000" cy="7156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050920" y="1700280"/>
            <a:ext cx="55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270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23493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鱼儿在荷叶下笑嘻嘻地游来游去，捧起一朵朵很美很美的水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152000" cy="7156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050920" y="1700280"/>
            <a:ext cx="55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134136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水珠躺在荷叶上，眨着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晶的眼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270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263700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蜻蜓停在荷叶上，展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透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翅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364500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青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荷叶上，呱呱的放声歌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32000" y="4869000"/>
            <a:ext cx="676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47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鱼儿在荷叶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笑嘻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地游来游去，捧起一朵朵很美很美的水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5280" y="76500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260280"/>
            <a:ext cx="84247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荷叶圆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叶圆圆的，绿绿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说：“荷叶是我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摇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”小水珠躺在荷叶上，眨着亮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眼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蜻蜓说：“荷叶是我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停机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”小蜻蜓立在荷叶上，展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明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翅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小青蛙说：“荷叶是我的歌台。”小青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荷叶上，呱呱地放声歌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鱼儿说：“荷叶是我的凉伞。”小鱼儿在荷叶下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嘻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地游来游去，捧起一朵朵很美很美的水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9683640" cy="2492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04920" cy="1590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042920" y="1844640"/>
            <a:ext cx="883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荷叶是我（　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278136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荷叶是（　）的（　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050920" y="260280"/>
            <a:ext cx="353376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说我说大家说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1" name=""/>
          <p:cNvSpPr/>
          <p:nvPr/>
        </p:nvSpPr>
        <p:spPr>
          <a:xfrm>
            <a:off x="1166760" y="3664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3808440"/>
            <a:ext cx="929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是（   ）的（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78400" y="6381720"/>
            <a:ext cx="583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幻灯片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 action="ppaction://hlinksldjump"/>
              </a:rPr>
              <a:t>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400" y="6327720"/>
            <a:ext cx="583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 action="ppaction://hlinksldjump"/>
              </a:rPr>
              <a:t>幻灯片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6" action="ppaction://hlinksldjump"/>
              </a:rPr>
              <a:t>3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7" name="chimes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10044000" cy="7093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332000" y="981000"/>
            <a:ext cx="352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1844640"/>
            <a:ext cx="6840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夏季的早晨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清晨，草坪上静悄悄的。一位妈妈蹲在摇篮旁，笑嘻嘻地看着摇篮里的小宝宝。小水珠也躺在小草的肩膀上，闪着亮晶晶的眼睛。一只蜻蜓飞来了，停在摇篮边，展开透明的翅膀，荷花笑了，小草也笑了。夏季的早晨多美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92200" y="111744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59120" y="213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08200" y="2584440"/>
            <a:ext cx="455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10044000" cy="709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32000" y="981000"/>
            <a:ext cx="352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59120" y="213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3860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3860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20000" y="3933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66760" y="6040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35960" y="220500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2205000"/>
            <a:ext cx="144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篮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90480" y="213372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机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724280"/>
            <a:ext cx="1656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4797360"/>
            <a:ext cx="158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坪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161928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1619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l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170028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j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4376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40845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pí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43480" y="6184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56560" y="2511360"/>
            <a:ext cx="48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 rot="10762800">
            <a:off x="5719680" y="3218400"/>
            <a:ext cx="1014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幻灯片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440560" y="5753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40132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t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í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74800" y="3290760"/>
            <a:ext cx="59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幻灯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16720" y="4005360"/>
            <a:ext cx="26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z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16720" y="4581360"/>
            <a:ext cx="14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10044000" cy="7093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32000" y="981000"/>
            <a:ext cx="352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92200" y="111744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2133720"/>
            <a:ext cx="232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晶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27600" y="213372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透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2680" y="206064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蹲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0000" y="4365720"/>
            <a:ext cx="180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翅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4292640"/>
            <a:ext cx="143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  <a:ea typeface="楷体_GB2312"/>
              </a:rPr>
              <a:t>膀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1646280"/>
            <a:ext cx="164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j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ī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1773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tò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16920" y="1646280"/>
            <a:ext cx="139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d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ū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00360" y="40053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ch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8000" y="3860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02080" y="42130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43840" y="3652920"/>
            <a:ext cx="146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616572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幻灯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10044000" cy="7093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2000" y="981000"/>
            <a:ext cx="352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92200" y="1117440"/>
            <a:ext cx="184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59120" y="213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1700280"/>
            <a:ext cx="52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篮　　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7162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（　）色　　　竹（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（　）天白云　（　）球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95640" y="3860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3860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47480" y="3716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0000" y="3933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3480" y="3716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443700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95840" y="443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66760" y="6040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11480" y="5896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9480" y="5896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8200" y="6040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2200" y="5896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8200" y="5969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49680" y="6434280"/>
            <a:ext cx="386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幻灯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605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32000" y="765000"/>
            <a:ext cx="669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16200" y="3645000"/>
            <a:ext cx="55278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楷体_GB2312"/>
              </a:rPr>
              <a:t>绿绿的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楷体_GB2312"/>
              </a:rPr>
              <a:t>          </a:t>
            </a: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楷体_GB2312"/>
              </a:rPr>
              <a:t>圆圆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220500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楷体_GB2312"/>
              </a:rPr>
              <a:t>荷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476280"/>
            <a:ext cx="82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叶圆圆的，绿绿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659640" y="5516640"/>
            <a:ext cx="2484360" cy="172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132000" y="5805360"/>
            <a:ext cx="2521080" cy="1341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19640" y="692280"/>
            <a:ext cx="6121080" cy="489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0" y="4869000"/>
            <a:ext cx="2700360" cy="1989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1619280" y="620640"/>
            <a:ext cx="3360600" cy="1668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04000" y="6021360"/>
            <a:ext cx="2340000" cy="836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9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356000" y="5805360"/>
            <a:ext cx="2078280" cy="1252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419640" y="692280"/>
            <a:ext cx="6121080" cy="48956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0" y="5267160"/>
              <a:ext cx="2104920" cy="15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1403280" y="2133720"/>
              <a:ext cx="3240000" cy="173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6948360" y="5877000"/>
            <a:ext cx="2195640" cy="1218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08000" y="692280"/>
            <a:ext cx="60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谁把荷叶当作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020000" y="6095880"/>
            <a:ext cx="2124000" cy="762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  <p:sndAc>
      <p:stSnd>
        <p:snd r:embed="rId8" name="chimes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1015640" cy="7750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50920" y="1700280"/>
            <a:ext cx="55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34136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水珠说：“荷叶是我的摇篮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270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2492280"/>
            <a:ext cx="69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蜻蜓说：“荷叶是我的停机坪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3645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青蛙说：“荷叶是我的歌台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3280" y="4869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鱼儿说：“荷叶是我的凉伞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1:47:24Z</dcterms:created>
  <dc:creator>puxiao</dc:creator>
  <dc:description/>
  <dc:language>en-US</dc:language>
  <cp:lastModifiedBy>微软用户</cp:lastModifiedBy>
  <dcterms:modified xsi:type="dcterms:W3CDTF">2010-04-20T00:46:17Z</dcterms:modified>
  <cp:revision>100</cp:revision>
  <dc:subject/>
  <dc:title>幻灯片 1</dc:title>
</cp:coreProperties>
</file>