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3.png" ContentType="image/png"/>
  <Override PartName="/ppt/media/chimes.wav" ContentType="audio/x-wav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752-E449-46FC-BFC5-26CBE3FF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74E-0475-4BF9-A49D-91B14DC7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2D3-7965-4A43-870B-C0769D22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33E-EBD8-4BA9-B473-E899FBDE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1C5-5EB5-4C92-863F-B18D2BB4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09C-EE55-444A-804E-897BA31F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0CC-DEAA-45E2-8F0E-B331E8BC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003-AE24-4704-8A74-3029C77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D77-6FAE-4989-B1FA-E057BC70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C9D-4EE7-4CB6-BBEC-482F5B3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6CD-B87C-4603-B594-FE3B4E1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C81-10D3-489D-9A52-81105428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0040-AECF-43D3-941D-A581D32FC4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" Target="slide1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hyperlink" Target="http://v.ku6.com/show/N3qNm1m9RkmUeeTe.html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184464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 </a:t>
            </a:r>
            <a:r>
              <a:rPr b="1" lang="zh-CN" sz="9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要下雨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5486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229360"/>
            <a:ext cx="54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芙蓉区大同二小  谭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W0200707094046897286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/>
          <p:cNvSpPr/>
          <p:nvPr/>
        </p:nvSpPr>
        <p:spPr>
          <a:xfrm>
            <a:off x="3276720" y="0"/>
            <a:ext cx="4824360" cy="1655640"/>
          </a:xfrm>
          <a:prstGeom prst="wedgeEllipseCallout">
            <a:avLst>
              <a:gd name="adj1" fmla="val -29333"/>
              <a:gd name="adj2" fmla="val 61699"/>
            </a:avLst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194360" y="4932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4319640" y="4437000"/>
            <a:ext cx="4824360" cy="2421000"/>
          </a:xfrm>
          <a:prstGeom prst="wedgeEllipseCallout">
            <a:avLst>
              <a:gd name="adj1" fmla="val -46740"/>
              <a:gd name="adj2" fmla="val -34458"/>
            </a:avLst>
          </a:pr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16360" y="4508640"/>
            <a:ext cx="44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是要下雨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我们正忙着搬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西呢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">
            <a:hlinkClick r:id="rId2" action="ppaction://hlinksldjump"/>
          </p:cNvPr>
          <p:cNvSpPr/>
          <p:nvPr/>
        </p:nvSpPr>
        <p:spPr>
          <a:xfrm>
            <a:off x="8423280" y="6381720"/>
            <a:ext cx="720720" cy="476280"/>
          </a:xfrm>
          <a:prstGeom prst="ellipse">
            <a:avLst/>
          </a:prstGeom>
          <a:solidFill>
            <a:srgbClr val="ffff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304920"/>
            <a:ext cx="8534160" cy="9169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小白兔加快步子往家跑。他一边跑一边喊：“妈妈，妈妈，要下雨了！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333360"/>
            <a:ext cx="3600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会写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87280" y="2205000"/>
          <a:ext cx="709308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70930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b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30600" y="1557360"/>
            <a:ext cx="712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我们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正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忙着搬东西呢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李老师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正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忙着改作业呢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正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__________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呢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836640"/>
            <a:ext cx="922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山坡 割草 闷热 一阵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9736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伸腰  喊声 潮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260280"/>
            <a:ext cx="738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ō    ɡē       mēn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zh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è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213372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h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ē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        h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ǎn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ch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Times New Roman"/>
              </a:rPr>
              <a:t>á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o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sh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117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消息 搬家 捉虫 哗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6530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xi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o     b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n    zhu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ō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hu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068640"/>
            <a:ext cx="92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山坡  割草  闷热   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一 阵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22100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</a:rPr>
              <a:t>伸腰   喊声   潮  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36232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1577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消息 搬家 捉虫 哗 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10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211640" y="1700280"/>
            <a:ext cx="481644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快易通小火车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1700280"/>
            <a:ext cx="922032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坡   割   闷   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伸   喊   潮   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   搬   虫   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33336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识字交流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W020070709405027066546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3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iecool"/>
          <p:cNvPicPr/>
          <p:nvPr/>
        </p:nvPicPr>
        <p:blipFill>
          <a:blip r:embed="rId2"/>
          <a:stretch/>
        </p:blipFill>
        <p:spPr>
          <a:xfrm>
            <a:off x="-36360" y="-709560"/>
            <a:ext cx="9432720" cy="838656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30"/>
          <p:cNvGrpSpPr/>
          <p:nvPr/>
        </p:nvGrpSpPr>
        <p:grpSpPr>
          <a:xfrm>
            <a:off x="2486160" y="206280"/>
            <a:ext cx="1371600" cy="1508040"/>
            <a:chOff x="2486160" y="206280"/>
            <a:chExt cx="1371600" cy="1508040"/>
          </a:xfrm>
        </p:grpSpPr>
        <p:pic>
          <p:nvPicPr>
            <p:cNvPr id="67" name="Picture 5" descr="未标题-1 拷贝"/>
            <p:cNvPicPr/>
            <p:nvPr/>
          </p:nvPicPr>
          <p:blipFill>
            <a:blip r:embed="rId3"/>
            <a:stretch/>
          </p:blipFill>
          <p:spPr>
            <a:xfrm>
              <a:off x="2495880" y="20628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6"/>
            <p:cNvSpPr/>
            <p:nvPr/>
          </p:nvSpPr>
          <p:spPr>
            <a:xfrm>
              <a:off x="2486160" y="20628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坡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31"/>
          <p:cNvGrpSpPr/>
          <p:nvPr/>
        </p:nvGrpSpPr>
        <p:grpSpPr>
          <a:xfrm>
            <a:off x="3995640" y="-500040"/>
            <a:ext cx="1371600" cy="1508040"/>
            <a:chOff x="3995640" y="-500040"/>
            <a:chExt cx="1371600" cy="1508040"/>
          </a:xfrm>
        </p:grpSpPr>
        <p:pic>
          <p:nvPicPr>
            <p:cNvPr id="70" name="Picture 32" descr="未标题-1 拷贝"/>
            <p:cNvPicPr/>
            <p:nvPr/>
          </p:nvPicPr>
          <p:blipFill>
            <a:blip r:embed="rId4"/>
            <a:stretch/>
          </p:blipFill>
          <p:spPr>
            <a:xfrm>
              <a:off x="4005360" y="-50004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33"/>
            <p:cNvSpPr/>
            <p:nvPr/>
          </p:nvSpPr>
          <p:spPr>
            <a:xfrm>
              <a:off x="3995640" y="-50004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割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4"/>
          <p:cNvGrpSpPr/>
          <p:nvPr/>
        </p:nvGrpSpPr>
        <p:grpSpPr>
          <a:xfrm>
            <a:off x="5508720" y="189000"/>
            <a:ext cx="1371600" cy="1508040"/>
            <a:chOff x="5508720" y="189000"/>
            <a:chExt cx="1371600" cy="1508040"/>
          </a:xfrm>
        </p:grpSpPr>
        <p:pic>
          <p:nvPicPr>
            <p:cNvPr id="73" name="Picture 35" descr="未标题-1 拷贝"/>
            <p:cNvPicPr/>
            <p:nvPr/>
          </p:nvPicPr>
          <p:blipFill>
            <a:blip r:embed="rId5"/>
            <a:stretch/>
          </p:blipFill>
          <p:spPr>
            <a:xfrm>
              <a:off x="5518440" y="18900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36"/>
            <p:cNvSpPr/>
            <p:nvPr/>
          </p:nvSpPr>
          <p:spPr>
            <a:xfrm>
              <a:off x="5508720" y="18900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伸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37"/>
          <p:cNvGrpSpPr/>
          <p:nvPr/>
        </p:nvGrpSpPr>
        <p:grpSpPr>
          <a:xfrm>
            <a:off x="1057320" y="1285920"/>
            <a:ext cx="1371600" cy="1508040"/>
            <a:chOff x="1057320" y="1285920"/>
            <a:chExt cx="1371600" cy="1508040"/>
          </a:xfrm>
        </p:grpSpPr>
        <p:pic>
          <p:nvPicPr>
            <p:cNvPr id="76" name="Picture 38" descr="未标题-1 拷贝"/>
            <p:cNvPicPr/>
            <p:nvPr/>
          </p:nvPicPr>
          <p:blipFill>
            <a:blip r:embed="rId6"/>
            <a:stretch/>
          </p:blipFill>
          <p:spPr>
            <a:xfrm>
              <a:off x="1067040" y="128592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39"/>
            <p:cNvSpPr/>
            <p:nvPr/>
          </p:nvSpPr>
          <p:spPr>
            <a:xfrm>
              <a:off x="1057320" y="128592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闷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2627280" y="1700280"/>
            <a:ext cx="1371600" cy="1508040"/>
            <a:chOff x="2627280" y="1700280"/>
            <a:chExt cx="1371600" cy="1508040"/>
          </a:xfrm>
        </p:grpSpPr>
        <p:pic>
          <p:nvPicPr>
            <p:cNvPr id="79" name="Picture 41" descr="未标题-1 拷贝"/>
            <p:cNvPicPr/>
            <p:nvPr/>
          </p:nvPicPr>
          <p:blipFill>
            <a:blip r:embed="rId7"/>
            <a:stretch/>
          </p:blipFill>
          <p:spPr>
            <a:xfrm>
              <a:off x="2637000" y="170028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42"/>
            <p:cNvSpPr/>
            <p:nvPr/>
          </p:nvSpPr>
          <p:spPr>
            <a:xfrm>
              <a:off x="2627280" y="170028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虫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3"/>
          <p:cNvGrpSpPr/>
          <p:nvPr/>
        </p:nvGrpSpPr>
        <p:grpSpPr>
          <a:xfrm>
            <a:off x="4286160" y="1285920"/>
            <a:ext cx="1371600" cy="1508040"/>
            <a:chOff x="4286160" y="1285920"/>
            <a:chExt cx="1371600" cy="1508040"/>
          </a:xfrm>
        </p:grpSpPr>
        <p:pic>
          <p:nvPicPr>
            <p:cNvPr id="82" name="Picture 44" descr="未标题-1 拷贝"/>
            <p:cNvPicPr/>
            <p:nvPr/>
          </p:nvPicPr>
          <p:blipFill>
            <a:blip r:embed="rId8"/>
            <a:stretch/>
          </p:blipFill>
          <p:spPr>
            <a:xfrm>
              <a:off x="4295880" y="128592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5"/>
            <p:cNvSpPr/>
            <p:nvPr/>
          </p:nvSpPr>
          <p:spPr>
            <a:xfrm>
              <a:off x="4286160" y="128592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搬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6"/>
          <p:cNvGrpSpPr/>
          <p:nvPr/>
        </p:nvGrpSpPr>
        <p:grpSpPr>
          <a:xfrm>
            <a:off x="6486480" y="1571760"/>
            <a:ext cx="1371600" cy="1508040"/>
            <a:chOff x="6486480" y="1571760"/>
            <a:chExt cx="1371600" cy="1508040"/>
          </a:xfrm>
        </p:grpSpPr>
        <p:pic>
          <p:nvPicPr>
            <p:cNvPr id="85" name="Picture 47" descr="未标题-1 拷贝"/>
            <p:cNvPicPr/>
            <p:nvPr/>
          </p:nvPicPr>
          <p:blipFill>
            <a:blip r:embed="rId9"/>
            <a:stretch/>
          </p:blipFill>
          <p:spPr>
            <a:xfrm>
              <a:off x="6496200" y="157176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48"/>
            <p:cNvSpPr/>
            <p:nvPr/>
          </p:nvSpPr>
          <p:spPr>
            <a:xfrm>
              <a:off x="6486480" y="157176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喊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49"/>
          <p:cNvGrpSpPr/>
          <p:nvPr/>
        </p:nvGrpSpPr>
        <p:grpSpPr>
          <a:xfrm>
            <a:off x="539640" y="2928960"/>
            <a:ext cx="1371600" cy="1508040"/>
            <a:chOff x="539640" y="2928960"/>
            <a:chExt cx="1371600" cy="1508040"/>
          </a:xfrm>
        </p:grpSpPr>
        <p:pic>
          <p:nvPicPr>
            <p:cNvPr id="88" name="Picture 50" descr="未标题-1 拷贝"/>
            <p:cNvPicPr/>
            <p:nvPr/>
          </p:nvPicPr>
          <p:blipFill>
            <a:blip r:embed="rId10"/>
            <a:stretch/>
          </p:blipFill>
          <p:spPr>
            <a:xfrm>
              <a:off x="549360" y="292896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51"/>
            <p:cNvSpPr/>
            <p:nvPr/>
          </p:nvSpPr>
          <p:spPr>
            <a:xfrm>
              <a:off x="539640" y="292896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潮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52"/>
          <p:cNvGrpSpPr/>
          <p:nvPr/>
        </p:nvGrpSpPr>
        <p:grpSpPr>
          <a:xfrm>
            <a:off x="2071800" y="3143160"/>
            <a:ext cx="1371600" cy="1508040"/>
            <a:chOff x="2071800" y="3143160"/>
            <a:chExt cx="1371600" cy="1508040"/>
          </a:xfrm>
        </p:grpSpPr>
        <p:pic>
          <p:nvPicPr>
            <p:cNvPr id="91" name="Picture 53" descr="未标题-1 拷贝"/>
            <p:cNvPicPr/>
            <p:nvPr/>
          </p:nvPicPr>
          <p:blipFill>
            <a:blip r:embed="rId11"/>
            <a:stretch/>
          </p:blipFill>
          <p:spPr>
            <a:xfrm>
              <a:off x="2081520" y="314316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54"/>
            <p:cNvSpPr/>
            <p:nvPr/>
          </p:nvSpPr>
          <p:spPr>
            <a:xfrm>
              <a:off x="2071800" y="314316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湿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55"/>
          <p:cNvGrpSpPr/>
          <p:nvPr/>
        </p:nvGrpSpPr>
        <p:grpSpPr>
          <a:xfrm>
            <a:off x="3705120" y="3071880"/>
            <a:ext cx="1371600" cy="1508040"/>
            <a:chOff x="3705120" y="3071880"/>
            <a:chExt cx="1371600" cy="1508040"/>
          </a:xfrm>
        </p:grpSpPr>
        <p:pic>
          <p:nvPicPr>
            <p:cNvPr id="94" name="Picture 56" descr="未标题-1 拷贝"/>
            <p:cNvPicPr/>
            <p:nvPr/>
          </p:nvPicPr>
          <p:blipFill>
            <a:blip r:embed="rId12"/>
            <a:stretch/>
          </p:blipFill>
          <p:spPr>
            <a:xfrm>
              <a:off x="3714840" y="307188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57"/>
            <p:cNvSpPr/>
            <p:nvPr/>
          </p:nvSpPr>
          <p:spPr>
            <a:xfrm>
              <a:off x="3705120" y="307188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哗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61"/>
          <p:cNvGrpSpPr/>
          <p:nvPr/>
        </p:nvGrpSpPr>
        <p:grpSpPr>
          <a:xfrm>
            <a:off x="5200560" y="2571840"/>
            <a:ext cx="1371600" cy="1508040"/>
            <a:chOff x="5200560" y="2571840"/>
            <a:chExt cx="1371600" cy="1508040"/>
          </a:xfrm>
        </p:grpSpPr>
        <p:pic>
          <p:nvPicPr>
            <p:cNvPr id="97" name="Picture 62" descr="未标题-1 拷贝"/>
            <p:cNvPicPr/>
            <p:nvPr/>
          </p:nvPicPr>
          <p:blipFill>
            <a:blip r:embed="rId13"/>
            <a:stretch/>
          </p:blipFill>
          <p:spPr>
            <a:xfrm>
              <a:off x="5210280" y="257184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63"/>
            <p:cNvSpPr/>
            <p:nvPr/>
          </p:nvSpPr>
          <p:spPr>
            <a:xfrm>
              <a:off x="5200560" y="257184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阵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64"/>
          <p:cNvGrpSpPr/>
          <p:nvPr/>
        </p:nvGrpSpPr>
        <p:grpSpPr>
          <a:xfrm>
            <a:off x="6929280" y="3000240"/>
            <a:ext cx="1371600" cy="1508040"/>
            <a:chOff x="6929280" y="3000240"/>
            <a:chExt cx="1371600" cy="1508040"/>
          </a:xfrm>
        </p:grpSpPr>
        <p:pic>
          <p:nvPicPr>
            <p:cNvPr id="100" name="Picture 65" descr="未标题-1 拷贝"/>
            <p:cNvPicPr/>
            <p:nvPr/>
          </p:nvPicPr>
          <p:blipFill>
            <a:blip r:embed="rId14"/>
            <a:stretch/>
          </p:blipFill>
          <p:spPr>
            <a:xfrm>
              <a:off x="6939000" y="3000240"/>
              <a:ext cx="13618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66"/>
            <p:cNvSpPr/>
            <p:nvPr/>
          </p:nvSpPr>
          <p:spPr>
            <a:xfrm>
              <a:off x="6929280" y="300024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消</a:t>
              </a:r>
              <a:endParaRPr b="0" lang="en-US" sz="9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Oval 106">
            <a:hlinkClick r:id="rId15" action="ppaction://hlinksldjump"/>
          </p:cNvPr>
          <p:cNvSpPr/>
          <p:nvPr/>
        </p:nvSpPr>
        <p:spPr>
          <a:xfrm>
            <a:off x="8388360" y="6408720"/>
            <a:ext cx="720720" cy="476280"/>
          </a:xfrm>
          <a:prstGeom prst="ellipse">
            <a:avLst/>
          </a:prstGeom>
          <a:solidFill>
            <a:srgbClr val="ffff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185E-006 L -0.00607 0.78264 E">
                                      <p:cBhvr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-0.00417 0.78264 E">
                                      <p:cBhvr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4046E-006 L 0.00365 0.70821 E">
                                      <p:cBhvr>
                                        <p:cTn id="93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312E-006 L -0.01198 0.54035 E">
                                      <p:cBhvr>
                                        <p:cTn id="9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526E-006 L -0.01198 0.47768 E">
                                      <p:cBhvr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89017E-007 L -0.01163 0.46636 E">
                                      <p:cBhvr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8555E-006 L -0.004 0.46705 E">
                                      <p:cBhvr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3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5693" t="14552" r="5693" b="59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3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小白兔怎么知道要下雨了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51280" y="1052640"/>
            <a:ext cx="3429000" cy="1981080"/>
          </a:xfrm>
          <a:prstGeom prst="cloudCallout">
            <a:avLst>
              <a:gd name="adj1" fmla="val -89259"/>
              <a:gd name="adj2" fmla="val 13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1676520" cy="16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66240" y="551664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v.ku6.com/show/N3qNm1m9RkmUeeT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5693" t="14552" r="5693" b="5929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9385" t="20324" r="8152" b="10004"/>
          <a:stretch/>
        </p:blipFill>
        <p:spPr>
          <a:xfrm>
            <a:off x="4859280" y="0"/>
            <a:ext cx="4284720" cy="3645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13542" t="6268" r="4460" b="0"/>
          <a:stretch/>
        </p:blipFill>
        <p:spPr>
          <a:xfrm>
            <a:off x="4788000" y="3645000"/>
            <a:ext cx="435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5693" t="14552" r="5693" b="59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1476360" y="333360"/>
            <a:ext cx="4824360" cy="1655640"/>
          </a:xfrm>
          <a:prstGeom prst="wedgeEllipseCallout">
            <a:avLst>
              <a:gd name="adj1" fmla="val -27064"/>
              <a:gd name="adj2" fmla="val 79532"/>
            </a:avLst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835280" y="54936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燕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燕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为什么飞得这么低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556000" y="3573360"/>
            <a:ext cx="6588000" cy="2880000"/>
          </a:xfrm>
          <a:prstGeom prst="wedgeEllipseCallout">
            <a:avLst>
              <a:gd name="adj1" fmla="val -13374"/>
              <a:gd name="adj2" fmla="val -64555"/>
            </a:avLst>
          </a:pr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843280" y="402912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要下雨了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空气很潮湿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虫子的翅膀沾了小水珠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飞不高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我正忙着捉虫子呢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W020070709404405664767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"/>
          <p:cNvSpPr/>
          <p:nvPr/>
        </p:nvSpPr>
        <p:spPr>
          <a:xfrm>
            <a:off x="0" y="189000"/>
            <a:ext cx="6769080" cy="1944720"/>
          </a:xfrm>
          <a:prstGeom prst="wedgeEllipseCallout">
            <a:avLst>
              <a:gd name="adj1" fmla="val 19814"/>
              <a:gd name="adj2" fmla="val 74083"/>
            </a:avLst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3201840" y="3673440"/>
            <a:ext cx="5834160" cy="3284640"/>
          </a:xfrm>
          <a:prstGeom prst="wedgeEllipseCallout">
            <a:avLst>
              <a:gd name="adj1" fmla="val -55361"/>
              <a:gd name="adj2" fmla="val -21675"/>
            </a:avLst>
          </a:pr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00000" y="48420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鱼，小鱼，今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怎么有空出来啊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987640" y="4005360"/>
            <a:ext cx="611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要下雨了。水里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得很，我们到水面上来透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透气。小白兔，你快回家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吧，小心淋着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4:41:07Z</dcterms:created>
  <dc:creator>user</dc:creator>
  <dc:description/>
  <dc:language>en-US</dc:language>
  <cp:lastModifiedBy>微软用户</cp:lastModifiedBy>
  <dcterms:modified xsi:type="dcterms:W3CDTF">2011-04-07T15:35:25Z</dcterms:modified>
  <cp:revision>87</cp:revision>
  <dc:subject/>
  <dc:title>PowerPoint 演示文稿</dc:title>
</cp:coreProperties>
</file>