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gif" ContentType="image/gif"/>
  <Override PartName="/ppt/media/image12.jpeg" ContentType="image/jpeg"/>
  <Override PartName="/ppt/media/image13.png" ContentType="image/png"/>
  <Override PartName="/ppt/media/image9.gif" ContentType="image/gif"/>
  <Override PartName="/ppt/media/image22.wmf" ContentType="image/x-wmf"/>
  <Override PartName="/ppt/media/image8.gif" ContentType="image/gif"/>
  <Override PartName="/ppt/media/applause.wav" ContentType="audio/x-wav"/>
  <Override PartName="/ppt/media/image7.gif" ContentType="image/gif"/>
  <Override PartName="/ppt/media/image5.png" ContentType="image/png"/>
  <Override PartName="/ppt/media/image2.gif" ContentType="image/gif"/>
  <Override PartName="/ppt/media/image25.gif" ContentType="image/gif"/>
  <Override PartName="/ppt/media/image4.png" ContentType="image/png"/>
  <Override PartName="/ppt/media/image24.gif" ContentType="image/gif"/>
  <Override PartName="/ppt/media/image27.gif" ContentType="image/gif"/>
  <Override PartName="/ppt/media/image20.gif" ContentType="image/gif"/>
  <Override PartName="/ppt/media/image21.gif" ContentType="image/gif"/>
  <Override PartName="/ppt/media/image19.gif" ContentType="image/gif"/>
  <Override PartName="/ppt/media/image18.png" ContentType="image/png"/>
  <Override PartName="/ppt/media/image3.gif" ContentType="image/gif"/>
  <Override PartName="/ppt/media/image6.png" ContentType="image/png"/>
  <Override PartName="/ppt/media/image26.gif" ContentType="image/gif"/>
  <Override PartName="/ppt/media/image15.png" ContentType="image/png"/>
  <Override PartName="/ppt/media/image23.gif" ContentType="image/gif"/>
  <Override PartName="/ppt/media/image17.jpeg" ContentType="image/jpeg"/>
  <Override PartName="/ppt/media/image14.png" ContentType="image/png"/>
  <Override PartName="/ppt/media/image16.gif" ContentType="image/gif"/>
  <Override PartName="/ppt/media/image1.wmf" ContentType="image/x-wmf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75D-38CA-43F2-91B6-89A88878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0370-332A-4C8B-878E-287F689F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64F-6CB8-4562-987A-7F94752A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8CD-18C6-4261-B176-B2D7E08C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DFA-6954-4D10-B27B-55E8B041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11C-BD1C-46D6-9A3F-BB472B26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62A-8C3E-4152-AD2C-CEA446C0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CB2-39A1-411A-9549-660A5695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6B0-E07E-448B-B231-6847983D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156E-0FEB-4FFB-A76C-F0517A88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55E-6271-4FD8-BC20-9C2921B2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37B-EFBE-4A67-82D3-C1AE1094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79A8-504F-4BDE-A984-FCC7D93D15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10.gif"/><Relationship Id="rId4" Type="http://schemas.openxmlformats.org/officeDocument/2006/relationships/image" Target="../media/image20.gif"/><Relationship Id="rId5" Type="http://schemas.openxmlformats.org/officeDocument/2006/relationships/image" Target="../media/image3.gif"/><Relationship Id="rId6" Type="http://schemas.openxmlformats.org/officeDocument/2006/relationships/image" Target="../media/image21.gif"/><Relationship Id="rId7" Type="http://schemas.openxmlformats.org/officeDocument/2006/relationships/image" Target="../media/image22.wmf"/><Relationship Id="rId8" Type="http://schemas.openxmlformats.org/officeDocument/2006/relationships/image" Target="../media/image23.gif"/><Relationship Id="rId9" Type="http://schemas.openxmlformats.org/officeDocument/2006/relationships/image" Target="../media/image2.gif"/><Relationship Id="rId10" Type="http://schemas.openxmlformats.org/officeDocument/2006/relationships/image" Target="../media/image4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.gif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9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9.gif"/><Relationship Id="rId16" Type="http://schemas.openxmlformats.org/officeDocument/2006/relationships/image" Target="../media/image9.gif"/><Relationship Id="rId17" Type="http://schemas.openxmlformats.org/officeDocument/2006/relationships/image" Target="../media/image10.gif"/><Relationship Id="rId18" Type="http://schemas.openxmlformats.org/officeDocument/2006/relationships/image" Target="../media/image10.gif"/><Relationship Id="rId19" Type="http://schemas.openxmlformats.org/officeDocument/2006/relationships/image" Target="../media/image6.png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76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21348000">
            <a:off x="342900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琥珀"/>
              </a:rPr>
              <a:t>谜语王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0120" y="480060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33520" y="533520"/>
            <a:ext cx="2133360" cy="1199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76520" y="304920"/>
            <a:ext cx="2133360" cy="609480"/>
          </a:xfrm>
          <a:prstGeom prst="cloudCallout">
            <a:avLst>
              <a:gd name="adj1" fmla="val -52680"/>
              <a:gd name="adj2" fmla="val 70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欢迎欢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4495680"/>
            <a:ext cx="2361960" cy="609840"/>
          </a:xfrm>
          <a:prstGeom prst="wedgeEllipseCallout">
            <a:avLst>
              <a:gd name="adj1" fmla="val 39652"/>
              <a:gd name="adj2" fmla="val 96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请跟我来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3434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457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记一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371600"/>
            <a:ext cx="80773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团  量  相  遇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及  怕  攻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57200" y="4800600"/>
            <a:ext cx="8001000" cy="1419480"/>
            <a:chOff x="457200" y="4800600"/>
            <a:chExt cx="8001000" cy="1419480"/>
          </a:xfrm>
        </p:grpSpPr>
        <p:sp>
          <p:nvSpPr>
            <p:cNvPr id="100" name=""/>
            <p:cNvSpPr/>
            <p:nvPr/>
          </p:nvSpPr>
          <p:spPr>
            <a:xfrm>
              <a:off x="914400" y="4876920"/>
              <a:ext cx="457200" cy="380880"/>
            </a:xfrm>
            <a:prstGeom prst="smileyFace">
              <a:avLst>
                <a:gd name="adj" fmla="val 9282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71800" y="4876920"/>
              <a:ext cx="457200" cy="380880"/>
            </a:xfrm>
            <a:prstGeom prst="smileyFace">
              <a:avLst>
                <a:gd name="adj" fmla="val 9282"/>
              </a:avLst>
            </a:prstGeom>
            <a:solidFill>
              <a:srgbClr val="cc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05520" y="4800600"/>
              <a:ext cx="457200" cy="380880"/>
            </a:xfrm>
            <a:prstGeom prst="smileyFace">
              <a:avLst>
                <a:gd name="adj" fmla="val 9282"/>
              </a:avLst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67480" y="4800600"/>
              <a:ext cx="457200" cy="380880"/>
            </a:xfrm>
            <a:prstGeom prst="smileyFace">
              <a:avLst>
                <a:gd name="adj" fmla="val 9282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63868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cc33"/>
                  </a:solidFill>
                  <a:latin typeface="Times New Roman"/>
                  <a:ea typeface="楷体_GB2312"/>
                </a:rPr>
                <a:t>加一加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0" y="563868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cc00ff"/>
                  </a:solidFill>
                  <a:latin typeface="Times New Roman"/>
                  <a:ea typeface="楷体_GB2312"/>
                </a:rPr>
                <a:t>减一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563868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99ff"/>
                  </a:solidFill>
                  <a:latin typeface="Times New Roman"/>
                  <a:ea typeface="楷体_GB2312"/>
                </a:rPr>
                <a:t>换一换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34320" y="556272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6600"/>
                  </a:solidFill>
                  <a:latin typeface="Times New Roman"/>
                  <a:ea typeface="楷体_GB2312"/>
                </a:rPr>
                <a:t>猜一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380988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隶书"/>
              </a:rPr>
              <a:t>用各种识字方法识记生字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隶书"/>
              <a:ea typeface="隶书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76212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二、记忆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00400" y="236232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过关窍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楷体_GB2312"/>
              <a:ea typeface="楷体_GB2312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58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52480" y="1600200"/>
            <a:ext cx="59436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小朋友们，你们读得真好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我们已经闯过语言关啦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让我们接着挑战第二关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05720" y="472428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2133720" cy="1199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920" y="5486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9144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9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992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3386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43000" y="243828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ff0000"/>
                </a:solidFill>
                <a:latin typeface="Arial"/>
                <a:ea typeface="楷体_GB2312"/>
              </a:rPr>
              <a:t>跟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952880" y="2378160"/>
            <a:ext cx="3429000" cy="3386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514840" y="2631960"/>
            <a:ext cx="259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ff0000"/>
                </a:solidFill>
                <a:latin typeface="Arial"/>
                <a:ea typeface="楷体_GB2312"/>
              </a:rPr>
              <a:t>凉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autoRev="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autoRev="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60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3386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143000" y="243828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ff0000"/>
                </a:solidFill>
                <a:latin typeface="Arial"/>
                <a:ea typeface="楷体_GB2312"/>
              </a:rPr>
              <a:t>谁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52880" y="2378160"/>
            <a:ext cx="3429000" cy="3386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514840" y="2631960"/>
            <a:ext cx="259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ff0000"/>
                </a:solidFill>
                <a:latin typeface="Arial"/>
                <a:ea typeface="楷体_GB2312"/>
              </a:rPr>
              <a:t>怕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autoRev="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autoRev="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60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3429000" cy="3386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43000" y="2438280"/>
            <a:ext cx="2514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ff0000"/>
                </a:solidFill>
                <a:latin typeface="Arial"/>
                <a:ea typeface="楷体_GB2312"/>
              </a:rPr>
              <a:t>量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952880" y="2378160"/>
            <a:ext cx="3429000" cy="3386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514840" y="2631960"/>
            <a:ext cx="2590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ff0000"/>
                </a:solidFill>
                <a:latin typeface="Arial"/>
                <a:ea typeface="楷体_GB2312"/>
              </a:rPr>
              <a:t>最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autoRev="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autoRev="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0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1752480"/>
            <a:ext cx="7467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好棒喔，我们又闯过了一关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接下去让我们一起去挑战智力关！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133720" cy="1199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781680" y="342900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094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99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992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371600" y="3200400"/>
            <a:ext cx="7086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隶书"/>
              </a:rPr>
              <a:t>开动脑筋，猜出谜底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隶书"/>
              <a:ea typeface="隶书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5720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、智力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124080" y="1981080"/>
            <a:ext cx="2895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过关窍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楷体_GB2312"/>
              <a:ea typeface="楷体_GB2312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9480" y="5410080"/>
            <a:ext cx="3812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762120"/>
            <a:ext cx="7543800" cy="43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yí   gè    rén       li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ǎ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ng     gè     rén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yí   gè    zài   qián   li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ǎ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ng  gè   gē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tuán   jié   qǐ    lái     lì     liàng  dà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rén   du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ō 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shuí   y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ě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     bù    lí    qú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371600"/>
            <a:ext cx="579132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 个 人，   两   个 人，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 个 在  前  两  个 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团  结  起 来 力  量 大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人  多  谁  也  不 离 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286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  <a:ea typeface="宋体"/>
              </a:rPr>
              <a:t>猜一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00800" y="160020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6040" y="2438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06760" y="2438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3336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828800" y="1066680"/>
            <a:ext cx="800100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zu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ǒ   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bi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ā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n   l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ǜ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      yòu   bi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ā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n   hóng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zu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ǒ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 yòu  xi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ā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ng   yù   qǐ   liáng  fē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ǜ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   de     xǐ    huan   jí     shí      y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ǔ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hóng  de   zuì     pà   shuǐ   lái   g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ō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1600200"/>
            <a:ext cx="609624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左  边  绿， 右  边  红，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左  右  相  遇  起  凉 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绿  的  喜  欢  及 时  雨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红  的  最  怕  水 来  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4572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宋体"/>
              </a:rPr>
              <a:t>再猜一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612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783720" y="323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语言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3276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记忆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90840" y="3276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智力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95480" y="609480"/>
            <a:ext cx="3200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过三关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09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1904760" cy="2209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2666880" cy="2185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52480" y="350532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ff33"/>
                </a:solidFill>
                <a:latin typeface="Times New Roman"/>
                <a:ea typeface="华文楷体"/>
              </a:rPr>
              <a:t>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34290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   </a:t>
            </a: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80060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     </a:t>
            </a: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8001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9480" y="22096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1219320"/>
            <a:ext cx="7315200" cy="68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猜  谜  窍  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猜  谜  语，动  脑  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会  观  察，抓  特  征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跳  出  谜  面   想   一   想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谜  底   就  在   话  里  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1523880"/>
            <a:ext cx="6934320" cy="40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āi  mí    yǔ  , dòng nǎo jī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uì guān chá ,zhuā  tè  zhē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iào chū  mí miàn xiǎng  yì  xiǎ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mí   dǐ    jiù   zài    huà  lǐ  cá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3049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6858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āi  mí  qiào  mé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71600" y="1752480"/>
            <a:ext cx="70866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祝贺你们，聪明的小朋友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谜语王国的大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已经向你们敞开了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0" y="426708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24382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80880" y="5486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2193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992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992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191120" y="1295280"/>
            <a:ext cx="4952880" cy="6400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5800" y="464832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2514600" y="5791320"/>
            <a:ext cx="789120" cy="707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2057400" y="3352680"/>
            <a:ext cx="1828800" cy="97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228600" y="4572000"/>
            <a:ext cx="762120" cy="681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685800" y="228600"/>
            <a:ext cx="3048120" cy="2482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7924680" y="5334120"/>
            <a:ext cx="615960" cy="744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505320" y="59436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心有它就会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59436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1828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剪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1828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4572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六十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304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琥珀"/>
              </a:rPr>
              <a:t>谜语花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9"/>
          <a:stretch/>
        </p:blipFill>
        <p:spPr>
          <a:xfrm>
            <a:off x="6172200" y="426708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76960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1"/>
          <a:stretch/>
        </p:blipFill>
        <p:spPr>
          <a:xfrm>
            <a:off x="380880" y="571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76720" y="9144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还不走，车来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914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连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378480" y="3886200"/>
            <a:ext cx="2765520" cy="13827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581280" y="6006960"/>
            <a:ext cx="1600200" cy="8510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2247840" cy="1596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0" y="4343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天无它大，人有它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6483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34290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牛过独木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638680" y="3429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中宋"/>
              </a:rPr>
              <a:t>（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13716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国字玉出门，人才进了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1371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团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华文琥珀"/>
              </a:rPr>
              <a:t>谜语海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791320" y="525780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13716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380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76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1295280" cy="1600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562720" y="457200"/>
            <a:ext cx="2133360" cy="12002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914400" y="4648320"/>
            <a:ext cx="4572000" cy="990360"/>
          </a:xfrm>
          <a:prstGeom prst="wedgeEllipseCallout">
            <a:avLst>
              <a:gd name="adj1" fmla="val -40763"/>
              <a:gd name="adj2" fmla="val 48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亲爱的小朋友们，再见！欢迎你们再来谜语王国做客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10280" y="457200"/>
            <a:ext cx="1219320" cy="609480"/>
          </a:xfrm>
          <a:prstGeom prst="cloudCallout">
            <a:avLst>
              <a:gd name="adj1" fmla="val -77472"/>
              <a:gd name="adj2" fmla="val 786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Times New Roman"/>
                <a:ea typeface="宋体"/>
              </a:rPr>
              <a:t>再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21348000">
            <a:off x="3429000" y="16765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琥珀"/>
              </a:rPr>
              <a:t>谜语王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434340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72388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1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3352680"/>
            <a:ext cx="7962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把字音读准，把句子读通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971800" y="1676520"/>
            <a:ext cx="2895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过关窍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楷体_GB2312"/>
              <a:ea typeface="楷体_GB2312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086600" y="4724280"/>
            <a:ext cx="1295280" cy="1600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600200" y="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、语言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094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04920"/>
            <a:ext cx="914400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识 字 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 个 人，两 个 人，  一 个 在 前 两 个 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团 结 起 来 力 量 大，人 多 谁 也 不 离 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左 边 绿，右 边 红，  左 右 相 遇 起 凉 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绿 的 喜 欢 及 时 雨，红 的 最 怕 水 来 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762120"/>
            <a:ext cx="9144000" cy="62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yí  gè  rén   li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ǎ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ng gè  rén          yí   gè  zài  qián li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ǎ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ng gè  gē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tuán jié  qǐ   lái   lì  liàng  dà     rén du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ō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shuí y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ě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 bù    lí   qú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zu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ǒ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bi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ā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n l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ǜ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  yòu bi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ā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n hóng    zu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ǒ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 yòu xi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ā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ng yù qǐ liáng fē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ǜ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  de   xǐ  huan  jí  shí   y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ǔ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   hóng  de  zuì  pà  shuǐ lái  g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ō</a:t>
            </a:r>
            <a:r>
              <a:rPr b="0" lang="zh-CN" sz="2800" spc="-1" strike="noStrike">
                <a:solidFill>
                  <a:srgbClr val="ff6600"/>
                </a:solidFill>
                <a:latin typeface="Times New Roman"/>
                <a:ea typeface="宋体"/>
              </a:rPr>
              <a:t>n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7880" y="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读一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819520" y="5867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257800" y="5867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96080" y="1676520"/>
            <a:ext cx="100332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315200" y="160020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876920" y="441972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809880" y="4343400"/>
            <a:ext cx="89244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4267080" y="4343400"/>
            <a:ext cx="892440" cy="1828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6477120" y="335268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1981080" y="3200400"/>
            <a:ext cx="89244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1828800" y="403848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2971800" y="441972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838080" y="3962520"/>
            <a:ext cx="8924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5334120" y="434340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2"/>
          <a:stretch/>
        </p:blipFill>
        <p:spPr>
          <a:xfrm>
            <a:off x="6172200" y="396252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3"/>
          <a:stretch/>
        </p:blipFill>
        <p:spPr>
          <a:xfrm>
            <a:off x="2590920" y="426708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4"/>
          <a:stretch/>
        </p:blipFill>
        <p:spPr>
          <a:xfrm>
            <a:off x="1066680" y="2057400"/>
            <a:ext cx="892440" cy="1828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5"/>
          <a:stretch/>
        </p:blipFill>
        <p:spPr>
          <a:xfrm>
            <a:off x="7391520" y="312408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6"/>
          <a:stretch/>
        </p:blipFill>
        <p:spPr>
          <a:xfrm>
            <a:off x="533520" y="106668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7"/>
          <a:stretch/>
        </p:blipFill>
        <p:spPr>
          <a:xfrm>
            <a:off x="380880" y="2438280"/>
            <a:ext cx="892440" cy="1828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09680" y="205740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祝贺你闯过第一关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62485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10800"/>
                </a:moveTo>
                <a:lnTo>
                  <a:pt x="21390" y="3794"/>
                </a:lnTo>
                <a:lnTo>
                  <a:pt x="2139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8"/>
          <a:stretch/>
        </p:blipFill>
        <p:spPr>
          <a:xfrm>
            <a:off x="6934320" y="3962520"/>
            <a:ext cx="892080" cy="1828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9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39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14400" y="175248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真可惜，没有闯过这一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要灰心，让我们继续努力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334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553080" y="365760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6920" y="620640"/>
            <a:ext cx="8001000" cy="46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团结    力量    相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及时   最怕    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重要    命令    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765000"/>
            <a:ext cx="8381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宋体"/>
              </a:rPr>
              <a:t>    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宋体"/>
              </a:rPr>
              <a:t>tuán jié           lì  liàng       xi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宋体"/>
              </a:rPr>
              <a:t>ā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宋体"/>
              </a:rPr>
              <a:t>ng  y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宋体"/>
              </a:rPr>
              <a:t>jí    shí         zuì    pà        gō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宋体"/>
              </a:rPr>
              <a:t>    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宋体"/>
              </a:rPr>
              <a:t>zh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ò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宋体"/>
              </a:rPr>
              <a:t>n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ɡ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宋体"/>
              </a:rPr>
              <a:t>y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à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宋体"/>
              </a:rPr>
              <a:t>o         m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ì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宋体"/>
              </a:rPr>
              <a:t>n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ɡ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宋体"/>
              </a:rPr>
              <a:t>l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ì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  <a:ea typeface="宋体"/>
              </a:rPr>
              <a:t>n</a:t>
            </a:r>
            <a:r>
              <a:rPr b="0" lang="zh-CN" sz="3200" spc="-1" strike="noStrike">
                <a:solidFill>
                  <a:srgbClr val="ff6600"/>
                </a:solidFill>
                <a:latin typeface="Times New Roman"/>
              </a:rPr>
              <a:t>ɡ       ch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94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228600" y="-19080"/>
            <a:ext cx="9906120" cy="7166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2286000"/>
            <a:ext cx="62485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团结   力量   相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及时    最怕    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重要    命令    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07920"/>
            <a:ext cx="914400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会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团     量     相     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     怕     攻     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尊     重     令     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6:56:40Z</dcterms:created>
  <dc:creator>hongmeiyu</dc:creator>
  <dc:description/>
  <dc:language>en-US</dc:language>
  <cp:lastModifiedBy>雨林木风</cp:lastModifiedBy>
  <dcterms:modified xsi:type="dcterms:W3CDTF">2010-04-23T00:20:39Z</dcterms:modified>
  <cp:revision>19</cp:revision>
  <dc:subject/>
  <dc:title>PowerPoint 演示文稿</dc:title>
</cp:coreProperties>
</file>