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A27-B29A-4445-B72A-B1F23FBF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565-7868-45DD-BD8D-40ED4E7E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D9A-FCED-4622-8282-BBC2525E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2B4-D50C-4A1B-8203-CAA2674E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588-3602-4523-83FF-FAA29CD5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06D-3E21-4997-88BE-A8EAC39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F33-C469-4108-9177-6D12598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2C7-341A-4A3E-BECF-163AC50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B65-03F0-415F-83EC-45F553D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54F-D7F1-4112-9F79-A14CF6E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847-6EFE-4C7B-910A-ABD44AB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77B-833A-49FA-B619-DC1C84E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8B26-9A68-41BD-BEC5-CEF5125A8F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21.png"/><Relationship Id="rId10" Type="http://schemas.openxmlformats.org/officeDocument/2006/relationships/image" Target="../media/image19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19.png"/><Relationship Id="rId16" Type="http://schemas.openxmlformats.org/officeDocument/2006/relationships/image" Target="../media/image21.png"/><Relationship Id="rId17" Type="http://schemas.openxmlformats.org/officeDocument/2006/relationships/image" Target="../media/image19.png"/><Relationship Id="rId18" Type="http://schemas.openxmlformats.org/officeDocument/2006/relationships/image" Target="../media/image21.png"/><Relationship Id="rId19" Type="http://schemas.openxmlformats.org/officeDocument/2006/relationships/image" Target="../media/image19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19.png"/><Relationship Id="rId23" Type="http://schemas.openxmlformats.org/officeDocument/2006/relationships/image" Target="../media/image21.png"/><Relationship Id="rId24" Type="http://schemas.openxmlformats.org/officeDocument/2006/relationships/image" Target="../media/image19.png"/><Relationship Id="rId25" Type="http://schemas.openxmlformats.org/officeDocument/2006/relationships/image" Target="../media/image21.png"/><Relationship Id="rId26" Type="http://schemas.openxmlformats.org/officeDocument/2006/relationships/image" Target="../media/image19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19.png"/><Relationship Id="rId30" Type="http://schemas.openxmlformats.org/officeDocument/2006/relationships/image" Target="../media/image21.png"/><Relationship Id="rId31" Type="http://schemas.openxmlformats.org/officeDocument/2006/relationships/image" Target="../media/image19.png"/><Relationship Id="rId32" Type="http://schemas.openxmlformats.org/officeDocument/2006/relationships/image" Target="../media/image21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5.png"/><Relationship Id="rId37" Type="http://schemas.openxmlformats.org/officeDocument/2006/relationships/image" Target="../media/image24.png"/><Relationship Id="rId38" Type="http://schemas.openxmlformats.org/officeDocument/2006/relationships/image" Target="../media/image25.png"/><Relationship Id="rId39" Type="http://schemas.openxmlformats.org/officeDocument/2006/relationships/image" Target="../media/image24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7.png"/><Relationship Id="rId43" Type="http://schemas.openxmlformats.org/officeDocument/2006/relationships/image" Target="../media/image28.png"/><Relationship Id="rId44" Type="http://schemas.openxmlformats.org/officeDocument/2006/relationships/image" Target="../media/image28.png"/><Relationship Id="rId45" Type="http://schemas.openxmlformats.org/officeDocument/2006/relationships/image" Target="../media/image26.png"/><Relationship Id="rId46" Type="http://schemas.openxmlformats.org/officeDocument/2006/relationships/image" Target="../media/image27.png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19.png"/><Relationship Id="rId50" Type="http://schemas.openxmlformats.org/officeDocument/2006/relationships/image" Target="../media/image21.png"/><Relationship Id="rId51" Type="http://schemas.openxmlformats.org/officeDocument/2006/relationships/image" Target="../media/image21.png"/><Relationship Id="rId52" Type="http://schemas.openxmlformats.org/officeDocument/2006/relationships/image" Target="../media/image19.png"/><Relationship Id="rId53" Type="http://schemas.openxmlformats.org/officeDocument/2006/relationships/image" Target="../media/image21.png"/><Relationship Id="rId54" Type="http://schemas.openxmlformats.org/officeDocument/2006/relationships/image" Target="../media/image19.png"/><Relationship Id="rId55" Type="http://schemas.openxmlformats.org/officeDocument/2006/relationships/image" Target="../media/image21.png"/><Relationship Id="rId56" Type="http://schemas.openxmlformats.org/officeDocument/2006/relationships/image" Target="../media/image19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19.png"/><Relationship Id="rId60" Type="http://schemas.openxmlformats.org/officeDocument/2006/relationships/image" Target="../media/image21.png"/><Relationship Id="rId61" Type="http://schemas.openxmlformats.org/officeDocument/2006/relationships/image" Target="../media/image19.png"/><Relationship Id="rId62" Type="http://schemas.openxmlformats.org/officeDocument/2006/relationships/image" Target="../media/image21.png"/><Relationship Id="rId6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21.png"/><Relationship Id="rId10" Type="http://schemas.openxmlformats.org/officeDocument/2006/relationships/image" Target="../media/image19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19.png"/><Relationship Id="rId16" Type="http://schemas.openxmlformats.org/officeDocument/2006/relationships/image" Target="../media/image21.png"/><Relationship Id="rId17" Type="http://schemas.openxmlformats.org/officeDocument/2006/relationships/image" Target="../media/image19.png"/><Relationship Id="rId18" Type="http://schemas.openxmlformats.org/officeDocument/2006/relationships/image" Target="../media/image21.png"/><Relationship Id="rId19" Type="http://schemas.openxmlformats.org/officeDocument/2006/relationships/image" Target="../media/image19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19.png"/><Relationship Id="rId23" Type="http://schemas.openxmlformats.org/officeDocument/2006/relationships/image" Target="../media/image21.png"/><Relationship Id="rId24" Type="http://schemas.openxmlformats.org/officeDocument/2006/relationships/image" Target="../media/image19.png"/><Relationship Id="rId25" Type="http://schemas.openxmlformats.org/officeDocument/2006/relationships/image" Target="../media/image21.png"/><Relationship Id="rId26" Type="http://schemas.openxmlformats.org/officeDocument/2006/relationships/image" Target="../media/image19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19.png"/><Relationship Id="rId30" Type="http://schemas.openxmlformats.org/officeDocument/2006/relationships/image" Target="../media/image21.png"/><Relationship Id="rId31" Type="http://schemas.openxmlformats.org/officeDocument/2006/relationships/image" Target="../media/image19.png"/><Relationship Id="rId32" Type="http://schemas.openxmlformats.org/officeDocument/2006/relationships/image" Target="../media/image21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5.png"/><Relationship Id="rId37" Type="http://schemas.openxmlformats.org/officeDocument/2006/relationships/image" Target="../media/image24.png"/><Relationship Id="rId38" Type="http://schemas.openxmlformats.org/officeDocument/2006/relationships/image" Target="../media/image25.png"/><Relationship Id="rId39" Type="http://schemas.openxmlformats.org/officeDocument/2006/relationships/image" Target="../media/image24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7.png"/><Relationship Id="rId43" Type="http://schemas.openxmlformats.org/officeDocument/2006/relationships/image" Target="../media/image28.png"/><Relationship Id="rId44" Type="http://schemas.openxmlformats.org/officeDocument/2006/relationships/image" Target="../media/image28.png"/><Relationship Id="rId45" Type="http://schemas.openxmlformats.org/officeDocument/2006/relationships/image" Target="../media/image26.png"/><Relationship Id="rId46" Type="http://schemas.openxmlformats.org/officeDocument/2006/relationships/image" Target="../media/image27.png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19.png"/><Relationship Id="rId50" Type="http://schemas.openxmlformats.org/officeDocument/2006/relationships/image" Target="../media/image21.png"/><Relationship Id="rId51" Type="http://schemas.openxmlformats.org/officeDocument/2006/relationships/image" Target="../media/image21.png"/><Relationship Id="rId52" Type="http://schemas.openxmlformats.org/officeDocument/2006/relationships/image" Target="../media/image19.png"/><Relationship Id="rId53" Type="http://schemas.openxmlformats.org/officeDocument/2006/relationships/image" Target="../media/image21.png"/><Relationship Id="rId54" Type="http://schemas.openxmlformats.org/officeDocument/2006/relationships/image" Target="../media/image19.png"/><Relationship Id="rId55" Type="http://schemas.openxmlformats.org/officeDocument/2006/relationships/image" Target="../media/image21.png"/><Relationship Id="rId56" Type="http://schemas.openxmlformats.org/officeDocument/2006/relationships/image" Target="../media/image19.png"/><Relationship Id="rId57" Type="http://schemas.openxmlformats.org/officeDocument/2006/relationships/image" Target="../media/image21.png"/><Relationship Id="rId58" Type="http://schemas.openxmlformats.org/officeDocument/2006/relationships/image" Target="../media/image21.png"/><Relationship Id="rId59" Type="http://schemas.openxmlformats.org/officeDocument/2006/relationships/image" Target="../media/image19.png"/><Relationship Id="rId60" Type="http://schemas.openxmlformats.org/officeDocument/2006/relationships/image" Target="../media/image21.png"/><Relationship Id="rId61" Type="http://schemas.openxmlformats.org/officeDocument/2006/relationships/image" Target="../media/image19.png"/><Relationship Id="rId62" Type="http://schemas.openxmlformats.org/officeDocument/2006/relationships/image" Target="../media/image21.png"/><Relationship Id="rId6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grpSp>
        <p:nvGrpSpPr>
          <p:cNvPr id="42" name=""/>
          <p:cNvGrpSpPr/>
          <p:nvPr/>
        </p:nvGrpSpPr>
        <p:grpSpPr>
          <a:xfrm>
            <a:off x="3290760" y="501480"/>
            <a:ext cx="1849680" cy="1524240"/>
            <a:chOff x="3290760" y="501480"/>
            <a:chExt cx="1849680" cy="1524240"/>
          </a:xfrm>
        </p:grpSpPr>
        <p:sp>
          <p:nvSpPr>
            <p:cNvPr id="43" name=""/>
            <p:cNvSpPr/>
            <p:nvPr/>
          </p:nvSpPr>
          <p:spPr>
            <a:xfrm>
              <a:off x="3429000" y="762120"/>
              <a:ext cx="1486080" cy="992160"/>
            </a:xfrm>
            <a:custGeom>
              <a:avLst/>
              <a:gdLst/>
              <a:ahLst/>
              <a:rect l="l" t="t" r="r" b="b"/>
              <a:pathLst>
                <a:path w="936" h="625">
                  <a:moveTo>
                    <a:pt x="416" y="49"/>
                  </a:moveTo>
                  <a:cubicBezTo>
                    <a:pt x="409" y="38"/>
                    <a:pt x="407" y="17"/>
                    <a:pt x="394" y="15"/>
                  </a:cubicBezTo>
                  <a:cubicBezTo>
                    <a:pt x="355" y="9"/>
                    <a:pt x="230" y="30"/>
                    <a:pt x="179" y="38"/>
                  </a:cubicBezTo>
                  <a:cubicBezTo>
                    <a:pt x="111" y="60"/>
                    <a:pt x="71" y="115"/>
                    <a:pt x="32" y="173"/>
                  </a:cubicBezTo>
                  <a:cubicBezTo>
                    <a:pt x="25" y="196"/>
                    <a:pt x="17" y="218"/>
                    <a:pt x="10" y="241"/>
                  </a:cubicBezTo>
                  <a:cubicBezTo>
                    <a:pt x="0" y="270"/>
                    <a:pt x="22" y="302"/>
                    <a:pt x="32" y="331"/>
                  </a:cubicBezTo>
                  <a:cubicBezTo>
                    <a:pt x="36" y="342"/>
                    <a:pt x="36" y="356"/>
                    <a:pt x="44" y="365"/>
                  </a:cubicBezTo>
                  <a:cubicBezTo>
                    <a:pt x="53" y="376"/>
                    <a:pt x="67" y="380"/>
                    <a:pt x="78" y="388"/>
                  </a:cubicBezTo>
                  <a:cubicBezTo>
                    <a:pt x="137" y="479"/>
                    <a:pt x="241" y="502"/>
                    <a:pt x="337" y="534"/>
                  </a:cubicBezTo>
                  <a:cubicBezTo>
                    <a:pt x="377" y="548"/>
                    <a:pt x="409" y="568"/>
                    <a:pt x="450" y="580"/>
                  </a:cubicBezTo>
                  <a:cubicBezTo>
                    <a:pt x="473" y="587"/>
                    <a:pt x="495" y="595"/>
                    <a:pt x="518" y="602"/>
                  </a:cubicBezTo>
                  <a:cubicBezTo>
                    <a:pt x="565" y="617"/>
                    <a:pt x="665" y="625"/>
                    <a:pt x="665" y="625"/>
                  </a:cubicBezTo>
                  <a:cubicBezTo>
                    <a:pt x="761" y="609"/>
                    <a:pt x="703" y="623"/>
                    <a:pt x="766" y="602"/>
                  </a:cubicBezTo>
                  <a:cubicBezTo>
                    <a:pt x="789" y="594"/>
                    <a:pt x="834" y="580"/>
                    <a:pt x="834" y="580"/>
                  </a:cubicBezTo>
                  <a:cubicBezTo>
                    <a:pt x="891" y="542"/>
                    <a:pt x="860" y="568"/>
                    <a:pt x="913" y="489"/>
                  </a:cubicBezTo>
                  <a:cubicBezTo>
                    <a:pt x="926" y="469"/>
                    <a:pt x="936" y="422"/>
                    <a:pt x="936" y="422"/>
                  </a:cubicBezTo>
                  <a:cubicBezTo>
                    <a:pt x="930" y="362"/>
                    <a:pt x="929" y="263"/>
                    <a:pt x="891" y="207"/>
                  </a:cubicBezTo>
                  <a:cubicBezTo>
                    <a:pt x="873" y="180"/>
                    <a:pt x="835" y="126"/>
                    <a:pt x="812" y="105"/>
                  </a:cubicBezTo>
                  <a:cubicBezTo>
                    <a:pt x="693" y="0"/>
                    <a:pt x="504" y="4"/>
                    <a:pt x="360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90760" y="501480"/>
              <a:ext cx="1849680" cy="1524240"/>
            </a:xfrm>
            <a:custGeom>
              <a:avLst/>
              <a:gdLst/>
              <a:ahLst/>
              <a:rect l="l" t="t" r="r" b="b"/>
              <a:pathLst>
                <a:path w="1165" h="960">
                  <a:moveTo>
                    <a:pt x="333" y="181"/>
                  </a:moveTo>
                  <a:cubicBezTo>
                    <a:pt x="287" y="170"/>
                    <a:pt x="242" y="161"/>
                    <a:pt x="197" y="147"/>
                  </a:cubicBezTo>
                  <a:cubicBezTo>
                    <a:pt x="182" y="137"/>
                    <a:pt x="141" y="93"/>
                    <a:pt x="141" y="158"/>
                  </a:cubicBezTo>
                  <a:cubicBezTo>
                    <a:pt x="141" y="184"/>
                    <a:pt x="182" y="205"/>
                    <a:pt x="197" y="215"/>
                  </a:cubicBezTo>
                  <a:cubicBezTo>
                    <a:pt x="152" y="244"/>
                    <a:pt x="109" y="263"/>
                    <a:pt x="62" y="294"/>
                  </a:cubicBezTo>
                  <a:cubicBezTo>
                    <a:pt x="51" y="301"/>
                    <a:pt x="28" y="316"/>
                    <a:pt x="28" y="316"/>
                  </a:cubicBezTo>
                  <a:cubicBezTo>
                    <a:pt x="24" y="327"/>
                    <a:pt x="12" y="339"/>
                    <a:pt x="16" y="350"/>
                  </a:cubicBezTo>
                  <a:cubicBezTo>
                    <a:pt x="30" y="392"/>
                    <a:pt x="96" y="399"/>
                    <a:pt x="129" y="407"/>
                  </a:cubicBezTo>
                  <a:cubicBezTo>
                    <a:pt x="108" y="428"/>
                    <a:pt x="81" y="441"/>
                    <a:pt x="62" y="463"/>
                  </a:cubicBezTo>
                  <a:cubicBezTo>
                    <a:pt x="44" y="484"/>
                    <a:pt x="16" y="531"/>
                    <a:pt x="16" y="531"/>
                  </a:cubicBezTo>
                  <a:cubicBezTo>
                    <a:pt x="12" y="542"/>
                    <a:pt x="0" y="554"/>
                    <a:pt x="5" y="565"/>
                  </a:cubicBezTo>
                  <a:cubicBezTo>
                    <a:pt x="10" y="576"/>
                    <a:pt x="27" y="574"/>
                    <a:pt x="39" y="576"/>
                  </a:cubicBezTo>
                  <a:cubicBezTo>
                    <a:pt x="80" y="582"/>
                    <a:pt x="122" y="584"/>
                    <a:pt x="163" y="588"/>
                  </a:cubicBezTo>
                  <a:cubicBezTo>
                    <a:pt x="178" y="610"/>
                    <a:pt x="193" y="633"/>
                    <a:pt x="208" y="655"/>
                  </a:cubicBezTo>
                  <a:cubicBezTo>
                    <a:pt x="216" y="666"/>
                    <a:pt x="231" y="689"/>
                    <a:pt x="231" y="689"/>
                  </a:cubicBezTo>
                  <a:cubicBezTo>
                    <a:pt x="259" y="772"/>
                    <a:pt x="248" y="734"/>
                    <a:pt x="265" y="802"/>
                  </a:cubicBezTo>
                  <a:cubicBezTo>
                    <a:pt x="280" y="779"/>
                    <a:pt x="295" y="757"/>
                    <a:pt x="310" y="734"/>
                  </a:cubicBezTo>
                  <a:cubicBezTo>
                    <a:pt x="318" y="723"/>
                    <a:pt x="333" y="700"/>
                    <a:pt x="333" y="700"/>
                  </a:cubicBezTo>
                  <a:cubicBezTo>
                    <a:pt x="337" y="689"/>
                    <a:pt x="333" y="670"/>
                    <a:pt x="344" y="667"/>
                  </a:cubicBezTo>
                  <a:cubicBezTo>
                    <a:pt x="357" y="664"/>
                    <a:pt x="369" y="679"/>
                    <a:pt x="378" y="689"/>
                  </a:cubicBezTo>
                  <a:cubicBezTo>
                    <a:pt x="396" y="709"/>
                    <a:pt x="408" y="734"/>
                    <a:pt x="423" y="757"/>
                  </a:cubicBezTo>
                  <a:cubicBezTo>
                    <a:pt x="431" y="768"/>
                    <a:pt x="446" y="791"/>
                    <a:pt x="446" y="791"/>
                  </a:cubicBezTo>
                  <a:cubicBezTo>
                    <a:pt x="478" y="891"/>
                    <a:pt x="465" y="835"/>
                    <a:pt x="479" y="960"/>
                  </a:cubicBezTo>
                  <a:cubicBezTo>
                    <a:pt x="495" y="915"/>
                    <a:pt x="513" y="892"/>
                    <a:pt x="547" y="859"/>
                  </a:cubicBezTo>
                  <a:cubicBezTo>
                    <a:pt x="573" y="786"/>
                    <a:pt x="581" y="809"/>
                    <a:pt x="626" y="847"/>
                  </a:cubicBezTo>
                  <a:cubicBezTo>
                    <a:pt x="721" y="926"/>
                    <a:pt x="595" y="805"/>
                    <a:pt x="694" y="904"/>
                  </a:cubicBezTo>
                  <a:cubicBezTo>
                    <a:pt x="726" y="856"/>
                    <a:pt x="729" y="827"/>
                    <a:pt x="739" y="768"/>
                  </a:cubicBezTo>
                  <a:cubicBezTo>
                    <a:pt x="747" y="779"/>
                    <a:pt x="753" y="792"/>
                    <a:pt x="762" y="802"/>
                  </a:cubicBezTo>
                  <a:cubicBezTo>
                    <a:pt x="783" y="826"/>
                    <a:pt x="830" y="870"/>
                    <a:pt x="830" y="870"/>
                  </a:cubicBezTo>
                  <a:cubicBezTo>
                    <a:pt x="837" y="859"/>
                    <a:pt x="847" y="848"/>
                    <a:pt x="852" y="836"/>
                  </a:cubicBezTo>
                  <a:cubicBezTo>
                    <a:pt x="858" y="822"/>
                    <a:pt x="849" y="798"/>
                    <a:pt x="863" y="791"/>
                  </a:cubicBezTo>
                  <a:cubicBezTo>
                    <a:pt x="875" y="785"/>
                    <a:pt x="885" y="807"/>
                    <a:pt x="897" y="813"/>
                  </a:cubicBezTo>
                  <a:cubicBezTo>
                    <a:pt x="908" y="818"/>
                    <a:pt x="919" y="823"/>
                    <a:pt x="931" y="825"/>
                  </a:cubicBezTo>
                  <a:cubicBezTo>
                    <a:pt x="961" y="831"/>
                    <a:pt x="992" y="832"/>
                    <a:pt x="1022" y="836"/>
                  </a:cubicBezTo>
                  <a:cubicBezTo>
                    <a:pt x="1033" y="832"/>
                    <a:pt x="1051" y="836"/>
                    <a:pt x="1055" y="825"/>
                  </a:cubicBezTo>
                  <a:cubicBezTo>
                    <a:pt x="1061" y="811"/>
                    <a:pt x="1047" y="795"/>
                    <a:pt x="1044" y="780"/>
                  </a:cubicBezTo>
                  <a:cubicBezTo>
                    <a:pt x="1040" y="761"/>
                    <a:pt x="1037" y="742"/>
                    <a:pt x="1033" y="723"/>
                  </a:cubicBezTo>
                  <a:cubicBezTo>
                    <a:pt x="1048" y="645"/>
                    <a:pt x="1060" y="659"/>
                    <a:pt x="1101" y="599"/>
                  </a:cubicBezTo>
                  <a:cubicBezTo>
                    <a:pt x="1115" y="555"/>
                    <a:pt x="1128" y="517"/>
                    <a:pt x="1146" y="475"/>
                  </a:cubicBezTo>
                  <a:cubicBezTo>
                    <a:pt x="1151" y="464"/>
                    <a:pt x="1165" y="449"/>
                    <a:pt x="1157" y="441"/>
                  </a:cubicBezTo>
                  <a:cubicBezTo>
                    <a:pt x="1149" y="433"/>
                    <a:pt x="1134" y="448"/>
                    <a:pt x="1123" y="452"/>
                  </a:cubicBezTo>
                  <a:cubicBezTo>
                    <a:pt x="1085" y="448"/>
                    <a:pt x="1043" y="460"/>
                    <a:pt x="1010" y="441"/>
                  </a:cubicBezTo>
                  <a:cubicBezTo>
                    <a:pt x="996" y="433"/>
                    <a:pt x="1036" y="421"/>
                    <a:pt x="1044" y="407"/>
                  </a:cubicBezTo>
                  <a:cubicBezTo>
                    <a:pt x="1056" y="386"/>
                    <a:pt x="1067" y="339"/>
                    <a:pt x="1067" y="339"/>
                  </a:cubicBezTo>
                  <a:cubicBezTo>
                    <a:pt x="1063" y="294"/>
                    <a:pt x="1075" y="244"/>
                    <a:pt x="1055" y="204"/>
                  </a:cubicBezTo>
                  <a:cubicBezTo>
                    <a:pt x="1044" y="183"/>
                    <a:pt x="1033" y="271"/>
                    <a:pt x="1033" y="271"/>
                  </a:cubicBezTo>
                  <a:cubicBezTo>
                    <a:pt x="1018" y="226"/>
                    <a:pt x="1004" y="208"/>
                    <a:pt x="965" y="181"/>
                  </a:cubicBezTo>
                  <a:cubicBezTo>
                    <a:pt x="912" y="194"/>
                    <a:pt x="892" y="207"/>
                    <a:pt x="875" y="260"/>
                  </a:cubicBezTo>
                  <a:cubicBezTo>
                    <a:pt x="837" y="204"/>
                    <a:pt x="798" y="165"/>
                    <a:pt x="739" y="136"/>
                  </a:cubicBezTo>
                  <a:cubicBezTo>
                    <a:pt x="658" y="55"/>
                    <a:pt x="697" y="87"/>
                    <a:pt x="626" y="34"/>
                  </a:cubicBezTo>
                  <a:cubicBezTo>
                    <a:pt x="619" y="23"/>
                    <a:pt x="617" y="0"/>
                    <a:pt x="604" y="0"/>
                  </a:cubicBezTo>
                  <a:cubicBezTo>
                    <a:pt x="592" y="0"/>
                    <a:pt x="595" y="22"/>
                    <a:pt x="592" y="34"/>
                  </a:cubicBezTo>
                  <a:cubicBezTo>
                    <a:pt x="587" y="53"/>
                    <a:pt x="585" y="72"/>
                    <a:pt x="581" y="91"/>
                  </a:cubicBezTo>
                  <a:cubicBezTo>
                    <a:pt x="574" y="80"/>
                    <a:pt x="572" y="60"/>
                    <a:pt x="559" y="57"/>
                  </a:cubicBezTo>
                  <a:cubicBezTo>
                    <a:pt x="546" y="54"/>
                    <a:pt x="530" y="66"/>
                    <a:pt x="525" y="79"/>
                  </a:cubicBezTo>
                  <a:cubicBezTo>
                    <a:pt x="513" y="111"/>
                    <a:pt x="517" y="147"/>
                    <a:pt x="513" y="181"/>
                  </a:cubicBezTo>
                  <a:cubicBezTo>
                    <a:pt x="451" y="119"/>
                    <a:pt x="384" y="60"/>
                    <a:pt x="310" y="12"/>
                  </a:cubicBezTo>
                  <a:cubicBezTo>
                    <a:pt x="314" y="46"/>
                    <a:pt x="316" y="79"/>
                    <a:pt x="321" y="113"/>
                  </a:cubicBezTo>
                  <a:cubicBezTo>
                    <a:pt x="324" y="136"/>
                    <a:pt x="333" y="181"/>
                    <a:pt x="333" y="181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45080" y="790560"/>
              <a:ext cx="1114200" cy="949320"/>
            </a:xfrm>
            <a:custGeom>
              <a:avLst/>
              <a:gdLst/>
              <a:ahLst/>
              <a:rect l="l" t="t" r="r" b="b"/>
              <a:pathLst>
                <a:path w="702" h="598">
                  <a:moveTo>
                    <a:pt x="397" y="55"/>
                  </a:moveTo>
                  <a:cubicBezTo>
                    <a:pt x="345" y="21"/>
                    <a:pt x="329" y="36"/>
                    <a:pt x="273" y="55"/>
                  </a:cubicBezTo>
                  <a:cubicBezTo>
                    <a:pt x="176" y="24"/>
                    <a:pt x="229" y="30"/>
                    <a:pt x="114" y="44"/>
                  </a:cubicBezTo>
                  <a:cubicBezTo>
                    <a:pt x="69" y="59"/>
                    <a:pt x="50" y="84"/>
                    <a:pt x="24" y="123"/>
                  </a:cubicBezTo>
                  <a:cubicBezTo>
                    <a:pt x="0" y="196"/>
                    <a:pt x="11" y="148"/>
                    <a:pt x="24" y="281"/>
                  </a:cubicBezTo>
                  <a:cubicBezTo>
                    <a:pt x="35" y="390"/>
                    <a:pt x="35" y="398"/>
                    <a:pt x="92" y="485"/>
                  </a:cubicBezTo>
                  <a:cubicBezTo>
                    <a:pt x="99" y="496"/>
                    <a:pt x="101" y="514"/>
                    <a:pt x="114" y="518"/>
                  </a:cubicBezTo>
                  <a:cubicBezTo>
                    <a:pt x="174" y="538"/>
                    <a:pt x="235" y="555"/>
                    <a:pt x="295" y="575"/>
                  </a:cubicBezTo>
                  <a:cubicBezTo>
                    <a:pt x="318" y="583"/>
                    <a:pt x="363" y="598"/>
                    <a:pt x="363" y="598"/>
                  </a:cubicBezTo>
                  <a:cubicBezTo>
                    <a:pt x="428" y="590"/>
                    <a:pt x="483" y="585"/>
                    <a:pt x="544" y="564"/>
                  </a:cubicBezTo>
                  <a:cubicBezTo>
                    <a:pt x="581" y="551"/>
                    <a:pt x="645" y="507"/>
                    <a:pt x="645" y="507"/>
                  </a:cubicBezTo>
                  <a:cubicBezTo>
                    <a:pt x="653" y="483"/>
                    <a:pt x="678" y="464"/>
                    <a:pt x="679" y="439"/>
                  </a:cubicBezTo>
                  <a:cubicBezTo>
                    <a:pt x="683" y="346"/>
                    <a:pt x="702" y="196"/>
                    <a:pt x="611" y="134"/>
                  </a:cubicBezTo>
                  <a:cubicBezTo>
                    <a:pt x="553" y="46"/>
                    <a:pt x="628" y="146"/>
                    <a:pt x="555" y="89"/>
                  </a:cubicBezTo>
                  <a:cubicBezTo>
                    <a:pt x="440" y="0"/>
                    <a:pt x="531" y="38"/>
                    <a:pt x="453" y="10"/>
                  </a:cubicBezTo>
                  <a:cubicBezTo>
                    <a:pt x="366" y="41"/>
                    <a:pt x="275" y="33"/>
                    <a:pt x="182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14400" y="533520"/>
            <a:ext cx="1644480" cy="1363680"/>
          </a:xfrm>
          <a:custGeom>
            <a:avLst/>
            <a:gdLst/>
            <a:ahLst/>
            <a:rect l="l" t="t" r="r" b="b"/>
            <a:pathLst>
              <a:path w="1036" h="859">
                <a:moveTo>
                  <a:pt x="566" y="192"/>
                </a:moveTo>
                <a:cubicBezTo>
                  <a:pt x="486" y="112"/>
                  <a:pt x="524" y="144"/>
                  <a:pt x="453" y="91"/>
                </a:cubicBezTo>
                <a:cubicBezTo>
                  <a:pt x="427" y="51"/>
                  <a:pt x="402" y="26"/>
                  <a:pt x="363" y="0"/>
                </a:cubicBezTo>
                <a:cubicBezTo>
                  <a:pt x="355" y="15"/>
                  <a:pt x="344" y="29"/>
                  <a:pt x="340" y="46"/>
                </a:cubicBezTo>
                <a:cubicBezTo>
                  <a:pt x="313" y="171"/>
                  <a:pt x="371" y="170"/>
                  <a:pt x="284" y="147"/>
                </a:cubicBezTo>
                <a:cubicBezTo>
                  <a:pt x="273" y="140"/>
                  <a:pt x="254" y="112"/>
                  <a:pt x="250" y="125"/>
                </a:cubicBezTo>
                <a:cubicBezTo>
                  <a:pt x="241" y="158"/>
                  <a:pt x="256" y="192"/>
                  <a:pt x="261" y="226"/>
                </a:cubicBezTo>
                <a:cubicBezTo>
                  <a:pt x="264" y="245"/>
                  <a:pt x="290" y="273"/>
                  <a:pt x="273" y="283"/>
                </a:cubicBezTo>
                <a:cubicBezTo>
                  <a:pt x="253" y="295"/>
                  <a:pt x="205" y="260"/>
                  <a:pt x="205" y="260"/>
                </a:cubicBezTo>
                <a:cubicBezTo>
                  <a:pt x="139" y="271"/>
                  <a:pt x="88" y="270"/>
                  <a:pt x="24" y="249"/>
                </a:cubicBezTo>
                <a:cubicBezTo>
                  <a:pt x="0" y="348"/>
                  <a:pt x="57" y="421"/>
                  <a:pt x="137" y="475"/>
                </a:cubicBezTo>
                <a:cubicBezTo>
                  <a:pt x="127" y="528"/>
                  <a:pt x="109" y="564"/>
                  <a:pt x="81" y="610"/>
                </a:cubicBezTo>
                <a:cubicBezTo>
                  <a:pt x="67" y="633"/>
                  <a:pt x="35" y="678"/>
                  <a:pt x="35" y="678"/>
                </a:cubicBezTo>
                <a:cubicBezTo>
                  <a:pt x="58" y="763"/>
                  <a:pt x="83" y="735"/>
                  <a:pt x="171" y="723"/>
                </a:cubicBezTo>
                <a:cubicBezTo>
                  <a:pt x="216" y="678"/>
                  <a:pt x="218" y="664"/>
                  <a:pt x="273" y="701"/>
                </a:cubicBezTo>
                <a:cubicBezTo>
                  <a:pt x="314" y="763"/>
                  <a:pt x="323" y="778"/>
                  <a:pt x="340" y="847"/>
                </a:cubicBezTo>
                <a:cubicBezTo>
                  <a:pt x="351" y="832"/>
                  <a:pt x="364" y="818"/>
                  <a:pt x="374" y="802"/>
                </a:cubicBezTo>
                <a:cubicBezTo>
                  <a:pt x="383" y="788"/>
                  <a:pt x="382" y="764"/>
                  <a:pt x="397" y="757"/>
                </a:cubicBezTo>
                <a:cubicBezTo>
                  <a:pt x="414" y="749"/>
                  <a:pt x="434" y="764"/>
                  <a:pt x="453" y="768"/>
                </a:cubicBezTo>
                <a:cubicBezTo>
                  <a:pt x="507" y="847"/>
                  <a:pt x="477" y="820"/>
                  <a:pt x="532" y="859"/>
                </a:cubicBezTo>
                <a:cubicBezTo>
                  <a:pt x="561" y="816"/>
                  <a:pt x="560" y="787"/>
                  <a:pt x="611" y="768"/>
                </a:cubicBezTo>
                <a:cubicBezTo>
                  <a:pt x="647" y="781"/>
                  <a:pt x="677" y="801"/>
                  <a:pt x="713" y="814"/>
                </a:cubicBezTo>
                <a:cubicBezTo>
                  <a:pt x="724" y="806"/>
                  <a:pt x="739" y="802"/>
                  <a:pt x="747" y="791"/>
                </a:cubicBezTo>
                <a:cubicBezTo>
                  <a:pt x="755" y="780"/>
                  <a:pt x="769" y="702"/>
                  <a:pt x="770" y="701"/>
                </a:cubicBezTo>
                <a:cubicBezTo>
                  <a:pt x="780" y="689"/>
                  <a:pt x="800" y="693"/>
                  <a:pt x="815" y="689"/>
                </a:cubicBezTo>
                <a:cubicBezTo>
                  <a:pt x="915" y="723"/>
                  <a:pt x="859" y="715"/>
                  <a:pt x="984" y="701"/>
                </a:cubicBezTo>
                <a:cubicBezTo>
                  <a:pt x="999" y="697"/>
                  <a:pt x="1020" y="701"/>
                  <a:pt x="1029" y="689"/>
                </a:cubicBezTo>
                <a:cubicBezTo>
                  <a:pt x="1036" y="679"/>
                  <a:pt x="1025" y="665"/>
                  <a:pt x="1018" y="655"/>
                </a:cubicBezTo>
                <a:cubicBezTo>
                  <a:pt x="1009" y="642"/>
                  <a:pt x="994" y="634"/>
                  <a:pt x="984" y="622"/>
                </a:cubicBezTo>
                <a:cubicBezTo>
                  <a:pt x="956" y="589"/>
                  <a:pt x="940" y="545"/>
                  <a:pt x="916" y="509"/>
                </a:cubicBezTo>
                <a:cubicBezTo>
                  <a:pt x="912" y="498"/>
                  <a:pt x="900" y="486"/>
                  <a:pt x="905" y="475"/>
                </a:cubicBezTo>
                <a:cubicBezTo>
                  <a:pt x="910" y="464"/>
                  <a:pt x="930" y="471"/>
                  <a:pt x="939" y="463"/>
                </a:cubicBezTo>
                <a:cubicBezTo>
                  <a:pt x="975" y="433"/>
                  <a:pt x="992" y="381"/>
                  <a:pt x="1007" y="339"/>
                </a:cubicBezTo>
                <a:cubicBezTo>
                  <a:pt x="937" y="316"/>
                  <a:pt x="906" y="350"/>
                  <a:pt x="860" y="283"/>
                </a:cubicBezTo>
                <a:cubicBezTo>
                  <a:pt x="847" y="244"/>
                  <a:pt x="858" y="257"/>
                  <a:pt x="837" y="238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09680" y="1523880"/>
            <a:ext cx="1809720" cy="1325520"/>
            <a:chOff x="2209680" y="1523880"/>
            <a:chExt cx="1809720" cy="1325520"/>
          </a:xfrm>
        </p:grpSpPr>
        <p:sp>
          <p:nvSpPr>
            <p:cNvPr id="48" name=""/>
            <p:cNvSpPr/>
            <p:nvPr/>
          </p:nvSpPr>
          <p:spPr>
            <a:xfrm>
              <a:off x="2504880" y="1693800"/>
              <a:ext cx="1247400" cy="868320"/>
            </a:xfrm>
            <a:custGeom>
              <a:avLst/>
              <a:gdLst/>
              <a:ahLst/>
              <a:rect l="l" t="t" r="r" b="b"/>
              <a:pathLst>
                <a:path w="786" h="547">
                  <a:moveTo>
                    <a:pt x="397" y="34"/>
                  </a:moveTo>
                  <a:cubicBezTo>
                    <a:pt x="334" y="13"/>
                    <a:pt x="354" y="15"/>
                    <a:pt x="250" y="34"/>
                  </a:cubicBezTo>
                  <a:cubicBezTo>
                    <a:pt x="227" y="38"/>
                    <a:pt x="182" y="56"/>
                    <a:pt x="182" y="56"/>
                  </a:cubicBezTo>
                  <a:cubicBezTo>
                    <a:pt x="134" y="89"/>
                    <a:pt x="94" y="126"/>
                    <a:pt x="47" y="158"/>
                  </a:cubicBezTo>
                  <a:cubicBezTo>
                    <a:pt x="32" y="181"/>
                    <a:pt x="0" y="199"/>
                    <a:pt x="2" y="226"/>
                  </a:cubicBezTo>
                  <a:cubicBezTo>
                    <a:pt x="6" y="271"/>
                    <a:pt x="4" y="317"/>
                    <a:pt x="13" y="361"/>
                  </a:cubicBezTo>
                  <a:cubicBezTo>
                    <a:pt x="20" y="393"/>
                    <a:pt x="87" y="434"/>
                    <a:pt x="103" y="440"/>
                  </a:cubicBezTo>
                  <a:cubicBezTo>
                    <a:pt x="227" y="482"/>
                    <a:pt x="346" y="524"/>
                    <a:pt x="476" y="542"/>
                  </a:cubicBezTo>
                  <a:cubicBezTo>
                    <a:pt x="574" y="535"/>
                    <a:pt x="636" y="547"/>
                    <a:pt x="713" y="497"/>
                  </a:cubicBezTo>
                  <a:cubicBezTo>
                    <a:pt x="754" y="377"/>
                    <a:pt x="786" y="215"/>
                    <a:pt x="668" y="135"/>
                  </a:cubicBezTo>
                  <a:cubicBezTo>
                    <a:pt x="628" y="75"/>
                    <a:pt x="669" y="122"/>
                    <a:pt x="612" y="90"/>
                  </a:cubicBezTo>
                  <a:cubicBezTo>
                    <a:pt x="576" y="70"/>
                    <a:pt x="549" y="33"/>
                    <a:pt x="510" y="23"/>
                  </a:cubicBezTo>
                  <a:cubicBezTo>
                    <a:pt x="453" y="8"/>
                    <a:pt x="480" y="16"/>
                    <a:pt x="431" y="0"/>
                  </a:cubicBezTo>
                  <a:cubicBezTo>
                    <a:pt x="390" y="4"/>
                    <a:pt x="348" y="2"/>
                    <a:pt x="307" y="11"/>
                  </a:cubicBezTo>
                  <a:cubicBezTo>
                    <a:pt x="191" y="36"/>
                    <a:pt x="308" y="34"/>
                    <a:pt x="262" y="34"/>
                  </a:cubicBezTo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15880" y="1523880"/>
              <a:ext cx="1668240" cy="1003320"/>
            </a:xfrm>
            <a:custGeom>
              <a:avLst/>
              <a:gdLst/>
              <a:ahLst/>
              <a:rect l="l" t="t" r="r" b="b"/>
              <a:pathLst>
                <a:path w="1051" h="632">
                  <a:moveTo>
                    <a:pt x="91" y="440"/>
                  </a:moveTo>
                  <a:cubicBezTo>
                    <a:pt x="83" y="429"/>
                    <a:pt x="74" y="418"/>
                    <a:pt x="68" y="406"/>
                  </a:cubicBezTo>
                  <a:cubicBezTo>
                    <a:pt x="63" y="395"/>
                    <a:pt x="64" y="382"/>
                    <a:pt x="57" y="372"/>
                  </a:cubicBezTo>
                  <a:cubicBezTo>
                    <a:pt x="41" y="348"/>
                    <a:pt x="16" y="329"/>
                    <a:pt x="0" y="305"/>
                  </a:cubicBezTo>
                  <a:cubicBezTo>
                    <a:pt x="29" y="224"/>
                    <a:pt x="119" y="224"/>
                    <a:pt x="192" y="214"/>
                  </a:cubicBezTo>
                  <a:cubicBezTo>
                    <a:pt x="211" y="143"/>
                    <a:pt x="219" y="71"/>
                    <a:pt x="238" y="0"/>
                  </a:cubicBezTo>
                  <a:cubicBezTo>
                    <a:pt x="249" y="11"/>
                    <a:pt x="259" y="24"/>
                    <a:pt x="271" y="34"/>
                  </a:cubicBezTo>
                  <a:cubicBezTo>
                    <a:pt x="300" y="58"/>
                    <a:pt x="362" y="101"/>
                    <a:pt x="362" y="101"/>
                  </a:cubicBezTo>
                  <a:cubicBezTo>
                    <a:pt x="388" y="23"/>
                    <a:pt x="362" y="42"/>
                    <a:pt x="418" y="22"/>
                  </a:cubicBezTo>
                  <a:cubicBezTo>
                    <a:pt x="433" y="30"/>
                    <a:pt x="449" y="36"/>
                    <a:pt x="463" y="45"/>
                  </a:cubicBezTo>
                  <a:cubicBezTo>
                    <a:pt x="486" y="59"/>
                    <a:pt x="531" y="90"/>
                    <a:pt x="531" y="90"/>
                  </a:cubicBezTo>
                  <a:cubicBezTo>
                    <a:pt x="558" y="11"/>
                    <a:pt x="531" y="29"/>
                    <a:pt x="588" y="11"/>
                  </a:cubicBezTo>
                  <a:cubicBezTo>
                    <a:pt x="610" y="26"/>
                    <a:pt x="633" y="41"/>
                    <a:pt x="655" y="56"/>
                  </a:cubicBezTo>
                  <a:cubicBezTo>
                    <a:pt x="666" y="64"/>
                    <a:pt x="689" y="79"/>
                    <a:pt x="689" y="79"/>
                  </a:cubicBezTo>
                  <a:cubicBezTo>
                    <a:pt x="726" y="133"/>
                    <a:pt x="726" y="140"/>
                    <a:pt x="791" y="124"/>
                  </a:cubicBezTo>
                  <a:cubicBezTo>
                    <a:pt x="799" y="135"/>
                    <a:pt x="808" y="145"/>
                    <a:pt x="814" y="158"/>
                  </a:cubicBezTo>
                  <a:cubicBezTo>
                    <a:pt x="824" y="180"/>
                    <a:pt x="829" y="203"/>
                    <a:pt x="836" y="226"/>
                  </a:cubicBezTo>
                  <a:cubicBezTo>
                    <a:pt x="856" y="288"/>
                    <a:pt x="837" y="258"/>
                    <a:pt x="938" y="271"/>
                  </a:cubicBezTo>
                  <a:cubicBezTo>
                    <a:pt x="956" y="326"/>
                    <a:pt x="935" y="372"/>
                    <a:pt x="904" y="418"/>
                  </a:cubicBezTo>
                  <a:cubicBezTo>
                    <a:pt x="950" y="448"/>
                    <a:pt x="998" y="461"/>
                    <a:pt x="1051" y="474"/>
                  </a:cubicBezTo>
                  <a:cubicBezTo>
                    <a:pt x="1025" y="513"/>
                    <a:pt x="1000" y="538"/>
                    <a:pt x="960" y="564"/>
                  </a:cubicBezTo>
                  <a:cubicBezTo>
                    <a:pt x="974" y="618"/>
                    <a:pt x="965" y="596"/>
                    <a:pt x="983" y="632"/>
                  </a:cubicBezTo>
                </a:path>
              </a:pathLst>
            </a:custGeom>
            <a:solidFill>
              <a:srgbClr val="00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09680" y="1684080"/>
              <a:ext cx="1809720" cy="1165320"/>
              <a:chOff x="2209680" y="1684080"/>
              <a:chExt cx="1809720" cy="1165320"/>
            </a:xfrm>
          </p:grpSpPr>
          <p:sp>
            <p:nvSpPr>
              <p:cNvPr id="51" name=""/>
              <p:cNvSpPr/>
              <p:nvPr/>
            </p:nvSpPr>
            <p:spPr>
              <a:xfrm>
                <a:off x="2209680" y="1684080"/>
                <a:ext cx="1809720" cy="1165320"/>
              </a:xfrm>
              <a:custGeom>
                <a:avLst/>
                <a:gdLst/>
                <a:ahLst/>
                <a:rect l="l" t="t" r="r" b="b"/>
                <a:pathLst>
                  <a:path w="1140" h="734">
                    <a:moveTo>
                      <a:pt x="180" y="283"/>
                    </a:moveTo>
                    <a:cubicBezTo>
                      <a:pt x="118" y="376"/>
                      <a:pt x="115" y="388"/>
                      <a:pt x="0" y="407"/>
                    </a:cubicBezTo>
                    <a:cubicBezTo>
                      <a:pt x="23" y="443"/>
                      <a:pt x="49" y="479"/>
                      <a:pt x="90" y="497"/>
                    </a:cubicBezTo>
                    <a:cubicBezTo>
                      <a:pt x="112" y="507"/>
                      <a:pt x="158" y="520"/>
                      <a:pt x="158" y="520"/>
                    </a:cubicBezTo>
                    <a:cubicBezTo>
                      <a:pt x="192" y="516"/>
                      <a:pt x="226" y="504"/>
                      <a:pt x="259" y="509"/>
                    </a:cubicBezTo>
                    <a:cubicBezTo>
                      <a:pt x="275" y="512"/>
                      <a:pt x="283" y="530"/>
                      <a:pt x="293" y="542"/>
                    </a:cubicBezTo>
                    <a:cubicBezTo>
                      <a:pt x="314" y="568"/>
                      <a:pt x="350" y="622"/>
                      <a:pt x="350" y="622"/>
                    </a:cubicBezTo>
                    <a:cubicBezTo>
                      <a:pt x="361" y="618"/>
                      <a:pt x="376" y="619"/>
                      <a:pt x="384" y="610"/>
                    </a:cubicBezTo>
                    <a:cubicBezTo>
                      <a:pt x="425" y="568"/>
                      <a:pt x="350" y="564"/>
                      <a:pt x="440" y="588"/>
                    </a:cubicBezTo>
                    <a:cubicBezTo>
                      <a:pt x="474" y="610"/>
                      <a:pt x="508" y="633"/>
                      <a:pt x="542" y="655"/>
                    </a:cubicBezTo>
                    <a:cubicBezTo>
                      <a:pt x="553" y="663"/>
                      <a:pt x="565" y="670"/>
                      <a:pt x="576" y="678"/>
                    </a:cubicBezTo>
                    <a:cubicBezTo>
                      <a:pt x="587" y="686"/>
                      <a:pt x="610" y="701"/>
                      <a:pt x="610" y="701"/>
                    </a:cubicBezTo>
                    <a:cubicBezTo>
                      <a:pt x="625" y="697"/>
                      <a:pt x="642" y="698"/>
                      <a:pt x="655" y="689"/>
                    </a:cubicBezTo>
                    <a:cubicBezTo>
                      <a:pt x="681" y="671"/>
                      <a:pt x="722" y="622"/>
                      <a:pt x="722" y="622"/>
                    </a:cubicBezTo>
                    <a:cubicBezTo>
                      <a:pt x="779" y="638"/>
                      <a:pt x="834" y="655"/>
                      <a:pt x="892" y="667"/>
                    </a:cubicBezTo>
                    <a:cubicBezTo>
                      <a:pt x="1051" y="602"/>
                      <a:pt x="808" y="710"/>
                      <a:pt x="1027" y="565"/>
                    </a:cubicBezTo>
                    <a:cubicBezTo>
                      <a:pt x="1050" y="550"/>
                      <a:pt x="1095" y="520"/>
                      <a:pt x="1095" y="520"/>
                    </a:cubicBezTo>
                    <a:cubicBezTo>
                      <a:pt x="1103" y="509"/>
                      <a:pt x="1116" y="500"/>
                      <a:pt x="1118" y="486"/>
                    </a:cubicBezTo>
                    <a:cubicBezTo>
                      <a:pt x="1125" y="444"/>
                      <a:pt x="1062" y="385"/>
                      <a:pt x="1027" y="362"/>
                    </a:cubicBezTo>
                    <a:cubicBezTo>
                      <a:pt x="1038" y="358"/>
                      <a:pt x="1050" y="355"/>
                      <a:pt x="1061" y="350"/>
                    </a:cubicBezTo>
                    <a:cubicBezTo>
                      <a:pt x="1073" y="344"/>
                      <a:pt x="1085" y="318"/>
                      <a:pt x="1095" y="328"/>
                    </a:cubicBezTo>
                    <a:cubicBezTo>
                      <a:pt x="1105" y="338"/>
                      <a:pt x="1080" y="350"/>
                      <a:pt x="1073" y="362"/>
                    </a:cubicBezTo>
                    <a:cubicBezTo>
                      <a:pt x="1065" y="377"/>
                      <a:pt x="1058" y="392"/>
                      <a:pt x="1050" y="407"/>
                    </a:cubicBezTo>
                    <a:cubicBezTo>
                      <a:pt x="1077" y="446"/>
                      <a:pt x="1096" y="459"/>
                      <a:pt x="1140" y="475"/>
                    </a:cubicBezTo>
                    <a:cubicBezTo>
                      <a:pt x="1125" y="479"/>
                      <a:pt x="1109" y="479"/>
                      <a:pt x="1095" y="486"/>
                    </a:cubicBezTo>
                    <a:cubicBezTo>
                      <a:pt x="1071" y="498"/>
                      <a:pt x="1027" y="531"/>
                      <a:pt x="1027" y="531"/>
                    </a:cubicBezTo>
                    <a:cubicBezTo>
                      <a:pt x="1002" y="608"/>
                      <a:pt x="1026" y="649"/>
                      <a:pt x="937" y="678"/>
                    </a:cubicBezTo>
                    <a:cubicBezTo>
                      <a:pt x="926" y="674"/>
                      <a:pt x="911" y="659"/>
                      <a:pt x="903" y="667"/>
                    </a:cubicBezTo>
                    <a:cubicBezTo>
                      <a:pt x="893" y="677"/>
                      <a:pt x="936" y="732"/>
                      <a:pt x="937" y="734"/>
                    </a:cubicBezTo>
                    <a:cubicBezTo>
                      <a:pt x="952" y="712"/>
                      <a:pt x="967" y="689"/>
                      <a:pt x="982" y="667"/>
                    </a:cubicBezTo>
                    <a:cubicBezTo>
                      <a:pt x="990" y="656"/>
                      <a:pt x="1005" y="633"/>
                      <a:pt x="1005" y="633"/>
                    </a:cubicBezTo>
                    <a:cubicBezTo>
                      <a:pt x="1034" y="543"/>
                      <a:pt x="1031" y="541"/>
                      <a:pt x="1016" y="633"/>
                    </a:cubicBezTo>
                    <a:cubicBezTo>
                      <a:pt x="986" y="586"/>
                      <a:pt x="970" y="573"/>
                      <a:pt x="982" y="497"/>
                    </a:cubicBezTo>
                    <a:cubicBezTo>
                      <a:pt x="984" y="483"/>
                      <a:pt x="995" y="521"/>
                      <a:pt x="1005" y="531"/>
                    </a:cubicBezTo>
                    <a:cubicBezTo>
                      <a:pt x="1015" y="541"/>
                      <a:pt x="1028" y="546"/>
                      <a:pt x="1039" y="554"/>
                    </a:cubicBezTo>
                    <a:cubicBezTo>
                      <a:pt x="1046" y="543"/>
                      <a:pt x="1056" y="532"/>
                      <a:pt x="1061" y="520"/>
                    </a:cubicBezTo>
                    <a:cubicBezTo>
                      <a:pt x="1071" y="498"/>
                      <a:pt x="1084" y="452"/>
                      <a:pt x="1084" y="452"/>
                    </a:cubicBezTo>
                    <a:cubicBezTo>
                      <a:pt x="1080" y="437"/>
                      <a:pt x="1083" y="419"/>
                      <a:pt x="1073" y="407"/>
                    </a:cubicBezTo>
                    <a:cubicBezTo>
                      <a:pt x="1066" y="398"/>
                      <a:pt x="1049" y="402"/>
                      <a:pt x="1039" y="396"/>
                    </a:cubicBezTo>
                    <a:cubicBezTo>
                      <a:pt x="1015" y="383"/>
                      <a:pt x="994" y="365"/>
                      <a:pt x="971" y="350"/>
                    </a:cubicBezTo>
                    <a:cubicBezTo>
                      <a:pt x="960" y="343"/>
                      <a:pt x="937" y="328"/>
                      <a:pt x="937" y="328"/>
                    </a:cubicBezTo>
                    <a:cubicBezTo>
                      <a:pt x="948" y="317"/>
                      <a:pt x="963" y="308"/>
                      <a:pt x="971" y="294"/>
                    </a:cubicBezTo>
                    <a:cubicBezTo>
                      <a:pt x="983" y="273"/>
                      <a:pt x="994" y="226"/>
                      <a:pt x="994" y="226"/>
                    </a:cubicBezTo>
                    <a:cubicBezTo>
                      <a:pt x="969" y="108"/>
                      <a:pt x="1000" y="188"/>
                      <a:pt x="960" y="204"/>
                    </a:cubicBezTo>
                    <a:cubicBezTo>
                      <a:pt x="949" y="208"/>
                      <a:pt x="937" y="196"/>
                      <a:pt x="926" y="192"/>
                    </a:cubicBezTo>
                    <a:cubicBezTo>
                      <a:pt x="896" y="148"/>
                      <a:pt x="909" y="131"/>
                      <a:pt x="858" y="113"/>
                    </a:cubicBezTo>
                    <a:cubicBezTo>
                      <a:pt x="843" y="91"/>
                      <a:pt x="821" y="72"/>
                      <a:pt x="813" y="46"/>
                    </a:cubicBezTo>
                    <a:cubicBezTo>
                      <a:pt x="800" y="7"/>
                      <a:pt x="810" y="20"/>
                      <a:pt x="790" y="0"/>
                    </a:cubicBezTo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20800" y="1768320"/>
                <a:ext cx="1156680" cy="866880"/>
              </a:xfrm>
              <a:custGeom>
                <a:avLst/>
                <a:gdLst/>
                <a:ahLst/>
                <a:rect l="l" t="t" r="r" b="b"/>
                <a:pathLst>
                  <a:path w="729" h="546">
                    <a:moveTo>
                      <a:pt x="226" y="72"/>
                    </a:moveTo>
                    <a:cubicBezTo>
                      <a:pt x="180" y="0"/>
                      <a:pt x="127" y="32"/>
                      <a:pt x="68" y="72"/>
                    </a:cubicBezTo>
                    <a:cubicBezTo>
                      <a:pt x="41" y="113"/>
                      <a:pt x="16" y="161"/>
                      <a:pt x="0" y="207"/>
                    </a:cubicBezTo>
                    <a:cubicBezTo>
                      <a:pt x="4" y="222"/>
                      <a:pt x="5" y="238"/>
                      <a:pt x="12" y="252"/>
                    </a:cubicBezTo>
                    <a:cubicBezTo>
                      <a:pt x="24" y="276"/>
                      <a:pt x="57" y="320"/>
                      <a:pt x="57" y="320"/>
                    </a:cubicBezTo>
                    <a:cubicBezTo>
                      <a:pt x="72" y="365"/>
                      <a:pt x="85" y="384"/>
                      <a:pt x="125" y="410"/>
                    </a:cubicBezTo>
                    <a:cubicBezTo>
                      <a:pt x="164" y="470"/>
                      <a:pt x="247" y="523"/>
                      <a:pt x="317" y="546"/>
                    </a:cubicBezTo>
                    <a:cubicBezTo>
                      <a:pt x="395" y="536"/>
                      <a:pt x="392" y="541"/>
                      <a:pt x="452" y="523"/>
                    </a:cubicBezTo>
                    <a:cubicBezTo>
                      <a:pt x="475" y="516"/>
                      <a:pt x="520" y="501"/>
                      <a:pt x="520" y="501"/>
                    </a:cubicBezTo>
                    <a:cubicBezTo>
                      <a:pt x="554" y="479"/>
                      <a:pt x="588" y="456"/>
                      <a:pt x="622" y="433"/>
                    </a:cubicBezTo>
                    <a:cubicBezTo>
                      <a:pt x="633" y="425"/>
                      <a:pt x="644" y="417"/>
                      <a:pt x="655" y="410"/>
                    </a:cubicBezTo>
                    <a:cubicBezTo>
                      <a:pt x="666" y="402"/>
                      <a:pt x="689" y="388"/>
                      <a:pt x="689" y="388"/>
                    </a:cubicBezTo>
                    <a:cubicBezTo>
                      <a:pt x="729" y="328"/>
                      <a:pt x="725" y="287"/>
                      <a:pt x="701" y="218"/>
                    </a:cubicBezTo>
                    <a:cubicBezTo>
                      <a:pt x="697" y="207"/>
                      <a:pt x="697" y="193"/>
                      <a:pt x="689" y="185"/>
                    </a:cubicBezTo>
                    <a:cubicBezTo>
                      <a:pt x="670" y="166"/>
                      <a:pt x="644" y="154"/>
                      <a:pt x="622" y="139"/>
                    </a:cubicBezTo>
                    <a:cubicBezTo>
                      <a:pt x="611" y="131"/>
                      <a:pt x="588" y="117"/>
                      <a:pt x="588" y="117"/>
                    </a:cubicBezTo>
                    <a:cubicBezTo>
                      <a:pt x="580" y="106"/>
                      <a:pt x="577" y="90"/>
                      <a:pt x="565" y="83"/>
                    </a:cubicBezTo>
                    <a:cubicBezTo>
                      <a:pt x="545" y="70"/>
                      <a:pt x="520" y="68"/>
                      <a:pt x="497" y="60"/>
                    </a:cubicBezTo>
                    <a:cubicBezTo>
                      <a:pt x="484" y="56"/>
                      <a:pt x="475" y="43"/>
                      <a:pt x="463" y="38"/>
                    </a:cubicBezTo>
                    <a:cubicBezTo>
                      <a:pt x="438" y="27"/>
                      <a:pt x="410" y="23"/>
                      <a:pt x="384" y="15"/>
                    </a:cubicBezTo>
                    <a:cubicBezTo>
                      <a:pt x="316" y="19"/>
                      <a:pt x="181" y="26"/>
                      <a:pt x="181" y="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5105520" y="914400"/>
            <a:ext cx="365760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四个太阳</a:t>
            </a:r>
            <a:endParaRPr b="0" lang="en-US" sz="72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920" y="76320"/>
            <a:ext cx="679320" cy="663480"/>
            <a:chOff x="2509920" y="76320"/>
            <a:chExt cx="679320" cy="663480"/>
          </a:xfrm>
        </p:grpSpPr>
        <p:sp>
          <p:nvSpPr>
            <p:cNvPr id="55" name=""/>
            <p:cNvSpPr/>
            <p:nvPr/>
          </p:nvSpPr>
          <p:spPr>
            <a:xfrm>
              <a:off x="2514600" y="76320"/>
              <a:ext cx="674640" cy="663480"/>
            </a:xfrm>
            <a:custGeom>
              <a:avLst/>
              <a:gdLst/>
              <a:ahLst/>
              <a:rect l="l" t="t" r="r" b="b"/>
              <a:pathLst>
                <a:path w="425" h="418">
                  <a:moveTo>
                    <a:pt x="0" y="125"/>
                  </a:moveTo>
                  <a:cubicBezTo>
                    <a:pt x="31" y="77"/>
                    <a:pt x="77" y="55"/>
                    <a:pt x="124" y="23"/>
                  </a:cubicBezTo>
                  <a:cubicBezTo>
                    <a:pt x="144" y="10"/>
                    <a:pt x="192" y="0"/>
                    <a:pt x="192" y="0"/>
                  </a:cubicBezTo>
                  <a:cubicBezTo>
                    <a:pt x="248" y="8"/>
                    <a:pt x="297" y="17"/>
                    <a:pt x="350" y="34"/>
                  </a:cubicBezTo>
                  <a:cubicBezTo>
                    <a:pt x="361" y="45"/>
                    <a:pt x="375" y="55"/>
                    <a:pt x="384" y="68"/>
                  </a:cubicBezTo>
                  <a:cubicBezTo>
                    <a:pt x="425" y="129"/>
                    <a:pt x="365" y="165"/>
                    <a:pt x="316" y="181"/>
                  </a:cubicBezTo>
                  <a:cubicBezTo>
                    <a:pt x="305" y="189"/>
                    <a:pt x="295" y="198"/>
                    <a:pt x="282" y="204"/>
                  </a:cubicBezTo>
                  <a:cubicBezTo>
                    <a:pt x="260" y="214"/>
                    <a:pt x="214" y="226"/>
                    <a:pt x="214" y="226"/>
                  </a:cubicBezTo>
                  <a:cubicBezTo>
                    <a:pt x="179" y="281"/>
                    <a:pt x="181" y="418"/>
                    <a:pt x="181" y="418"/>
                  </a:cubicBez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920" y="284040"/>
              <a:ext cx="376200" cy="414360"/>
            </a:xfrm>
            <a:custGeom>
              <a:avLst/>
              <a:gdLst/>
              <a:ahLst/>
              <a:rect l="l" t="t" r="r" b="b"/>
              <a:pathLst>
                <a:path w="237" h="261">
                  <a:moveTo>
                    <a:pt x="0" y="2"/>
                  </a:moveTo>
                  <a:cubicBezTo>
                    <a:pt x="17" y="87"/>
                    <a:pt x="19" y="74"/>
                    <a:pt x="102" y="58"/>
                  </a:cubicBezTo>
                  <a:cubicBezTo>
                    <a:pt x="125" y="43"/>
                    <a:pt x="147" y="28"/>
                    <a:pt x="170" y="13"/>
                  </a:cubicBezTo>
                  <a:cubicBezTo>
                    <a:pt x="190" y="0"/>
                    <a:pt x="237" y="36"/>
                    <a:pt x="237" y="36"/>
                  </a:cubicBezTo>
                  <a:cubicBezTo>
                    <a:pt x="157" y="62"/>
                    <a:pt x="183" y="39"/>
                    <a:pt x="147" y="92"/>
                  </a:cubicBezTo>
                  <a:cubicBezTo>
                    <a:pt x="126" y="158"/>
                    <a:pt x="99" y="234"/>
                    <a:pt x="181" y="261"/>
                  </a:cubicBezTo>
                  <a:cubicBezTo>
                    <a:pt x="218" y="249"/>
                    <a:pt x="203" y="250"/>
                    <a:pt x="226" y="250"/>
                  </a:cubicBez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43000" y="609480"/>
            <a:ext cx="1698480" cy="1111320"/>
            <a:chOff x="1143000" y="609480"/>
            <a:chExt cx="1698480" cy="1111320"/>
          </a:xfrm>
        </p:grpSpPr>
        <p:sp>
          <p:nvSpPr>
            <p:cNvPr id="58" name=""/>
            <p:cNvSpPr/>
            <p:nvPr/>
          </p:nvSpPr>
          <p:spPr>
            <a:xfrm>
              <a:off x="1143000" y="842760"/>
              <a:ext cx="1218960" cy="863640"/>
            </a:xfrm>
            <a:custGeom>
              <a:avLst/>
              <a:gdLst/>
              <a:ahLst/>
              <a:rect l="l" t="t" r="r" b="b"/>
              <a:pathLst>
                <a:path w="768" h="544">
                  <a:moveTo>
                    <a:pt x="272" y="104"/>
                  </a:moveTo>
                  <a:cubicBezTo>
                    <a:pt x="212" y="268"/>
                    <a:pt x="152" y="432"/>
                    <a:pt x="224" y="488"/>
                  </a:cubicBezTo>
                  <a:cubicBezTo>
                    <a:pt x="296" y="544"/>
                    <a:pt x="640" y="504"/>
                    <a:pt x="704" y="440"/>
                  </a:cubicBezTo>
                  <a:cubicBezTo>
                    <a:pt x="768" y="376"/>
                    <a:pt x="704" y="168"/>
                    <a:pt x="608" y="104"/>
                  </a:cubicBezTo>
                  <a:cubicBezTo>
                    <a:pt x="512" y="40"/>
                    <a:pt x="216" y="0"/>
                    <a:pt x="128" y="56"/>
                  </a:cubicBezTo>
                  <a:cubicBezTo>
                    <a:pt x="40" y="112"/>
                    <a:pt x="0" y="368"/>
                    <a:pt x="80" y="440"/>
                  </a:cubicBezTo>
                  <a:cubicBezTo>
                    <a:pt x="160" y="512"/>
                    <a:pt x="560" y="488"/>
                    <a:pt x="608" y="488"/>
                  </a:cubicBezTo>
                  <a:cubicBezTo>
                    <a:pt x="656" y="488"/>
                    <a:pt x="512" y="464"/>
                    <a:pt x="368" y="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0880" y="609480"/>
              <a:ext cx="502920" cy="484200"/>
            </a:xfrm>
            <a:custGeom>
              <a:avLst/>
              <a:gdLst/>
              <a:ahLst/>
              <a:rect l="l" t="t" r="r" b="b"/>
              <a:pathLst>
                <a:path w="317" h="305">
                  <a:moveTo>
                    <a:pt x="0" y="169"/>
                  </a:moveTo>
                  <a:cubicBezTo>
                    <a:pt x="57" y="83"/>
                    <a:pt x="37" y="125"/>
                    <a:pt x="68" y="34"/>
                  </a:cubicBezTo>
                  <a:cubicBezTo>
                    <a:pt x="72" y="23"/>
                    <a:pt x="79" y="0"/>
                    <a:pt x="79" y="0"/>
                  </a:cubicBezTo>
                  <a:cubicBezTo>
                    <a:pt x="146" y="67"/>
                    <a:pt x="193" y="135"/>
                    <a:pt x="215" y="226"/>
                  </a:cubicBezTo>
                  <a:cubicBezTo>
                    <a:pt x="226" y="215"/>
                    <a:pt x="236" y="202"/>
                    <a:pt x="249" y="192"/>
                  </a:cubicBezTo>
                  <a:cubicBezTo>
                    <a:pt x="270" y="175"/>
                    <a:pt x="317" y="147"/>
                    <a:pt x="317" y="147"/>
                  </a:cubicBezTo>
                  <a:cubicBezTo>
                    <a:pt x="299" y="196"/>
                    <a:pt x="317" y="305"/>
                    <a:pt x="317" y="305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9720" y="931680"/>
              <a:ext cx="1067040" cy="789120"/>
            </a:xfrm>
            <a:custGeom>
              <a:avLst/>
              <a:gdLst/>
              <a:ahLst/>
              <a:rect l="l" t="t" r="r" b="b"/>
              <a:pathLst>
                <a:path w="672" h="497">
                  <a:moveTo>
                    <a:pt x="164" y="34"/>
                  </a:moveTo>
                  <a:cubicBezTo>
                    <a:pt x="141" y="49"/>
                    <a:pt x="119" y="64"/>
                    <a:pt x="96" y="79"/>
                  </a:cubicBezTo>
                  <a:cubicBezTo>
                    <a:pt x="86" y="86"/>
                    <a:pt x="92" y="103"/>
                    <a:pt x="85" y="113"/>
                  </a:cubicBezTo>
                  <a:cubicBezTo>
                    <a:pt x="76" y="126"/>
                    <a:pt x="62" y="136"/>
                    <a:pt x="51" y="147"/>
                  </a:cubicBezTo>
                  <a:cubicBezTo>
                    <a:pt x="23" y="229"/>
                    <a:pt x="0" y="303"/>
                    <a:pt x="107" y="339"/>
                  </a:cubicBezTo>
                  <a:cubicBezTo>
                    <a:pt x="175" y="440"/>
                    <a:pt x="84" y="319"/>
                    <a:pt x="164" y="384"/>
                  </a:cubicBezTo>
                  <a:cubicBezTo>
                    <a:pt x="236" y="442"/>
                    <a:pt x="98" y="420"/>
                    <a:pt x="266" y="475"/>
                  </a:cubicBezTo>
                  <a:cubicBezTo>
                    <a:pt x="288" y="482"/>
                    <a:pt x="333" y="497"/>
                    <a:pt x="333" y="497"/>
                  </a:cubicBezTo>
                  <a:cubicBezTo>
                    <a:pt x="371" y="493"/>
                    <a:pt x="409" y="492"/>
                    <a:pt x="446" y="486"/>
                  </a:cubicBezTo>
                  <a:cubicBezTo>
                    <a:pt x="477" y="481"/>
                    <a:pt x="537" y="463"/>
                    <a:pt x="537" y="463"/>
                  </a:cubicBezTo>
                  <a:cubicBezTo>
                    <a:pt x="573" y="439"/>
                    <a:pt x="602" y="409"/>
                    <a:pt x="638" y="384"/>
                  </a:cubicBezTo>
                  <a:cubicBezTo>
                    <a:pt x="646" y="362"/>
                    <a:pt x="653" y="339"/>
                    <a:pt x="661" y="317"/>
                  </a:cubicBezTo>
                  <a:cubicBezTo>
                    <a:pt x="665" y="306"/>
                    <a:pt x="672" y="283"/>
                    <a:pt x="672" y="283"/>
                  </a:cubicBezTo>
                  <a:cubicBezTo>
                    <a:pt x="660" y="199"/>
                    <a:pt x="638" y="86"/>
                    <a:pt x="548" y="57"/>
                  </a:cubicBezTo>
                  <a:cubicBezTo>
                    <a:pt x="509" y="18"/>
                    <a:pt x="488" y="14"/>
                    <a:pt x="435" y="0"/>
                  </a:cubicBezTo>
                  <a:cubicBezTo>
                    <a:pt x="348" y="4"/>
                    <a:pt x="261" y="2"/>
                    <a:pt x="175" y="12"/>
                  </a:cubicBezTo>
                  <a:cubicBezTo>
                    <a:pt x="162" y="14"/>
                    <a:pt x="147" y="22"/>
                    <a:pt x="141" y="34"/>
                  </a:cubicBezTo>
                  <a:cubicBezTo>
                    <a:pt x="138" y="41"/>
                    <a:pt x="156" y="34"/>
                    <a:pt x="164" y="34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78876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cubicBezTo>
                    <a:pt x="4" y="23"/>
                    <a:pt x="11" y="0"/>
                    <a:pt x="11" y="0"/>
                  </a:cubicBezTo>
                  <a:cubicBezTo>
                    <a:pt x="11" y="0"/>
                    <a:pt x="4" y="23"/>
                    <a:pt x="0" y="3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8280" y="823680"/>
              <a:ext cx="11412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29" y="0"/>
                  </a:moveTo>
                  <a:cubicBezTo>
                    <a:pt x="40" y="4"/>
                    <a:pt x="58" y="1"/>
                    <a:pt x="62" y="12"/>
                  </a:cubicBezTo>
                  <a:cubicBezTo>
                    <a:pt x="72" y="39"/>
                    <a:pt x="27" y="100"/>
                    <a:pt x="6" y="45"/>
                  </a:cubicBezTo>
                  <a:cubicBezTo>
                    <a:pt x="0" y="29"/>
                    <a:pt x="21" y="15"/>
                    <a:pt x="29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46360" y="744480"/>
              <a:ext cx="195120" cy="18720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56" y="39"/>
                  </a:moveTo>
                  <a:cubicBezTo>
                    <a:pt x="64" y="28"/>
                    <a:pt x="88" y="15"/>
                    <a:pt x="79" y="5"/>
                  </a:cubicBezTo>
                  <a:cubicBezTo>
                    <a:pt x="75" y="0"/>
                    <a:pt x="8" y="25"/>
                    <a:pt x="0" y="28"/>
                  </a:cubicBezTo>
                  <a:cubicBezTo>
                    <a:pt x="14" y="100"/>
                    <a:pt x="12" y="96"/>
                    <a:pt x="79" y="118"/>
                  </a:cubicBezTo>
                  <a:cubicBezTo>
                    <a:pt x="90" y="114"/>
                    <a:pt x="110" y="118"/>
                    <a:pt x="113" y="107"/>
                  </a:cubicBezTo>
                  <a:cubicBezTo>
                    <a:pt x="123" y="70"/>
                    <a:pt x="97" y="2"/>
                    <a:pt x="56" y="39"/>
                  </a:cubicBez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407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410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413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416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419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422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425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428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431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434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437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440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452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455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461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464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467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470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95280" y="5410080"/>
            <a:ext cx="1084320" cy="1219320"/>
            <a:chOff x="1295280" y="5410080"/>
            <a:chExt cx="1084320" cy="1219320"/>
          </a:xfrm>
        </p:grpSpPr>
        <p:pic>
          <p:nvPicPr>
            <p:cNvPr id="473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295280" y="54100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60020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476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479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482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494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497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500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503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506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509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512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295280" y="5410080"/>
            <a:ext cx="1084320" cy="1219320"/>
            <a:chOff x="1295280" y="5410080"/>
            <a:chExt cx="1084320" cy="1219320"/>
          </a:xfrm>
        </p:grpSpPr>
        <p:pic>
          <p:nvPicPr>
            <p:cNvPr id="515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295280" y="54100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60020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743200" y="5638680"/>
            <a:ext cx="1084320" cy="1219320"/>
            <a:chOff x="2743200" y="5638680"/>
            <a:chExt cx="1084320" cy="1219320"/>
          </a:xfrm>
        </p:grpSpPr>
        <p:pic>
          <p:nvPicPr>
            <p:cNvPr id="518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743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3048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521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524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533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536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539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542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545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548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551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554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295280" y="5410080"/>
            <a:ext cx="1084320" cy="1219320"/>
            <a:chOff x="1295280" y="5410080"/>
            <a:chExt cx="1084320" cy="1219320"/>
          </a:xfrm>
        </p:grpSpPr>
        <p:pic>
          <p:nvPicPr>
            <p:cNvPr id="557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295280" y="54100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160020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743200" y="5638680"/>
            <a:ext cx="1084320" cy="1219320"/>
            <a:chOff x="2743200" y="5638680"/>
            <a:chExt cx="1084320" cy="1219320"/>
          </a:xfrm>
        </p:grpSpPr>
        <p:pic>
          <p:nvPicPr>
            <p:cNvPr id="560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743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3048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038480" y="5638680"/>
            <a:ext cx="1084320" cy="1219320"/>
            <a:chOff x="4038480" y="5638680"/>
            <a:chExt cx="1084320" cy="1219320"/>
          </a:xfrm>
        </p:grpSpPr>
        <p:pic>
          <p:nvPicPr>
            <p:cNvPr id="563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038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343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566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575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578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581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584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587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590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593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596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295280" y="5410080"/>
            <a:ext cx="1084320" cy="1219320"/>
            <a:chOff x="1295280" y="5410080"/>
            <a:chExt cx="1084320" cy="1219320"/>
          </a:xfrm>
        </p:grpSpPr>
        <p:pic>
          <p:nvPicPr>
            <p:cNvPr id="599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295280" y="54100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60020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743200" y="5638680"/>
            <a:ext cx="1084320" cy="1219320"/>
            <a:chOff x="2743200" y="5638680"/>
            <a:chExt cx="1084320" cy="1219320"/>
          </a:xfrm>
        </p:grpSpPr>
        <p:pic>
          <p:nvPicPr>
            <p:cNvPr id="602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743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048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038480" y="5638680"/>
            <a:ext cx="1084320" cy="1219320"/>
            <a:chOff x="4038480" y="5638680"/>
            <a:chExt cx="1084320" cy="1219320"/>
          </a:xfrm>
        </p:grpSpPr>
        <p:pic>
          <p:nvPicPr>
            <p:cNvPr id="605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038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343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81480" y="5181480"/>
            <a:ext cx="1084320" cy="1219320"/>
            <a:chOff x="5181480" y="5181480"/>
            <a:chExt cx="1084320" cy="1219320"/>
          </a:xfrm>
        </p:grpSpPr>
        <p:pic>
          <p:nvPicPr>
            <p:cNvPr id="608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181480" y="51814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5486400" y="5562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617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620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623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626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629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632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876920" y="5638680"/>
            <a:ext cx="1084320" cy="1219320"/>
            <a:chOff x="4876920" y="5638680"/>
            <a:chExt cx="1084320" cy="1219320"/>
          </a:xfrm>
        </p:grpSpPr>
        <p:pic>
          <p:nvPicPr>
            <p:cNvPr id="635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48769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1818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248520" y="5638680"/>
            <a:ext cx="1084320" cy="1219320"/>
            <a:chOff x="6248520" y="5638680"/>
            <a:chExt cx="1084320" cy="1219320"/>
          </a:xfrm>
        </p:grpSpPr>
        <p:pic>
          <p:nvPicPr>
            <p:cNvPr id="638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5534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295280" y="5410080"/>
            <a:ext cx="1084320" cy="1219320"/>
            <a:chOff x="1295280" y="5410080"/>
            <a:chExt cx="1084320" cy="1219320"/>
          </a:xfrm>
        </p:grpSpPr>
        <p:pic>
          <p:nvPicPr>
            <p:cNvPr id="641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295280" y="54100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160020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743200" y="5638680"/>
            <a:ext cx="1084320" cy="1219320"/>
            <a:chOff x="2743200" y="5638680"/>
            <a:chExt cx="1084320" cy="1219320"/>
          </a:xfrm>
        </p:grpSpPr>
        <p:pic>
          <p:nvPicPr>
            <p:cNvPr id="644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743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048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038480" y="5638680"/>
            <a:ext cx="1084320" cy="1219320"/>
            <a:chOff x="4038480" y="5638680"/>
            <a:chExt cx="1084320" cy="1219320"/>
          </a:xfrm>
        </p:grpSpPr>
        <p:pic>
          <p:nvPicPr>
            <p:cNvPr id="647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038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343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181480" y="5181480"/>
            <a:ext cx="1084320" cy="1219320"/>
            <a:chOff x="5181480" y="5181480"/>
            <a:chExt cx="1084320" cy="1219320"/>
          </a:xfrm>
        </p:grpSpPr>
        <p:pic>
          <p:nvPicPr>
            <p:cNvPr id="650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181480" y="51814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486400" y="5562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752480" cy="1660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52840" cy="166032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4343400" y="5486400"/>
            <a:ext cx="1752480" cy="16606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352680" y="5486400"/>
            <a:ext cx="1752840" cy="16606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6"/>
          <a:stretch/>
        </p:blipFill>
        <p:spPr>
          <a:xfrm>
            <a:off x="2590920" y="464832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7"/>
          <a:stretch/>
        </p:blipFill>
        <p:spPr>
          <a:xfrm>
            <a:off x="1447920" y="4800600"/>
            <a:ext cx="1752480" cy="16606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8"/>
          <a:stretch/>
        </p:blipFill>
        <p:spPr>
          <a:xfrm>
            <a:off x="1523880" y="5486400"/>
            <a:ext cx="1752840" cy="16606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9"/>
          <a:stretch/>
        </p:blipFill>
        <p:spPr>
          <a:xfrm>
            <a:off x="5638680" y="5997600"/>
            <a:ext cx="549360" cy="860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0"/>
          <a:stretch/>
        </p:blipFill>
        <p:spPr>
          <a:xfrm>
            <a:off x="1143000" y="4876920"/>
            <a:ext cx="549360" cy="8604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1"/>
          <a:stretch/>
        </p:blipFill>
        <p:spPr>
          <a:xfrm>
            <a:off x="2438280" y="5867280"/>
            <a:ext cx="452520" cy="7081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2"/>
          <a:stretch/>
        </p:blipFill>
        <p:spPr>
          <a:xfrm>
            <a:off x="0" y="5715000"/>
            <a:ext cx="549360" cy="8604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029200" y="609480"/>
            <a:ext cx="1143000" cy="8384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295280" y="1905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画了个绿绿的太阳，挂在夏天的天空。高山、田野、街道、校园，到处一片清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5562720" y="533520"/>
            <a:ext cx="164124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609480"/>
            <a:ext cx="1084320" cy="1219320"/>
            <a:chOff x="2057400" y="609480"/>
            <a:chExt cx="1084320" cy="1219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2057400" y="6094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362320" y="9903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00400" y="228600"/>
            <a:ext cx="1084320" cy="1219320"/>
            <a:chOff x="3200400" y="228600"/>
            <a:chExt cx="1084320" cy="12193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3200400" y="2286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505320" y="609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419720" y="0"/>
            <a:ext cx="1084320" cy="1219320"/>
            <a:chOff x="4419720" y="0"/>
            <a:chExt cx="1084320" cy="1219320"/>
          </a:xfrm>
        </p:grpSpPr>
        <p:pic>
          <p:nvPicPr>
            <p:cNvPr id="74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419720" y="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724640" y="380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38680" y="533520"/>
            <a:ext cx="1084320" cy="1218960"/>
            <a:chOff x="5638680" y="533520"/>
            <a:chExt cx="1084320" cy="1218960"/>
          </a:xfrm>
        </p:grpSpPr>
        <p:pic>
          <p:nvPicPr>
            <p:cNvPr id="77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638680" y="5335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943600" y="914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90720" y="1523880"/>
            <a:ext cx="1084320" cy="1219320"/>
            <a:chOff x="990720" y="1523880"/>
            <a:chExt cx="1084320" cy="1219320"/>
          </a:xfrm>
        </p:grpSpPr>
        <p:pic>
          <p:nvPicPr>
            <p:cNvPr id="80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990720" y="15238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95640" y="1904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83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86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89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92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95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101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104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978120" cy="10638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941400" cy="7016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533520" y="3886200"/>
            <a:ext cx="917280" cy="87804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>
            <a:off x="457200" y="5713560"/>
            <a:ext cx="1828800" cy="11444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8202600" y="4267080"/>
            <a:ext cx="941400" cy="7016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7620120" y="5794200"/>
            <a:ext cx="977760" cy="1063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8"/>
          <a:stretch/>
        </p:blipFill>
        <p:spPr>
          <a:xfrm>
            <a:off x="990720" y="5257800"/>
            <a:ext cx="977760" cy="10638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9"/>
          <a:stretch/>
        </p:blipFill>
        <p:spPr>
          <a:xfrm>
            <a:off x="2362320" y="6019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0"/>
          <a:stretch/>
        </p:blipFill>
        <p:spPr>
          <a:xfrm>
            <a:off x="82296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1"/>
          <a:stretch/>
        </p:blipFill>
        <p:spPr>
          <a:xfrm>
            <a:off x="1295280" y="5562720"/>
            <a:ext cx="685800" cy="70164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12"/>
          <a:stretch/>
        </p:blipFill>
        <p:spPr>
          <a:xfrm>
            <a:off x="6324480" y="533412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3"/>
          <a:stretch/>
        </p:blipFill>
        <p:spPr>
          <a:xfrm>
            <a:off x="8226360" y="5979960"/>
            <a:ext cx="917640" cy="87804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5105520" y="3429000"/>
            <a:ext cx="1828800" cy="1525320"/>
            <a:chOff x="5105520" y="3429000"/>
            <a:chExt cx="1828800" cy="1525320"/>
          </a:xfrm>
        </p:grpSpPr>
        <p:pic>
          <p:nvPicPr>
            <p:cNvPr id="682" name="" descr=""/>
            <p:cNvPicPr/>
            <p:nvPr/>
          </p:nvPicPr>
          <p:blipFill>
            <a:blip r:embed="rId14"/>
            <a:stretch/>
          </p:blipFill>
          <p:spPr>
            <a:xfrm>
              <a:off x="5105520" y="3809880"/>
              <a:ext cx="18288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15"/>
            <a:stretch/>
          </p:blipFill>
          <p:spPr>
            <a:xfrm>
              <a:off x="5715000" y="3429000"/>
              <a:ext cx="97776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16"/>
            <a:stretch/>
          </p:blipFill>
          <p:spPr>
            <a:xfrm>
              <a:off x="5943600" y="3733560"/>
              <a:ext cx="914400" cy="8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17"/>
            <a:stretch/>
          </p:blipFill>
          <p:spPr>
            <a:xfrm>
              <a:off x="5181480" y="3429000"/>
              <a:ext cx="917640" cy="87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6" name="" descr=""/>
          <p:cNvPicPr/>
          <p:nvPr/>
        </p:nvPicPr>
        <p:blipFill>
          <a:blip r:embed="rId18"/>
          <a:stretch/>
        </p:blipFill>
        <p:spPr>
          <a:xfrm>
            <a:off x="5562720" y="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19"/>
          <a:stretch/>
        </p:blipFill>
        <p:spPr>
          <a:xfrm>
            <a:off x="6019920" y="914400"/>
            <a:ext cx="604800" cy="3808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0"/>
          <a:stretch/>
        </p:blipFill>
        <p:spPr>
          <a:xfrm>
            <a:off x="8691480" y="99072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1"/>
          <a:stretch/>
        </p:blipFill>
        <p:spPr>
          <a:xfrm>
            <a:off x="62485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2"/>
          <a:stretch/>
        </p:blipFill>
        <p:spPr>
          <a:xfrm>
            <a:off x="2286000" y="0"/>
            <a:ext cx="380880" cy="3762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3"/>
          <a:stretch/>
        </p:blipFill>
        <p:spPr>
          <a:xfrm>
            <a:off x="7543800" y="0"/>
            <a:ext cx="533520" cy="380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4"/>
          <a:stretch/>
        </p:blipFill>
        <p:spPr>
          <a:xfrm>
            <a:off x="8381880" y="160020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5"/>
          <a:stretch/>
        </p:blipFill>
        <p:spPr>
          <a:xfrm>
            <a:off x="304920" y="0"/>
            <a:ext cx="380880" cy="376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6"/>
          <a:stretch/>
        </p:blipFill>
        <p:spPr>
          <a:xfrm>
            <a:off x="914400" y="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7"/>
          <a:stretch/>
        </p:blipFill>
        <p:spPr>
          <a:xfrm>
            <a:off x="3505320" y="0"/>
            <a:ext cx="164124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933560" cy="1752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976320" cy="13716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0" y="6019920"/>
            <a:ext cx="1599840" cy="380880"/>
            <a:chOff x="0" y="6019920"/>
            <a:chExt cx="1599840" cy="380880"/>
          </a:xfrm>
        </p:grpSpPr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4"/>
            <a:stretch/>
          </p:blipFill>
          <p:spPr>
            <a:xfrm>
              <a:off x="259560" y="6099120"/>
              <a:ext cx="5569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0" y="6114960"/>
              <a:ext cx="71640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6"/>
            <a:stretch/>
          </p:blipFill>
          <p:spPr>
            <a:xfrm>
              <a:off x="623160" y="601992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7"/>
            <a:stretch/>
          </p:blipFill>
          <p:spPr>
            <a:xfrm>
              <a:off x="727200" y="6130800"/>
              <a:ext cx="5569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8"/>
            <a:stretch/>
          </p:blipFill>
          <p:spPr>
            <a:xfrm>
              <a:off x="934560" y="605160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9"/>
            <a:stretch/>
          </p:blipFill>
          <p:spPr>
            <a:xfrm>
              <a:off x="675000" y="6178680"/>
              <a:ext cx="556920" cy="22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" descr=""/>
          <p:cNvPicPr/>
          <p:nvPr/>
        </p:nvPicPr>
        <p:blipFill>
          <a:blip r:embed="rId10"/>
          <a:stretch/>
        </p:blipFill>
        <p:spPr>
          <a:xfrm>
            <a:off x="1217520" y="6553080"/>
            <a:ext cx="59688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1"/>
          <a:stretch/>
        </p:blipFill>
        <p:spPr>
          <a:xfrm>
            <a:off x="2819520" y="6019920"/>
            <a:ext cx="433440" cy="60948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12"/>
          <a:stretch/>
        </p:blipFill>
        <p:spPr>
          <a:xfrm>
            <a:off x="685800" y="6477120"/>
            <a:ext cx="466560" cy="3808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13"/>
          <a:stretch/>
        </p:blipFill>
        <p:spPr>
          <a:xfrm>
            <a:off x="2666880" y="6019920"/>
            <a:ext cx="525600" cy="4572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14"/>
          <a:stretch/>
        </p:blipFill>
        <p:spPr>
          <a:xfrm>
            <a:off x="3429000" y="5638680"/>
            <a:ext cx="990720" cy="304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15"/>
          <a:stretch/>
        </p:blipFill>
        <p:spPr>
          <a:xfrm>
            <a:off x="1676520" y="647712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16"/>
          <a:stretch/>
        </p:blipFill>
        <p:spPr>
          <a:xfrm>
            <a:off x="3124080" y="5943600"/>
            <a:ext cx="468360" cy="3808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17"/>
          <a:stretch/>
        </p:blipFill>
        <p:spPr>
          <a:xfrm>
            <a:off x="2077920" y="6553080"/>
            <a:ext cx="650880" cy="3049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18"/>
          <a:stretch/>
        </p:blipFill>
        <p:spPr>
          <a:xfrm>
            <a:off x="407880" y="6324480"/>
            <a:ext cx="409680" cy="53352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6553080" y="5867280"/>
            <a:ext cx="1509840" cy="228240"/>
            <a:chOff x="6553080" y="5867280"/>
            <a:chExt cx="1509840" cy="228240"/>
          </a:xfrm>
        </p:grpSpPr>
        <p:pic>
          <p:nvPicPr>
            <p:cNvPr id="718" name="" descr=""/>
            <p:cNvPicPr/>
            <p:nvPr/>
          </p:nvPicPr>
          <p:blipFill>
            <a:blip r:embed="rId19"/>
            <a:stretch/>
          </p:blipFill>
          <p:spPr>
            <a:xfrm>
              <a:off x="6553080" y="586728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20"/>
            <a:stretch/>
          </p:blipFill>
          <p:spPr>
            <a:xfrm>
              <a:off x="6798240" y="5914800"/>
              <a:ext cx="5256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21"/>
            <a:stretch/>
          </p:blipFill>
          <p:spPr>
            <a:xfrm>
              <a:off x="6553080" y="5924160"/>
              <a:ext cx="675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2"/>
            <a:stretch/>
          </p:blipFill>
          <p:spPr>
            <a:xfrm>
              <a:off x="7140960" y="586728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3"/>
            <a:stretch/>
          </p:blipFill>
          <p:spPr>
            <a:xfrm>
              <a:off x="7239240" y="5933880"/>
              <a:ext cx="52560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4"/>
            <a:stretch/>
          </p:blipFill>
          <p:spPr>
            <a:xfrm>
              <a:off x="7435080" y="588600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25"/>
            <a:stretch/>
          </p:blipFill>
          <p:spPr>
            <a:xfrm>
              <a:off x="7189920" y="5962320"/>
              <a:ext cx="525600" cy="13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" descr=""/>
          <p:cNvPicPr/>
          <p:nvPr/>
        </p:nvPicPr>
        <p:blipFill>
          <a:blip r:embed="rId26"/>
          <a:stretch/>
        </p:blipFill>
        <p:spPr>
          <a:xfrm>
            <a:off x="6681960" y="6172200"/>
            <a:ext cx="542880" cy="3808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7"/>
          <a:stretch/>
        </p:blipFill>
        <p:spPr>
          <a:xfrm>
            <a:off x="7155000" y="6095880"/>
            <a:ext cx="291960" cy="38124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8"/>
          <a:stretch/>
        </p:blipFill>
        <p:spPr>
          <a:xfrm>
            <a:off x="6832440" y="647712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9"/>
          <a:stretch/>
        </p:blipFill>
        <p:spPr>
          <a:xfrm>
            <a:off x="6324480" y="5638680"/>
            <a:ext cx="487440" cy="3049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0"/>
          <a:stretch/>
        </p:blipFill>
        <p:spPr>
          <a:xfrm>
            <a:off x="7543800" y="6477120"/>
            <a:ext cx="46656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1"/>
          <a:stretch/>
        </p:blipFill>
        <p:spPr>
          <a:xfrm>
            <a:off x="8439120" y="632448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2"/>
          <a:stretch/>
        </p:blipFill>
        <p:spPr>
          <a:xfrm>
            <a:off x="7696080" y="6172200"/>
            <a:ext cx="468360" cy="3049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3"/>
          <a:stretch/>
        </p:blipFill>
        <p:spPr>
          <a:xfrm>
            <a:off x="6019920" y="6248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4"/>
          <a:stretch/>
        </p:blipFill>
        <p:spPr>
          <a:xfrm>
            <a:off x="1219320" y="5981760"/>
            <a:ext cx="582480" cy="745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35"/>
          <a:stretch/>
        </p:blipFill>
        <p:spPr>
          <a:xfrm>
            <a:off x="1417680" y="6000840"/>
            <a:ext cx="487440" cy="745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6"/>
          <a:stretch/>
        </p:blipFill>
        <p:spPr>
          <a:xfrm>
            <a:off x="1219320" y="6095880"/>
            <a:ext cx="628560" cy="748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7"/>
          <a:stretch/>
        </p:blipFill>
        <p:spPr>
          <a:xfrm>
            <a:off x="1693800" y="5981760"/>
            <a:ext cx="582840" cy="74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8"/>
          <a:stretch/>
        </p:blipFill>
        <p:spPr>
          <a:xfrm>
            <a:off x="1773360" y="6039000"/>
            <a:ext cx="487080" cy="745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39"/>
          <a:stretch/>
        </p:blipFill>
        <p:spPr>
          <a:xfrm>
            <a:off x="1932120" y="6019920"/>
            <a:ext cx="582480" cy="745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40"/>
          <a:stretch/>
        </p:blipFill>
        <p:spPr>
          <a:xfrm>
            <a:off x="1733400" y="6095880"/>
            <a:ext cx="487440" cy="7632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6095880"/>
            <a:ext cx="2362320" cy="475920"/>
            <a:chOff x="838080" y="6095880"/>
            <a:chExt cx="2362320" cy="475920"/>
          </a:xfrm>
        </p:grpSpPr>
        <p:pic>
          <p:nvPicPr>
            <p:cNvPr id="741" name="" descr=""/>
            <p:cNvPicPr/>
            <p:nvPr/>
          </p:nvPicPr>
          <p:blipFill>
            <a:blip r:embed="rId41"/>
            <a:stretch/>
          </p:blipFill>
          <p:spPr>
            <a:xfrm>
              <a:off x="1600200" y="6145200"/>
              <a:ext cx="9367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2"/>
            <a:stretch/>
          </p:blipFill>
          <p:spPr>
            <a:xfrm>
              <a:off x="2362320" y="6095880"/>
              <a:ext cx="838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3"/>
            <a:stretch/>
          </p:blipFill>
          <p:spPr>
            <a:xfrm>
              <a:off x="838080" y="6269040"/>
              <a:ext cx="982800" cy="2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44"/>
            <a:stretch/>
          </p:blipFill>
          <p:spPr>
            <a:xfrm>
              <a:off x="2133720" y="6293520"/>
              <a:ext cx="982440" cy="27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5" name=""/>
          <p:cNvGrpSpPr/>
          <p:nvPr/>
        </p:nvGrpSpPr>
        <p:grpSpPr>
          <a:xfrm>
            <a:off x="914400" y="5562720"/>
            <a:ext cx="2362320" cy="399600"/>
            <a:chOff x="914400" y="5562720"/>
            <a:chExt cx="2362320" cy="399600"/>
          </a:xfrm>
        </p:grpSpPr>
        <p:pic>
          <p:nvPicPr>
            <p:cNvPr id="746" name="" descr=""/>
            <p:cNvPicPr/>
            <p:nvPr/>
          </p:nvPicPr>
          <p:blipFill>
            <a:blip r:embed="rId45"/>
            <a:stretch/>
          </p:blipFill>
          <p:spPr>
            <a:xfrm>
              <a:off x="1676520" y="5604120"/>
              <a:ext cx="9367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6"/>
            <a:stretch/>
          </p:blipFill>
          <p:spPr>
            <a:xfrm>
              <a:off x="2438640" y="5562720"/>
              <a:ext cx="83808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47"/>
            <a:stretch/>
          </p:blipFill>
          <p:spPr>
            <a:xfrm>
              <a:off x="914400" y="5708160"/>
              <a:ext cx="982800" cy="2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48"/>
            <a:stretch/>
          </p:blipFill>
          <p:spPr>
            <a:xfrm>
              <a:off x="2210040" y="5728680"/>
              <a:ext cx="982440" cy="2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7634160" y="6095880"/>
            <a:ext cx="1509840" cy="304920"/>
            <a:chOff x="7634160" y="6095880"/>
            <a:chExt cx="1509840" cy="304920"/>
          </a:xfrm>
        </p:grpSpPr>
        <p:pic>
          <p:nvPicPr>
            <p:cNvPr id="751" name="" descr=""/>
            <p:cNvPicPr/>
            <p:nvPr/>
          </p:nvPicPr>
          <p:blipFill>
            <a:blip r:embed="rId49"/>
            <a:stretch/>
          </p:blipFill>
          <p:spPr>
            <a:xfrm>
              <a:off x="7634160" y="60958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50"/>
            <a:stretch/>
          </p:blipFill>
          <p:spPr>
            <a:xfrm>
              <a:off x="7879320" y="6159240"/>
              <a:ext cx="52560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51"/>
            <a:stretch/>
          </p:blipFill>
          <p:spPr>
            <a:xfrm>
              <a:off x="7634160" y="6171840"/>
              <a:ext cx="675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52"/>
            <a:stretch/>
          </p:blipFill>
          <p:spPr>
            <a:xfrm>
              <a:off x="8222040" y="60958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53"/>
            <a:stretch/>
          </p:blipFill>
          <p:spPr>
            <a:xfrm>
              <a:off x="8320320" y="6184800"/>
              <a:ext cx="52560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54"/>
            <a:stretch/>
          </p:blipFill>
          <p:spPr>
            <a:xfrm>
              <a:off x="8516160" y="61210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55"/>
            <a:stretch/>
          </p:blipFill>
          <p:spPr>
            <a:xfrm>
              <a:off x="8271000" y="6222960"/>
              <a:ext cx="525600" cy="1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8" name=""/>
          <p:cNvGrpSpPr/>
          <p:nvPr/>
        </p:nvGrpSpPr>
        <p:grpSpPr>
          <a:xfrm>
            <a:off x="7391520" y="5638680"/>
            <a:ext cx="1509120" cy="228240"/>
            <a:chOff x="7391520" y="5638680"/>
            <a:chExt cx="1509120" cy="228240"/>
          </a:xfrm>
        </p:grpSpPr>
        <p:pic>
          <p:nvPicPr>
            <p:cNvPr id="759" name="" descr=""/>
            <p:cNvPicPr/>
            <p:nvPr/>
          </p:nvPicPr>
          <p:blipFill>
            <a:blip r:embed="rId56"/>
            <a:stretch/>
          </p:blipFill>
          <p:spPr>
            <a:xfrm>
              <a:off x="7391520" y="563868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57"/>
            <a:stretch/>
          </p:blipFill>
          <p:spPr>
            <a:xfrm>
              <a:off x="7636320" y="5686200"/>
              <a:ext cx="5256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58"/>
            <a:stretch/>
          </p:blipFill>
          <p:spPr>
            <a:xfrm>
              <a:off x="7391520" y="5695560"/>
              <a:ext cx="675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59"/>
            <a:stretch/>
          </p:blipFill>
          <p:spPr>
            <a:xfrm>
              <a:off x="7979400" y="563868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0"/>
            <a:stretch/>
          </p:blipFill>
          <p:spPr>
            <a:xfrm>
              <a:off x="8077320" y="5705280"/>
              <a:ext cx="52560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61"/>
            <a:stretch/>
          </p:blipFill>
          <p:spPr>
            <a:xfrm>
              <a:off x="8273160" y="565740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62"/>
            <a:stretch/>
          </p:blipFill>
          <p:spPr>
            <a:xfrm>
              <a:off x="8028360" y="5733720"/>
              <a:ext cx="525600" cy="13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5562720" y="533520"/>
            <a:ext cx="1641240" cy="19047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9448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978120" cy="10638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941400" cy="701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4"/>
          <a:stretch/>
        </p:blipFill>
        <p:spPr>
          <a:xfrm>
            <a:off x="533520" y="3886200"/>
            <a:ext cx="917280" cy="87804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5"/>
          <a:stretch/>
        </p:blipFill>
        <p:spPr>
          <a:xfrm>
            <a:off x="457200" y="5713560"/>
            <a:ext cx="1828800" cy="11444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6"/>
          <a:stretch/>
        </p:blipFill>
        <p:spPr>
          <a:xfrm>
            <a:off x="8202600" y="4267080"/>
            <a:ext cx="941400" cy="701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7"/>
          <a:stretch/>
        </p:blipFill>
        <p:spPr>
          <a:xfrm>
            <a:off x="7620120" y="5794200"/>
            <a:ext cx="977760" cy="10638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8"/>
          <a:stretch/>
        </p:blipFill>
        <p:spPr>
          <a:xfrm>
            <a:off x="990720" y="5257800"/>
            <a:ext cx="977760" cy="106380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9"/>
          <a:stretch/>
        </p:blipFill>
        <p:spPr>
          <a:xfrm>
            <a:off x="2362320" y="6019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10"/>
          <a:stretch/>
        </p:blipFill>
        <p:spPr>
          <a:xfrm>
            <a:off x="82296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11"/>
          <a:stretch/>
        </p:blipFill>
        <p:spPr>
          <a:xfrm>
            <a:off x="1295280" y="5562720"/>
            <a:ext cx="685800" cy="7016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12"/>
          <a:stretch/>
        </p:blipFill>
        <p:spPr>
          <a:xfrm>
            <a:off x="6324480" y="533412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13"/>
          <a:stretch/>
        </p:blipFill>
        <p:spPr>
          <a:xfrm>
            <a:off x="8226360" y="5979960"/>
            <a:ext cx="917640" cy="878040"/>
          </a:xfrm>
          <a:prstGeom prst="rect">
            <a:avLst/>
          </a:prstGeom>
          <a:ln w="0">
            <a:noFill/>
          </a:ln>
        </p:spPr>
      </p:pic>
      <p:grpSp>
        <p:nvGrpSpPr>
          <p:cNvPr id="782" name=""/>
          <p:cNvGrpSpPr/>
          <p:nvPr/>
        </p:nvGrpSpPr>
        <p:grpSpPr>
          <a:xfrm>
            <a:off x="5105520" y="3429000"/>
            <a:ext cx="1828800" cy="1525320"/>
            <a:chOff x="5105520" y="3429000"/>
            <a:chExt cx="1828800" cy="1525320"/>
          </a:xfrm>
        </p:grpSpPr>
        <p:pic>
          <p:nvPicPr>
            <p:cNvPr id="783" name="" descr=""/>
            <p:cNvPicPr/>
            <p:nvPr/>
          </p:nvPicPr>
          <p:blipFill>
            <a:blip r:embed="rId14"/>
            <a:stretch/>
          </p:blipFill>
          <p:spPr>
            <a:xfrm>
              <a:off x="5105520" y="3809880"/>
              <a:ext cx="18288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15"/>
            <a:stretch/>
          </p:blipFill>
          <p:spPr>
            <a:xfrm>
              <a:off x="5715000" y="3429000"/>
              <a:ext cx="97776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16"/>
            <a:stretch/>
          </p:blipFill>
          <p:spPr>
            <a:xfrm>
              <a:off x="5943600" y="3733560"/>
              <a:ext cx="914400" cy="8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17"/>
            <a:stretch/>
          </p:blipFill>
          <p:spPr>
            <a:xfrm>
              <a:off x="5181480" y="3429000"/>
              <a:ext cx="917640" cy="87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7" name="" descr=""/>
          <p:cNvPicPr/>
          <p:nvPr/>
        </p:nvPicPr>
        <p:blipFill>
          <a:blip r:embed="rId18"/>
          <a:stretch/>
        </p:blipFill>
        <p:spPr>
          <a:xfrm>
            <a:off x="5562720" y="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9"/>
          <a:stretch/>
        </p:blipFill>
        <p:spPr>
          <a:xfrm>
            <a:off x="6019920" y="914400"/>
            <a:ext cx="604800" cy="3808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20"/>
          <a:stretch/>
        </p:blipFill>
        <p:spPr>
          <a:xfrm>
            <a:off x="8691480" y="99072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1"/>
          <a:stretch/>
        </p:blipFill>
        <p:spPr>
          <a:xfrm>
            <a:off x="62485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2"/>
          <a:stretch/>
        </p:blipFill>
        <p:spPr>
          <a:xfrm>
            <a:off x="2286000" y="0"/>
            <a:ext cx="380880" cy="376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23"/>
          <a:stretch/>
        </p:blipFill>
        <p:spPr>
          <a:xfrm>
            <a:off x="7543800" y="0"/>
            <a:ext cx="533520" cy="3808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4"/>
          <a:stretch/>
        </p:blipFill>
        <p:spPr>
          <a:xfrm>
            <a:off x="8381880" y="160020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5"/>
          <a:stretch/>
        </p:blipFill>
        <p:spPr>
          <a:xfrm>
            <a:off x="304920" y="0"/>
            <a:ext cx="380880" cy="3762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6"/>
          <a:stretch/>
        </p:blipFill>
        <p:spPr>
          <a:xfrm>
            <a:off x="914400" y="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7"/>
          <a:stretch/>
        </p:blipFill>
        <p:spPr>
          <a:xfrm>
            <a:off x="3505320" y="0"/>
            <a:ext cx="164124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933560" cy="1752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228600"/>
            <a:ext cx="1084320" cy="1219320"/>
            <a:chOff x="3200400" y="228600"/>
            <a:chExt cx="1084320" cy="121932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3200400" y="2286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505320" y="609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419720" y="0"/>
            <a:ext cx="1084320" cy="1219320"/>
            <a:chOff x="4419720" y="0"/>
            <a:chExt cx="1084320" cy="121932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419720" y="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724640" y="380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680" y="533520"/>
            <a:ext cx="1084320" cy="1218960"/>
            <a:chOff x="5638680" y="533520"/>
            <a:chExt cx="1084320" cy="1218960"/>
          </a:xfrm>
        </p:grpSpPr>
        <p:pic>
          <p:nvPicPr>
            <p:cNvPr id="119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638680" y="5335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943600" y="914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90720" y="1523880"/>
            <a:ext cx="1084320" cy="1219320"/>
            <a:chOff x="990720" y="1523880"/>
            <a:chExt cx="1084320" cy="1219320"/>
          </a:xfrm>
        </p:grpSpPr>
        <p:pic>
          <p:nvPicPr>
            <p:cNvPr id="122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990720" y="15238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95640" y="1904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125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128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131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137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140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143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146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976320" cy="13716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1" name=""/>
          <p:cNvGrpSpPr/>
          <p:nvPr/>
        </p:nvGrpSpPr>
        <p:grpSpPr>
          <a:xfrm>
            <a:off x="0" y="6019920"/>
            <a:ext cx="1599840" cy="380880"/>
            <a:chOff x="0" y="6019920"/>
            <a:chExt cx="1599840" cy="380880"/>
          </a:xfrm>
        </p:grpSpPr>
        <p:pic>
          <p:nvPicPr>
            <p:cNvPr id="80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4"/>
            <a:stretch/>
          </p:blipFill>
          <p:spPr>
            <a:xfrm>
              <a:off x="259560" y="6099120"/>
              <a:ext cx="5569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5"/>
            <a:stretch/>
          </p:blipFill>
          <p:spPr>
            <a:xfrm>
              <a:off x="0" y="6114960"/>
              <a:ext cx="71640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6"/>
            <a:stretch/>
          </p:blipFill>
          <p:spPr>
            <a:xfrm>
              <a:off x="623160" y="601992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7"/>
            <a:stretch/>
          </p:blipFill>
          <p:spPr>
            <a:xfrm>
              <a:off x="727200" y="6130800"/>
              <a:ext cx="5569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8"/>
            <a:stretch/>
          </p:blipFill>
          <p:spPr>
            <a:xfrm>
              <a:off x="934560" y="6051600"/>
              <a:ext cx="665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9"/>
            <a:stretch/>
          </p:blipFill>
          <p:spPr>
            <a:xfrm>
              <a:off x="675000" y="6178680"/>
              <a:ext cx="556920" cy="22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9" name="" descr=""/>
          <p:cNvPicPr/>
          <p:nvPr/>
        </p:nvPicPr>
        <p:blipFill>
          <a:blip r:embed="rId10"/>
          <a:stretch/>
        </p:blipFill>
        <p:spPr>
          <a:xfrm>
            <a:off x="1217520" y="6553080"/>
            <a:ext cx="596880" cy="304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1"/>
          <a:stretch/>
        </p:blipFill>
        <p:spPr>
          <a:xfrm>
            <a:off x="2819520" y="6019920"/>
            <a:ext cx="433440" cy="6094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2"/>
          <a:stretch/>
        </p:blipFill>
        <p:spPr>
          <a:xfrm>
            <a:off x="685800" y="6477120"/>
            <a:ext cx="466560" cy="3808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13"/>
          <a:stretch/>
        </p:blipFill>
        <p:spPr>
          <a:xfrm>
            <a:off x="2666880" y="6019920"/>
            <a:ext cx="525600" cy="457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4"/>
          <a:stretch/>
        </p:blipFill>
        <p:spPr>
          <a:xfrm>
            <a:off x="3429000" y="5638680"/>
            <a:ext cx="990720" cy="3049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15"/>
          <a:stretch/>
        </p:blipFill>
        <p:spPr>
          <a:xfrm>
            <a:off x="1676520" y="647712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6"/>
          <a:stretch/>
        </p:blipFill>
        <p:spPr>
          <a:xfrm>
            <a:off x="3124080" y="5943600"/>
            <a:ext cx="468360" cy="38088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17"/>
          <a:stretch/>
        </p:blipFill>
        <p:spPr>
          <a:xfrm>
            <a:off x="2077920" y="6553080"/>
            <a:ext cx="650880" cy="3049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18"/>
          <a:stretch/>
        </p:blipFill>
        <p:spPr>
          <a:xfrm>
            <a:off x="407880" y="6324480"/>
            <a:ext cx="409680" cy="53352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6553080" y="5867280"/>
            <a:ext cx="1509840" cy="228240"/>
            <a:chOff x="6553080" y="5867280"/>
            <a:chExt cx="1509840" cy="228240"/>
          </a:xfrm>
        </p:grpSpPr>
        <p:pic>
          <p:nvPicPr>
            <p:cNvPr id="819" name="" descr=""/>
            <p:cNvPicPr/>
            <p:nvPr/>
          </p:nvPicPr>
          <p:blipFill>
            <a:blip r:embed="rId19"/>
            <a:stretch/>
          </p:blipFill>
          <p:spPr>
            <a:xfrm>
              <a:off x="6553080" y="586728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20"/>
            <a:stretch/>
          </p:blipFill>
          <p:spPr>
            <a:xfrm>
              <a:off x="6798240" y="5914800"/>
              <a:ext cx="5256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21"/>
            <a:stretch/>
          </p:blipFill>
          <p:spPr>
            <a:xfrm>
              <a:off x="6553080" y="5924160"/>
              <a:ext cx="675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22"/>
            <a:stretch/>
          </p:blipFill>
          <p:spPr>
            <a:xfrm>
              <a:off x="7140960" y="586728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23"/>
            <a:stretch/>
          </p:blipFill>
          <p:spPr>
            <a:xfrm>
              <a:off x="7239240" y="5933880"/>
              <a:ext cx="52560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24"/>
            <a:stretch/>
          </p:blipFill>
          <p:spPr>
            <a:xfrm>
              <a:off x="7435080" y="5886000"/>
              <a:ext cx="627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25"/>
            <a:stretch/>
          </p:blipFill>
          <p:spPr>
            <a:xfrm>
              <a:off x="7189920" y="5962320"/>
              <a:ext cx="525600" cy="13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6" name="" descr=""/>
          <p:cNvPicPr/>
          <p:nvPr/>
        </p:nvPicPr>
        <p:blipFill>
          <a:blip r:embed="rId26"/>
          <a:stretch/>
        </p:blipFill>
        <p:spPr>
          <a:xfrm>
            <a:off x="6681960" y="6172200"/>
            <a:ext cx="542880" cy="38088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27"/>
          <a:stretch/>
        </p:blipFill>
        <p:spPr>
          <a:xfrm>
            <a:off x="7155000" y="6095880"/>
            <a:ext cx="291960" cy="38124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28"/>
          <a:stretch/>
        </p:blipFill>
        <p:spPr>
          <a:xfrm>
            <a:off x="6832440" y="647712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29"/>
          <a:stretch/>
        </p:blipFill>
        <p:spPr>
          <a:xfrm>
            <a:off x="6324480" y="5638680"/>
            <a:ext cx="487440" cy="3049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0"/>
          <a:stretch/>
        </p:blipFill>
        <p:spPr>
          <a:xfrm>
            <a:off x="7543800" y="6477120"/>
            <a:ext cx="466560" cy="38088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1"/>
          <a:stretch/>
        </p:blipFill>
        <p:spPr>
          <a:xfrm>
            <a:off x="8439120" y="632448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32"/>
          <a:stretch/>
        </p:blipFill>
        <p:spPr>
          <a:xfrm>
            <a:off x="7696080" y="6172200"/>
            <a:ext cx="468360" cy="3049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3"/>
          <a:stretch/>
        </p:blipFill>
        <p:spPr>
          <a:xfrm>
            <a:off x="6019920" y="6248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34"/>
          <a:stretch/>
        </p:blipFill>
        <p:spPr>
          <a:xfrm>
            <a:off x="1219320" y="5981760"/>
            <a:ext cx="582480" cy="745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5"/>
          <a:stretch/>
        </p:blipFill>
        <p:spPr>
          <a:xfrm>
            <a:off x="1417680" y="6000840"/>
            <a:ext cx="487440" cy="745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6"/>
          <a:stretch/>
        </p:blipFill>
        <p:spPr>
          <a:xfrm>
            <a:off x="1219320" y="6095880"/>
            <a:ext cx="628560" cy="748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37"/>
          <a:stretch/>
        </p:blipFill>
        <p:spPr>
          <a:xfrm>
            <a:off x="1693800" y="5981760"/>
            <a:ext cx="582840" cy="745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8"/>
          <a:stretch/>
        </p:blipFill>
        <p:spPr>
          <a:xfrm>
            <a:off x="1773360" y="6039000"/>
            <a:ext cx="487080" cy="745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39"/>
          <a:stretch/>
        </p:blipFill>
        <p:spPr>
          <a:xfrm>
            <a:off x="1932120" y="6019920"/>
            <a:ext cx="582480" cy="745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40"/>
          <a:stretch/>
        </p:blipFill>
        <p:spPr>
          <a:xfrm>
            <a:off x="1733400" y="6095880"/>
            <a:ext cx="487440" cy="76320"/>
          </a:xfrm>
          <a:prstGeom prst="rect">
            <a:avLst/>
          </a:prstGeom>
          <a:ln w="0">
            <a:noFill/>
          </a:ln>
        </p:spPr>
      </p:pic>
      <p:grpSp>
        <p:nvGrpSpPr>
          <p:cNvPr id="841" name=""/>
          <p:cNvGrpSpPr/>
          <p:nvPr/>
        </p:nvGrpSpPr>
        <p:grpSpPr>
          <a:xfrm>
            <a:off x="838080" y="6095880"/>
            <a:ext cx="2362320" cy="475920"/>
            <a:chOff x="838080" y="6095880"/>
            <a:chExt cx="2362320" cy="475920"/>
          </a:xfrm>
        </p:grpSpPr>
        <p:pic>
          <p:nvPicPr>
            <p:cNvPr id="842" name="" descr=""/>
            <p:cNvPicPr/>
            <p:nvPr/>
          </p:nvPicPr>
          <p:blipFill>
            <a:blip r:embed="rId41"/>
            <a:stretch/>
          </p:blipFill>
          <p:spPr>
            <a:xfrm>
              <a:off x="1600200" y="6145200"/>
              <a:ext cx="9367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42"/>
            <a:stretch/>
          </p:blipFill>
          <p:spPr>
            <a:xfrm>
              <a:off x="2362320" y="6095880"/>
              <a:ext cx="838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43"/>
            <a:stretch/>
          </p:blipFill>
          <p:spPr>
            <a:xfrm>
              <a:off x="838080" y="6269040"/>
              <a:ext cx="982800" cy="2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44"/>
            <a:stretch/>
          </p:blipFill>
          <p:spPr>
            <a:xfrm>
              <a:off x="2133720" y="6293520"/>
              <a:ext cx="982440" cy="27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"/>
          <p:cNvGrpSpPr/>
          <p:nvPr/>
        </p:nvGrpSpPr>
        <p:grpSpPr>
          <a:xfrm>
            <a:off x="914400" y="5562720"/>
            <a:ext cx="2362320" cy="399600"/>
            <a:chOff x="914400" y="5562720"/>
            <a:chExt cx="2362320" cy="399600"/>
          </a:xfrm>
        </p:grpSpPr>
        <p:pic>
          <p:nvPicPr>
            <p:cNvPr id="847" name="" descr=""/>
            <p:cNvPicPr/>
            <p:nvPr/>
          </p:nvPicPr>
          <p:blipFill>
            <a:blip r:embed="rId45"/>
            <a:stretch/>
          </p:blipFill>
          <p:spPr>
            <a:xfrm>
              <a:off x="1676520" y="5604120"/>
              <a:ext cx="9367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46"/>
            <a:stretch/>
          </p:blipFill>
          <p:spPr>
            <a:xfrm>
              <a:off x="2438640" y="5562720"/>
              <a:ext cx="83808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47"/>
            <a:stretch/>
          </p:blipFill>
          <p:spPr>
            <a:xfrm>
              <a:off x="914400" y="5708160"/>
              <a:ext cx="982800" cy="2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48"/>
            <a:stretch/>
          </p:blipFill>
          <p:spPr>
            <a:xfrm>
              <a:off x="2210040" y="5728680"/>
              <a:ext cx="982440" cy="2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"/>
          <p:cNvGrpSpPr/>
          <p:nvPr/>
        </p:nvGrpSpPr>
        <p:grpSpPr>
          <a:xfrm>
            <a:off x="7634160" y="6095880"/>
            <a:ext cx="1509840" cy="304920"/>
            <a:chOff x="7634160" y="6095880"/>
            <a:chExt cx="1509840" cy="304920"/>
          </a:xfrm>
        </p:grpSpPr>
        <p:pic>
          <p:nvPicPr>
            <p:cNvPr id="852" name="" descr=""/>
            <p:cNvPicPr/>
            <p:nvPr/>
          </p:nvPicPr>
          <p:blipFill>
            <a:blip r:embed="rId49"/>
            <a:stretch/>
          </p:blipFill>
          <p:spPr>
            <a:xfrm>
              <a:off x="7634160" y="60958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50"/>
            <a:stretch/>
          </p:blipFill>
          <p:spPr>
            <a:xfrm>
              <a:off x="7879320" y="6159240"/>
              <a:ext cx="52560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51"/>
            <a:stretch/>
          </p:blipFill>
          <p:spPr>
            <a:xfrm>
              <a:off x="7634160" y="6171840"/>
              <a:ext cx="675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52"/>
            <a:stretch/>
          </p:blipFill>
          <p:spPr>
            <a:xfrm>
              <a:off x="8222040" y="60958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53"/>
            <a:stretch/>
          </p:blipFill>
          <p:spPr>
            <a:xfrm>
              <a:off x="8320320" y="6184800"/>
              <a:ext cx="52560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54"/>
            <a:stretch/>
          </p:blipFill>
          <p:spPr>
            <a:xfrm>
              <a:off x="8516160" y="6121080"/>
              <a:ext cx="627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55"/>
            <a:stretch/>
          </p:blipFill>
          <p:spPr>
            <a:xfrm>
              <a:off x="8271000" y="6222960"/>
              <a:ext cx="525600" cy="1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9" name=""/>
          <p:cNvGrpSpPr/>
          <p:nvPr/>
        </p:nvGrpSpPr>
        <p:grpSpPr>
          <a:xfrm>
            <a:off x="7391520" y="5638680"/>
            <a:ext cx="1509120" cy="228240"/>
            <a:chOff x="7391520" y="5638680"/>
            <a:chExt cx="1509120" cy="228240"/>
          </a:xfrm>
        </p:grpSpPr>
        <p:pic>
          <p:nvPicPr>
            <p:cNvPr id="860" name="" descr=""/>
            <p:cNvPicPr/>
            <p:nvPr/>
          </p:nvPicPr>
          <p:blipFill>
            <a:blip r:embed="rId56"/>
            <a:stretch/>
          </p:blipFill>
          <p:spPr>
            <a:xfrm>
              <a:off x="7391520" y="563868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57"/>
            <a:stretch/>
          </p:blipFill>
          <p:spPr>
            <a:xfrm>
              <a:off x="7636320" y="5686200"/>
              <a:ext cx="52560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58"/>
            <a:stretch/>
          </p:blipFill>
          <p:spPr>
            <a:xfrm>
              <a:off x="7391520" y="5695560"/>
              <a:ext cx="6757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59"/>
            <a:stretch/>
          </p:blipFill>
          <p:spPr>
            <a:xfrm>
              <a:off x="7979400" y="563868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60"/>
            <a:stretch/>
          </p:blipFill>
          <p:spPr>
            <a:xfrm>
              <a:off x="8077320" y="5705280"/>
              <a:ext cx="52560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61"/>
            <a:stretch/>
          </p:blipFill>
          <p:spPr>
            <a:xfrm>
              <a:off x="8273160" y="5657400"/>
              <a:ext cx="6274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62"/>
            <a:stretch/>
          </p:blipFill>
          <p:spPr>
            <a:xfrm>
              <a:off x="8028360" y="5733720"/>
              <a:ext cx="525600" cy="13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19720" y="0"/>
            <a:ext cx="1084320" cy="1219320"/>
            <a:chOff x="4419720" y="0"/>
            <a:chExt cx="1084320" cy="121932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419720" y="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24640" y="380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38680" y="533520"/>
            <a:ext cx="1084320" cy="1218960"/>
            <a:chOff x="5638680" y="533520"/>
            <a:chExt cx="1084320" cy="12189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638680" y="5335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943600" y="914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1523880"/>
            <a:ext cx="1084320" cy="1219320"/>
            <a:chOff x="990720" y="1523880"/>
            <a:chExt cx="1084320" cy="121932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990720" y="15238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95640" y="1904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170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173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176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179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182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185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188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38680" y="533520"/>
            <a:ext cx="1084320" cy="1218960"/>
            <a:chOff x="5638680" y="533520"/>
            <a:chExt cx="1084320" cy="121896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638680" y="5335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943600" y="914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990720" y="1523880"/>
            <a:ext cx="1084320" cy="1219320"/>
            <a:chOff x="990720" y="1523880"/>
            <a:chExt cx="1084320" cy="1219320"/>
          </a:xfrm>
        </p:grpSpPr>
        <p:pic>
          <p:nvPicPr>
            <p:cNvPr id="206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990720" y="15238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295640" y="1904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209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212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215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218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221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224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227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230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245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90720" y="1523880"/>
            <a:ext cx="1084320" cy="1219320"/>
            <a:chOff x="990720" y="1523880"/>
            <a:chExt cx="1084320" cy="1219320"/>
          </a:xfrm>
        </p:grpSpPr>
        <p:pic>
          <p:nvPicPr>
            <p:cNvPr id="248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990720" y="15238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295640" y="1904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254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257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260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263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266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269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272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284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287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290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438280" y="1905120"/>
            <a:ext cx="1084320" cy="1218960"/>
            <a:chOff x="2438280" y="1905120"/>
            <a:chExt cx="1084320" cy="1218960"/>
          </a:xfrm>
        </p:grpSpPr>
        <p:pic>
          <p:nvPicPr>
            <p:cNvPr id="293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438280" y="19051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43200" y="22856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296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299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302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305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308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311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314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329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332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335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6200" y="1600200"/>
            <a:ext cx="1084320" cy="1219320"/>
            <a:chOff x="3886200" y="1600200"/>
            <a:chExt cx="1084320" cy="1219320"/>
          </a:xfrm>
        </p:grpSpPr>
        <p:pic>
          <p:nvPicPr>
            <p:cNvPr id="338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88620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19112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341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344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347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350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353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356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6880" y="3200400"/>
            <a:ext cx="2894040" cy="3706920"/>
          </a:xfrm>
          <a:custGeom>
            <a:avLst/>
            <a:gdLst/>
            <a:ahLst/>
            <a:rect l="l" t="t" r="r" b="b"/>
            <a:pathLst>
              <a:path w="1823" h="2335">
                <a:moveTo>
                  <a:pt x="0" y="407"/>
                </a:moveTo>
                <a:cubicBezTo>
                  <a:pt x="66" y="420"/>
                  <a:pt x="118" y="454"/>
                  <a:pt x="181" y="474"/>
                </a:cubicBezTo>
                <a:cubicBezTo>
                  <a:pt x="196" y="485"/>
                  <a:pt x="211" y="497"/>
                  <a:pt x="226" y="508"/>
                </a:cubicBezTo>
                <a:cubicBezTo>
                  <a:pt x="248" y="524"/>
                  <a:pt x="293" y="553"/>
                  <a:pt x="293" y="553"/>
                </a:cubicBezTo>
                <a:cubicBezTo>
                  <a:pt x="325" y="607"/>
                  <a:pt x="361" y="659"/>
                  <a:pt x="395" y="712"/>
                </a:cubicBezTo>
                <a:cubicBezTo>
                  <a:pt x="420" y="750"/>
                  <a:pt x="431" y="796"/>
                  <a:pt x="452" y="836"/>
                </a:cubicBezTo>
                <a:cubicBezTo>
                  <a:pt x="468" y="915"/>
                  <a:pt x="483" y="993"/>
                  <a:pt x="497" y="1073"/>
                </a:cubicBezTo>
                <a:cubicBezTo>
                  <a:pt x="510" y="1357"/>
                  <a:pt x="542" y="1647"/>
                  <a:pt x="452" y="1920"/>
                </a:cubicBezTo>
                <a:cubicBezTo>
                  <a:pt x="435" y="1972"/>
                  <a:pt x="404" y="2016"/>
                  <a:pt x="384" y="2067"/>
                </a:cubicBezTo>
                <a:cubicBezTo>
                  <a:pt x="361" y="2126"/>
                  <a:pt x="347" y="2188"/>
                  <a:pt x="327" y="2248"/>
                </a:cubicBezTo>
                <a:cubicBezTo>
                  <a:pt x="318" y="2273"/>
                  <a:pt x="297" y="2293"/>
                  <a:pt x="282" y="2315"/>
                </a:cubicBezTo>
                <a:cubicBezTo>
                  <a:pt x="275" y="2325"/>
                  <a:pt x="240" y="2335"/>
                  <a:pt x="248" y="2327"/>
                </a:cubicBezTo>
                <a:cubicBezTo>
                  <a:pt x="260" y="2315"/>
                  <a:pt x="279" y="2313"/>
                  <a:pt x="293" y="2304"/>
                </a:cubicBezTo>
                <a:cubicBezTo>
                  <a:pt x="388" y="2247"/>
                  <a:pt x="482" y="2194"/>
                  <a:pt x="587" y="2157"/>
                </a:cubicBezTo>
                <a:cubicBezTo>
                  <a:pt x="680" y="2171"/>
                  <a:pt x="767" y="2202"/>
                  <a:pt x="858" y="2225"/>
                </a:cubicBezTo>
                <a:cubicBezTo>
                  <a:pt x="881" y="2231"/>
                  <a:pt x="902" y="2244"/>
                  <a:pt x="926" y="2248"/>
                </a:cubicBezTo>
                <a:cubicBezTo>
                  <a:pt x="949" y="2252"/>
                  <a:pt x="972" y="2254"/>
                  <a:pt x="994" y="2259"/>
                </a:cubicBezTo>
                <a:cubicBezTo>
                  <a:pt x="1017" y="2265"/>
                  <a:pt x="1061" y="2281"/>
                  <a:pt x="1061" y="2281"/>
                </a:cubicBezTo>
                <a:cubicBezTo>
                  <a:pt x="1091" y="2266"/>
                  <a:pt x="1115" y="2258"/>
                  <a:pt x="1141" y="2236"/>
                </a:cubicBezTo>
                <a:cubicBezTo>
                  <a:pt x="1180" y="2203"/>
                  <a:pt x="1170" y="2194"/>
                  <a:pt x="1220" y="2169"/>
                </a:cubicBezTo>
                <a:cubicBezTo>
                  <a:pt x="1254" y="2152"/>
                  <a:pt x="1307" y="2144"/>
                  <a:pt x="1344" y="2135"/>
                </a:cubicBezTo>
                <a:cubicBezTo>
                  <a:pt x="1362" y="2123"/>
                  <a:pt x="1387" y="2101"/>
                  <a:pt x="1412" y="2101"/>
                </a:cubicBezTo>
                <a:cubicBezTo>
                  <a:pt x="1479" y="2101"/>
                  <a:pt x="1525" y="2141"/>
                  <a:pt x="1581" y="2169"/>
                </a:cubicBezTo>
                <a:cubicBezTo>
                  <a:pt x="1618" y="2188"/>
                  <a:pt x="1656" y="2206"/>
                  <a:pt x="1694" y="2225"/>
                </a:cubicBezTo>
                <a:cubicBezTo>
                  <a:pt x="1700" y="2235"/>
                  <a:pt x="1724" y="2284"/>
                  <a:pt x="1750" y="2270"/>
                </a:cubicBezTo>
                <a:cubicBezTo>
                  <a:pt x="1761" y="2265"/>
                  <a:pt x="1758" y="2247"/>
                  <a:pt x="1762" y="2236"/>
                </a:cubicBezTo>
                <a:cubicBezTo>
                  <a:pt x="1722" y="2177"/>
                  <a:pt x="1679" y="2114"/>
                  <a:pt x="1626" y="2067"/>
                </a:cubicBezTo>
                <a:cubicBezTo>
                  <a:pt x="1604" y="2047"/>
                  <a:pt x="1504" y="1970"/>
                  <a:pt x="1491" y="1943"/>
                </a:cubicBezTo>
                <a:cubicBezTo>
                  <a:pt x="1462" y="1885"/>
                  <a:pt x="1478" y="1911"/>
                  <a:pt x="1445" y="1864"/>
                </a:cubicBezTo>
                <a:cubicBezTo>
                  <a:pt x="1432" y="1823"/>
                  <a:pt x="1412" y="1739"/>
                  <a:pt x="1412" y="1739"/>
                </a:cubicBezTo>
                <a:cubicBezTo>
                  <a:pt x="1416" y="1634"/>
                  <a:pt x="1416" y="1528"/>
                  <a:pt x="1423" y="1423"/>
                </a:cubicBezTo>
                <a:cubicBezTo>
                  <a:pt x="1426" y="1370"/>
                  <a:pt x="1464" y="1204"/>
                  <a:pt x="1468" y="1175"/>
                </a:cubicBezTo>
                <a:cubicBezTo>
                  <a:pt x="1490" y="1021"/>
                  <a:pt x="1515" y="832"/>
                  <a:pt x="1604" y="700"/>
                </a:cubicBezTo>
                <a:cubicBezTo>
                  <a:pt x="1611" y="678"/>
                  <a:pt x="1613" y="653"/>
                  <a:pt x="1626" y="633"/>
                </a:cubicBezTo>
                <a:cubicBezTo>
                  <a:pt x="1641" y="610"/>
                  <a:pt x="1662" y="591"/>
                  <a:pt x="1671" y="565"/>
                </a:cubicBezTo>
                <a:cubicBezTo>
                  <a:pt x="1695" y="496"/>
                  <a:pt x="1738" y="453"/>
                  <a:pt x="1807" y="429"/>
                </a:cubicBezTo>
                <a:cubicBezTo>
                  <a:pt x="1811" y="418"/>
                  <a:pt x="1823" y="406"/>
                  <a:pt x="1818" y="395"/>
                </a:cubicBezTo>
                <a:cubicBezTo>
                  <a:pt x="1804" y="361"/>
                  <a:pt x="1717" y="350"/>
                  <a:pt x="1717" y="350"/>
                </a:cubicBezTo>
                <a:cubicBezTo>
                  <a:pt x="1671" y="354"/>
                  <a:pt x="1597" y="348"/>
                  <a:pt x="1547" y="373"/>
                </a:cubicBezTo>
                <a:cubicBezTo>
                  <a:pt x="1502" y="395"/>
                  <a:pt x="1478" y="429"/>
                  <a:pt x="1445" y="463"/>
                </a:cubicBezTo>
                <a:cubicBezTo>
                  <a:pt x="1421" y="487"/>
                  <a:pt x="1395" y="491"/>
                  <a:pt x="1366" y="508"/>
                </a:cubicBezTo>
                <a:cubicBezTo>
                  <a:pt x="1304" y="544"/>
                  <a:pt x="1286" y="560"/>
                  <a:pt x="1220" y="576"/>
                </a:cubicBezTo>
                <a:cubicBezTo>
                  <a:pt x="1159" y="556"/>
                  <a:pt x="1119" y="515"/>
                  <a:pt x="1084" y="463"/>
                </a:cubicBezTo>
                <a:cubicBezTo>
                  <a:pt x="1065" y="404"/>
                  <a:pt x="1014" y="363"/>
                  <a:pt x="994" y="305"/>
                </a:cubicBezTo>
                <a:cubicBezTo>
                  <a:pt x="950" y="179"/>
                  <a:pt x="864" y="61"/>
                  <a:pt x="745" y="0"/>
                </a:cubicBezTo>
                <a:cubicBezTo>
                  <a:pt x="721" y="100"/>
                  <a:pt x="765" y="197"/>
                  <a:pt x="813" y="282"/>
                </a:cubicBezTo>
                <a:cubicBezTo>
                  <a:pt x="822" y="299"/>
                  <a:pt x="836" y="312"/>
                  <a:pt x="847" y="328"/>
                </a:cubicBezTo>
                <a:cubicBezTo>
                  <a:pt x="866" y="357"/>
                  <a:pt x="903" y="418"/>
                  <a:pt x="903" y="418"/>
                </a:cubicBezTo>
                <a:cubicBezTo>
                  <a:pt x="915" y="464"/>
                  <a:pt x="928" y="507"/>
                  <a:pt x="937" y="553"/>
                </a:cubicBezTo>
                <a:cubicBezTo>
                  <a:pt x="849" y="619"/>
                  <a:pt x="778" y="579"/>
                  <a:pt x="677" y="565"/>
                </a:cubicBezTo>
                <a:cubicBezTo>
                  <a:pt x="634" y="547"/>
                  <a:pt x="583" y="540"/>
                  <a:pt x="542" y="520"/>
                </a:cubicBezTo>
                <a:cubicBezTo>
                  <a:pt x="467" y="483"/>
                  <a:pt x="370" y="422"/>
                  <a:pt x="282" y="418"/>
                </a:cubicBezTo>
                <a:cubicBezTo>
                  <a:pt x="211" y="415"/>
                  <a:pt x="139" y="418"/>
                  <a:pt x="68" y="418"/>
                </a:cubicBezTo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c1a284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0"/>
            <a:ext cx="7064280" cy="4842000"/>
          </a:xfrm>
          <a:custGeom>
            <a:avLst/>
            <a:gdLst/>
            <a:ahLst/>
            <a:rect l="l" t="t" r="r" b="b"/>
            <a:pathLst>
              <a:path w="4450" h="3050">
                <a:moveTo>
                  <a:pt x="1739" y="2926"/>
                </a:moveTo>
                <a:cubicBezTo>
                  <a:pt x="1677" y="2938"/>
                  <a:pt x="1619" y="2962"/>
                  <a:pt x="1559" y="2982"/>
                </a:cubicBezTo>
                <a:cubicBezTo>
                  <a:pt x="1423" y="2975"/>
                  <a:pt x="1235" y="2986"/>
                  <a:pt x="1107" y="2914"/>
                </a:cubicBezTo>
                <a:cubicBezTo>
                  <a:pt x="1041" y="2877"/>
                  <a:pt x="1007" y="2812"/>
                  <a:pt x="960" y="2756"/>
                </a:cubicBezTo>
                <a:cubicBezTo>
                  <a:pt x="926" y="2716"/>
                  <a:pt x="882" y="2696"/>
                  <a:pt x="847" y="2655"/>
                </a:cubicBezTo>
                <a:cubicBezTo>
                  <a:pt x="838" y="2645"/>
                  <a:pt x="835" y="2630"/>
                  <a:pt x="825" y="2621"/>
                </a:cubicBezTo>
                <a:cubicBezTo>
                  <a:pt x="787" y="2590"/>
                  <a:pt x="727" y="2603"/>
                  <a:pt x="678" y="2598"/>
                </a:cubicBezTo>
                <a:cubicBezTo>
                  <a:pt x="599" y="2572"/>
                  <a:pt x="517" y="2551"/>
                  <a:pt x="441" y="2519"/>
                </a:cubicBezTo>
                <a:cubicBezTo>
                  <a:pt x="386" y="2495"/>
                  <a:pt x="341" y="2459"/>
                  <a:pt x="283" y="2440"/>
                </a:cubicBezTo>
                <a:cubicBezTo>
                  <a:pt x="242" y="2399"/>
                  <a:pt x="199" y="2395"/>
                  <a:pt x="158" y="2350"/>
                </a:cubicBezTo>
                <a:cubicBezTo>
                  <a:pt x="140" y="2330"/>
                  <a:pt x="113" y="2282"/>
                  <a:pt x="113" y="2282"/>
                </a:cubicBezTo>
                <a:cubicBezTo>
                  <a:pt x="102" y="2248"/>
                  <a:pt x="90" y="2214"/>
                  <a:pt x="79" y="2180"/>
                </a:cubicBezTo>
                <a:cubicBezTo>
                  <a:pt x="75" y="2169"/>
                  <a:pt x="68" y="2146"/>
                  <a:pt x="68" y="2146"/>
                </a:cubicBezTo>
                <a:cubicBezTo>
                  <a:pt x="69" y="2116"/>
                  <a:pt x="94" y="1831"/>
                  <a:pt x="68" y="1728"/>
                </a:cubicBezTo>
                <a:cubicBezTo>
                  <a:pt x="61" y="1699"/>
                  <a:pt x="36" y="1676"/>
                  <a:pt x="23" y="1649"/>
                </a:cubicBezTo>
                <a:cubicBezTo>
                  <a:pt x="18" y="1623"/>
                  <a:pt x="0" y="1526"/>
                  <a:pt x="0" y="1503"/>
                </a:cubicBezTo>
                <a:cubicBezTo>
                  <a:pt x="0" y="1428"/>
                  <a:pt x="5" y="1352"/>
                  <a:pt x="11" y="1277"/>
                </a:cubicBezTo>
                <a:cubicBezTo>
                  <a:pt x="18" y="1191"/>
                  <a:pt x="55" y="1104"/>
                  <a:pt x="113" y="1040"/>
                </a:cubicBezTo>
                <a:cubicBezTo>
                  <a:pt x="210" y="933"/>
                  <a:pt x="156" y="1011"/>
                  <a:pt x="203" y="938"/>
                </a:cubicBezTo>
                <a:cubicBezTo>
                  <a:pt x="217" y="887"/>
                  <a:pt x="240" y="855"/>
                  <a:pt x="249" y="802"/>
                </a:cubicBezTo>
                <a:cubicBezTo>
                  <a:pt x="254" y="771"/>
                  <a:pt x="265" y="657"/>
                  <a:pt x="283" y="633"/>
                </a:cubicBezTo>
                <a:cubicBezTo>
                  <a:pt x="326" y="574"/>
                  <a:pt x="378" y="526"/>
                  <a:pt x="429" y="475"/>
                </a:cubicBezTo>
                <a:cubicBezTo>
                  <a:pt x="473" y="431"/>
                  <a:pt x="522" y="380"/>
                  <a:pt x="576" y="351"/>
                </a:cubicBezTo>
                <a:cubicBezTo>
                  <a:pt x="606" y="335"/>
                  <a:pt x="667" y="305"/>
                  <a:pt x="667" y="305"/>
                </a:cubicBezTo>
                <a:cubicBezTo>
                  <a:pt x="746" y="309"/>
                  <a:pt x="825" y="323"/>
                  <a:pt x="904" y="317"/>
                </a:cubicBezTo>
                <a:cubicBezTo>
                  <a:pt x="908" y="317"/>
                  <a:pt x="999" y="209"/>
                  <a:pt x="1005" y="204"/>
                </a:cubicBezTo>
                <a:cubicBezTo>
                  <a:pt x="1027" y="185"/>
                  <a:pt x="1047" y="161"/>
                  <a:pt x="1073" y="147"/>
                </a:cubicBezTo>
                <a:cubicBezTo>
                  <a:pt x="1094" y="136"/>
                  <a:pt x="1141" y="125"/>
                  <a:pt x="1141" y="125"/>
                </a:cubicBezTo>
                <a:cubicBezTo>
                  <a:pt x="1182" y="97"/>
                  <a:pt x="1218" y="83"/>
                  <a:pt x="1265" y="68"/>
                </a:cubicBezTo>
                <a:cubicBezTo>
                  <a:pt x="1299" y="57"/>
                  <a:pt x="1333" y="45"/>
                  <a:pt x="1367" y="34"/>
                </a:cubicBezTo>
                <a:cubicBezTo>
                  <a:pt x="1378" y="30"/>
                  <a:pt x="1401" y="23"/>
                  <a:pt x="1401" y="23"/>
                </a:cubicBezTo>
                <a:cubicBezTo>
                  <a:pt x="1543" y="31"/>
                  <a:pt x="1715" y="20"/>
                  <a:pt x="1841" y="102"/>
                </a:cubicBezTo>
                <a:cubicBezTo>
                  <a:pt x="1864" y="98"/>
                  <a:pt x="1888" y="99"/>
                  <a:pt x="1909" y="91"/>
                </a:cubicBezTo>
                <a:cubicBezTo>
                  <a:pt x="1973" y="66"/>
                  <a:pt x="1932" y="49"/>
                  <a:pt x="1999" y="34"/>
                </a:cubicBezTo>
                <a:cubicBezTo>
                  <a:pt x="2039" y="25"/>
                  <a:pt x="2202" y="7"/>
                  <a:pt x="2259" y="0"/>
                </a:cubicBezTo>
                <a:cubicBezTo>
                  <a:pt x="2511" y="9"/>
                  <a:pt x="2756" y="16"/>
                  <a:pt x="3004" y="57"/>
                </a:cubicBezTo>
                <a:cubicBezTo>
                  <a:pt x="3089" y="99"/>
                  <a:pt x="3146" y="171"/>
                  <a:pt x="3196" y="249"/>
                </a:cubicBezTo>
                <a:cubicBezTo>
                  <a:pt x="3343" y="222"/>
                  <a:pt x="3441" y="234"/>
                  <a:pt x="3592" y="249"/>
                </a:cubicBezTo>
                <a:cubicBezTo>
                  <a:pt x="3603" y="257"/>
                  <a:pt x="3614" y="266"/>
                  <a:pt x="3626" y="272"/>
                </a:cubicBezTo>
                <a:cubicBezTo>
                  <a:pt x="3647" y="282"/>
                  <a:pt x="3693" y="294"/>
                  <a:pt x="3693" y="294"/>
                </a:cubicBezTo>
                <a:cubicBezTo>
                  <a:pt x="3774" y="353"/>
                  <a:pt x="3862" y="401"/>
                  <a:pt x="3919" y="486"/>
                </a:cubicBezTo>
                <a:cubicBezTo>
                  <a:pt x="3939" y="516"/>
                  <a:pt x="3959" y="545"/>
                  <a:pt x="3976" y="576"/>
                </a:cubicBezTo>
                <a:cubicBezTo>
                  <a:pt x="3992" y="606"/>
                  <a:pt x="4021" y="667"/>
                  <a:pt x="4021" y="667"/>
                </a:cubicBezTo>
                <a:cubicBezTo>
                  <a:pt x="4027" y="776"/>
                  <a:pt x="4015" y="888"/>
                  <a:pt x="4043" y="994"/>
                </a:cubicBezTo>
                <a:cubicBezTo>
                  <a:pt x="4058" y="1051"/>
                  <a:pt x="4142" y="1093"/>
                  <a:pt x="4179" y="1130"/>
                </a:cubicBezTo>
                <a:cubicBezTo>
                  <a:pt x="4253" y="1204"/>
                  <a:pt x="4148" y="1128"/>
                  <a:pt x="4235" y="1186"/>
                </a:cubicBezTo>
                <a:cubicBezTo>
                  <a:pt x="4257" y="1247"/>
                  <a:pt x="4233" y="1196"/>
                  <a:pt x="4281" y="1254"/>
                </a:cubicBezTo>
                <a:cubicBezTo>
                  <a:pt x="4313" y="1293"/>
                  <a:pt x="4334" y="1347"/>
                  <a:pt x="4360" y="1390"/>
                </a:cubicBezTo>
                <a:cubicBezTo>
                  <a:pt x="4390" y="1514"/>
                  <a:pt x="4385" y="1474"/>
                  <a:pt x="4360" y="1706"/>
                </a:cubicBezTo>
                <a:cubicBezTo>
                  <a:pt x="4355" y="1750"/>
                  <a:pt x="4292" y="1819"/>
                  <a:pt x="4292" y="1819"/>
                </a:cubicBezTo>
                <a:cubicBezTo>
                  <a:pt x="4288" y="1830"/>
                  <a:pt x="4277" y="1842"/>
                  <a:pt x="4281" y="1853"/>
                </a:cubicBezTo>
                <a:cubicBezTo>
                  <a:pt x="4290" y="1878"/>
                  <a:pt x="4311" y="1898"/>
                  <a:pt x="4326" y="1920"/>
                </a:cubicBezTo>
                <a:cubicBezTo>
                  <a:pt x="4355" y="1961"/>
                  <a:pt x="4377" y="2003"/>
                  <a:pt x="4405" y="2045"/>
                </a:cubicBezTo>
                <a:cubicBezTo>
                  <a:pt x="4424" y="2102"/>
                  <a:pt x="4436" y="2156"/>
                  <a:pt x="4450" y="2214"/>
                </a:cubicBezTo>
                <a:cubicBezTo>
                  <a:pt x="4443" y="2264"/>
                  <a:pt x="4440" y="2341"/>
                  <a:pt x="4405" y="2384"/>
                </a:cubicBezTo>
                <a:cubicBezTo>
                  <a:pt x="4384" y="2409"/>
                  <a:pt x="4352" y="2421"/>
                  <a:pt x="4326" y="2440"/>
                </a:cubicBezTo>
                <a:cubicBezTo>
                  <a:pt x="4188" y="2540"/>
                  <a:pt x="4037" y="2567"/>
                  <a:pt x="3874" y="2598"/>
                </a:cubicBezTo>
                <a:cubicBezTo>
                  <a:pt x="3852" y="2665"/>
                  <a:pt x="3861" y="2736"/>
                  <a:pt x="3829" y="2801"/>
                </a:cubicBezTo>
                <a:cubicBezTo>
                  <a:pt x="3803" y="2852"/>
                  <a:pt x="3781" y="2867"/>
                  <a:pt x="3739" y="2903"/>
                </a:cubicBezTo>
                <a:cubicBezTo>
                  <a:pt x="3723" y="2917"/>
                  <a:pt x="3710" y="2935"/>
                  <a:pt x="3693" y="2948"/>
                </a:cubicBezTo>
                <a:cubicBezTo>
                  <a:pt x="3622" y="3001"/>
                  <a:pt x="3528" y="3023"/>
                  <a:pt x="3445" y="3050"/>
                </a:cubicBezTo>
                <a:cubicBezTo>
                  <a:pt x="3332" y="3044"/>
                  <a:pt x="3217" y="3043"/>
                  <a:pt x="3106" y="3016"/>
                </a:cubicBezTo>
                <a:cubicBezTo>
                  <a:pt x="3063" y="3006"/>
                  <a:pt x="3024" y="2984"/>
                  <a:pt x="2982" y="2971"/>
                </a:cubicBezTo>
                <a:cubicBezTo>
                  <a:pt x="2959" y="2964"/>
                  <a:pt x="2934" y="2961"/>
                  <a:pt x="2914" y="2948"/>
                </a:cubicBezTo>
                <a:cubicBezTo>
                  <a:pt x="2903" y="2941"/>
                  <a:pt x="2893" y="2931"/>
                  <a:pt x="2880" y="2926"/>
                </a:cubicBezTo>
                <a:cubicBezTo>
                  <a:pt x="2851" y="2915"/>
                  <a:pt x="2819" y="2913"/>
                  <a:pt x="2790" y="2903"/>
                </a:cubicBezTo>
                <a:cubicBezTo>
                  <a:pt x="2779" y="2899"/>
                  <a:pt x="2756" y="2892"/>
                  <a:pt x="2756" y="2892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1066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00200" y="5638680"/>
            <a:ext cx="1084320" cy="1219320"/>
            <a:chOff x="1600200" y="5638680"/>
            <a:chExt cx="1084320" cy="121932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rcRect l="0" t="0" r="50" b="65"/>
            <a:stretch/>
          </p:blipFill>
          <p:spPr>
            <a:xfrm>
              <a:off x="16002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9051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95480" y="5638680"/>
            <a:ext cx="1084320" cy="1219320"/>
            <a:chOff x="2895480" y="5638680"/>
            <a:chExt cx="1084320" cy="121932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rcRect l="0" t="0" r="50" b="65"/>
            <a:stretch/>
          </p:blipFill>
          <p:spPr>
            <a:xfrm>
              <a:off x="28954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2004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114800" y="5638680"/>
            <a:ext cx="1084320" cy="1219320"/>
            <a:chOff x="4114800" y="5638680"/>
            <a:chExt cx="1084320" cy="1219320"/>
          </a:xfrm>
        </p:grpSpPr>
        <p:pic>
          <p:nvPicPr>
            <p:cNvPr id="368" name="" descr=""/>
            <p:cNvPicPr/>
            <p:nvPr/>
          </p:nvPicPr>
          <p:blipFill>
            <a:blip r:embed="rId3"/>
            <a:srcRect l="0" t="0" r="50" b="65"/>
            <a:stretch/>
          </p:blipFill>
          <p:spPr>
            <a:xfrm>
              <a:off x="4114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419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410080" y="5638680"/>
            <a:ext cx="1084320" cy="1219320"/>
            <a:chOff x="5410080" y="5638680"/>
            <a:chExt cx="1084320" cy="12193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rcRect l="0" t="0" r="50" b="65"/>
            <a:stretch/>
          </p:blipFill>
          <p:spPr>
            <a:xfrm>
              <a:off x="541008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71500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85800" y="5638680"/>
            <a:ext cx="1084320" cy="1219320"/>
            <a:chOff x="685800" y="5638680"/>
            <a:chExt cx="1084320" cy="1219320"/>
          </a:xfrm>
        </p:grpSpPr>
        <p:pic>
          <p:nvPicPr>
            <p:cNvPr id="374" name="" descr=""/>
            <p:cNvPicPr/>
            <p:nvPr/>
          </p:nvPicPr>
          <p:blipFill>
            <a:blip r:embed="rId5"/>
            <a:srcRect l="0" t="0" r="50" b="65"/>
            <a:stretch/>
          </p:blipFill>
          <p:spPr>
            <a:xfrm>
              <a:off x="6858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907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133720" y="5638680"/>
            <a:ext cx="1084320" cy="1219320"/>
            <a:chOff x="2133720" y="5638680"/>
            <a:chExt cx="1084320" cy="1219320"/>
          </a:xfrm>
        </p:grpSpPr>
        <p:pic>
          <p:nvPicPr>
            <p:cNvPr id="377" name="" descr=""/>
            <p:cNvPicPr/>
            <p:nvPr/>
          </p:nvPicPr>
          <p:blipFill>
            <a:blip r:embed="rId6"/>
            <a:srcRect l="0" t="0" r="50" b="65"/>
            <a:stretch/>
          </p:blipFill>
          <p:spPr>
            <a:xfrm>
              <a:off x="213372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43864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29000" y="5638680"/>
            <a:ext cx="1084320" cy="1219320"/>
            <a:chOff x="3429000" y="5638680"/>
            <a:chExt cx="1084320" cy="121932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rcRect l="0" t="0" r="50" b="65"/>
            <a:stretch/>
          </p:blipFill>
          <p:spPr>
            <a:xfrm>
              <a:off x="3429000" y="563868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733920" y="6019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334120" y="1600200"/>
            <a:ext cx="1084320" cy="1219320"/>
            <a:chOff x="5334120" y="1600200"/>
            <a:chExt cx="1084320" cy="1219320"/>
          </a:xfrm>
        </p:grpSpPr>
        <p:pic>
          <p:nvPicPr>
            <p:cNvPr id="383" name="" descr=""/>
            <p:cNvPicPr/>
            <p:nvPr/>
          </p:nvPicPr>
          <p:blipFill>
            <a:blip r:embed="rId8"/>
            <a:srcRect l="0" t="0" r="50" b="65"/>
            <a:stretch/>
          </p:blipFill>
          <p:spPr>
            <a:xfrm>
              <a:off x="5334120" y="1600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63904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248520" y="2362320"/>
            <a:ext cx="1084320" cy="1218960"/>
            <a:chOff x="6248520" y="2362320"/>
            <a:chExt cx="1084320" cy="1218960"/>
          </a:xfrm>
        </p:grpSpPr>
        <p:pic>
          <p:nvPicPr>
            <p:cNvPr id="386" name="" descr=""/>
            <p:cNvPicPr/>
            <p:nvPr/>
          </p:nvPicPr>
          <p:blipFill>
            <a:blip r:embed="rId9"/>
            <a:srcRect l="0" t="0" r="50" b="65"/>
            <a:stretch/>
          </p:blipFill>
          <p:spPr>
            <a:xfrm>
              <a:off x="6248520" y="23623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55344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00200" y="2743200"/>
            <a:ext cx="1084320" cy="1219320"/>
            <a:chOff x="1600200" y="2743200"/>
            <a:chExt cx="1084320" cy="1219320"/>
          </a:xfrm>
        </p:grpSpPr>
        <p:pic>
          <p:nvPicPr>
            <p:cNvPr id="389" name="" descr=""/>
            <p:cNvPicPr/>
            <p:nvPr/>
          </p:nvPicPr>
          <p:blipFill>
            <a:blip r:embed="rId10"/>
            <a:srcRect l="0" t="0" r="50" b="65"/>
            <a:stretch/>
          </p:blipFill>
          <p:spPr>
            <a:xfrm>
              <a:off x="160020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90512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895480" y="3276720"/>
            <a:ext cx="1084320" cy="1218960"/>
            <a:chOff x="2895480" y="3276720"/>
            <a:chExt cx="1084320" cy="1218960"/>
          </a:xfrm>
        </p:grpSpPr>
        <p:pic>
          <p:nvPicPr>
            <p:cNvPr id="392" name="" descr=""/>
            <p:cNvPicPr/>
            <p:nvPr/>
          </p:nvPicPr>
          <p:blipFill>
            <a:blip r:embed="rId11"/>
            <a:srcRect l="0" t="0" r="50" b="65"/>
            <a:stretch/>
          </p:blipFill>
          <p:spPr>
            <a:xfrm>
              <a:off x="2895480" y="3276720"/>
              <a:ext cx="1084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2004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91120" y="2743200"/>
            <a:ext cx="1084320" cy="1219320"/>
            <a:chOff x="4191120" y="2743200"/>
            <a:chExt cx="1084320" cy="1219320"/>
          </a:xfrm>
        </p:grpSpPr>
        <p:pic>
          <p:nvPicPr>
            <p:cNvPr id="395" name="" descr=""/>
            <p:cNvPicPr/>
            <p:nvPr/>
          </p:nvPicPr>
          <p:blipFill>
            <a:blip r:embed="rId12"/>
            <a:srcRect l="0" t="0" r="50" b="65"/>
            <a:stretch/>
          </p:blipFill>
          <p:spPr>
            <a:xfrm>
              <a:off x="4191120" y="27432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49604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334120" y="3429000"/>
            <a:ext cx="1084320" cy="1219320"/>
            <a:chOff x="5334120" y="3429000"/>
            <a:chExt cx="1084320" cy="1219320"/>
          </a:xfrm>
        </p:grpSpPr>
        <p:pic>
          <p:nvPicPr>
            <p:cNvPr id="398" name="" descr=""/>
            <p:cNvPicPr/>
            <p:nvPr/>
          </p:nvPicPr>
          <p:blipFill>
            <a:blip r:embed="rId13"/>
            <a:srcRect l="0" t="0" r="50" b="65"/>
            <a:stretch/>
          </p:blipFill>
          <p:spPr>
            <a:xfrm>
              <a:off x="5334120" y="3429000"/>
              <a:ext cx="1084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639040" y="38098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7:27:16Z</dcterms:created>
  <dc:creator>wht</dc:creator>
  <dc:description/>
  <dc:language>en-US</dc:language>
  <cp:lastModifiedBy>微软用户</cp:lastModifiedBy>
  <dcterms:modified xsi:type="dcterms:W3CDTF">2011-06-15T05:48:48Z</dcterms:modified>
  <cp:revision>29</cp:revision>
  <dc:subject/>
  <dc:title>PowerPoint 演示文稿</dc:title>
</cp:coreProperties>
</file>