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D8F-C80D-48FF-9358-7A830FFF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D34-192C-4D68-8F97-18F72B18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53B-5065-4266-A068-7B55DC6E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E67-3146-4E10-AF42-48F97261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8F2-179E-462E-ADB2-BB6E2EA0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960-D071-4BFB-9A2D-B4792E9F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E01-A1F0-48B7-BD85-959F0AA4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1CD-E45F-4B16-8A9D-0E038906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5D2-C7F9-47F1-A699-6E5B789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A6E-BC39-4A96-9041-014CEDC9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187-BCF7-462C-B860-EF6C29F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06B-7234-43A7-8149-6874AAD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D72D-4574-47A8-A061-7E9609BB30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03280" y="549360"/>
            <a:ext cx="5545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19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、乌鸦喝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76600" y="19764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476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乌鸦在喝水的时候遇到什么问题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276640"/>
            <a:ext cx="338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瓶子里的水不多，瓶口又小，乌鸦喝不着水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5157720"/>
            <a:ext cx="2089440" cy="1152720"/>
          </a:xfrm>
          <a:prstGeom prst="leftArrow">
            <a:avLst>
              <a:gd name="adj1" fmla="val 50000"/>
              <a:gd name="adj2" fmla="val 45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76600" y="19764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404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cc"/>
                </a:solidFill>
                <a:latin typeface="Arial"/>
              </a:rPr>
              <a:t>乌鸦又想了什么办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55736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ff"/>
                </a:solidFill>
                <a:latin typeface="Arial"/>
              </a:rPr>
              <a:t>乌鸦把小石子一个一个地放进瓶子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516640"/>
            <a:ext cx="1800360" cy="1008000"/>
          </a:xfrm>
          <a:prstGeom prst="leftArrow">
            <a:avLst>
              <a:gd name="adj1" fmla="val 50000"/>
              <a:gd name="adj2" fmla="val 4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76600" y="19764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26028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ff"/>
                </a:solidFill>
                <a:latin typeface="Arial"/>
              </a:rPr>
              <a:t>乌鸦后来有没有喝到水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55736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乌鸦后来有喝到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5516640"/>
            <a:ext cx="1873080" cy="1008000"/>
          </a:xfrm>
          <a:prstGeom prst="leftArrow">
            <a:avLst>
              <a:gd name="adj1" fmla="val 50000"/>
              <a:gd name="adj2" fmla="val 464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</a:rPr>
              <a:t>除了乌鸦的办法，你还有什么办法让水出来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5229360"/>
            <a:ext cx="1873080" cy="93636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835280" y="76500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会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429000" y="1523880"/>
            <a:ext cx="5410080" cy="3583800"/>
            <a:chOff x="3429000" y="1523880"/>
            <a:chExt cx="5410080" cy="3583800"/>
          </a:xfrm>
        </p:grpSpPr>
        <p:sp>
          <p:nvSpPr>
            <p:cNvPr id="134" name=""/>
            <p:cNvSpPr/>
            <p:nvPr/>
          </p:nvSpPr>
          <p:spPr>
            <a:xfrm>
              <a:off x="3581280" y="2057400"/>
              <a:ext cx="5257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1523880"/>
              <a:ext cx="487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2971800"/>
              <a:ext cx="5029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4343400"/>
              <a:ext cx="510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987640" y="2060640"/>
            <a:ext cx="6156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喝（ ）  乌（ ）   办（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渴（ ）  鸟（ ）  为（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（ ）  法（ ）  许（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右（ ）  去（ ）   午（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47640" y="692280"/>
            <a:ext cx="51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00280"/>
            <a:ext cx="5940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渴   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完体育课，同学们都有点口（      ）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最喜欢（     ）果汁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982880" y="838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1773360"/>
            <a:ext cx="5724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瓶子里的水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渐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升高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渐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热起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渐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301840" y="838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认认字宝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429000" y="1523880"/>
            <a:ext cx="5410080" cy="4323240"/>
            <a:chOff x="3429000" y="1523880"/>
            <a:chExt cx="5410080" cy="4323240"/>
          </a:xfrm>
        </p:grpSpPr>
        <p:sp>
          <p:nvSpPr>
            <p:cNvPr id="49" name=""/>
            <p:cNvSpPr/>
            <p:nvPr/>
          </p:nvSpPr>
          <p:spPr>
            <a:xfrm>
              <a:off x="3581280" y="2057400"/>
              <a:ext cx="5257800" cy="37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乌      鸦     喝 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渴      瓶     石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办      法     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1523880"/>
              <a:ext cx="487692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wū         yā        hē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29000" y="2971800"/>
              <a:ext cx="5029200" cy="28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kě        pín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ɡ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   shí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9000" y="4343400"/>
              <a:ext cx="510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bàn        fǎ        jià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592360" y="8380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认认词语宝宝宝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1989000"/>
            <a:ext cx="5616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乌鸦    口渴     喝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瓶口    石子     办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许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渐渐地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水喝    喝着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5219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76600" y="19764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04640"/>
            <a:ext cx="57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9933ff"/>
                </a:solidFill>
                <a:latin typeface="Arial"/>
              </a:rPr>
              <a:t>一只乌鸦口渴了，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到处</a:t>
            </a:r>
            <a:r>
              <a:rPr b="1" lang="zh-CN" sz="4800" spc="-1" strike="noStrike">
                <a:solidFill>
                  <a:srgbClr val="9933ff"/>
                </a:solidFill>
                <a:latin typeface="Arial"/>
              </a:rPr>
              <a:t>找水喝。乌鸦看见一个瓶子，瓶子里有水。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可是</a:t>
            </a:r>
            <a:r>
              <a:rPr b="1" lang="zh-CN" sz="4800" spc="-1" strike="noStrike">
                <a:solidFill>
                  <a:srgbClr val="9933ff"/>
                </a:solidFill>
                <a:latin typeface="Arial"/>
              </a:rPr>
              <a:t>，瓶子里水不多，瓶口又小，乌鸦喝不着水。怎么办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5219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76600" y="19764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40464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5050"/>
                </a:solidFill>
                <a:latin typeface="Arial"/>
              </a:rPr>
              <a:t>乌鸦看见旁边有许多小石子，想出办法来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54936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76280"/>
            <a:ext cx="46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620640"/>
            <a:ext cx="43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乌鸦把小石子一个一个地放进瓶子里。瓶子里的水渐渐升高，乌鸦就喝着水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76600" y="197640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549360"/>
            <a:ext cx="66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选做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/>
          </p:cNvPr>
          <p:cNvSpPr/>
          <p:nvPr/>
        </p:nvSpPr>
        <p:spPr>
          <a:xfrm>
            <a:off x="324000" y="1773360"/>
            <a:ext cx="1728720" cy="1366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206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1700280"/>
            <a:ext cx="1943280" cy="1368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1916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700280"/>
            <a:ext cx="1871640" cy="1512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2060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1700280"/>
            <a:ext cx="2016000" cy="16574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4720" y="2060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860640"/>
            <a:ext cx="2089080" cy="158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4365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076640"/>
            <a:ext cx="2879640" cy="15130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508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76600" y="19764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3333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Arial"/>
              </a:rPr>
              <a:t>读一读，想一想，乌鸦看到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573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ff"/>
                </a:solidFill>
                <a:latin typeface="Arial"/>
              </a:rPr>
              <a:t>乌鸦看到一个瓶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5724360" y="5084640"/>
            <a:ext cx="2232360" cy="1295640"/>
          </a:xfrm>
          <a:prstGeom prst="leftArrow">
            <a:avLst>
              <a:gd name="adj1" fmla="val 50000"/>
              <a:gd name="adj2" fmla="val 43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76600" y="19764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333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瓶子里有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421000"/>
            <a:ext cx="6213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276640"/>
            <a:ext cx="77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600" spc="-1" strike="noStrike">
                <a:solidFill>
                  <a:srgbClr val="ff66ff"/>
                </a:solidFill>
                <a:latin typeface="Arial"/>
              </a:rPr>
              <a:t>瓶子有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5580000" y="5373720"/>
            <a:ext cx="1871640" cy="1008000"/>
          </a:xfrm>
          <a:prstGeom prst="leftArrow">
            <a:avLst>
              <a:gd name="adj1" fmla="val 50000"/>
              <a:gd name="adj2" fmla="val 464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1:06:35Z</dcterms:created>
  <dc:creator>微软用户</dc:creator>
  <dc:description/>
  <dc:language>en-US</dc:language>
  <cp:lastModifiedBy>dell</cp:lastModifiedBy>
  <dcterms:modified xsi:type="dcterms:W3CDTF">2011-05-02T12:40:25Z</dcterms:modified>
  <cp:revision>8</cp:revision>
  <dc:subject/>
  <dc:title>幻灯片 1</dc:title>
</cp:coreProperties>
</file>