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applause.wav" ContentType="audio/x-wav"/>
  <Override PartName="/ppt/media/chimes.wav" ContentType="audio/x-wav"/>
  <Override PartName="/ppt/media/image13.gif" ContentType="image/gif"/>
  <Override PartName="/ppt/media/image6.png" ContentType="image/png"/>
  <Override PartName="/ppt/media/image3.gif" ContentType="image/gif"/>
  <Override PartName="/ppt/media/camera.wav" ContentType="audio/x-wav"/>
  <Override PartName="/ppt/media/type.wav" ContentType="audio/x-wav"/>
  <Override PartName="/ppt/media/image5.gif" ContentType="image/gif"/>
  <Override PartName="/ppt/media/image15.gif" ContentType="image/gif"/>
  <Override PartName="/ppt/media/image12.gif" ContentType="image/gif"/>
  <Override PartName="/ppt/media/image9.png" ContentType="image/png"/>
  <Override PartName="/ppt/media/image14.png" ContentType="image/png"/>
  <Override PartName="/ppt/media/image11.gif" ContentType="image/gif"/>
  <Override PartName="/ppt/media/image8.gif" ContentType="image/gif"/>
  <Override PartName="/ppt/media/click.wav" ContentType="audio/x-wav"/>
  <Override PartName="/ppt/media/cashreg.wav" ContentType="audio/x-wav"/>
  <Override PartName="/ppt/media/hammer.wav" ContentType="audio/x-wav"/>
  <Override PartName="/ppt/media/image7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1C9-649C-4409-9672-BDE93571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3D9-8415-46AD-9C60-E19E02D9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62B-D345-47FD-96FB-00C10BB5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1D1-CAB3-4353-9C46-0BD6405B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62E3-A26C-43EB-B9B4-2AAC2614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1A76-E4D1-4198-8F73-AC3F4E2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CB86-A1BD-42BB-824F-F27A7625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CC6-7F71-48C4-9576-4B54A58A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463-38D1-4DD7-ACB7-C135E08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64F6-072F-48AD-AE96-B29F804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4389-0D76-4FF2-8D37-BA92D4F2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D4D-A868-498B-816B-F546AEF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7301-8E30-441E-A3F4-84DC64E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F85-C494-49ED-860A-1575ED5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A543-192C-4C75-A75C-96680186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0CAA-A96D-4C2B-95F2-04757EC2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C303-66C1-4B1F-B918-812D928A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3D907-1443-432A-8F57-E55DE547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5A7FA-581C-4EEA-A8EE-104F2BE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CBFF0-C085-4BC7-B19C-E0814FFD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F88CA-7CFA-44A3-BEF9-73593164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A45DC-C8C4-4B6E-B037-938EF9F6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6B9-C5B0-45EB-93C1-F98F115C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C2437-EDE7-4CA7-A2C7-D88068B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BF155-2A24-47D8-9393-7D744766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2EB80-B591-41FD-96F2-69F1B18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C9310-F124-4283-A526-7680AD1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85437-4EE7-4637-A250-41FA129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E9DD3-34DE-46CD-B693-DF83DB6C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3D9D5-B55C-4AC5-9A18-B50156D4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DB571-AFCC-4F07-B5F4-F4E13A0A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944D-6F4E-4E57-94E2-69F18591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58B2-9178-4663-B57E-E0199B4A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96B-0505-4DC5-92B6-CACF603F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8C9D-AEB3-4C9D-BCDD-FDBDAD8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CE10-DE5C-4B3D-B98B-F53CF317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0553-AA8C-4AC6-8282-E092CB24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9D41-32C3-4C47-952A-18139A7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9CCE-E60B-4685-BE16-EEFACECA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123C-D63B-48BD-B16F-5C028BC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0234-CF03-4051-8F22-C72D0359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FD63-80A6-428D-A331-FD1E1121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95D3-EEAF-4AE8-B25B-67648C1C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305E6-6A21-4B7E-B51B-C9A145A3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959-7758-4754-BE8E-4A58ACA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73C3-C789-4863-8886-FDFE7AA6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7EC56-CA32-4730-9472-A6521772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EC4D-52F3-4715-A901-6B48F7B7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2EDF8-AF37-47C3-B040-611DC3DA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9E6C-8276-47A0-8EF6-97650479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B3A8-A191-4B07-AA49-986E00C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082E-DEB1-4B8E-BAA4-B425CDE7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B346-3A49-48A8-B616-9B87EC5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2AA3-7BB1-437F-BFD7-595CEDF5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A9303-9D94-400A-8679-F116BF20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93A-ABC8-455F-9872-9467C7B8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A65F-F32B-4BD1-9F34-E1C24943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E61-AAB7-4D88-9700-2BE84424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861-7538-4864-9506-0B759F8D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87E-0638-4D24-810B-379431A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3BD7-B4F6-4722-95FC-79EAD540C8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85A1-FCA0-4083-B565-BD1F3D590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66B0-7D8B-4AFE-A0EC-58BEF32D3D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4055-C12D-4548-865B-1EC91C581A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FD0-1ED7-4224-9999-944AE21E15D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0.wmf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audio" Target="../media/click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ashreg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830560" y="62028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司马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292720" y="2060640"/>
            <a:ext cx="352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233856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2708280"/>
            <a:ext cx="33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19—108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宋著名的政治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史学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587700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523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47640" y="1430280"/>
            <a:ext cx="5977080" cy="3943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116000" y="5300640"/>
            <a:ext cx="952560" cy="11527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26836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116000" y="6381720"/>
            <a:ext cx="6991200" cy="287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6156360" y="5300640"/>
            <a:ext cx="952560" cy="100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tretch/>
        </p:blipFill>
        <p:spPr>
          <a:xfrm>
            <a:off x="3492360" y="5445000"/>
            <a:ext cx="808200" cy="935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7164360" y="5356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4788000" y="54291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1763640" y="1413000"/>
            <a:ext cx="5977080" cy="39430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16686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5111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8000"/>
                </a:solidFill>
                <a:latin typeface="Tahoma"/>
                <a:ea typeface="隶书"/>
              </a:rPr>
              <a:t>送你一句话</a:t>
            </a:r>
            <a:r>
              <a:rPr b="0" lang="zh-CN" sz="7200" spc="-1" strike="noStrike">
                <a:solidFill>
                  <a:srgbClr val="008000"/>
                </a:solidFill>
                <a:latin typeface="Tahoma"/>
                <a:ea typeface="隶书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263700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学习司马光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遇到困难不慌张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自己动脑想办法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245003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187280" y="3933720"/>
            <a:ext cx="1800360" cy="2159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476360" y="1341360"/>
            <a:ext cx="6705720" cy="13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提出宝贵意见，谢谢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9468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72484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-45864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sī    jiǎ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ān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 bié   huān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司    假    缸     别     慌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xià   jiào  kuài  shǐ    jì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吓    叫    块     使     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á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 pò    ji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砸    破    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57340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573408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24720" y="580536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523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-45864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司    假    缸     别     慌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吓    叫    块     使     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砸    破    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57340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573408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24720" y="5805360"/>
            <a:ext cx="10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523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252360" y="335772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8000" spc="-1" strike="noStrike">
                <a:solidFill>
                  <a:srgbClr val="0000ff"/>
                </a:solidFill>
                <a:latin typeface="宋体"/>
              </a:rPr>
              <a:t>慌  假  别 </a:t>
            </a:r>
            <a:br>
              <a:rPr sz="8000"/>
            </a:br>
            <a:r>
              <a:rPr b="1" lang="zh-CN" sz="8000" spc="-1" strike="noStrike">
                <a:solidFill>
                  <a:srgbClr val="0000ff"/>
                </a:solidFill>
                <a:latin typeface="宋体"/>
              </a:rPr>
              <a:t>  吓  叫  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司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司机    公司      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使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使用    使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2565360"/>
            <a:ext cx="9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31120" y="6148440"/>
            <a:ext cx="812880" cy="709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87280" y="57405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38606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43657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508464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421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3284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3640" y="2060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620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3640" y="414972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88000" y="2997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16720" y="177336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54936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2360" y="1125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333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1871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971640" y="1413000"/>
            <a:ext cx="817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4786200"/>
            <a:ext cx="8532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227664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你从课文中知道了什么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69228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</a:rPr>
              <a:t>读一读课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892080"/>
            <a:ext cx="4788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别的小朋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都慌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的吓哭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的叫着喊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跑去找大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43280" y="-1971720"/>
            <a:ext cx="5364360" cy="11490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84360" y="476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06864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司马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没有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他举起一块石头，使劲砸那口缸，几下子就把缸砸破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-2619360"/>
            <a:ext cx="11161800" cy="135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210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20:52:08Z</dcterms:created>
  <dc:creator>s</dc:creator>
  <dc:description/>
  <dc:language>en-US</dc:language>
  <cp:lastModifiedBy>微软用户</cp:lastModifiedBy>
  <dcterms:modified xsi:type="dcterms:W3CDTF">2008-04-27T13:20:05Z</dcterms:modified>
  <cp:revision>30</cp:revision>
  <dc:subject/>
  <dc:title>PowerPoint 演示文稿</dc:title>
</cp:coreProperties>
</file>