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chimes.wav" ContentType="audio/x-wav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DB42-E479-4BFF-A52E-CE4EECA4F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B986-5080-4E58-AB64-735BD8D2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E963-6827-4C94-9717-A1713455E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316B-1561-467F-8932-9C4255322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53B8-7E35-44FD-9976-F88F0397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85C8-A5CD-4030-BE7B-3997D9EE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73D0-8296-4D08-B7CF-77C5AF20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6EE3-18EA-4F04-91A8-2C8C307B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F5BE-D679-4957-8C64-E2072A64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F342-7221-468D-B2BE-40B17722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9D20-AA2B-4A18-B181-2B4C7A0F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DA4C-5586-417C-8983-B31687EC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759B-AE1A-4BC5-8664-A795CA7F01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C:\Documents and Settings\cym\&#26700;&#38754;\&#22806;&#21253;&#35838;&#20214;\&#20154;&#25945;&#29256;&#20108;&#20876;&#35821;&#25991;&#19978;&#20132;\&#35838;&#20214;\rjyw010221&#31216;&#35937;\&#31216;&#35937;&#29983;&#23383;.exe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71640" y="3357720"/>
            <a:ext cx="210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1773360"/>
            <a:ext cx="554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21 </a:t>
            </a:r>
            <a:r>
              <a:rPr b="1" lang="zh-CN" sz="88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称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798000" y="927000"/>
            <a:ext cx="3533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曹冲称象的方法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50360" y="1763640"/>
            <a:ext cx="7485120" cy="382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第一步：把大象赶到</a:t>
            </a:r>
            <a:r>
              <a:rPr b="1" lang="zh-CN" sz="3600" spc="-1" strike="noStrike" u="sng">
                <a:solidFill>
                  <a:srgbClr val="06521e"/>
                </a:solidFill>
                <a:uFillTx/>
                <a:latin typeface="楷体_GB2312"/>
                <a:ea typeface="楷体_GB2312"/>
              </a:rPr>
              <a:t>           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第二步：再把大象</a:t>
            </a:r>
            <a:r>
              <a:rPr b="1" lang="zh-CN" sz="3600" spc="-1" strike="noStrike" u="sng">
                <a:solidFill>
                  <a:srgbClr val="06521e"/>
                </a:solidFill>
                <a:uFillTx/>
                <a:latin typeface="楷体_GB2312"/>
                <a:ea typeface="楷体_GB2312"/>
              </a:rPr>
              <a:t>             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第三步：然后</a:t>
            </a:r>
            <a:r>
              <a:rPr b="1" lang="zh-CN" sz="3600" spc="-1" strike="noStrike" u="sng">
                <a:solidFill>
                  <a:srgbClr val="06521e"/>
                </a:solidFill>
                <a:uFillTx/>
                <a:latin typeface="楷体_GB2312"/>
                <a:ea typeface="楷体_GB2312"/>
              </a:rPr>
              <a:t>                 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第四步：</a:t>
            </a:r>
            <a:r>
              <a:rPr b="1" lang="zh-CN" sz="3600" spc="-1" strike="noStrike" u="sng">
                <a:solidFill>
                  <a:srgbClr val="06521e"/>
                </a:solidFill>
                <a:uFillTx/>
                <a:latin typeface="楷体_GB2312"/>
                <a:ea typeface="楷体_GB2312"/>
              </a:rPr>
              <a:t>                     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41520" y="5877000"/>
            <a:ext cx="1084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用自己的话说一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0152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rcRect l="7213" t="9196" r="2704" b="4036"/>
          <a:stretch/>
        </p:blipFill>
        <p:spPr>
          <a:xfrm>
            <a:off x="324000" y="0"/>
            <a:ext cx="8820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820152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  <p:sndAc>
      <p:stSnd>
        <p:snd r:embed="rId4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547640" y="2133720"/>
            <a:ext cx="6716880" cy="201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曹冲能想出这个好办法，可以看出他是一个怎么样的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我们要向他学习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0152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119480" y="98748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小组交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31840" y="3573360"/>
            <a:ext cx="3868920" cy="83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还有没有更好的方法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0152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153680" y="836640"/>
            <a:ext cx="1704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学习新偏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779640" y="5229360"/>
            <a:ext cx="2541960" cy="1312920"/>
            <a:chOff x="3779640" y="5229360"/>
            <a:chExt cx="2541960" cy="1312920"/>
          </a:xfrm>
        </p:grpSpPr>
        <p:grpSp>
          <p:nvGrpSpPr>
            <p:cNvPr id="82" name=""/>
            <p:cNvGrpSpPr/>
            <p:nvPr/>
          </p:nvGrpSpPr>
          <p:grpSpPr>
            <a:xfrm>
              <a:off x="5049360" y="5351400"/>
              <a:ext cx="1272240" cy="1187640"/>
              <a:chOff x="5049360" y="5351400"/>
              <a:chExt cx="1272240" cy="1187640"/>
            </a:xfrm>
          </p:grpSpPr>
          <p:sp>
            <p:nvSpPr>
              <p:cNvPr id="83" name=""/>
              <p:cNvSpPr/>
              <p:nvPr/>
            </p:nvSpPr>
            <p:spPr>
              <a:xfrm>
                <a:off x="5049720" y="5351400"/>
                <a:ext cx="1271880" cy="1187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5049360" y="5945040"/>
                <a:ext cx="127188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685840" y="5380920"/>
                <a:ext cx="0" cy="115812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3779640" y="5351400"/>
              <a:ext cx="1270080" cy="1187640"/>
              <a:chOff x="3779640" y="5351400"/>
              <a:chExt cx="1270080" cy="1187640"/>
            </a:xfrm>
          </p:grpSpPr>
          <p:sp>
            <p:nvSpPr>
              <p:cNvPr id="87" name=""/>
              <p:cNvSpPr/>
              <p:nvPr/>
            </p:nvSpPr>
            <p:spPr>
              <a:xfrm>
                <a:off x="3780000" y="5351400"/>
                <a:ext cx="1269720" cy="1187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3779640" y="5945040"/>
                <a:ext cx="12697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415040" y="5380920"/>
                <a:ext cx="0" cy="115812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3922560" y="5229360"/>
              <a:ext cx="23749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点照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994200" y="2349360"/>
            <a:ext cx="2016000" cy="2016360"/>
            <a:chOff x="3994200" y="2349360"/>
            <a:chExt cx="2016000" cy="2016360"/>
          </a:xfrm>
        </p:grpSpPr>
        <p:grpSp>
          <p:nvGrpSpPr>
            <p:cNvPr id="92" name=""/>
            <p:cNvGrpSpPr/>
            <p:nvPr/>
          </p:nvGrpSpPr>
          <p:grpSpPr>
            <a:xfrm>
              <a:off x="3994200" y="2349360"/>
              <a:ext cx="2016000" cy="2016360"/>
              <a:chOff x="3994200" y="2349360"/>
              <a:chExt cx="2016000" cy="2016360"/>
            </a:xfrm>
          </p:grpSpPr>
          <p:sp>
            <p:nvSpPr>
              <p:cNvPr id="93" name=""/>
              <p:cNvSpPr/>
              <p:nvPr/>
            </p:nvSpPr>
            <p:spPr>
              <a:xfrm>
                <a:off x="3994200" y="2349360"/>
                <a:ext cx="2016000" cy="2016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3994200" y="3357360"/>
                <a:ext cx="2016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002560" y="2399400"/>
                <a:ext cx="0" cy="19659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4356000" y="3394080"/>
              <a:ext cx="1368360" cy="35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"/>
          <p:cNvSpPr/>
          <p:nvPr/>
        </p:nvSpPr>
        <p:spPr>
          <a:xfrm>
            <a:off x="820152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120560" y="765000"/>
            <a:ext cx="182664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6521e"/>
                </a:solidFill>
                <a:latin typeface="Arial"/>
              </a:rPr>
              <a:t>会写的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116000" y="3357720"/>
            <a:ext cx="7583400" cy="1223640"/>
            <a:chOff x="1116000" y="3357720"/>
            <a:chExt cx="7583400" cy="1223640"/>
          </a:xfrm>
        </p:grpSpPr>
        <p:grpSp>
          <p:nvGrpSpPr>
            <p:cNvPr id="100" name=""/>
            <p:cNvGrpSpPr/>
            <p:nvPr/>
          </p:nvGrpSpPr>
          <p:grpSpPr>
            <a:xfrm>
              <a:off x="7427880" y="3392640"/>
              <a:ext cx="1271520" cy="1187280"/>
              <a:chOff x="7427880" y="3392640"/>
              <a:chExt cx="1271520" cy="1187280"/>
            </a:xfrm>
          </p:grpSpPr>
          <p:sp>
            <p:nvSpPr>
              <p:cNvPr id="101" name=""/>
              <p:cNvSpPr/>
              <p:nvPr/>
            </p:nvSpPr>
            <p:spPr>
              <a:xfrm>
                <a:off x="7427880" y="3392640"/>
                <a:ext cx="1271520" cy="1187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7427880" y="3986280"/>
                <a:ext cx="12715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064000" y="3422160"/>
                <a:ext cx="0" cy="1157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6157800" y="3392640"/>
              <a:ext cx="1270080" cy="1187280"/>
              <a:chOff x="6157800" y="3392640"/>
              <a:chExt cx="1270080" cy="1187280"/>
            </a:xfrm>
          </p:grpSpPr>
          <p:sp>
            <p:nvSpPr>
              <p:cNvPr id="105" name=""/>
              <p:cNvSpPr/>
              <p:nvPr/>
            </p:nvSpPr>
            <p:spPr>
              <a:xfrm>
                <a:off x="6157800" y="3392640"/>
                <a:ext cx="1270080" cy="1187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6157800" y="3986280"/>
                <a:ext cx="127008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793200" y="3422160"/>
                <a:ext cx="0" cy="1157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4932360" y="3392640"/>
              <a:ext cx="1271520" cy="1188720"/>
              <a:chOff x="4932360" y="3392640"/>
              <a:chExt cx="1271520" cy="1188720"/>
            </a:xfrm>
          </p:grpSpPr>
          <p:sp>
            <p:nvSpPr>
              <p:cNvPr id="109" name=""/>
              <p:cNvSpPr/>
              <p:nvPr/>
            </p:nvSpPr>
            <p:spPr>
              <a:xfrm>
                <a:off x="4932360" y="3392640"/>
                <a:ext cx="1271520" cy="1188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4932360" y="3987000"/>
                <a:ext cx="12715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568480" y="3422160"/>
                <a:ext cx="0" cy="11592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3660840" y="3392640"/>
              <a:ext cx="1271520" cy="1188720"/>
              <a:chOff x="3660840" y="3392640"/>
              <a:chExt cx="1271520" cy="1188720"/>
            </a:xfrm>
          </p:grpSpPr>
          <p:sp>
            <p:nvSpPr>
              <p:cNvPr id="113" name=""/>
              <p:cNvSpPr/>
              <p:nvPr/>
            </p:nvSpPr>
            <p:spPr>
              <a:xfrm>
                <a:off x="3660840" y="3392640"/>
                <a:ext cx="1271520" cy="1188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3660840" y="3987000"/>
                <a:ext cx="12715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296960" y="3422160"/>
                <a:ext cx="0" cy="11592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2387160" y="3392640"/>
              <a:ext cx="1273680" cy="1188720"/>
              <a:chOff x="2387160" y="3392640"/>
              <a:chExt cx="1273680" cy="1188720"/>
            </a:xfrm>
          </p:grpSpPr>
          <p:sp>
            <p:nvSpPr>
              <p:cNvPr id="117" name=""/>
              <p:cNvSpPr/>
              <p:nvPr/>
            </p:nvSpPr>
            <p:spPr>
              <a:xfrm>
                <a:off x="2387520" y="3392640"/>
                <a:ext cx="1273320" cy="1188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2387160" y="3987000"/>
                <a:ext cx="12733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024360" y="3422160"/>
                <a:ext cx="0" cy="11592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1116000" y="3392640"/>
              <a:ext cx="1271520" cy="1188720"/>
              <a:chOff x="1116000" y="3392640"/>
              <a:chExt cx="1271520" cy="1188720"/>
            </a:xfrm>
          </p:grpSpPr>
          <p:sp>
            <p:nvSpPr>
              <p:cNvPr id="121" name=""/>
              <p:cNvSpPr/>
              <p:nvPr/>
            </p:nvSpPr>
            <p:spPr>
              <a:xfrm>
                <a:off x="1116000" y="3392640"/>
                <a:ext cx="1271520" cy="1188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1116000" y="3987000"/>
                <a:ext cx="12715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52120" y="3422160"/>
                <a:ext cx="0" cy="11592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1189080" y="3357720"/>
              <a:ext cx="741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再象像做点照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>
            <a:hlinkClick r:id="rId2"/>
          </p:cNvPr>
          <p:cNvSpPr/>
          <p:nvPr/>
        </p:nvSpPr>
        <p:spPr>
          <a:xfrm>
            <a:off x="4067280" y="5662440"/>
            <a:ext cx="1942920" cy="574920"/>
          </a:xfrm>
          <a:custGeom>
            <a:avLst/>
            <a:gdLst>
              <a:gd name="textAreaLeft" fmla="*/ 37080 w 1942920"/>
              <a:gd name="textAreaRight" fmla="*/ 1905840 w 194292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72964" h="21600">
                <a:moveTo>
                  <a:pt x="0" y="0"/>
                </a:moveTo>
                <a:lnTo>
                  <a:pt x="72964" y="0"/>
                </a:lnTo>
                <a:lnTo>
                  <a:pt x="72964" y="21600"/>
                </a:lnTo>
                <a:lnTo>
                  <a:pt x="0" y="21600"/>
                </a:lnTo>
                <a:close/>
              </a:path>
              <a:path fill="lightenLess" w="72964" h="21600">
                <a:moveTo>
                  <a:pt x="0" y="0"/>
                </a:moveTo>
                <a:lnTo>
                  <a:pt x="72964" y="0"/>
                </a:lnTo>
                <a:lnTo>
                  <a:pt x="71564" y="1400"/>
                </a:lnTo>
                <a:lnTo>
                  <a:pt x="1400" y="1400"/>
                </a:lnTo>
                <a:close/>
              </a:path>
              <a:path fill="darken" w="72964" h="21600">
                <a:moveTo>
                  <a:pt x="72964" y="0"/>
                </a:moveTo>
                <a:lnTo>
                  <a:pt x="72964" y="21600"/>
                </a:lnTo>
                <a:lnTo>
                  <a:pt x="71564" y="20200"/>
                </a:lnTo>
                <a:lnTo>
                  <a:pt x="71564" y="1400"/>
                </a:lnTo>
                <a:close/>
              </a:path>
              <a:path fill="darkenLess" w="72964" h="21600">
                <a:moveTo>
                  <a:pt x="72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564" y="20200"/>
                </a:lnTo>
                <a:close/>
              </a:path>
              <a:path fill="lighten" w="72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2964" h="21600">
                <a:moveTo>
                  <a:pt x="29476" y="7301"/>
                </a:moveTo>
                <a:lnTo>
                  <a:pt x="30390" y="7301"/>
                </a:lnTo>
                <a:lnTo>
                  <a:pt x="30772" y="7667"/>
                </a:lnTo>
                <a:lnTo>
                  <a:pt x="39981" y="7667"/>
                </a:lnTo>
                <a:lnTo>
                  <a:pt x="40538" y="8224"/>
                </a:lnTo>
                <a:lnTo>
                  <a:pt x="40538" y="8772"/>
                </a:lnTo>
                <a:lnTo>
                  <a:pt x="42383" y="8772"/>
                </a:lnTo>
                <a:lnTo>
                  <a:pt x="42749" y="8224"/>
                </a:lnTo>
                <a:lnTo>
                  <a:pt x="43489" y="8224"/>
                </a:lnTo>
                <a:lnTo>
                  <a:pt x="43489" y="13376"/>
                </a:lnTo>
                <a:lnTo>
                  <a:pt x="42749" y="13376"/>
                </a:lnTo>
                <a:lnTo>
                  <a:pt x="42383" y="12828"/>
                </a:lnTo>
                <a:lnTo>
                  <a:pt x="40538" y="12828"/>
                </a:lnTo>
                <a:lnTo>
                  <a:pt x="40538" y="14107"/>
                </a:lnTo>
                <a:lnTo>
                  <a:pt x="30955" y="14107"/>
                </a:lnTo>
                <a:lnTo>
                  <a:pt x="30955" y="9877"/>
                </a:lnTo>
                <a:lnTo>
                  <a:pt x="30772" y="9877"/>
                </a:lnTo>
                <a:lnTo>
                  <a:pt x="30390" y="10243"/>
                </a:lnTo>
                <a:lnTo>
                  <a:pt x="29476" y="10243"/>
                </a:lnTo>
                <a:close/>
              </a:path>
            </a:pathLst>
          </a:custGeom>
          <a:solidFill>
            <a:srgbClr val="bbe0e3">
              <a:alpha val="46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20152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346640" y="765000"/>
            <a:ext cx="790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组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72280" y="2055960"/>
            <a:ext cx="4547160" cy="375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再（　　）　在（　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象（　　）　像（　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我（　　）　找（　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下（　　）　吓（　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0152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109760" y="5950080"/>
            <a:ext cx="115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521e"/>
                </a:solidFill>
                <a:latin typeface="Arial"/>
                <a:ea typeface="楷体_GB2312"/>
              </a:rPr>
              <a:t>动画欣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0152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ShockwaveFlash1"/>
          <p:cNvGraphicFramePr/>
          <p:nvPr/>
        </p:nvGraphicFramePr>
        <p:xfrm>
          <a:off x="1908000" y="1413000"/>
          <a:ext cx="5832720" cy="439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8000" y="1413000"/>
                    <a:ext cx="5832720" cy="4392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90760" y="1665360"/>
            <a:ext cx="71848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大象很大，也很重，现在我们要知道大象的重量是很容易的。在古时候却很困难，可是有一位聪明的小朋友想出了一个办法，称出了大象的重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0152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50920" y="2133720"/>
            <a:ext cx="5616720" cy="197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称 象 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0152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046400" y="83664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会读的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0360" y="2462400"/>
            <a:ext cx="8723880" cy="305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ch</a:t>
            </a:r>
            <a:r>
              <a:rPr b="1" lang="zh-CN" sz="2800" spc="-1" strike="noStrike">
                <a:solidFill>
                  <a:srgbClr val="06521e"/>
                </a:solidFill>
                <a:latin typeface="宋体"/>
              </a:rPr>
              <a:t>ē</a:t>
            </a:r>
            <a:r>
              <a:rPr b="1" lang="zh-CN" sz="28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n</a:t>
            </a:r>
            <a:r>
              <a:rPr b="0" lang="zh-CN" sz="2800" spc="-1" strike="noStrike">
                <a:solidFill>
                  <a:srgbClr val="06521e"/>
                </a:solidFill>
                <a:latin typeface="Arial"/>
                <a:ea typeface="楷体_GB2312"/>
              </a:rPr>
              <a:t>g</a:t>
            </a:r>
            <a:r>
              <a:rPr b="1" lang="zh-CN" sz="28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xi</a:t>
            </a:r>
            <a:r>
              <a:rPr b="1" lang="zh-CN" sz="2800" spc="-1" strike="noStrike">
                <a:solidFill>
                  <a:srgbClr val="06521e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n</a:t>
            </a:r>
            <a:r>
              <a:rPr b="0" lang="zh-CN" sz="2800" spc="-1" strike="noStrike">
                <a:solidFill>
                  <a:srgbClr val="06521e"/>
                </a:solidFill>
                <a:latin typeface="Arial"/>
                <a:ea typeface="幼圆"/>
              </a:rPr>
              <a:t>g</a:t>
            </a:r>
            <a:r>
              <a:rPr b="1" lang="zh-CN" sz="28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6521e"/>
                </a:solidFill>
                <a:latin typeface="Arial"/>
                <a:ea typeface="楷体_GB2312"/>
              </a:rPr>
              <a:t>g</a:t>
            </a:r>
            <a:r>
              <a:rPr b="1" lang="zh-CN" sz="28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u</a:t>
            </a:r>
            <a:r>
              <a:rPr b="1" lang="zh-CN" sz="2800" spc="-1" strike="noStrike">
                <a:solidFill>
                  <a:srgbClr val="06521e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n</a:t>
            </a: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tu</a:t>
            </a:r>
            <a:r>
              <a:rPr b="1" lang="zh-CN" sz="3200" spc="-1" strike="noStrike">
                <a:solidFill>
                  <a:srgbClr val="06521e"/>
                </a:solidFill>
                <a:latin typeface="宋体"/>
              </a:rPr>
              <a:t>ǐ</a:t>
            </a: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zh</a:t>
            </a:r>
            <a:r>
              <a:rPr b="1" lang="zh-CN" sz="3200" spc="-1" strike="noStrike">
                <a:solidFill>
                  <a:srgbClr val="06521e"/>
                </a:solidFill>
                <a:latin typeface="宋体"/>
              </a:rPr>
              <a:t>ù</a:t>
            </a: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yì</a:t>
            </a: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</a:t>
            </a:r>
            <a:r>
              <a:rPr b="0" lang="zh-CN" sz="3200" spc="-1" strike="noStrike">
                <a:solidFill>
                  <a:srgbClr val="06521e"/>
                </a:solidFill>
                <a:latin typeface="Arial"/>
                <a:ea typeface="楷体_GB2312"/>
              </a:rPr>
              <a:t>g</a:t>
            </a:r>
            <a:r>
              <a:rPr b="1" lang="zh-CN" sz="3200" spc="-1" strike="noStrike">
                <a:solidFill>
                  <a:srgbClr val="06521e"/>
                </a:solidFill>
                <a:latin typeface="宋体"/>
              </a:rPr>
              <a:t>ǎ</a:t>
            </a: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称 象 官 腿 柱 议 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chèn</a:t>
            </a:r>
            <a:r>
              <a:rPr b="0" lang="zh-CN" sz="3200" spc="-1" strike="noStrike">
                <a:solidFill>
                  <a:srgbClr val="06521e"/>
                </a:solidFill>
                <a:latin typeface="Arial"/>
                <a:ea typeface="楷体_GB2312"/>
              </a:rPr>
              <a:t>g</a:t>
            </a: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 d</a:t>
            </a:r>
            <a:r>
              <a:rPr b="1" lang="zh-CN" sz="3200" spc="-1" strike="noStrike">
                <a:solidFill>
                  <a:srgbClr val="06521e"/>
                </a:solidFill>
                <a:latin typeface="宋体"/>
              </a:rPr>
              <a:t>ǎ</a:t>
            </a: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o s</a:t>
            </a:r>
            <a:r>
              <a:rPr b="1" lang="zh-CN" sz="3200" spc="-1" strike="noStrike">
                <a:solidFill>
                  <a:srgbClr val="06521e"/>
                </a:solidFill>
                <a:latin typeface="宋体"/>
              </a:rPr>
              <a:t>ō</a:t>
            </a: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u</a:t>
            </a: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ch</a:t>
            </a:r>
            <a:r>
              <a:rPr b="1" lang="zh-CN" sz="3200" spc="-1" strike="noStrike">
                <a:solidFill>
                  <a:srgbClr val="06521e"/>
                </a:solidFill>
                <a:latin typeface="宋体"/>
              </a:rPr>
              <a:t>é</a:t>
            </a: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n</a:t>
            </a: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zh</a:t>
            </a:r>
            <a:r>
              <a:rPr b="1" lang="zh-CN" sz="3200" spc="-1" strike="noStrike">
                <a:solidFill>
                  <a:srgbClr val="06521e"/>
                </a:solidFill>
                <a:latin typeface="宋体"/>
              </a:rPr>
              <a:t>ǐ</a:t>
            </a: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w</a:t>
            </a:r>
            <a:r>
              <a:rPr b="1" lang="zh-CN" sz="3200" spc="-1" strike="noStrike">
                <a:solidFill>
                  <a:srgbClr val="06521e"/>
                </a:solidFill>
                <a:latin typeface="宋体"/>
              </a:rPr>
              <a:t>ē</a:t>
            </a: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秤 倒 艘 沉 止 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0152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477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24360" y="495360"/>
            <a:ext cx="1800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称</a:t>
            </a: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360" y="1143000"/>
            <a:ext cx="9144000" cy="311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Arial"/>
                <a:ea typeface="楷体_GB2312"/>
              </a:rPr>
              <a:t>　　　　</a:t>
            </a:r>
            <a:r>
              <a:rPr b="1" lang="zh-CN" sz="6600" spc="-1" strike="noStrike">
                <a:solidFill>
                  <a:srgbClr val="06521e"/>
                </a:solidFill>
                <a:latin typeface="Arial"/>
                <a:ea typeface="楷体_GB2312"/>
              </a:rPr>
              <a:t>大象又高又大，身子像一堵墙，</a:t>
            </a: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楷体_GB2312"/>
              </a:rPr>
              <a:t>腿</a:t>
            </a:r>
            <a:r>
              <a:rPr b="1" lang="zh-CN" sz="6600" spc="-1" strike="noStrike">
                <a:solidFill>
                  <a:srgbClr val="06521e"/>
                </a:solidFill>
                <a:latin typeface="Arial"/>
                <a:ea typeface="楷体_GB2312"/>
              </a:rPr>
              <a:t>像四根</a:t>
            </a: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楷体_GB2312"/>
              </a:rPr>
              <a:t>柱</a:t>
            </a:r>
            <a:r>
              <a:rPr b="1" lang="zh-CN" sz="6600" spc="-1" strike="noStrike">
                <a:solidFill>
                  <a:srgbClr val="06521e"/>
                </a:solidFill>
                <a:latin typeface="Arial"/>
                <a:ea typeface="楷体_GB2312"/>
              </a:rPr>
              <a:t>子。官员们一边看一边</a:t>
            </a: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楷体_GB2312"/>
              </a:rPr>
              <a:t>议</a:t>
            </a:r>
            <a:r>
              <a:rPr b="1" lang="zh-CN" sz="6600" spc="-1" strike="noStrike">
                <a:solidFill>
                  <a:srgbClr val="06521e"/>
                </a:solidFill>
                <a:latin typeface="Arial"/>
                <a:ea typeface="楷体_GB2312"/>
              </a:rPr>
              <a:t>论：“象这么大，到底有多重呢？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Arial"/>
                <a:ea typeface="楷体_GB2312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Arial"/>
                <a:ea typeface="楷体_GB2312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715000" y="620640"/>
            <a:ext cx="512640" cy="513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20152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24000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33400" y="2205000"/>
            <a:ext cx="6994440" cy="368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官员们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一边</a:t>
            </a: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看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一边</a:t>
            </a: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议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我们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一边</a:t>
            </a: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唱歌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一边</a:t>
            </a: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跳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6521e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一边</a:t>
            </a:r>
            <a:r>
              <a:rPr b="1" lang="zh-CN" sz="4000" spc="-1" strike="noStrike" u="sng">
                <a:solidFill>
                  <a:srgbClr val="06521e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一边</a:t>
            </a:r>
            <a:r>
              <a:rPr b="1" lang="zh-CN" sz="4000" spc="-1" strike="noStrike" u="sng">
                <a:solidFill>
                  <a:srgbClr val="06521e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30600" y="77148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仿说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0152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652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Arial"/>
                <a:ea typeface="楷体_GB2312"/>
              </a:rPr>
              <a:t>曹操问：“谁有办法把这头大象称一称？”有的说：“得造一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杆</a:t>
            </a:r>
            <a:r>
              <a:rPr b="1" lang="zh-CN" sz="4000" spc="-1" strike="noStrike">
                <a:solidFill>
                  <a:srgbClr val="06521e"/>
                </a:solidFill>
                <a:latin typeface="Arial"/>
                <a:ea typeface="楷体_GB2312"/>
              </a:rPr>
              <a:t>大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秤</a:t>
            </a:r>
            <a:r>
              <a:rPr b="1" lang="zh-CN" sz="4000" spc="-1" strike="noStrike">
                <a:solidFill>
                  <a:srgbClr val="06521e"/>
                </a:solidFill>
                <a:latin typeface="Arial"/>
                <a:ea typeface="楷体_GB2312"/>
              </a:rPr>
              <a:t>，砍一棵大树做秤杆。”有的说：“有了大称也不成啊，谁有那么大的力气提得起这杆大称呢？”也有的说：“办法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倒</a:t>
            </a:r>
            <a:r>
              <a:rPr b="1" lang="zh-CN" sz="4000" spc="-1" strike="noStrike">
                <a:solidFill>
                  <a:srgbClr val="06521e"/>
                </a:solidFill>
                <a:latin typeface="Arial"/>
                <a:ea typeface="楷体_GB2312"/>
              </a:rPr>
              <a:t>是有一个，就是把大象宰了，割成一块一块的再称。”曹操听了直摇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273560" y="78408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练习说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19480" y="31989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00160" y="2730600"/>
            <a:ext cx="42040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他们分别想出了什么办法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7640" y="4594320"/>
            <a:ext cx="727236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用“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有的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...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有的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...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也有的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”句式说一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0152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6521e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曹操的儿子曹冲才</a:t>
            </a: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7</a:t>
            </a: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岁，他站出来，说：“我有个办法。把大象赶到一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艘</a:t>
            </a: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大船上，看船身下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沉</a:t>
            </a: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多少，就沿着水面，在船舷上画一条线。再把大象赶上岸，往船上装石头，装到船下沉到画线的地方为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止</a:t>
            </a: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。然后，称一称船上的石头。石头有多重，大象就有多重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6521e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曹操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微</a:t>
            </a: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笑着点点头 。他叫人照曹冲说的办法去做，果然称出了大象的重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吕伟</dc:creator>
  <dc:description/>
  <dc:language>en-US</dc:language>
  <cp:lastModifiedBy>lenovo</cp:lastModifiedBy>
  <dcterms:modified xsi:type="dcterms:W3CDTF">2011-05-11T23:42:52Z</dcterms:modified>
  <cp:revision>60</cp:revision>
  <dc:subject/>
  <dc:title>幻灯片 1</dc:title>
</cp:coreProperties>
</file>