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849E-FD18-43F5-AB00-15C529D0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10E8-C50A-4B6E-850F-B2E23F6F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7BD-1573-4AFF-9C94-C708038F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8F60-888B-4B0B-886E-437AE3FE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97F1-6D24-4CD7-800F-5D0A10A5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EC12-5F81-44F9-AF66-30DB8915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FF1F-5058-4ADF-B815-4895EF5E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287C-8929-40D6-9F8C-62DAD6F2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1AF-2FB4-4872-8F5F-BF033647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7983-1183-412E-815A-A72EA241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AA3-54CE-4486-A448-D097DA20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F142-2EC9-4562-A950-8BBB30D3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0A3F-AEFE-4538-B3D7-A75DE5D8E8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8110" t="5329" r="4506" b="6841"/>
          <a:stretch/>
        </p:blipFill>
        <p:spPr>
          <a:xfrm>
            <a:off x="0" y="20520"/>
            <a:ext cx="9144000" cy="6775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5120" y="198108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隶书"/>
              </a:rPr>
              <a:t>语文园地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58672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7301"/>
                </a:moveTo>
                <a:lnTo>
                  <a:pt x="9332" y="7301"/>
                </a:lnTo>
                <a:lnTo>
                  <a:pt x="9715" y="7667"/>
                </a:lnTo>
                <a:lnTo>
                  <a:pt x="18923" y="7667"/>
                </a:lnTo>
                <a:lnTo>
                  <a:pt x="19480" y="8224"/>
                </a:lnTo>
                <a:lnTo>
                  <a:pt x="19480" y="8772"/>
                </a:lnTo>
                <a:lnTo>
                  <a:pt x="21326" y="8772"/>
                </a:lnTo>
                <a:lnTo>
                  <a:pt x="21691" y="8224"/>
                </a:lnTo>
                <a:lnTo>
                  <a:pt x="22431" y="8224"/>
                </a:lnTo>
                <a:lnTo>
                  <a:pt x="22431" y="13376"/>
                </a:lnTo>
                <a:lnTo>
                  <a:pt x="21691" y="13376"/>
                </a:lnTo>
                <a:lnTo>
                  <a:pt x="21326" y="12828"/>
                </a:lnTo>
                <a:lnTo>
                  <a:pt x="19480" y="12828"/>
                </a:lnTo>
                <a:lnTo>
                  <a:pt x="19480" y="14107"/>
                </a:lnTo>
                <a:lnTo>
                  <a:pt x="9898" y="14107"/>
                </a:lnTo>
                <a:lnTo>
                  <a:pt x="9898" y="9877"/>
                </a:lnTo>
                <a:lnTo>
                  <a:pt x="9715" y="9877"/>
                </a:lnTo>
                <a:lnTo>
                  <a:pt x="9332" y="10243"/>
                </a:lnTo>
                <a:lnTo>
                  <a:pt x="8418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295280"/>
            <a:ext cx="8686800" cy="53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人有两件宝，双手和大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双手会做工，大脑会思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用手不用脑，事情做不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用脑不用手，啥也办不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用手又用脑，才能有创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切创造靠劳动，劳动要用手和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41800" y="1191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人有两件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8380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我的发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981080"/>
            <a:ext cx="6705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高——矮           胖——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明——暗           美——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忙——闲           新——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487692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反义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83808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还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1752480"/>
            <a:ext cx="73152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熟——            冷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重——            沉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进——             升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香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17524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1752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暖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(nuǎ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28195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浮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(f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40384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396252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降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(jià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502920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臭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(chò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6858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我会读，我能换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1981080"/>
            <a:ext cx="73911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打水    打伞   打电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打鱼  打球  打个问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1371600"/>
            <a:ext cx="853452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0" lang="zh-CN" sz="5500" spc="-1" strike="noStrike">
                <a:solidFill>
                  <a:srgbClr val="cc00cc"/>
                </a:solidFill>
                <a:latin typeface="Arial"/>
              </a:rPr>
              <a:t>ɑ    b    c    d    e    f    g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0" lang="zh-CN" sz="5500" spc="-1" strike="noStrike">
                <a:solidFill>
                  <a:srgbClr val="cc00cc"/>
                </a:solidFill>
                <a:latin typeface="Arial"/>
              </a:rPr>
              <a:t>h    i     j     k    l    m    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0" lang="zh-CN" sz="5500" spc="-1" strike="noStrike">
                <a:solidFill>
                  <a:srgbClr val="cc00cc"/>
                </a:solidFill>
                <a:latin typeface="Arial"/>
              </a:rPr>
              <a:t>o    p    q         r     s    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0" lang="zh-CN" sz="5500" spc="-1" strike="noStrike">
                <a:solidFill>
                  <a:srgbClr val="cc00cc"/>
                </a:solidFill>
                <a:latin typeface="Arial"/>
              </a:rPr>
              <a:t>u    v    w        x    y    z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380880"/>
            <a:ext cx="510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ff"/>
                </a:solidFill>
                <a:latin typeface="Arial"/>
              </a:rPr>
              <a:t>汉语拼音字母表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3920" y="1371600"/>
            <a:ext cx="6454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371600"/>
            <a:ext cx="685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371600"/>
            <a:ext cx="6094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371600"/>
            <a:ext cx="685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1371600"/>
            <a:ext cx="5331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1371600"/>
            <a:ext cx="838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15200" y="1371600"/>
            <a:ext cx="838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838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2590920"/>
            <a:ext cx="838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666880"/>
            <a:ext cx="838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2590920"/>
            <a:ext cx="838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57800" y="2590920"/>
            <a:ext cx="838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2590920"/>
            <a:ext cx="838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838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886200"/>
            <a:ext cx="838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809880"/>
            <a:ext cx="838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3809880"/>
            <a:ext cx="838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3886200"/>
            <a:ext cx="838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3886200"/>
            <a:ext cx="838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43800" y="3886200"/>
            <a:ext cx="838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5105520"/>
            <a:ext cx="838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181480"/>
            <a:ext cx="838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5181480"/>
            <a:ext cx="838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5105520"/>
            <a:ext cx="838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5105520"/>
            <a:ext cx="838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5105520"/>
            <a:ext cx="838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76212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我会分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7524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第一类：大小写字母相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3048120"/>
            <a:ext cx="7086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Cc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o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p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v  Ww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x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3716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第二类：大小写字母相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266688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Ff  Li  Jj  Kk  Mm  Nn Tt  Uu  Y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4479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第三类：大小写字母长得最不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2590920"/>
            <a:ext cx="6629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Aɑ   Bb  Dd  Ee  Gg  H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Ll  Qq  R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914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能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175248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ɑ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Bb Cc Dd Ee Ff G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81952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Hh  li  Jj  Kk  Ll Mm  N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38098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Oo Pp Qq       Rr Ss T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487692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Uu Vv Ww      Xx Yy Z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09-06-14T00:20:43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