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019-A736-4AE1-826E-94F830EC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C1A-2FC5-4762-934A-9F4468DA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D76-6338-433A-AA29-840DC6FD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385-3C89-42B9-AF54-5CB51193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C76-8B50-4C27-93EC-C5E07A2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589-F87E-428D-A0CF-BA0D001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E67-8CF5-451D-BDBD-8CF8811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7C8-924D-431F-972C-2DF1B147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588-87AF-487C-99C6-0D34D7A7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733-D6B9-4EFD-B112-A2B3102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B4F-B9D4-49E7-ACAE-E27E580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036-E04E-488E-B4A6-0435A5A9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5DA5-88A3-4002-ACEE-7E79A9E88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7468;&#26354;.swf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484280"/>
            <a:ext cx="7200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同学们，当你得到亲人关怀、朋友帮助时，你该怎么样？即使过去了很长时间，也会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rcRect l="0" t="0" r="0" b="3826"/>
          <a:stretch/>
        </p:blipFill>
        <p:spPr>
          <a:xfrm>
            <a:off x="395280" y="84240"/>
            <a:ext cx="8748720" cy="677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28920" y="6216480"/>
            <a:ext cx="237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毛主席住过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9600" y="981000"/>
            <a:ext cx="200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读第二段回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89160" y="184464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为什么要挖井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2637000"/>
            <a:ext cx="7308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村子里没有井，吃水要到很远的地方去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197000"/>
            <a:ext cx="6840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从此，沙洲坝的乡亲就有水喝了。很多年以后，人们还在想念着毛主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6960" t="0" r="0" b="0"/>
          <a:stretch/>
        </p:blipFill>
        <p:spPr>
          <a:xfrm>
            <a:off x="324000" y="369720"/>
            <a:ext cx="8820000" cy="648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19600" y="981000"/>
            <a:ext cx="200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读第三段回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844640"/>
            <a:ext cx="741708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从哪些地方可以看出人们还在想念毛主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26159" r="0" b="22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484360" y="389160"/>
            <a:ext cx="4464000" cy="6135480"/>
            <a:chOff x="2484360" y="389160"/>
            <a:chExt cx="4464000" cy="6135480"/>
          </a:xfrm>
        </p:grpSpPr>
        <p:sp>
          <p:nvSpPr>
            <p:cNvPr id="88" name=""/>
            <p:cNvSpPr/>
            <p:nvPr/>
          </p:nvSpPr>
          <p:spPr>
            <a:xfrm>
              <a:off x="2484360" y="5803920"/>
              <a:ext cx="4464000" cy="720720"/>
            </a:xfrm>
            <a:prstGeom prst="rect">
              <a:avLst/>
            </a:prstGeom>
            <a:solidFill>
              <a:srgbClr val="916e27"/>
            </a:solidFill>
            <a:ln w="9360">
              <a:solidFill>
                <a:srgbClr val="969696"/>
              </a:solidFill>
              <a:miter/>
            </a:ln>
            <a:effectLst>
              <a:outerShdw dist="130844" dir="179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8000" y="836640"/>
              <a:ext cx="2519280" cy="4897440"/>
            </a:xfrm>
            <a:prstGeom prst="rect">
              <a:avLst/>
            </a:prstGeom>
            <a:solidFill>
              <a:srgbClr val="916e27"/>
            </a:solidFill>
            <a:ln w="9360">
              <a:solidFill>
                <a:srgbClr val="969696"/>
              </a:solidFill>
              <a:miter/>
            </a:ln>
            <a:effectLst>
              <a:outerShdw dist="77353" dir="56247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40320" y="389160"/>
              <a:ext cx="2081160" cy="5908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吃水不忘挖井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时刻想念毛主席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8480" y="242100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学了这课，你懂得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6120" y="4076640"/>
            <a:ext cx="3198240" cy="170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毛主席关心乡亲们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乡亲们想念毛主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76160" y="69228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5960" y="2392200"/>
            <a:ext cx="4541040" cy="357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井台　井口　井水　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革命　导游　生命　救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主席　凉席　想念　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时刻　立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191840" y="765000"/>
            <a:ext cx="1826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会写的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16000" y="3319560"/>
            <a:ext cx="7583400" cy="1261800"/>
            <a:chOff x="1116000" y="3319560"/>
            <a:chExt cx="7583400" cy="1261800"/>
          </a:xfrm>
        </p:grpSpPr>
        <p:grpSp>
          <p:nvGrpSpPr>
            <p:cNvPr id="99" name=""/>
            <p:cNvGrpSpPr/>
            <p:nvPr/>
          </p:nvGrpSpPr>
          <p:grpSpPr>
            <a:xfrm>
              <a:off x="7427880" y="3392640"/>
              <a:ext cx="1271520" cy="1187280"/>
              <a:chOff x="7427880" y="3392640"/>
              <a:chExt cx="1271520" cy="1187280"/>
            </a:xfrm>
          </p:grpSpPr>
          <p:sp>
            <p:nvSpPr>
              <p:cNvPr id="100" name=""/>
              <p:cNvSpPr/>
              <p:nvPr/>
            </p:nvSpPr>
            <p:spPr>
              <a:xfrm>
                <a:off x="7427880" y="3392640"/>
                <a:ext cx="127152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427880" y="398628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64000" y="342216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157800" y="3392640"/>
              <a:ext cx="1270080" cy="1187280"/>
              <a:chOff x="6157800" y="3392640"/>
              <a:chExt cx="1270080" cy="1187280"/>
            </a:xfrm>
          </p:grpSpPr>
          <p:sp>
            <p:nvSpPr>
              <p:cNvPr id="104" name=""/>
              <p:cNvSpPr/>
              <p:nvPr/>
            </p:nvSpPr>
            <p:spPr>
              <a:xfrm>
                <a:off x="6157800" y="3392640"/>
                <a:ext cx="127008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157800" y="3986280"/>
                <a:ext cx="1270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793200" y="342216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32360" y="3392640"/>
              <a:ext cx="1271520" cy="1188720"/>
              <a:chOff x="4932360" y="3392640"/>
              <a:chExt cx="1271520" cy="11887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3236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93236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6848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660840" y="3392640"/>
              <a:ext cx="1271520" cy="1188720"/>
              <a:chOff x="3660840" y="3392640"/>
              <a:chExt cx="1271520" cy="1188720"/>
            </a:xfrm>
          </p:grpSpPr>
          <p:sp>
            <p:nvSpPr>
              <p:cNvPr id="112" name=""/>
              <p:cNvSpPr/>
              <p:nvPr/>
            </p:nvSpPr>
            <p:spPr>
              <a:xfrm>
                <a:off x="366084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66084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9696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387160" y="3392640"/>
              <a:ext cx="1273680" cy="1188720"/>
              <a:chOff x="2387160" y="3392640"/>
              <a:chExt cx="1273680" cy="1188720"/>
            </a:xfrm>
          </p:grpSpPr>
          <p:sp>
            <p:nvSpPr>
              <p:cNvPr id="116" name=""/>
              <p:cNvSpPr/>
              <p:nvPr/>
            </p:nvSpPr>
            <p:spPr>
              <a:xfrm>
                <a:off x="2387520" y="3392640"/>
                <a:ext cx="12733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387160" y="398700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2436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116000" y="3392640"/>
              <a:ext cx="1271520" cy="1188720"/>
              <a:chOff x="1116000" y="3392640"/>
              <a:chExt cx="1271520" cy="1188720"/>
            </a:xfrm>
          </p:grpSpPr>
          <p:sp>
            <p:nvSpPr>
              <p:cNvPr id="120" name=""/>
              <p:cNvSpPr/>
              <p:nvPr/>
            </p:nvSpPr>
            <p:spPr>
              <a:xfrm>
                <a:off x="111600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11600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5212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189080" y="3319560"/>
              <a:ext cx="741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井乡面忘想念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557360"/>
            <a:ext cx="6696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有一群乡亲，有人给他们挖了一口井，我们看看他们是怎么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64360" y="2349360"/>
            <a:ext cx="1079640" cy="1079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65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079640" cy="1079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65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9080" y="2349360"/>
            <a:ext cx="1079640" cy="1079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65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0720" y="2349360"/>
            <a:ext cx="1079640" cy="1079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65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349360"/>
            <a:ext cx="1079280" cy="1079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65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47640" y="62064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交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73800" y="23828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2520" y="2401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01160" y="23893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69880" y="24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74520" y="23702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5229360"/>
            <a:ext cx="1079640" cy="1079280"/>
          </a:xfrm>
          <a:prstGeom prst="ellipse">
            <a:avLst/>
          </a:prstGeom>
          <a:solidFill>
            <a:srgbClr val="06521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5229360"/>
            <a:ext cx="1079280" cy="1079280"/>
          </a:xfrm>
          <a:prstGeom prst="ellipse">
            <a:avLst/>
          </a:prstGeom>
          <a:solidFill>
            <a:srgbClr val="06521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5229360"/>
            <a:ext cx="1511280" cy="1079280"/>
          </a:xfrm>
          <a:prstGeom prst="ellipse">
            <a:avLst/>
          </a:prstGeom>
          <a:solidFill>
            <a:srgbClr val="06521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5229360"/>
            <a:ext cx="1439640" cy="1079280"/>
          </a:xfrm>
          <a:prstGeom prst="ellipse">
            <a:avLst/>
          </a:prstGeom>
          <a:solidFill>
            <a:srgbClr val="06521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5229360"/>
            <a:ext cx="1366920" cy="1079280"/>
          </a:xfrm>
          <a:prstGeom prst="ellipse">
            <a:avLst/>
          </a:prstGeom>
          <a:solidFill>
            <a:srgbClr val="06521e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3160" y="5300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54880" y="5300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4400" y="53420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8520" y="530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68760" y="530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音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3429000"/>
            <a:ext cx="5112000" cy="1800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932360" y="3500280"/>
            <a:ext cx="2735280" cy="1657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419280" y="3500280"/>
            <a:ext cx="2881080" cy="17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268360" y="3500280"/>
            <a:ext cx="2735280" cy="17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3429000"/>
            <a:ext cx="2519280" cy="1728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>
            <a:hlinkClick r:id="rId2"/>
          </p:cNvPr>
          <p:cNvPicPr/>
          <p:nvPr/>
        </p:nvPicPr>
        <p:blipFill>
          <a:blip r:embed="rId3"/>
          <a:srcRect l="0" t="0" r="0" b="11283"/>
          <a:stretch/>
        </p:blipFill>
        <p:spPr>
          <a:xfrm>
            <a:off x="2771640" y="1268280"/>
            <a:ext cx="3900600" cy="374508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bbe0e3"/>
            </a:outerShdw>
          </a:effectLst>
        </p:spPr>
      </p:pic>
      <p:sp>
        <p:nvSpPr>
          <p:cNvPr id="152" name=""/>
          <p:cNvSpPr/>
          <p:nvPr/>
        </p:nvSpPr>
        <p:spPr>
          <a:xfrm>
            <a:off x="3821040" y="5589720"/>
            <a:ext cx="200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歌曲欣赏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（点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276640"/>
            <a:ext cx="7632720" cy="19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吃水不忘挖井人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43720" y="981000"/>
            <a:ext cx="347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看了题目你们有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51960" y="1989000"/>
            <a:ext cx="77328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、是谁吃水不忘挖井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、挖井人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、为什么要挖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1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62400" y="7650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会读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59120" y="1629720"/>
            <a:ext cx="8373600" cy="298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w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g  w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ā  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 j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ǐ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g    xí     d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ǎ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o    g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忘   挖   井   席   导   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mìng zh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  shì     ji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ě    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 kè    ni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</a:rPr>
              <a:t>à</a:t>
            </a:r>
            <a:r>
              <a:rPr b="0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命   战   士   解   刻   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276640"/>
            <a:ext cx="322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是谁吃水不忘挖井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82400" y="350028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沙洲坝的人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2400" y="456732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挖井人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920" y="566100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毛主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80200" y="76500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读第一段回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84360" y="549360"/>
            <a:ext cx="41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毛泽东生平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268280"/>
            <a:ext cx="7343640" cy="165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毛泽东，湖南湘潭人。生于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1893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日，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1976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9  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日去世。他一生为中国人民的解放，为祖国的繁荣富强而奋斗，他是中国人民深深热爱的伟大领袖，中国人民将永远怀念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>
            <a:lum bright="12000"/>
          </a:blip>
          <a:srcRect l="2128" t="1559" r="3277" b="10054"/>
          <a:stretch/>
        </p:blipFill>
        <p:spPr>
          <a:xfrm>
            <a:off x="1619280" y="907920"/>
            <a:ext cx="4667400" cy="595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16200" y="504360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毛主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645240" y="44280"/>
            <a:ext cx="188748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水不忘挖井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4851360" cy="587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87840" y="501336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毛主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USER</cp:lastModifiedBy>
  <dcterms:modified xsi:type="dcterms:W3CDTF">2011-05-16T00:36:18Z</dcterms:modified>
  <cp:revision>61</cp:revision>
  <dc:subject/>
  <dc:title>幻灯片 1</dc:title>
</cp:coreProperties>
</file>