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chimes.wav" ContentType="audio/x-wav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9F6-5742-41F4-AB1A-EAD924BA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9A0-552B-4603-8D26-492DFEC2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F13-D8FF-4F4C-91FB-3EB3DFE3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C80-4874-477C-93AE-CB9E2726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B32-554A-48FF-86D2-D8AAA749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CAB-B6E0-4E4F-B31C-70194007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A7A-B1CF-419B-BE08-9B6A0D4E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639-3E85-4B0D-9D9E-F1E7F0A0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F8E-3688-4342-815D-747686C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D9A-7FEF-4274-9CE9-5D158881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475-FA83-4699-BDDD-7F48C64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A77-5010-4F44-9713-C9513AB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09D3-4039-4C49-8125-AA048BD687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&#27468;&#21809;&#20108;&#23567;&#25918;&#29275;&#37070;.swf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981000"/>
            <a:ext cx="7632720" cy="69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早在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1936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年，日本帝国主义侵略我国，干尽了坏事。毛主席领导的八路军和日本侵略者进行英勇的斗争。广大人民群众也主动地组织起来，帮助八路军消灭日本侵略者。敌战区的孩子们也组织起来帮助八路军消灭敌人。经过八年的抗日战争，中国人民终于把日本侵略者赶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>
            <a:lum contrast="30000"/>
          </a:blip>
          <a:srcRect l="0" t="13714" r="2028" b="86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77080" y="1844640"/>
            <a:ext cx="1440000" cy="23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扫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迷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0"/>
            <a:ext cx="1689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11440" y="2911320"/>
            <a:ext cx="264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王二小是怎么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-603360"/>
            <a:ext cx="9144000" cy="7461000"/>
            <a:chOff x="0" y="-603360"/>
            <a:chExt cx="9144000" cy="7461000"/>
          </a:xfrm>
        </p:grpSpPr>
        <p:pic>
          <p:nvPicPr>
            <p:cNvPr id="71" name="" descr=""/>
            <p:cNvPicPr/>
            <p:nvPr/>
          </p:nvPicPr>
          <p:blipFill>
            <a:blip r:embed="rId2"/>
            <a:srcRect l="6509" t="0" r="13524" b="10140"/>
            <a:stretch/>
          </p:blipFill>
          <p:spPr>
            <a:xfrm>
              <a:off x="0" y="538200"/>
              <a:ext cx="9144000" cy="63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-603360"/>
              <a:ext cx="9144000" cy="116568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236000" y="1773360"/>
            <a:ext cx="1584000" cy="22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装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顺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埋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64840" y="1628640"/>
            <a:ext cx="18572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结果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3141720"/>
            <a:ext cx="46083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杀害     消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19880" y="2852640"/>
            <a:ext cx="374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说说王二小是个什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1341360"/>
            <a:ext cx="199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讨   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1700280"/>
            <a:ext cx="6985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今天我们认识了小英雄王二小。在抗日战争时期，因为有许许多多像王二小这样的小英雄，才有今天的幸福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09400" y="981000"/>
            <a:ext cx="1055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总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72880" y="126828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9520" y="1989000"/>
            <a:ext cx="37468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王二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敌人带进了埋伏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敌人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王二小带进了埋伏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72880" y="98100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Times New Roman"/>
              </a:rPr>
              <a:t>我能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77920" y="20700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放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06720" y="206064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3840" y="206064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敌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0200" y="206064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扫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77920" y="32796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通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4880" y="32796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突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7520" y="32796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开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6320" y="32796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杀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6080" y="44226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英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59560" y="44226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部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4880" y="44226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冲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32640" y="44226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回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83520" y="998640"/>
            <a:ext cx="1690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连一连，读一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21200" y="1916280"/>
            <a:ext cx="1003680" cy="289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王二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春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小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71960" y="1928880"/>
            <a:ext cx="403200" cy="289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常常下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常常帮助小同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常常帮助八路军放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74760" y="3584160"/>
            <a:ext cx="158292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76560" y="2720520"/>
            <a:ext cx="151128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8200" y="2720880"/>
            <a:ext cx="115272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99840" y="907920"/>
            <a:ext cx="1826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会写的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2565360"/>
            <a:ext cx="7583400" cy="1296720"/>
            <a:chOff x="539640" y="2565360"/>
            <a:chExt cx="7583400" cy="1296720"/>
          </a:xfrm>
        </p:grpSpPr>
        <p:grpSp>
          <p:nvGrpSpPr>
            <p:cNvPr id="110" name=""/>
            <p:cNvGrpSpPr/>
            <p:nvPr/>
          </p:nvGrpSpPr>
          <p:grpSpPr>
            <a:xfrm>
              <a:off x="6851520" y="2673360"/>
              <a:ext cx="1271520" cy="1187280"/>
              <a:chOff x="6851520" y="2673360"/>
              <a:chExt cx="1271520" cy="1187280"/>
            </a:xfrm>
          </p:grpSpPr>
          <p:sp>
            <p:nvSpPr>
              <p:cNvPr id="111" name=""/>
              <p:cNvSpPr/>
              <p:nvPr/>
            </p:nvSpPr>
            <p:spPr>
              <a:xfrm>
                <a:off x="6851520" y="2673360"/>
                <a:ext cx="127152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851520" y="3267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87640" y="270288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581440" y="2673360"/>
              <a:ext cx="1270080" cy="1187280"/>
              <a:chOff x="5581440" y="2673360"/>
              <a:chExt cx="1270080" cy="1187280"/>
            </a:xfrm>
          </p:grpSpPr>
          <p:sp>
            <p:nvSpPr>
              <p:cNvPr id="115" name=""/>
              <p:cNvSpPr/>
              <p:nvPr/>
            </p:nvSpPr>
            <p:spPr>
              <a:xfrm>
                <a:off x="5581440" y="2673360"/>
                <a:ext cx="127008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5581440" y="3267000"/>
                <a:ext cx="1270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16840" y="270288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356000" y="2673360"/>
              <a:ext cx="1271520" cy="1188720"/>
              <a:chOff x="4356000" y="2673360"/>
              <a:chExt cx="1271520" cy="1188720"/>
            </a:xfrm>
          </p:grpSpPr>
          <p:sp>
            <p:nvSpPr>
              <p:cNvPr id="119" name=""/>
              <p:cNvSpPr/>
              <p:nvPr/>
            </p:nvSpPr>
            <p:spPr>
              <a:xfrm>
                <a:off x="4356000" y="267336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4356000" y="326772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92120" y="270288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084480" y="2673360"/>
              <a:ext cx="1271520" cy="1188720"/>
              <a:chOff x="3084480" y="2673360"/>
              <a:chExt cx="1271520" cy="1188720"/>
            </a:xfrm>
          </p:grpSpPr>
          <p:sp>
            <p:nvSpPr>
              <p:cNvPr id="123" name=""/>
              <p:cNvSpPr/>
              <p:nvPr/>
            </p:nvSpPr>
            <p:spPr>
              <a:xfrm>
                <a:off x="3084480" y="267336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3084480" y="326772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20600" y="270288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810800" y="2673360"/>
              <a:ext cx="1273680" cy="1188720"/>
              <a:chOff x="1810800" y="2673360"/>
              <a:chExt cx="1273680" cy="1188720"/>
            </a:xfrm>
          </p:grpSpPr>
          <p:sp>
            <p:nvSpPr>
              <p:cNvPr id="127" name=""/>
              <p:cNvSpPr/>
              <p:nvPr/>
            </p:nvSpPr>
            <p:spPr>
              <a:xfrm>
                <a:off x="1811160" y="2673360"/>
                <a:ext cx="12733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810800" y="3267720"/>
                <a:ext cx="1273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48000" y="270288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39640" y="2673360"/>
              <a:ext cx="1271520" cy="1188720"/>
              <a:chOff x="539640" y="2673360"/>
              <a:chExt cx="1271520" cy="1188720"/>
            </a:xfrm>
          </p:grpSpPr>
          <p:sp>
            <p:nvSpPr>
              <p:cNvPr id="131" name=""/>
              <p:cNvSpPr/>
              <p:nvPr/>
            </p:nvSpPr>
            <p:spPr>
              <a:xfrm>
                <a:off x="539640" y="267336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539640" y="326772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175760" y="270288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612720" y="2565360"/>
              <a:ext cx="741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王从边这进道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916280"/>
            <a:ext cx="7632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今天我们要学习的课文，讲的就是抗日战争时期的一个小英雄，他就是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75120" y="83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歌曲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8120" y="4869000"/>
            <a:ext cx="335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歌唱二小放牛郎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》动画歌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rcRect l="40715" t="16352" r="31692" b="53689"/>
          <a:stretch/>
        </p:blipFill>
        <p:spPr>
          <a:xfrm>
            <a:off x="2771640" y="1557360"/>
            <a:ext cx="3168720" cy="3095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139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32000" y="1125360"/>
            <a:ext cx="3170520" cy="44643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bbe0e3"/>
            </a:outerShdw>
          </a:effectLst>
        </p:spPr>
      </p:pic>
      <p:sp>
        <p:nvSpPr>
          <p:cNvPr id="46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63640" y="2349360"/>
            <a:ext cx="5040360" cy="197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王二小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64000" y="333360"/>
            <a:ext cx="2087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王</a:t>
            </a:r>
            <a:r>
              <a:rPr b="1" lang="zh-CN" sz="4400" spc="-1" strike="noStrike">
                <a:solidFill>
                  <a:srgbClr val="06521e"/>
                </a:solidFill>
                <a:latin typeface="Arial"/>
                <a:ea typeface="楷体_GB2312"/>
              </a:rPr>
              <a:t>二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158840"/>
            <a:ext cx="7345440" cy="243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　　王二小是儿童团员。他常常一边放牛，一边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助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八路军放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哨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　　有一天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敌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人来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荡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，走到山口迷了路。敌人看见王二小在山坡上放牛，就叫他带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　　王二小装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顺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从的样子走在前面，把敌人带进了八路军的埋伏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突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然，四面八方响起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枪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声。敌人知道上了当，就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杀害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了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英雄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王二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　　正在这时候，八路军从山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冲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下来，消灭了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部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敌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599400" y="1845360"/>
            <a:ext cx="9836640" cy="298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w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á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ng zhù   sh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à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o   dí    d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à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ng shùn    t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王   助   哨   敌   荡   顺   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qi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ā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ng sh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ā   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 h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à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i  y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ī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ng xióng ch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ō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ng b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枪   杀   害   英   雄   冲   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83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会认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7400" y="105264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图讲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93120" y="2205000"/>
            <a:ext cx="264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王二小是个什么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70840" y="33577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儿童团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46720" y="4437000"/>
            <a:ext cx="347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看图说说他常常做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>
            <a:lum contrast="36000"/>
          </a:blip>
          <a:srcRect l="0" t="6197" r="4415" b="13959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1600" y="476280"/>
            <a:ext cx="506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边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边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92360" y="2205000"/>
            <a:ext cx="5472000" cy="152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在故事发生的这天，他遇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102520" y="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二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USER</cp:lastModifiedBy>
  <dcterms:modified xsi:type="dcterms:W3CDTF">2011-05-19T01:49:35Z</dcterms:modified>
  <cp:revision>64</cp:revision>
  <dc:subject/>
  <dc:title>幻灯片 1</dc:title>
</cp:coreProperties>
</file>