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4DA-318C-4CF3-B1F7-7936D8DC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0CB-A647-44BA-9E34-2AE45FA9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B59-3B9C-4FF0-8A52-59B5B4A0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438-9A56-4A37-9E59-0D024351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E7A-0B30-453D-B40C-AF613E40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58AD-1E3B-4F8F-8B90-2E928398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6F4-B582-4F49-8806-E99AF012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755-7905-42C3-A23D-7E426CAC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83E-DCB3-4E8F-96D1-15D7DEAC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D55-03C3-4DFD-B5BC-0097E675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7B1-EAD0-4C01-9FD5-0A190E00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6DA-0D99-47DD-A763-E35C224E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C455-AFB3-4518-A4DC-0945051701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51280" y="3016080"/>
            <a:ext cx="3228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你们今天觉得快乐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41600" y="4311720"/>
            <a:ext cx="2009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说说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>
            <a:lum contrast="18000"/>
          </a:blip>
          <a:srcRect l="7316" t="0" r="2061" b="3228"/>
          <a:stretch/>
        </p:blipFill>
        <p:spPr>
          <a:xfrm>
            <a:off x="0" y="514440"/>
            <a:ext cx="9144000" cy="6343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364000" y="5589720"/>
            <a:ext cx="944640" cy="944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38160" y="633888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水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5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913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21320" y="771480"/>
            <a:ext cx="41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读三、四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69680" y="2408400"/>
            <a:ext cx="3960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说一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你的希望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你的理想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335480" y="7650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句式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02520" y="3860640"/>
            <a:ext cx="6423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们像</a:t>
            </a:r>
            <a:r>
              <a:rPr b="1" lang="zh-CN" sz="40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一样</a:t>
            </a:r>
            <a:r>
              <a:rPr b="1" lang="zh-CN" sz="40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2852640"/>
            <a:ext cx="76676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们像</a:t>
            </a:r>
            <a:r>
              <a:rPr b="1" lang="zh-CN" sz="40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 小鸟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一样</a:t>
            </a:r>
            <a:r>
              <a:rPr b="1" lang="zh-CN" sz="40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自由的成长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2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336920" y="855720"/>
            <a:ext cx="119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读一读，连一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20160" y="2774880"/>
            <a:ext cx="109512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鲜艳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快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丰满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76360" y="2776680"/>
            <a:ext cx="109512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羽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红领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时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3500280"/>
            <a:ext cx="151128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40360" y="3428640"/>
            <a:ext cx="143964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4365720"/>
            <a:ext cx="151272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336920" y="855720"/>
            <a:ext cx="119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读一读，连一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64880" y="2774880"/>
            <a:ext cx="109512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自由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欢快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勇敢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18280" y="2786040"/>
            <a:ext cx="79020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飞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成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流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356000" y="3428640"/>
            <a:ext cx="1728720" cy="18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3500280"/>
            <a:ext cx="1728720" cy="86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4365720"/>
            <a:ext cx="172728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262400" y="58752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读读说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280" y="2533680"/>
            <a:ext cx="3329280" cy="375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祝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祝愿　祝贺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国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国王　国家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理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道理　合理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度过　欢度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131000" y="76500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</a:rPr>
              <a:t>会写的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16000" y="3357720"/>
            <a:ext cx="7583400" cy="1223640"/>
            <a:chOff x="1116000" y="3357720"/>
            <a:chExt cx="7583400" cy="1223640"/>
          </a:xfrm>
        </p:grpSpPr>
        <p:grpSp>
          <p:nvGrpSpPr>
            <p:cNvPr id="100" name=""/>
            <p:cNvGrpSpPr/>
            <p:nvPr/>
          </p:nvGrpSpPr>
          <p:grpSpPr>
            <a:xfrm>
              <a:off x="7427880" y="3392640"/>
              <a:ext cx="1271520" cy="1187280"/>
              <a:chOff x="7427880" y="3392640"/>
              <a:chExt cx="1271520" cy="1187280"/>
            </a:xfrm>
          </p:grpSpPr>
          <p:sp>
            <p:nvSpPr>
              <p:cNvPr id="101" name=""/>
              <p:cNvSpPr/>
              <p:nvPr/>
            </p:nvSpPr>
            <p:spPr>
              <a:xfrm>
                <a:off x="7427880" y="3392640"/>
                <a:ext cx="127152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7427880" y="398628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064000" y="342216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157800" y="3392640"/>
              <a:ext cx="1270080" cy="1187280"/>
              <a:chOff x="6157800" y="3392640"/>
              <a:chExt cx="1270080" cy="1187280"/>
            </a:xfrm>
          </p:grpSpPr>
          <p:sp>
            <p:nvSpPr>
              <p:cNvPr id="105" name=""/>
              <p:cNvSpPr/>
              <p:nvPr/>
            </p:nvSpPr>
            <p:spPr>
              <a:xfrm>
                <a:off x="6157800" y="3392640"/>
                <a:ext cx="127008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6157800" y="3986280"/>
                <a:ext cx="1270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793200" y="342216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4932360" y="3392640"/>
              <a:ext cx="1271520" cy="1188720"/>
              <a:chOff x="4932360" y="3392640"/>
              <a:chExt cx="1271520" cy="1188720"/>
            </a:xfrm>
          </p:grpSpPr>
          <p:sp>
            <p:nvSpPr>
              <p:cNvPr id="109" name=""/>
              <p:cNvSpPr/>
              <p:nvPr/>
            </p:nvSpPr>
            <p:spPr>
              <a:xfrm>
                <a:off x="4932360" y="339264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4932360" y="3987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6848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3660840" y="3392640"/>
              <a:ext cx="1271520" cy="1188720"/>
              <a:chOff x="3660840" y="3392640"/>
              <a:chExt cx="1271520" cy="1188720"/>
            </a:xfrm>
          </p:grpSpPr>
          <p:sp>
            <p:nvSpPr>
              <p:cNvPr id="113" name=""/>
              <p:cNvSpPr/>
              <p:nvPr/>
            </p:nvSpPr>
            <p:spPr>
              <a:xfrm>
                <a:off x="3660840" y="339264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660840" y="3987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29696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387160" y="3392640"/>
              <a:ext cx="1273680" cy="1188720"/>
              <a:chOff x="2387160" y="3392640"/>
              <a:chExt cx="1273680" cy="1188720"/>
            </a:xfrm>
          </p:grpSpPr>
          <p:sp>
            <p:nvSpPr>
              <p:cNvPr id="117" name=""/>
              <p:cNvSpPr/>
              <p:nvPr/>
            </p:nvSpPr>
            <p:spPr>
              <a:xfrm>
                <a:off x="2387520" y="3392640"/>
                <a:ext cx="12733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2387160" y="3987000"/>
                <a:ext cx="12733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2436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116000" y="3392640"/>
              <a:ext cx="1271520" cy="1188720"/>
              <a:chOff x="1116000" y="3392640"/>
              <a:chExt cx="1271520" cy="1188720"/>
            </a:xfrm>
          </p:grpSpPr>
          <p:sp>
            <p:nvSpPr>
              <p:cNvPr id="121" name=""/>
              <p:cNvSpPr/>
              <p:nvPr/>
            </p:nvSpPr>
            <p:spPr>
              <a:xfrm>
                <a:off x="1116000" y="339264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1116000" y="3987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52120" y="342216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189080" y="3357720"/>
              <a:ext cx="741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吹地快乐老师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32000" y="2119320"/>
            <a:ext cx="712764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们每天都那么开心，那么幸福，每天都像在过着快乐节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0360" y="41497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10440" y="5464080"/>
            <a:ext cx="61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宋体"/>
              </a:rPr>
              <a:t>歌曲《快乐的节日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6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100"/>
                            </p:stCondLst>
                            <p:childTnLst>
                              <p:par>
                                <p:cTn id="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9696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00" y="2276640"/>
            <a:ext cx="7632720" cy="197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快乐的节日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91560" y="69228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会读的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89960" y="2708280"/>
            <a:ext cx="7020000" cy="270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chu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</a:rPr>
              <a:t>ī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 zhù  hè    x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</a:rPr>
              <a:t>ī   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 z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</a:rPr>
              <a:t>ǔ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   guó yó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吹  祝  贺  希  祖  国  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y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</a:rPr>
              <a:t>ǔ 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 f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</a:rPr>
              <a:t>ē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ng y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</a:rPr>
              <a:t>ǒ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ng g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</a:rPr>
              <a:t>ǎ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n   l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</a:rPr>
              <a:t>ǐ</a:t>
            </a:r>
            <a:r>
              <a:rPr b="0" lang="zh-CN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   jìng    d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羽  丰  勇  敢  理  敬  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4120" y="2708280"/>
            <a:ext cx="5301360" cy="257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652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祝贺  希望  祖国  羽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丰满  勇敢  敬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7920" y="128736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06080" y="135900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读一、二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05280" y="3146400"/>
            <a:ext cx="84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、我们象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53360" y="4311720"/>
            <a:ext cx="1073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、花儿、小溪向我们祝福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700"/>
                            </p:stCondLst>
                            <p:childTnLst>
                              <p:par>
                                <p:cTn id="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36720" y="981000"/>
            <a:ext cx="4572000" cy="535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小鸟在前面带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风儿吹着我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们像春天一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来到花园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来到草地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鲜艳的红领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美丽的衣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像朵朵花儿开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>
            <a:lum contrast="18000"/>
          </a:blip>
          <a:srcRect l="4940" t="0" r="5306" b="3273"/>
          <a:stretch/>
        </p:blipFill>
        <p:spPr>
          <a:xfrm>
            <a:off x="0" y="453960"/>
            <a:ext cx="9144000" cy="6404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146560" y="620640"/>
            <a:ext cx="865440" cy="86544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ffffff"/>
            </a:outerShdw>
          </a:effectLst>
        </p:spPr>
      </p:pic>
      <p:sp>
        <p:nvSpPr>
          <p:cNvPr id="65" name=""/>
          <p:cNvSpPr/>
          <p:nvPr/>
        </p:nvSpPr>
        <p:spPr>
          <a:xfrm>
            <a:off x="5003640" y="134136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鸟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5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080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71640" y="1052640"/>
            <a:ext cx="4572000" cy="535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花儿向我们点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小溪欢快地流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它们向我们祝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为我们歌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它们好象在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个世界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有我们就更加美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有我们就有希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96840" y="44280"/>
            <a:ext cx="14000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快乐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微软用户</cp:lastModifiedBy>
  <dcterms:modified xsi:type="dcterms:W3CDTF">2010-04-12T04:04:02Z</dcterms:modified>
  <cp:revision>62</cp:revision>
  <dc:subject/>
  <dc:title>幻灯片 1</dc:title>
</cp:coreProperties>
</file>