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png" ContentType="image/png"/>
  <Override PartName="/ppt/media/image4.gif" ContentType="image/gif"/>
  <Override PartName="/ppt/media/chimes.wav" ContentType="audio/x-wav"/>
  <Override PartName="/ppt/media/image6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8.gif" ContentType="image/gif"/>
  <Override PartName="/ppt/media/image9.jpeg" ContentType="image/jpeg"/>
  <Override PartName="/ppt/media/hamm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AC9-6539-44D8-9595-FE6C2594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E77-3599-4BDC-9D92-57906E1A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09A-B0AB-4AE0-A4D8-69913098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FC4-41E6-4580-AAFD-8CDD4F2A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B68-CFDB-4EA9-94DA-A8B524A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A7E-7E32-4DF8-B1EE-21485A89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D51-E4B3-4B4D-B322-8E11DBCD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238-2F45-456D-A11B-D878D4CE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CF9-AAB5-49B3-9F8F-2DF09F7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593-BC19-422A-B615-587394BD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14F-1486-4C96-9A52-F6993405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668-7A05-4681-A2E4-E2B51011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1DDB-E000-44D7-BDF2-3E7A4CDD60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gif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68360" y="1125360"/>
            <a:ext cx="4537080" cy="1224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隶书"/>
              </a:rPr>
              <a:t>语文园地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826920" y="1916280"/>
            <a:ext cx="122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厂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92360" y="3860640"/>
            <a:ext cx="936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句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1640" y="3645000"/>
            <a:ext cx="936360" cy="15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申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4000" y="1773360"/>
            <a:ext cx="9367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甲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651640" y="4005360"/>
            <a:ext cx="122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兄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19280" y="333360"/>
            <a:ext cx="2160720" cy="71928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539640" y="141300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团结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00360" y="1341360"/>
            <a:ext cx="136836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尊重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788000" y="141300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停止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77080" y="1341360"/>
            <a:ext cx="136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议论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78136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英雄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771640" y="2708280"/>
            <a:ext cx="136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理想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88000" y="2708280"/>
            <a:ext cx="136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办法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88000" y="2637000"/>
            <a:ext cx="1368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街道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9640" y="450864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勇敢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00360" y="4437000"/>
            <a:ext cx="136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感动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716360" y="450864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慌张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59640" y="4508640"/>
            <a:ext cx="136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顺心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19280" y="333360"/>
            <a:ext cx="2160720" cy="71928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684360" y="765000"/>
            <a:ext cx="86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主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24000" y="76500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组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360" y="2421000"/>
            <a:ext cx="86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宋体"/>
              </a:rPr>
              <a:t>zǔ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宋体"/>
              <a:ea typeface="华文宋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95640" y="2421000"/>
            <a:ext cx="718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宋体"/>
              </a:rPr>
              <a:t>zhǔ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宋体"/>
              <a:ea typeface="华文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1557360"/>
            <a:ext cx="1224000" cy="863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187280" y="1628640"/>
            <a:ext cx="1224000" cy="720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378936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总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68360" y="386064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种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1280" y="5661000"/>
            <a:ext cx="100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zhǒng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411280" y="5589720"/>
            <a:ext cx="863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zǒng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780000" y="620640"/>
            <a:ext cx="86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尝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508720" y="76500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08360" y="2492280"/>
            <a:ext cx="107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cháng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508720" y="249228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cáng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4797360"/>
            <a:ext cx="1224000" cy="863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258560" y="4797360"/>
            <a:ext cx="1297080" cy="7923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1484280"/>
            <a:ext cx="0" cy="936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1484280"/>
            <a:ext cx="0" cy="936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3280" y="4653000"/>
            <a:ext cx="2160720" cy="7192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我会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11280" y="1125360"/>
            <a:ext cx="496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[xīng]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安岭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lǐng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雪花还在飞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长江两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柳枝已经发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海南岛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dǎo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到处盛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shèng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开着鲜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的祖国多么广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916360" y="549360"/>
            <a:ext cx="287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祖国多么广大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2" name=""/>
          <p:cNvSpPr txBox="1"/>
          <p:nvPr/>
        </p:nvSpPr>
        <p:spPr>
          <a:xfrm rot="5400000">
            <a:off x="-792000" y="2889000"/>
            <a:ext cx="453564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读背背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692360" y="620640"/>
            <a:ext cx="6840360" cy="1008000"/>
            <a:chOff x="1692360" y="620640"/>
            <a:chExt cx="6840360" cy="1008000"/>
          </a:xfrm>
        </p:grpSpPr>
        <p:sp>
          <p:nvSpPr>
            <p:cNvPr id="44" name=""/>
            <p:cNvSpPr/>
            <p:nvPr/>
          </p:nvSpPr>
          <p:spPr>
            <a:xfrm>
              <a:off x="1692360" y="620640"/>
              <a:ext cx="6840360" cy="100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1763640" y="765000"/>
              <a:ext cx="6553440" cy="7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楷体"/>
                </a:rPr>
                <a:t>鸟—乌  令—今  广—厂</a:t>
              </a:r>
              <a:endPara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楷体"/>
                <a:ea typeface="华文楷体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1332000" cy="133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5400000">
            <a:off x="-1710360" y="2763000"/>
            <a:ext cx="4752720" cy="13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的发现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1844640"/>
            <a:ext cx="6624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乌  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1916280"/>
            <a:ext cx="2808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今  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0720" y="1916280"/>
            <a:ext cx="3240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厂  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17002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64360" y="836640"/>
            <a:ext cx="1081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2637000"/>
            <a:ext cx="1081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16000" y="404640"/>
            <a:ext cx="3743280" cy="1368720"/>
          </a:xfrm>
          <a:prstGeom prst="cloudCallout">
            <a:avLst>
              <a:gd name="adj1" fmla="val -48560"/>
              <a:gd name="adj2" fmla="val 7679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华文隶书"/>
              </a:rPr>
              <a:t>减一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530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692360" y="620640"/>
            <a:ext cx="6840360" cy="1008000"/>
            <a:chOff x="1692360" y="620640"/>
            <a:chExt cx="6840360" cy="1008000"/>
          </a:xfrm>
        </p:grpSpPr>
        <p:sp>
          <p:nvSpPr>
            <p:cNvPr id="58" name=""/>
            <p:cNvSpPr/>
            <p:nvPr/>
          </p:nvSpPr>
          <p:spPr>
            <a:xfrm>
              <a:off x="1692360" y="620640"/>
              <a:ext cx="6840360" cy="100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1763640" y="765000"/>
              <a:ext cx="6553440" cy="7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楷体"/>
                </a:rPr>
                <a:t>鸟—乌  令—今  广—厂</a:t>
              </a:r>
              <a:endPara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楷体"/>
                <a:ea typeface="华文楷体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2060640"/>
            <a:ext cx="7631280" cy="2087280"/>
            <a:chOff x="1187280" y="2060640"/>
            <a:chExt cx="7631280" cy="2087280"/>
          </a:xfrm>
        </p:grpSpPr>
        <p:sp>
          <p:nvSpPr>
            <p:cNvPr id="61" name=""/>
            <p:cNvSpPr/>
            <p:nvPr/>
          </p:nvSpPr>
          <p:spPr>
            <a:xfrm>
              <a:off x="1187280" y="2060640"/>
              <a:ext cx="7631280" cy="2087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1619280" y="2205000"/>
              <a:ext cx="7057800" cy="64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楷体"/>
                </a:rPr>
                <a:t>日—白   田   目  电   旦  旧  由</a:t>
              </a:r>
              <a:endPara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楷体"/>
                <a:ea typeface="华文楷体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1690560" y="3357360"/>
              <a:ext cx="6480360" cy="7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楷体"/>
                </a:rPr>
                <a:t>甲（甲鱼）     申（申请）</a:t>
              </a:r>
              <a:endPara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楷体"/>
                <a:ea typeface="华文楷体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1332000" cy="133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5400000">
            <a:off x="-1710360" y="2763000"/>
            <a:ext cx="4752720" cy="13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的发现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826920" y="1125360"/>
            <a:ext cx="1079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33336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楷体_GB2312"/>
              </a:rPr>
              <a:t>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0" y="5084640"/>
            <a:ext cx="1079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486900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00360" y="620640"/>
            <a:ext cx="9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0"/>
            <a:ext cx="1297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ff"/>
                </a:solidFill>
                <a:latin typeface="华文隶书"/>
                <a:ea typeface="华文隶书"/>
              </a:rPr>
              <a:t>-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0" y="1125360"/>
            <a:ext cx="9367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260280"/>
            <a:ext cx="16556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ff00ff"/>
                </a:solidFill>
                <a:latin typeface="Arial"/>
                <a:ea typeface="华文楷体"/>
              </a:rPr>
              <a:t>乚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835280" y="2924280"/>
            <a:ext cx="79200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2924280"/>
            <a:ext cx="1656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00ff"/>
                </a:solidFill>
                <a:latin typeface="Arial"/>
                <a:ea typeface="华文楷体"/>
              </a:rPr>
              <a:t>一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95640" y="3357720"/>
            <a:ext cx="79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2852640"/>
            <a:ext cx="1513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ff"/>
                </a:solidFill>
                <a:latin typeface="宋体"/>
              </a:rPr>
              <a:t>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24360" y="3284640"/>
            <a:ext cx="1079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421000"/>
            <a:ext cx="2016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59280" y="5084640"/>
            <a:ext cx="107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4602240"/>
            <a:ext cx="2016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27640" y="4869000"/>
            <a:ext cx="1081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4" name=""/>
          <p:cNvSpPr/>
          <p:nvPr/>
        </p:nvSpPr>
        <p:spPr>
          <a:xfrm>
            <a:off x="5508720" y="3886200"/>
            <a:ext cx="2016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7640" y="404640"/>
            <a:ext cx="2916360" cy="1224000"/>
          </a:xfrm>
          <a:prstGeom prst="cloudCallout">
            <a:avLst>
              <a:gd name="adj1" fmla="val -62518"/>
              <a:gd name="adj2" fmla="val 8385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隶书"/>
              </a:rPr>
              <a:t>加一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380360" y="530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92360" y="1844640"/>
            <a:ext cx="144144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1916280"/>
            <a:ext cx="295308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ff00ff"/>
                </a:solidFill>
                <a:latin typeface="Arial"/>
                <a:ea typeface="华文楷体"/>
              </a:rPr>
              <a:t>一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51640" y="1557360"/>
            <a:ext cx="1584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1" name=""/>
          <p:cNvSpPr/>
          <p:nvPr/>
        </p:nvSpPr>
        <p:spPr>
          <a:xfrm>
            <a:off x="3851280" y="765000"/>
            <a:ext cx="34560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80360" y="530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763640" y="476280"/>
            <a:ext cx="2160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4" name=""/>
          <p:cNvSpPr/>
          <p:nvPr/>
        </p:nvSpPr>
        <p:spPr>
          <a:xfrm>
            <a:off x="-252360" y="0"/>
            <a:ext cx="2016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050920" y="4410000"/>
            <a:ext cx="2232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6" name=""/>
          <p:cNvSpPr/>
          <p:nvPr/>
        </p:nvSpPr>
        <p:spPr>
          <a:xfrm>
            <a:off x="-396720" y="2544840"/>
            <a:ext cx="34560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84720" y="0"/>
            <a:ext cx="20178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-603360"/>
            <a:ext cx="34560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300720" y="3933720"/>
            <a:ext cx="16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44840"/>
            <a:ext cx="34560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ㄧ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80360" y="530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0.0037 L 0.19687 0.0037 E">
                                      <p:cBhvr>
                                        <p:cTn id="12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17327 2.59259E-006 E">
                                      <p:cBhvr>
                                        <p:cTn id="13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22049 -0.01042 E">
                                      <p:cBhvr>
                                        <p:cTn id="13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22049 -0.01042 E">
                                      <p:cBhvr>
                                        <p:cTn id="13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692360" y="620640"/>
            <a:ext cx="6840360" cy="1008000"/>
            <a:chOff x="1692360" y="620640"/>
            <a:chExt cx="6840360" cy="1008000"/>
          </a:xfrm>
        </p:grpSpPr>
        <p:sp>
          <p:nvSpPr>
            <p:cNvPr id="103" name=""/>
            <p:cNvSpPr/>
            <p:nvPr/>
          </p:nvSpPr>
          <p:spPr>
            <a:xfrm>
              <a:off x="1692360" y="620640"/>
              <a:ext cx="6840360" cy="100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763640" y="765000"/>
              <a:ext cx="6553440" cy="7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楷体"/>
                </a:rPr>
                <a:t>鸟—乌  令—今  广—厂</a:t>
              </a:r>
              <a:endPara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楷体"/>
                <a:ea typeface="华文楷体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187280" y="2060640"/>
            <a:ext cx="7631280" cy="2087280"/>
            <a:chOff x="1187280" y="2060640"/>
            <a:chExt cx="7631280" cy="2087280"/>
          </a:xfrm>
        </p:grpSpPr>
        <p:sp>
          <p:nvSpPr>
            <p:cNvPr id="106" name=""/>
            <p:cNvSpPr/>
            <p:nvPr/>
          </p:nvSpPr>
          <p:spPr>
            <a:xfrm>
              <a:off x="1187280" y="2060640"/>
              <a:ext cx="7631280" cy="2087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1619280" y="2205000"/>
              <a:ext cx="7057800" cy="64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楷体"/>
                </a:rPr>
                <a:t>日—白   田   目  电   旦  旧  由</a:t>
              </a:r>
              <a:endPara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楷体"/>
                <a:ea typeface="华文楷体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1690560" y="3357360"/>
              <a:ext cx="6480360" cy="7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楷体"/>
                </a:rPr>
                <a:t>甲（甲鱼）     申（申请）</a:t>
              </a:r>
              <a:endPara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楷体"/>
                <a:ea typeface="华文楷体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258920" y="2781360"/>
            <a:ext cx="7632720" cy="3716280"/>
            <a:chOff x="1258920" y="2781360"/>
            <a:chExt cx="7632720" cy="3716280"/>
          </a:xfrm>
        </p:grpSpPr>
        <p:grpSp>
          <p:nvGrpSpPr>
            <p:cNvPr id="110" name=""/>
            <p:cNvGrpSpPr/>
            <p:nvPr/>
          </p:nvGrpSpPr>
          <p:grpSpPr>
            <a:xfrm>
              <a:off x="1258920" y="2781360"/>
              <a:ext cx="7632720" cy="3716280"/>
              <a:chOff x="1258920" y="2781360"/>
              <a:chExt cx="7632720" cy="3716280"/>
            </a:xfrm>
          </p:grpSpPr>
          <p:sp>
            <p:nvSpPr>
              <p:cNvPr id="111" name=""/>
              <p:cNvSpPr txBox="1"/>
              <p:nvPr/>
            </p:nvSpPr>
            <p:spPr>
              <a:xfrm>
                <a:off x="1547640" y="2852640"/>
                <a:ext cx="79236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3366ff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宋体"/>
                  </a:rPr>
                  <a:t>jiǎ </a:t>
                </a:r>
                <a:endPara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5364000" y="2781360"/>
                <a:ext cx="79236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3366ff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宋体"/>
                  </a:rPr>
                  <a:t>shēn</a:t>
                </a:r>
                <a:endPara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1258920" y="4292640"/>
                <a:ext cx="7632720" cy="2205000"/>
                <a:chOff x="1258920" y="4292640"/>
                <a:chExt cx="7632720" cy="22050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258920" y="4292640"/>
                  <a:ext cx="7632720" cy="2205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 txBox="1"/>
                <p:nvPr/>
              </p:nvSpPr>
              <p:spPr>
                <a:xfrm>
                  <a:off x="1401840" y="4508640"/>
                  <a:ext cx="7345440" cy="714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ff00ff"/>
                        </a:solidFill>
                        <a:miter/>
                      </a:ln>
                      <a:gradFill rotWithShape="0">
                        <a:gsLst>
                          <a:gs pos="0">
                            <a:srgbClr val="6600cc"/>
                          </a:gs>
                          <a:gs pos="100000">
                            <a:srgbClr val="cc00cc"/>
                          </a:gs>
                        </a:gsLst>
                        <a:lin ang="5400000"/>
                      </a:gradFill>
                      <a:effectLst>
                        <a:outerShdw dist="53966" dir="2700000" blurRad="0" rotWithShape="0">
                          <a:srgbClr val="9999ff">
                            <a:alpha val="80000"/>
                          </a:srgbClr>
                        </a:outerShdw>
                      </a:effectLst>
                      <a:latin typeface="华文楷体"/>
                    </a:rPr>
                    <a:t>口—只  古  石  右  另  可  加  叶  号</a:t>
                  </a:r>
                  <a:endParaRPr b="0" lang="en-US" sz="1800" spc="1" strike="noStrike">
                    <a:ln w="9360">
                      <a:solidFill>
                        <a:srgbClr val="ff00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>
                          <a:alpha val="80000"/>
                        </a:srgbClr>
                      </a:outerShdw>
                    </a:effectLst>
                    <a:latin typeface="华文楷体"/>
                    <a:ea typeface="华文楷体"/>
                  </a:endParaRPr>
                </a:p>
              </p:txBody>
            </p:sp>
            <p:sp>
              <p:nvSpPr>
                <p:cNvPr id="116" name=""/>
                <p:cNvSpPr txBox="1"/>
                <p:nvPr/>
              </p:nvSpPr>
              <p:spPr>
                <a:xfrm>
                  <a:off x="1690920" y="5589720"/>
                  <a:ext cx="6480000" cy="7840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ff00ff"/>
                        </a:solidFill>
                        <a:miter/>
                      </a:ln>
                      <a:gradFill rotWithShape="0">
                        <a:gsLst>
                          <a:gs pos="0">
                            <a:srgbClr val="6600cc"/>
                          </a:gs>
                          <a:gs pos="100000">
                            <a:srgbClr val="cc00cc"/>
                          </a:gs>
                        </a:gsLst>
                        <a:lin ang="5400000"/>
                      </a:gradFill>
                      <a:effectLst>
                        <a:outerShdw dist="53966" dir="2700000" blurRad="0" rotWithShape="0">
                          <a:srgbClr val="9999ff">
                            <a:alpha val="80000"/>
                          </a:srgbClr>
                        </a:outerShdw>
                      </a:effectLst>
                      <a:latin typeface="华文楷体"/>
                    </a:rPr>
                    <a:t>句（句子）     兄（兄弟）</a:t>
                  </a:r>
                  <a:endParaRPr b="0" lang="en-US" sz="1800" spc="1" strike="noStrike">
                    <a:ln w="9360">
                      <a:solidFill>
                        <a:srgbClr val="ff00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>
                          <a:alpha val="80000"/>
                        </a:srgbClr>
                      </a:outerShdw>
                    </a:effectLst>
                    <a:latin typeface="华文楷体"/>
                    <a:ea typeface="华文楷体"/>
                  </a:endParaRPr>
                </a:p>
              </p:txBody>
            </p:sp>
          </p:grpSp>
        </p:grpSp>
        <p:sp>
          <p:nvSpPr>
            <p:cNvPr id="117" name=""/>
            <p:cNvSpPr txBox="1"/>
            <p:nvPr/>
          </p:nvSpPr>
          <p:spPr>
            <a:xfrm>
              <a:off x="1547640" y="5157720"/>
              <a:ext cx="792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jù 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5435640" y="5157720"/>
              <a:ext cx="792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xiōng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1332000" cy="1332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5400000">
            <a:off x="-1710360" y="2763000"/>
            <a:ext cx="4752720" cy="13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的发现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newsflash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59280" y="3429000"/>
            <a:ext cx="43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59280" y="1341360"/>
            <a:ext cx="7920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64000" y="1125360"/>
            <a:ext cx="5763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812000" y="1413000"/>
            <a:ext cx="64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03280" y="3284640"/>
            <a:ext cx="64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16000" y="1197000"/>
            <a:ext cx="863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219640" y="3357720"/>
            <a:ext cx="503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020000" y="3284640"/>
            <a:ext cx="50472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59280" y="479736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170028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ff"/>
                </a:solidFill>
                <a:latin typeface="Arial"/>
                <a:ea typeface="楷体_GB2312"/>
              </a:rPr>
              <a:t>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557360"/>
            <a:ext cx="1440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00ff"/>
                </a:solidFill>
                <a:latin typeface="宋体"/>
              </a:rPr>
              <a:t>‵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227664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0"/>
            <a:ext cx="2016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00ff"/>
                </a:solidFill>
                <a:latin typeface="Arial"/>
                <a:ea typeface="华文楷体"/>
              </a:rPr>
              <a:t>丆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0"/>
            <a:ext cx="2592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ff"/>
                </a:solidFill>
                <a:latin typeface="Arial"/>
                <a:ea typeface="楷体_GB2312"/>
              </a:rPr>
              <a:t>一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40464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楷体_GB2312"/>
              </a:rPr>
              <a:t>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77080" y="0"/>
            <a:ext cx="1727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00ff"/>
                </a:solidFill>
                <a:latin typeface="华文楷体"/>
                <a:ea typeface="华文楷体"/>
              </a:rPr>
              <a:t>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640" y="3789360"/>
            <a:ext cx="122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力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356000" y="2997360"/>
            <a:ext cx="7207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力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4869000"/>
            <a:ext cx="129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ff"/>
                </a:solidFill>
                <a:latin typeface="宋体"/>
              </a:rPr>
              <a:t>ㄎ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80360" y="2637000"/>
            <a:ext cx="1258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ff"/>
                </a:solidFill>
                <a:latin typeface="Arial"/>
                <a:ea typeface="华文楷体"/>
              </a:rPr>
              <a:t>十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276640"/>
            <a:ext cx="1582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ff"/>
                </a:solidFill>
                <a:latin typeface="Arial"/>
                <a:ea typeface="华文楷体"/>
              </a:rPr>
              <a:t>一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2997360"/>
            <a:ext cx="17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Arial"/>
              </a:rPr>
              <a:t>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27640" y="4653000"/>
            <a:ext cx="2916360" cy="1224000"/>
          </a:xfrm>
          <a:prstGeom prst="cloudCallout">
            <a:avLst>
              <a:gd name="adj1" fmla="val -59689"/>
              <a:gd name="adj2" fmla="val 763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隶书"/>
              </a:rPr>
              <a:t>加二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5300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2:32:22Z</dcterms:created>
  <dc:creator>tangchunxia</dc:creator>
  <dc:description/>
  <dc:language>en-US</dc:language>
  <cp:lastModifiedBy>walkinnet</cp:lastModifiedBy>
  <dcterms:modified xsi:type="dcterms:W3CDTF">2009-05-15T00:02:49Z</dcterms:modified>
  <cp:revision>9</cp:revision>
  <dc:subject/>
  <dc:title>幻灯片 1</dc:title>
</cp:coreProperties>
</file>