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gif" ContentType="image/gif"/>
  <Override PartName="/ppt/media/image8.png" ContentType="image/png"/>
  <Override PartName="/ppt/media/image5.gif" ContentType="image/gif"/>
  <Override PartName="/ppt/media/image14.jpeg" ContentType="image/jpeg"/>
  <Override PartName="/ppt/media/chimes.wav" ContentType="audio/x-wav"/>
  <Override PartName="/ppt/media/image16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18.jpeg" ContentType="image/jpeg"/>
  <Override PartName="/ppt/media/sound005.wav" ContentType="audio/x-wav"/>
  <Override PartName="/ppt/media/MTC_044.WAV" ContentType="audio/x-wav"/>
  <Override PartName="/ppt/media/MTC_068.WAV" ContentType="audio/x-wav"/>
  <Override PartName="/ppt/media/image15.png" ContentType="image/png"/>
  <Override PartName="/ppt/media/image2.jpeg" ContentType="image/jpeg"/>
  <Override PartName="/ppt/media/image3.png" ContentType="image/png"/>
  <Override PartName="/ppt/media/image17.gif" ContentType="image/gif"/>
  <Override PartName="/ppt/media/camera.wav" ContentType="audio/x-wav"/>
  <Override PartName="/ppt/media/image13.png" ContentType="image/png"/>
  <Override PartName="/ppt/media/image12.wmf" ContentType="image/x-wmf"/>
  <Override PartName="/ppt/media/image1.png" ContentType="image/png"/>
  <Override PartName="/ppt/media/image1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A55-5503-4A73-BBB9-95E303DA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524-4DBB-4BD9-871D-21BE3605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4C6-5F08-4CF3-81DE-7B7C53FD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583-EAD9-4724-93D9-95AE4B9A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785-7D77-4257-8AFC-6D0F8E43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1D3-493F-4C37-8DB9-7CDDED7F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CDF-B7E3-4BDB-97C0-A98DA39F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A6F-AD8D-46B7-8C60-A748C2C3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E29-298D-45FA-99E9-51582D9B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B1B-EA39-48D2-AADC-1E36622E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6E1-62AF-4CB3-99FA-2D7786D6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39F-EDFE-417E-B897-19FE838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3D55-9D73-40A0-9DC0-07E8207BDB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ound005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MTC_068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MTC_044.WAV"/><Relationship Id="rId6" Type="http://schemas.openxmlformats.org/officeDocument/2006/relationships/audio" Target="../media/MTC_044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MTC_068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TC_06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9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MTC_068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9144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3399"/>
                </a:solidFill>
                <a:latin typeface="Times New Roman"/>
                <a:ea typeface="华文琥珀"/>
              </a:rPr>
              <a:t>26</a:t>
            </a:r>
            <a:r>
              <a:rPr b="1" lang="zh-CN" sz="6800" spc="-1" strike="noStrike">
                <a:solidFill>
                  <a:srgbClr val="ff3399"/>
                </a:solidFill>
                <a:latin typeface="Times New Roman"/>
                <a:ea typeface="华文琥珀"/>
              </a:rPr>
              <a:t>、</a:t>
            </a:r>
            <a:r>
              <a:rPr b="1" lang="zh-CN" sz="7200" spc="-1" strike="noStrike">
                <a:solidFill>
                  <a:srgbClr val="ff3399"/>
                </a:solidFill>
                <a:latin typeface="Times New Roman"/>
                <a:ea typeface="华文彩云"/>
              </a:rPr>
              <a:t>小白兔和小灰兔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nd0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457200"/>
            <a:ext cx="75438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白兔蹦蹦跳跳地回到家里，把土翻松了，种下菜子。过了几天，菜子发了芽，白菜长出嫩绿的叶子来了。它常常给白菜浇水，施肥，拔草，捉虫。白菜很快地长大了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6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-468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8332" b="8333"/>
          <a:stretch/>
        </p:blipFill>
        <p:spPr>
          <a:xfrm>
            <a:off x="0" y="-45720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425920"/>
            <a:ext cx="9144000" cy="1434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到 家以后，小灰兔是怎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72680" y="6248520"/>
            <a:ext cx="571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24280" y="3808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不干活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2362320"/>
            <a:ext cx="23619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rcRect l="0" t="0" r="8332" b="8333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5546880"/>
            <a:ext cx="914400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白兔来干什么？小灰兔来干什么？你有什么想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019920" y="1295280"/>
            <a:ext cx="35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送白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-1371600"/>
            <a:ext cx="84456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215000" y="2971800"/>
            <a:ext cx="2618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要白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疑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C_04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C_04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灰兔的表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白兔的表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124080" y="30481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收白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304812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饿了就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304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又去要白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4419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收菜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白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441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4495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送白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304920"/>
            <a:ext cx="858816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灰兔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疑惑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地问：“小白兔，你的菜是哪儿来的？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白兔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豪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地说：“自己种的，只有自己种，才有吃不完的菜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6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-457200" y="0"/>
            <a:ext cx="9601200" cy="6892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-304920" y="990720"/>
            <a:ext cx="94489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只 有 自 己 种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才 有 吃 不 完 的 菜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876920" y="57913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457200"/>
            <a:ext cx="83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听了小白兔的话</a:t>
            </a:r>
            <a:r>
              <a:rPr b="1" lang="zh-CN" sz="8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8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灰兔是怎么想</a:t>
            </a:r>
            <a:r>
              <a:rPr b="1" lang="zh-CN" sz="8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8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怎么做的</a:t>
            </a: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6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1268280"/>
            <a:ext cx="8497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翻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松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浇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水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施肥 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饿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了     时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候 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挑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着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担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拉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回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吃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不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263700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小朋友们想一想：山羊伯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会说什么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44892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按下面的提示把小白兔和小灰兔的不同说一说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7869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79840" y="55213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79840" y="55213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778824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8332" b="8333"/>
          <a:stretch/>
        </p:blipFill>
        <p:spPr>
          <a:xfrm>
            <a:off x="3124080" y="1447920"/>
            <a:ext cx="304812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0" t="0" r="7269" b="7275"/>
          <a:stretch/>
        </p:blipFill>
        <p:spPr>
          <a:xfrm>
            <a:off x="0" y="1371600"/>
            <a:ext cx="2971800" cy="3048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0" t="0" r="8332" b="8333"/>
          <a:stretch/>
        </p:blipFill>
        <p:spPr>
          <a:xfrm>
            <a:off x="6248520" y="1447920"/>
            <a:ext cx="289548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498920"/>
            <a:ext cx="2971800" cy="149580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完白菜，老山羊要送给它们白菜，小白兔和小灰兔是怎么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4498920"/>
            <a:ext cx="3047760" cy="180072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白兔回到家都干了些什么？是怎么做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4440240"/>
            <a:ext cx="2971800" cy="290736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回到 家           以后，小灰兔是怎么做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197000"/>
            <a:ext cx="7920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翻土     施肥     饥饿      活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拉力     把门     种花      吃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肥胖     送给     时候      担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浇花     等候     吃饭      浇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3480" y="23004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9677520" cy="751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2971800"/>
            <a:ext cx="71625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课文，想一想，说一说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白兔和小灰兔有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些不一样的地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356400">
            <a:off x="3282840" y="1298160"/>
            <a:ext cx="5181840" cy="17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比比谁最聪明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3430800" y="990720"/>
            <a:ext cx="46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ĭ    bĭ     shuí  zuì  cōng  mí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139240" y="5638680"/>
            <a:ext cx="687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0" r="7269" b="7275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715000"/>
            <a:ext cx="952488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完白菜，老山羊要送给它们白菜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白兔和小灰兔是怎么做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 flipH="1">
            <a:off x="8686800" y="6429240"/>
            <a:ext cx="457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0" t="0" r="8332" b="8333"/>
          <a:stretch/>
        </p:blipFill>
        <p:spPr>
          <a:xfrm>
            <a:off x="0" y="-99072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244440" y="5029200"/>
            <a:ext cx="9388440" cy="13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白兔回到家都干了些什么？是怎么做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534520" y="6172200"/>
            <a:ext cx="6094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720" y="457200"/>
            <a:ext cx="75438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白兔蹦蹦跳跳地回到家里，把土翻松，种下菜子。过了几天，菜子发了芽，白菜长出嫩绿的叶子来了。它常常给白菜浇水，施肥，除草，捉虫。白菜很快地长大了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457200"/>
            <a:ext cx="754380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白兔蹦蹦跳跳地回到家里，把土翻松了，种下菜子。</a:t>
            </a: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过了几天，菜子发了芽，白菜长出嫩绿的叶子来了。</a:t>
            </a:r>
            <a:r>
              <a:rPr b="1" lang="zh-CN" sz="5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常常给白菜浇水，施肥，拔草，捉虫。</a:t>
            </a:r>
            <a:r>
              <a:rPr b="1" lang="zh-CN" sz="5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白菜很快地长大了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6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2:30:44Z</dcterms:created>
  <dc:creator>左敏</dc:creator>
  <dc:description/>
  <dc:language>en-US</dc:language>
  <cp:lastModifiedBy>dell</cp:lastModifiedBy>
  <dcterms:modified xsi:type="dcterms:W3CDTF">2009-05-20T01:38:45Z</dcterms:modified>
  <cp:revision>50</cp:revision>
  <dc:subject/>
  <dc:title>PowerPoint 演示文稿</dc:title>
</cp:coreProperties>
</file>