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8BF-8209-46A2-97E3-9F1A8897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B6D-DBB0-4350-A269-5A494A84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5C5-E238-43B5-971D-084A1938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357-3A63-4BCB-9216-47A6868B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D89-29B9-4C4C-9902-F3D25510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A5E-23D3-4596-9BEC-5765EB63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9DB-453D-41D4-A88C-2631A176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2BA-D127-44DC-9DF7-56C9DF50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01C-3BED-4C2E-8DE7-36AD13B6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C62-80FF-409F-A139-2CB0E154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32C-3C01-45AF-8BA7-5C78576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A82-9CF2-452B-A428-37E17553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42BD-DD4B-430A-91BA-D609F48BA9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1844640"/>
            <a:ext cx="712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夸父与日逐走，入日；渴，欲得饮，饮于河、渭；河、渭不足，北饮大泽。未至，道渴而死。弃其杖，化为邓林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3336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方正舒体"/>
              </a:rPr>
              <a:t>每日一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83592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夸父逐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956720" cy="432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填上合适的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特殊的（             ）  洁白的（  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挺拔的（              ）  爽朗的（ 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飞舞的（              ）  崇高的（ 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奇异的（              ）  适当的（ 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7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青松</a:t>
            </a:r>
            <a:br>
              <a:rPr sz="4000"/>
            </a:b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陈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68360" y="2276640"/>
            <a:ext cx="48247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雪压青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青松挺且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知松高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待到雪化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6048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山谷中的谜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5013360"/>
            <a:ext cx="41054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  <a:ea typeface="楷体_GB2312"/>
              </a:rPr>
              <a:t>南京市江浦实验小学  夏光清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55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6000" y="3141360"/>
            <a:ext cx="6481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柘 枝丫 女贞   惟一  摧毁  帐篷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好无损   苍翠挺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276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zhè    yā     zhēn wéi     cuī  z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解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魁北克：加拿大东部一省。主要属寒温带针叶林气候。森林覆盖率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%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柘： 灌木，常有刺。夏季开花，叶可饲蚕；果可食，并可酿酒；茎皮为造纸原料；根可药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贞：果实入药，称：“女贞子”，性平、味甘苦，功能补益肝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47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文章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用猜谜语来打比方的话，文章的哪一部分是谜面，哪一部分是谜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谜面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—2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   谜底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—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9144000" cy="4427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ccffff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谜面：山谷没有什么特别之处，惟一能引人注意的是，它的西坡长满松、柏、拓、女贞等杂树，而东坡只有雪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谜底：东坡雪大，其他那些树，因为没有雪松这个本领，树枝都被积雪压断了，渐渐地丧失了生机。而西坡雪小，树上少量的积雪根本就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断树枝，所以除了雪松之外，拓、柏、女贞之类的树种，也都存活了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372360" y="6165720"/>
            <a:ext cx="2520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山谷中的谜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由于特殊的风向，山谷东坡的雪总比西坡的雪来得大。不一会儿满坡的雪松上就积了厚厚的一层雪。当雪积到一定程度时，雪松那富有弹性的枝丫就开始向下弯曲，于是积雪便从树枝上滑落，待压力减轻，刚弯下去的树枝又立即反弹过来，雪松依旧保持着苍翠挺拔的身姿。就这样，反复地积，反复地弯，反复地落，反复地弹……不论雪下得多大，雪松始终完好无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3281760"/>
            <a:ext cx="842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产生奇异景观的关键是什么？  用横线画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体会雪松与风雪抗争的过程与艰辛。连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地积    感受雪松不屈不挠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地弯    想象暴雪之大，之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地落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会雪松承受的压力之大，和在承受的同时适当退让的策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地弹    体会“退让”策略的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2707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课记叙了加拿大魁北克山谷的一个奇异的自然现象，告诉人们在逆境和压力面前，既要敢于抗争，也要学会退让，以退为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12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章中心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2:55:33Z</dcterms:created>
  <dc:creator>summer</dc:creator>
  <dc:description/>
  <dc:language>en-US</dc:language>
  <cp:lastModifiedBy>Billgates</cp:lastModifiedBy>
  <dcterms:modified xsi:type="dcterms:W3CDTF">2005-07-18T06:46:29Z</dcterms:modified>
  <cp:revision>18</cp:revision>
  <dc:subject/>
  <dc:title>长江之歌</dc:title>
</cp:coreProperties>
</file>