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969-EE08-44E1-A4E3-CE398BBA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37C-8FDB-4CEB-92CE-8E2950B2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26C-B828-4971-A1A9-C5C48C6C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CAD-60FA-4F71-8B8B-74FFA7CD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F15-0798-402C-89E6-4C0F0015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A35-24BB-42D5-8688-0F3ACC32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933-C410-45A1-8C9A-D2F40999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FF6-8C59-4C8B-AD6E-224A07FA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992-1EA7-44B0-99B1-84F15D79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7CB-AC36-4887-8112-ABEC7851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137-1ECB-4647-B841-8CF4BF1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449-53D2-4E2F-BDAB-F8855B91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080A-6270-4C43-9D5B-F27D323580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wjnxsxx.net/grwz/hy/ShowArticle2.asp?ArticleID=42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820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凡读书……须要读得字字响亮，不可误一字，不可少一字，不可多一字，不可倒一字，不可牵强暗记，只是要多诵遍数，自然上口，久远不忘。古人云：“读书千遍，其义自见。”谓读得熟，则不待解说，自晓其义也。余尝谓，读书有三到，谓心到、眼到、口到。心不在此，则眼不看仔细，心眼既不专一，却自漫浪诵读，决不能记，记亦不能久也。三到之中，心到最急。心既到矣，眼口岂不到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3336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方正舒体"/>
              </a:rPr>
              <a:t>每日一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72120" y="5482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书要三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321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从人类社会诞生以来，人与海洋的关系就非常密切。海洋给人类提供了航行的便利；它慷慨地给与人类丰富的水产品和每日不可缺少的食盐。但是，海洋发起脾气来，也会无情地掀翻船只，冲垮海堤，毁灭沿海的城镇，给人类带来可怕的灾难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85264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段话从（              ）、（           ）和（             ）三个方面来说明人与海洋的关系密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文中的分号表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句话运用了（   ）修辞手法，写出了海洋的（         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句话结构上的特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5013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544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喜怒无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342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给人类带来灾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29242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给与人类水产品和食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2924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给人类提供了航行的便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365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并列关系，都是讲海洋给人类带来的益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560" y="609300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先总后分，第一句是中心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科学家发现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海洋是个聚宝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它蕴藏着丰富的石油、天然气、煤、铁、铜、锡、锰、硫等。目前陆地上的煤、石油等矿藏，由于长期开采，已越来越少，世界上许多地方都在闹“能源危机”。为了解决这个问题，人类便把目光转向海洋，致力于海洋矿产资源的开发。如今，一座座海洋石油平台已矗立在海涛之中，一艘艘海洋考察船已驶向大洋深处，先进的海底探测器也已潜入深海大显神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4005360"/>
            <a:ext cx="842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句话共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， 是按“新发现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源现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发转向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发实践”的顺序写的，你能变换它的表达顺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致力”一词可用（       ）替代。文中“能源危机”加上引号，作用是（       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5589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倾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5950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表示强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494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新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4941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开发转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4941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能源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941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开发实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050560" y="1773000"/>
            <a:ext cx="5473800" cy="410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开发矿产资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索取高蛋白食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利用水力发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淡化海水缓解水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建设海底城市</a:t>
            </a:r>
            <a:br>
              <a:rPr sz="3200"/>
            </a:br>
            <a:r>
              <a:rPr b="0" lang="zh-CN" sz="3200" spc="-1" strike="noStrike">
                <a:solidFill>
                  <a:srgbClr val="ccffff"/>
                </a:solidFill>
                <a:latin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476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人们是从哪些方面开发、利用海洋的呢</a:t>
            </a:r>
            <a:r>
              <a:rPr b="0" lang="zh-CN" sz="1800" spc="-1" strike="noStrike">
                <a:solidFill>
                  <a:srgbClr val="ffff66"/>
                </a:solidFill>
                <a:latin typeface="黑体"/>
                <a:ea typeface="黑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1628280"/>
            <a:ext cx="6048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海洋—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21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世纪的希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3280" y="5300640"/>
            <a:ext cx="41050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  <a:ea typeface="楷体_GB2312"/>
              </a:rPr>
              <a:t>南京市江浦实验小学  夏光清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05780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62472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69744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34508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554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读准字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6000" y="3141360"/>
            <a:ext cx="6481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眸  蔚蓝  匮乏  低廉  干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威胁  慷慨 敬畏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276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óu wèi     kuì fá      lián     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词语解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488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廉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价钱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便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慷慨：大方，不吝惜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威胁：用威力逼迫、恫吓使人屈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敬畏：又敬重又害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洋兴叹：本指在伟大的事物面前感叹自己的渺小，比喻要做一件事而力量不够，感到无可奈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47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文章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洋与人类有密切的关系往来，人们热爱海洋，又敬畏海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4-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由于科学技术的飞速发展正迎来开发、利用海洋的新时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开发海洋，首先得保护海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2:55:33Z</dcterms:created>
  <dc:creator>summer</dc:creator>
  <dc:description/>
  <dc:language>en-US</dc:language>
  <cp:lastModifiedBy>summer</cp:lastModifiedBy>
  <dcterms:modified xsi:type="dcterms:W3CDTF">2005-07-22T02:06:14Z</dcterms:modified>
  <cp:revision>15</cp:revision>
  <dc:subject/>
  <dc:title>长江之歌</dc:title>
</cp:coreProperties>
</file>