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D1E-5267-4ED2-B589-CB3525AD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8C8-4E41-4046-A3FC-693098D1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798-09A3-42CE-87BB-53FA4091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021-D6C3-4852-AFAC-7B2B62ED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747D-6F9E-485B-BD67-A0CA1BD7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92E-0C32-43D1-A66C-2BE37E52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FACC-546C-4D7A-970E-1C17F23A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F52-D403-423C-8EEA-6F3876D5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AE4-8DC8-424A-BCCE-7649134A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FE8-01CD-4838-996A-25EC88F0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B45-8D5C-49BA-992A-DB947966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79C-343D-47ED-BCBF-1CF99802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DBCD-AF42-405C-856B-68F69F25A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czech.cistc.gov.cn/info/infoview.asp?id=50719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91920"/>
            <a:ext cx="4897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诲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416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玉不琢，不成器；人不学，不知道。然玉之为物，有不变之常德，虽不琢以为器，而犹不害为玉也。人之性，因物则迁。不学，则舍君子而为小人，可不念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333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舒体"/>
              </a:rPr>
              <a:t>每日一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6265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Arial"/>
                <a:ea typeface="华文行楷"/>
              </a:rPr>
              <a:t>船    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5805360"/>
            <a:ext cx="478476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  <a:ea typeface="楷体_GB2312"/>
              </a:rPr>
              <a:t>南京市江浦实验小学  夏光清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8000" y="259920"/>
            <a:ext cx="3995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从雪山走来，</a:t>
            </a:r>
            <a:br>
              <a:rPr sz="3200"/>
            </a:b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春潮是你的丰采；</a:t>
            </a:r>
            <a:br>
              <a:rPr sz="3200"/>
            </a:b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向东海奔去，</a:t>
            </a:r>
            <a:br>
              <a:rPr sz="3200"/>
            </a:b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惊涛是你的气概。</a:t>
            </a:r>
            <a:br>
              <a:rPr sz="3200"/>
            </a:b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用甘甜的乳汁，</a:t>
            </a:r>
            <a:br>
              <a:rPr sz="3200"/>
            </a:b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哺育各族儿女；</a:t>
            </a:r>
            <a:br>
              <a:rPr sz="3200"/>
            </a:b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用健美的臂膀，</a:t>
            </a:r>
            <a:br>
              <a:rPr sz="3200"/>
            </a:b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挽起高山大海。 </a:t>
            </a:r>
            <a:br>
              <a:rPr sz="3200"/>
            </a:b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我们赞美长江，</a:t>
            </a:r>
            <a:br>
              <a:rPr sz="3200"/>
            </a:b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是无穷的源泉；</a:t>
            </a:r>
            <a:br>
              <a:rPr sz="3200"/>
            </a:b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我们依恋长江，</a:t>
            </a:r>
            <a:br>
              <a:rPr sz="3200"/>
            </a:b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有母亲的情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0000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5452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3280" y="404280"/>
            <a:ext cx="4321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从远古走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巨浪荡涤着尘埃；</a:t>
            </a:r>
            <a:br>
              <a:rPr sz="3600"/>
            </a:b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向未来奔去，</a:t>
            </a:r>
            <a:br>
              <a:rPr sz="3600"/>
            </a:b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涛声回荡在天外。</a:t>
            </a:r>
            <a:br>
              <a:rPr sz="3600"/>
            </a:b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用纯洁的清流，</a:t>
            </a:r>
            <a:br>
              <a:rPr sz="3600"/>
            </a:b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灌溉花的国土；</a:t>
            </a:r>
            <a:br>
              <a:rPr sz="3600"/>
            </a:b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用磅礴的力量，</a:t>
            </a:r>
            <a:br>
              <a:rPr sz="3600"/>
            </a:b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推动新的时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们赞美长江，</a:t>
            </a:r>
            <a:br>
              <a:rPr sz="3600"/>
            </a:b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是无穷的源泉；</a:t>
            </a:r>
            <a:br>
              <a:rPr sz="3600"/>
            </a:b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们依恋长江，</a:t>
            </a:r>
            <a:br>
              <a:rPr sz="3600"/>
            </a:br>
            <a:r>
              <a:rPr b="0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有母亲的情怀。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5452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554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读准字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3068280"/>
            <a:ext cx="76183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哺育   荡涤    尘埃    灌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276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ǔ yù      dàng dí      chén āi     guàn g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选择正确的读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bǔ  pǔ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育           依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 liàn  nià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bàng páng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礴   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 bēn  bèn 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气势大的成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气壮山河 气贯长虹  气吞山河 气势磅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气势汹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3645000"/>
            <a:ext cx="662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还有哪些描写气势大的成语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长江之歌》用（        ）的手法，把长江比作（       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赞颂了长江的（         ）、（         ），表达了对长江的（         ）、（         ）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48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拟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060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母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637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宏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2637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壮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3213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热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3213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楷体_GB2312"/>
              </a:rPr>
              <a:t>依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800000"/>
                </a:solidFill>
                <a:latin typeface="Arial"/>
              </a:rPr>
              <a:t>用线将左右两边描写“江河湖海”的古诗句连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416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白日依山尽          唯见长江天际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孤帆远影碧空尽      不尽长江滚滚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无边落木萧萧下      山色空蒙雨亦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日落江湖白          黄河入海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水光潋滟晴方好      潮来天地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2:55:33Z</dcterms:created>
  <dc:creator>summer</dc:creator>
  <dc:description/>
  <dc:language>en-US</dc:language>
  <cp:lastModifiedBy>summer</cp:lastModifiedBy>
  <dcterms:modified xsi:type="dcterms:W3CDTF">2005-07-09T14:32:01Z</dcterms:modified>
  <cp:revision>5</cp:revision>
  <dc:subject/>
  <dc:title>长江之歌</dc:title>
</cp:coreProperties>
</file>