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4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22T09:13:01.865000000" idx="2">
    <p:pos x="4481" y="375"/>
    <p:text/>
  </p:cm>
</p:cmLst>
</file>

<file path=ppt/comments/comment19.xml><?xml version="1.0" encoding="utf-8"?>
<p:cmLst xmlns:p="http://schemas.openxmlformats.org/presentationml/2006/main">
  <p:cm authorId="0" dt="2016-08-22T09:13:08.464000000" idx="3">
    <p:pos x="5111" y="583"/>
    <p:text/>
  </p:cm>
</p:cmLst>
</file>

<file path=ppt/comments/comment4.xml><?xml version="1.0" encoding="utf-8"?>
<p:cmLst xmlns:p="http://schemas.openxmlformats.org/presentationml/2006/main">
  <p:cm authorId="0" dt="2016-08-22T09:12:53.228000000" idx="1">
    <p:pos x="5297" y="-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标题 1"/>
          <p:cNvSpPr/>
          <p:nvPr/>
        </p:nvSpPr>
        <p:spPr>
          <a:xfrm>
            <a:off x="549360" y="68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写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2" descr="C:\Users\Administrator\Desktop\20091007IDGUHIVUHV.jpg"/>
          <p:cNvPicPr/>
          <p:nvPr/>
        </p:nvPicPr>
        <p:blipFill>
          <a:blip r:embed="rId1"/>
          <a:stretch/>
        </p:blipFill>
        <p:spPr>
          <a:xfrm>
            <a:off x="1692360" y="1701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WordArt 5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Administrator\Desktop\u=586349886,2301518499&amp;fm=59.jpg"/>
          <p:cNvPicPr/>
          <p:nvPr/>
        </p:nvPicPr>
        <p:blipFill>
          <a:blip r:embed="rId1"/>
          <a:srcRect l="29514" t="0" r="15691" b="-1968"/>
          <a:stretch/>
        </p:blipFill>
        <p:spPr>
          <a:xfrm>
            <a:off x="1763640" y="285264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椭圆形标注 5"/>
          <p:cNvSpPr/>
          <p:nvPr/>
        </p:nvSpPr>
        <p:spPr>
          <a:xfrm>
            <a:off x="3708360" y="1341360"/>
            <a:ext cx="4584600" cy="21639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写好字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79280" y="2205000"/>
            <a:ext cx="9144000" cy="29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　　   现在同学们会写基本的笔画了，在练习的时候，要注意的正确的姿势，做到“三个一”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标题 1"/>
          <p:cNvSpPr/>
          <p:nvPr/>
        </p:nvSpPr>
        <p:spPr>
          <a:xfrm>
            <a:off x="2139840" y="536400"/>
            <a:ext cx="426744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一”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Administrator\Desktop\20091007IDGUHIVUHV.jpg"/>
          <p:cNvPicPr/>
          <p:nvPr/>
        </p:nvPicPr>
        <p:blipFill>
          <a:blip r:embed="rId1"/>
          <a:stretch/>
        </p:blipFill>
        <p:spPr>
          <a:xfrm>
            <a:off x="1835280" y="206064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568680" y="549360"/>
            <a:ext cx="94284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libri"/>
                <a:ea typeface="隶书"/>
              </a:rPr>
              <a:t>胸离桌子一拳远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1"/>
          <p:cNvPicPr/>
          <p:nvPr/>
        </p:nvPicPr>
        <p:blipFill>
          <a:blip r:embed="rId1"/>
          <a:stretch/>
        </p:blipFill>
        <p:spPr>
          <a:xfrm>
            <a:off x="4788000" y="2276640"/>
            <a:ext cx="3525840" cy="3384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同侧圆角矩形 4"/>
          <p:cNvSpPr/>
          <p:nvPr/>
        </p:nvSpPr>
        <p:spPr>
          <a:xfrm>
            <a:off x="539640" y="22766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线连接符 21"/>
          <p:cNvSpPr/>
          <p:nvPr/>
        </p:nvSpPr>
        <p:spPr>
          <a:xfrm flipV="1">
            <a:off x="539640" y="285264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13200" y="765000"/>
            <a:ext cx="1018800" cy="16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Calibri"/>
                <a:ea typeface="隶书"/>
              </a:rPr>
              <a:t>眼离书本一尺远；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2"/>
          <p:cNvPicPr/>
          <p:nvPr/>
        </p:nvPicPr>
        <p:blipFill>
          <a:blip r:embed="rId1"/>
          <a:stretch/>
        </p:blipFill>
        <p:spPr>
          <a:xfrm>
            <a:off x="4861080" y="2349360"/>
            <a:ext cx="3700440" cy="3527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同侧圆角矩形 4"/>
          <p:cNvSpPr/>
          <p:nvPr/>
        </p:nvSpPr>
        <p:spPr>
          <a:xfrm>
            <a:off x="539640" y="25653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539640" y="31413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408480" y="476280"/>
            <a:ext cx="1018800" cy="16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Calibri"/>
                <a:ea typeface="隶书"/>
              </a:rPr>
              <a:t>手离笔尖一寸远；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3"/>
          <p:cNvPicPr/>
          <p:nvPr/>
        </p:nvPicPr>
        <p:blipFill>
          <a:blip r:embed="rId1"/>
          <a:stretch/>
        </p:blipFill>
        <p:spPr>
          <a:xfrm>
            <a:off x="4211640" y="2276640"/>
            <a:ext cx="4167360" cy="3960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4"/>
          <p:cNvSpPr/>
          <p:nvPr/>
        </p:nvSpPr>
        <p:spPr>
          <a:xfrm>
            <a:off x="466560" y="201780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6560" y="2593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标题 1"/>
          <p:cNvSpPr/>
          <p:nvPr/>
        </p:nvSpPr>
        <p:spPr>
          <a:xfrm>
            <a:off x="587520" y="3603600"/>
            <a:ext cx="2819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铅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副标题 2"/>
          <p:cNvSpPr/>
          <p:nvPr/>
        </p:nvSpPr>
        <p:spPr>
          <a:xfrm>
            <a:off x="1654200" y="8604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用它们来写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3102120" y="3603600"/>
            <a:ext cx="2361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橡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标题 1"/>
          <p:cNvSpPr/>
          <p:nvPr/>
        </p:nvSpPr>
        <p:spPr>
          <a:xfrm>
            <a:off x="5692680" y="3527280"/>
            <a:ext cx="2590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田格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Administrator\Desktop\u=1793436199,2605230214&amp;fm=23&amp;gp=0.jpg"/>
          <p:cNvPicPr/>
          <p:nvPr/>
        </p:nvPicPr>
        <p:blipFill>
          <a:blip r:embed="rId1"/>
          <a:stretch/>
        </p:blipFill>
        <p:spPr>
          <a:xfrm>
            <a:off x="3254400" y="1698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Administrator\Desktop\u=3665599066,361932620&amp;fm=90&amp;gp=0.jpg"/>
          <p:cNvPicPr/>
          <p:nvPr/>
        </p:nvPicPr>
        <p:blipFill>
          <a:blip r:embed="rId2"/>
          <a:stretch/>
        </p:blipFill>
        <p:spPr>
          <a:xfrm>
            <a:off x="1044720" y="1851120"/>
            <a:ext cx="1422360" cy="138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://image.esunny.com/UserFolder_A/lyxwwj2010/ProdImg/196760660_1021617788.jpg"/>
          <p:cNvPicPr/>
          <p:nvPr/>
        </p:nvPicPr>
        <p:blipFill>
          <a:blip r:embed="rId3"/>
          <a:stretch/>
        </p:blipFill>
        <p:spPr>
          <a:xfrm>
            <a:off x="5921280" y="162252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044720" y="56610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爱护我的铅笔。你呢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10"/>
          <p:cNvSpPr/>
          <p:nvPr/>
        </p:nvSpPr>
        <p:spPr>
          <a:xfrm>
            <a:off x="466560" y="95868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6560" y="15350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2987640" y="242100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用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标题 1"/>
          <p:cNvSpPr/>
          <p:nvPr/>
        </p:nvSpPr>
        <p:spPr>
          <a:xfrm>
            <a:off x="2759040" y="3944880"/>
            <a:ext cx="5181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用心做作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学习很用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1679400" y="1125360"/>
            <a:ext cx="243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标题 1"/>
          <p:cNvSpPr/>
          <p:nvPr/>
        </p:nvSpPr>
        <p:spPr>
          <a:xfrm>
            <a:off x="3736800" y="1125360"/>
            <a:ext cx="243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同侧圆角矩形 6"/>
          <p:cNvSpPr/>
          <p:nvPr/>
        </p:nvSpPr>
        <p:spPr>
          <a:xfrm>
            <a:off x="325440" y="112536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325440" y="17013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17520" y="2492280"/>
            <a:ext cx="8823240" cy="51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　　　同学们，今天我们学了写字，下面我给同学们讲一个关于写字的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同侧圆角矩形 3"/>
          <p:cNvSpPr/>
          <p:nvPr/>
        </p:nvSpPr>
        <p:spPr>
          <a:xfrm>
            <a:off x="468360" y="1076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524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Image01"/>
          <p:cNvPicPr/>
          <p:nvPr/>
        </p:nvPicPr>
        <p:blipFill>
          <a:blip r:embed="rId1"/>
          <a:srcRect l="58637" t="28105" r="12478" b="56272"/>
          <a:stretch/>
        </p:blipFill>
        <p:spPr>
          <a:xfrm>
            <a:off x="324000" y="1413000"/>
            <a:ext cx="4174920" cy="3889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798160" y="8794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楷体_GB2312"/>
              </a:rPr>
              <a:t>写字很有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02160" y="1793880"/>
            <a:ext cx="4641840" cy="30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蜜 蜂 用 树 叶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写 信 给 蚂 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咬 了 三 个 洞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表 示“我 想 你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5"/>
          <p:cNvSpPr/>
          <p:nvPr/>
        </p:nvSpPr>
        <p:spPr>
          <a:xfrm>
            <a:off x="468360" y="89676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4727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41225103549995"/>
          <p:cNvPicPr/>
          <p:nvPr/>
        </p:nvPicPr>
        <p:blipFill>
          <a:blip r:embed="rId1"/>
          <a:srcRect l="4137" t="4456" r="15000" b="5486"/>
          <a:stretch/>
        </p:blipFill>
        <p:spPr>
          <a:xfrm>
            <a:off x="0" y="1125360"/>
            <a:ext cx="6372360" cy="5254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3059280" y="1700280"/>
            <a:ext cx="9286560" cy="33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楷体_GB2312"/>
              </a:rPr>
              <a:t>同学们，我们先来看一幅图片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同侧圆角矩形 4"/>
          <p:cNvSpPr/>
          <p:nvPr/>
        </p:nvSpPr>
        <p:spPr>
          <a:xfrm>
            <a:off x="5219640" y="944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线连接符 21"/>
          <p:cNvSpPr/>
          <p:nvPr/>
        </p:nvSpPr>
        <p:spPr>
          <a:xfrm flipV="1">
            <a:off x="5219640" y="1520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4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4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4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Image01"/>
          <p:cNvPicPr/>
          <p:nvPr/>
        </p:nvPicPr>
        <p:blipFill>
          <a:blip r:embed="rId1"/>
          <a:srcRect l="27980" t="45764" r="41228" b="38627"/>
          <a:stretch/>
        </p:blipFill>
        <p:spPr>
          <a:xfrm>
            <a:off x="684360" y="1486080"/>
            <a:ext cx="4282920" cy="4032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4967280" y="1284120"/>
            <a:ext cx="428472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蚂 蚁 接 到 信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看 了 半 点 钟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也 咬 三 个 洞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表 示 “看不懂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01"/>
          <p:cNvPicPr/>
          <p:nvPr/>
        </p:nvPicPr>
        <p:blipFill>
          <a:blip r:embed="rId1"/>
          <a:srcRect l="54107" t="63413" r="14503" b="22343"/>
          <a:stretch/>
        </p:blipFill>
        <p:spPr>
          <a:xfrm>
            <a:off x="468360" y="126828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5076720" y="1701720"/>
            <a:ext cx="464184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蚂 蚁 和 蜜 蜂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商 量 大 事 情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赶 快 学 写 字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写 字 很 有 用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11280" y="2421000"/>
            <a:ext cx="87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谁能告诉老师，这个故事有什么意义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68360" y="1989000"/>
            <a:ext cx="7993080" cy="348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楷体_GB2312"/>
              </a:rPr>
              <a:t>小朋友们，我们马上就要学写字了，老师希望每一名同学都能把字写的特别漂亮，希望你们每上一节课都能有收获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寄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41225103549995"/>
          <p:cNvPicPr/>
          <p:nvPr/>
        </p:nvPicPr>
        <p:blipFill>
          <a:blip r:embed="rId1"/>
          <a:srcRect l="4137" t="4456" r="15000" b="5486"/>
          <a:stretch/>
        </p:blipFill>
        <p:spPr>
          <a:xfrm>
            <a:off x="1116000" y="1052640"/>
            <a:ext cx="4470480" cy="5256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576600" y="1347840"/>
            <a:ext cx="4356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  <a:ea typeface="楷体_GB2312"/>
              </a:rPr>
              <a:t>谁来说说图上画的是什么内容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组合 3"/>
          <p:cNvGrpSpPr/>
          <p:nvPr/>
        </p:nvGrpSpPr>
        <p:grpSpPr>
          <a:xfrm>
            <a:off x="6438960" y="4581360"/>
            <a:ext cx="2255760" cy="531720"/>
            <a:chOff x="6438960" y="4581360"/>
            <a:chExt cx="2255760" cy="531720"/>
          </a:xfrm>
        </p:grpSpPr>
        <p:sp>
          <p:nvSpPr>
            <p:cNvPr id="51" name="直线连接符 21"/>
            <p:cNvSpPr/>
            <p:nvPr/>
          </p:nvSpPr>
          <p:spPr>
            <a:xfrm flipV="1">
              <a:off x="6438960" y="510696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同侧圆角矩形 5"/>
            <p:cNvSpPr/>
            <p:nvPr/>
          </p:nvSpPr>
          <p:spPr>
            <a:xfrm>
              <a:off x="6438960" y="4581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7"/>
          <p:cNvSpPr/>
          <p:nvPr/>
        </p:nvSpPr>
        <p:spPr>
          <a:xfrm>
            <a:off x="5148360" y="909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5148360" y="148428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93642E-007 L -0.25226 6.93642E-007 E">
                                      <p:cBhvr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643280" y="563400"/>
            <a:ext cx="4284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对，图上画的是老师在讲课，小学生在听讲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20041225103549995"/>
          <p:cNvPicPr/>
          <p:nvPr/>
        </p:nvPicPr>
        <p:blipFill>
          <a:blip r:embed="rId1"/>
          <a:srcRect l="4137" t="4456" r="15000" b="5486"/>
          <a:stretch/>
        </p:blipFill>
        <p:spPr>
          <a:xfrm>
            <a:off x="179280" y="981000"/>
            <a:ext cx="4470480" cy="53420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932360" y="4005360"/>
            <a:ext cx="3924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同学们在怎样听讲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同侧圆角矩形 4"/>
          <p:cNvSpPr/>
          <p:nvPr/>
        </p:nvSpPr>
        <p:spPr>
          <a:xfrm>
            <a:off x="2590920" y="9558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2590920" y="153180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4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4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4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4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4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4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041225103549995"/>
          <p:cNvPicPr/>
          <p:nvPr/>
        </p:nvPicPr>
        <p:blipFill>
          <a:blip r:embed="rId1"/>
          <a:srcRect l="4137" t="4456" r="15000" b="5486"/>
          <a:stretch/>
        </p:blipFill>
        <p:spPr>
          <a:xfrm>
            <a:off x="684360" y="1123920"/>
            <a:ext cx="4271760" cy="5040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075280" y="1822320"/>
            <a:ext cx="3457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同学们，想知道他们在学什么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同侧圆角矩形 4"/>
          <p:cNvSpPr/>
          <p:nvPr/>
        </p:nvSpPr>
        <p:spPr>
          <a:xfrm>
            <a:off x="3003480" y="865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300348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4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4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4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椭圆 1"/>
          <p:cNvSpPr/>
          <p:nvPr/>
        </p:nvSpPr>
        <p:spPr>
          <a:xfrm>
            <a:off x="1332000" y="1360440"/>
            <a:ext cx="6573600" cy="27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630520" y="189396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铅笔  橡皮  田格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  写字  要用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9640" y="4076640"/>
            <a:ext cx="846000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06"/>
                </a:solidFill>
                <a:latin typeface="Calibri"/>
                <a:ea typeface="楷体_GB2312"/>
              </a:rPr>
              <a:t>谁能告诉大家他们在学什么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116000" y="5084640"/>
            <a:ext cx="657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06"/>
                </a:solidFill>
                <a:latin typeface="Calibri"/>
                <a:ea typeface="楷体_GB2312"/>
              </a:rPr>
              <a:t>请同学们跟着读一遍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同侧圆角矩形 6"/>
          <p:cNvSpPr/>
          <p:nvPr/>
        </p:nvSpPr>
        <p:spPr>
          <a:xfrm>
            <a:off x="539640" y="104292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539640" y="1618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5097600"/>
            <a:ext cx="91440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要想学写字，就要先从笔画学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58920" y="4167360"/>
            <a:ext cx="6184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同学们也想学写字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343240" y="198900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  橡皮  田格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  写字  用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642280" y="4495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942240" y="4495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900000" y="1484280"/>
            <a:ext cx="914400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06"/>
                </a:solidFill>
                <a:latin typeface="Calibri"/>
                <a:ea typeface="楷体_GB2312"/>
              </a:rPr>
              <a:t>这是汉字的五个基本笔画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541880" y="4460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910240" y="4483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273920" y="4483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基本笔画"/>
          <p:cNvPicPr/>
          <p:nvPr/>
        </p:nvPicPr>
        <p:blipFill>
          <a:blip r:embed="rId1"/>
          <a:stretch/>
        </p:blipFill>
        <p:spPr>
          <a:xfrm>
            <a:off x="1116000" y="2924280"/>
            <a:ext cx="6807240" cy="1406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同侧圆角矩形 9"/>
          <p:cNvSpPr/>
          <p:nvPr/>
        </p:nvSpPr>
        <p:spPr>
          <a:xfrm>
            <a:off x="44784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47840" y="15444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11280" y="492120"/>
            <a:ext cx="7848360" cy="8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请同学跟着写一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1280" y="3660840"/>
            <a:ext cx="91440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46c06"/>
                </a:solidFill>
                <a:latin typeface="Calibri"/>
                <a:ea typeface="楷体_GB2312"/>
              </a:rPr>
              <a:t>　　汉字就是由笔画按照一定的顺序组成的，写字的时候要从左到右，从上到下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324000" y="2708280"/>
            <a:ext cx="2124000" cy="43488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916360" y="1773360"/>
            <a:ext cx="360360" cy="231912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4068720" y="2708280"/>
            <a:ext cx="719280" cy="57456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5003640" y="1773360"/>
            <a:ext cx="1305000" cy="215568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6804000" y="1701720"/>
            <a:ext cx="2160720" cy="215604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8"/>
          <p:cNvSpPr/>
          <p:nvPr/>
        </p:nvSpPr>
        <p:spPr>
          <a:xfrm>
            <a:off x="6459480" y="8431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6459480" y="141912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1:17Z</dcterms:created>
  <dc:creator/>
  <dc:description/>
  <dc:language>en-US</dc:language>
  <cp:lastModifiedBy/>
  <dcterms:modified xsi:type="dcterms:W3CDTF">2017-05-04T01:43:55Z</dcterms:modified>
  <cp:revision>5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