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1"/>
          <p:cNvSpPr/>
          <p:nvPr/>
        </p:nvSpPr>
        <p:spPr>
          <a:xfrm>
            <a:off x="2556000" y="1155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3   </a:t>
            </a:r>
            <a:r>
              <a:rPr b="1" lang="zh-CN" sz="5400" spc="-1" strike="noStrike">
                <a:solidFill>
                  <a:srgbClr val="0066ff"/>
                </a:solidFill>
                <a:latin typeface="MingLiU"/>
                <a:ea typeface="MingLiU"/>
              </a:rPr>
              <a:t>影   子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826920" y="2421000"/>
            <a:ext cx="51674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后影子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472000"/>
          </a:xfrm>
          <a:prstGeom prst="rect">
            <a:avLst/>
          </a:prstGeom>
          <a:ln w="0">
            <a:noFill/>
          </a:ln>
        </p:spPr>
      </p:pic>
      <p:sp>
        <p:nvSpPr>
          <p:cNvPr id="111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后影子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5472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gou"/>
          <p:cNvPicPr/>
          <p:nvPr/>
        </p:nvPicPr>
        <p:blipFill>
          <a:blip r:embed="rId2"/>
          <a:stretch/>
        </p:blipFill>
        <p:spPr>
          <a:xfrm rot="21404400">
            <a:off x="395280" y="2852640"/>
            <a:ext cx="3816360" cy="3227400"/>
          </a:xfrm>
          <a:prstGeom prst="rect">
            <a:avLst/>
          </a:prstGeom>
          <a:ln w="0">
            <a:noFill/>
          </a:ln>
        </p:spPr>
      </p:pic>
      <p:sp>
        <p:nvSpPr>
          <p:cNvPr id="114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24000" y="609480"/>
            <a:ext cx="467964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影  子  在  前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影  子  在  后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影  子  是 一  条  小  黑 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我 走 他 也 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62520" y="3733920"/>
            <a:ext cx="4724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影  子  在  左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影  子  在  右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影  子  是我的好朋友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我拍手他也拍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3520" y="304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ǐng zi   zài  qiá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6280" y="1066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ǐng zi   zài   hò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7280" y="175248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ǐng  zi    shì   yì   tiáo  xiǎo  hēi  gǒu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426960" y="240984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809880" y="3429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ǐng  zi    zài   zuǒ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809880" y="4191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ǐng  zi    zài   yò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733920" y="4876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ǐng zi shì  wǒ   de    hǎo péng yǒ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962520" y="56260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ǒ pāi shǒu tā yĕ pāi shǒ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2" descr="0002"/>
          <p:cNvPicPr/>
          <p:nvPr/>
        </p:nvPicPr>
        <p:blipFill>
          <a:blip r:embed="rId1"/>
          <a:stretch/>
        </p:blipFill>
        <p:spPr>
          <a:xfrm>
            <a:off x="5003640" y="765000"/>
            <a:ext cx="3657600" cy="266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0004"/>
          <p:cNvPicPr/>
          <p:nvPr/>
        </p:nvPicPr>
        <p:blipFill>
          <a:blip r:embed="rId2"/>
          <a:stretch/>
        </p:blipFill>
        <p:spPr>
          <a:xfrm>
            <a:off x="324000" y="3500280"/>
            <a:ext cx="3581280" cy="2733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380880" y="248904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ǒ zǒu tā yĕ zǒ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0070124133132976"/>
          <p:cNvPicPr/>
          <p:nvPr/>
        </p:nvPicPr>
        <p:blipFill>
          <a:blip r:embed="rId1"/>
          <a:stretch/>
        </p:blipFill>
        <p:spPr>
          <a:xfrm>
            <a:off x="0" y="765000"/>
            <a:ext cx="8496360" cy="5543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2209680" y="609480"/>
            <a:ext cx="556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前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后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是一条小黑狗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走它也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195640" y="3500280"/>
            <a:ext cx="59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左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右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是我的好朋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拍手他也拍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000320" y="609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999600" y="1295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037760" y="3500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964680" y="4149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923760" y="816840"/>
            <a:ext cx="729000" cy="59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读看看，我发现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图片 1" descr=""/>
          <p:cNvPicPr/>
          <p:nvPr/>
        </p:nvPicPr>
        <p:blipFill>
          <a:blip r:embed="rId2"/>
          <a:stretch/>
        </p:blipFill>
        <p:spPr>
          <a:xfrm>
            <a:off x="4191120" y="30481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5796000" y="981000"/>
            <a:ext cx="2779560" cy="1943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609920" y="2421000"/>
            <a:ext cx="394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前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   </a:t>
            </a:r>
            <a:r>
              <a:rPr b="1" lang="en-US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、 影子      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  像小黑狗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左         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后          是好朋友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   </a:t>
            </a:r>
            <a:br>
              <a:rPr sz="36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59640" y="450864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26920" y="2133720"/>
            <a:ext cx="678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影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简洁、生动、形象的语言，介绍了“影子”和“人”总是“形影不离”这一重要特点，读起来亲切上口，活泼俏皮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403280" y="18446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儿歌，是以低幼儿童为主要接受对象的具有民歌风味的简短诗歌。儿歌是民歌的一种，全国各地都有。内容多反映儿童的生活情趣，传播生活、生产知识等。歌词多采用比兴手法，词句音韵流畅，易于上口，曲调接近语言音调，节奏轻快，有独唱或对唱。儿歌中既有民间流传的童谣，也有作家创作的诗歌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小8"/>
          <p:cNvPicPr/>
          <p:nvPr/>
        </p:nvPicPr>
        <p:blipFill>
          <a:blip r:embed="rId1"/>
          <a:stretch/>
        </p:blipFill>
        <p:spPr>
          <a:xfrm>
            <a:off x="324000" y="76500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609480" y="1413000"/>
            <a:ext cx="853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我会说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我的前面是</a:t>
            </a:r>
            <a:r>
              <a:rPr b="1" lang="zh-CN" sz="5400" spc="-1" strike="noStrike" u="sng">
                <a:solidFill>
                  <a:srgbClr val="c0504d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我的后面是</a:t>
            </a:r>
            <a:r>
              <a:rPr b="1" lang="zh-CN" sz="5400" spc="-1" strike="noStrike" u="sng">
                <a:solidFill>
                  <a:srgbClr val="c0504d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我的左面是</a:t>
            </a:r>
            <a:r>
              <a:rPr b="1" lang="zh-CN" sz="5400" spc="-1" strike="noStrike" u="sng">
                <a:solidFill>
                  <a:srgbClr val="c0504d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我的右面是</a:t>
            </a:r>
            <a:r>
              <a:rPr b="1" lang="zh-CN" sz="5400" spc="-1" strike="noStrike" u="sng">
                <a:solidFill>
                  <a:srgbClr val="c0504d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同侧圆角矩形 2"/>
          <p:cNvSpPr/>
          <p:nvPr/>
        </p:nvSpPr>
        <p:spPr>
          <a:xfrm>
            <a:off x="539640" y="98100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547640" y="1916280"/>
            <a:ext cx="606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认识有关“影子”的一些现象。养成留心生活的习惯。感受“影子”带来的乐趣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小8"/>
          <p:cNvPicPr/>
          <p:nvPr/>
        </p:nvPicPr>
        <p:blipFill>
          <a:blip r:embed="rId1"/>
          <a:stretch/>
        </p:blipFill>
        <p:spPr>
          <a:xfrm>
            <a:off x="324000" y="836640"/>
            <a:ext cx="8459640" cy="5472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914400" y="152388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子在（    ）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子在（    ）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子是（        ）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子是（            ）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同侧圆角矩形 2"/>
          <p:cNvSpPr/>
          <p:nvPr/>
        </p:nvSpPr>
        <p:spPr>
          <a:xfrm>
            <a:off x="3952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689280" y="1413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689280" y="2276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638600" y="30178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条小黑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756600" y="37180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的好朋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602520" y="83664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根据课文内容填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_AIHLDM~%}QXTSTJQ}PZ`A5"/>
          <p:cNvPicPr/>
          <p:nvPr/>
        </p:nvPicPr>
        <p:blipFill>
          <a:blip r:embed="rId1"/>
          <a:stretch/>
        </p:blipFill>
        <p:spPr>
          <a:xfrm>
            <a:off x="179280" y="836640"/>
            <a:ext cx="8640720" cy="54277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0"/>
          <p:cNvGrpSpPr/>
          <p:nvPr/>
        </p:nvGrpSpPr>
        <p:grpSpPr>
          <a:xfrm>
            <a:off x="179280" y="765000"/>
            <a:ext cx="2256120" cy="569880"/>
            <a:chOff x="179280" y="765000"/>
            <a:chExt cx="2256120" cy="569880"/>
          </a:xfrm>
        </p:grpSpPr>
        <p:sp>
          <p:nvSpPr>
            <p:cNvPr id="43" name="直线连接符 21"/>
            <p:cNvSpPr/>
            <p:nvPr/>
          </p:nvSpPr>
          <p:spPr>
            <a:xfrm flipV="1">
              <a:off x="179280" y="1328760"/>
              <a:ext cx="225612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同侧圆角矩形 23"/>
            <p:cNvSpPr/>
            <p:nvPr/>
          </p:nvSpPr>
          <p:spPr>
            <a:xfrm>
              <a:off x="363240" y="765000"/>
              <a:ext cx="200052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Z2E]OQLF`OH1@8VX5Y6BEKW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10"/>
          <p:cNvGrpSpPr/>
          <p:nvPr/>
        </p:nvGrpSpPr>
        <p:grpSpPr>
          <a:xfrm>
            <a:off x="179280" y="765000"/>
            <a:ext cx="2256120" cy="569880"/>
            <a:chOff x="179280" y="765000"/>
            <a:chExt cx="2256120" cy="569880"/>
          </a:xfrm>
        </p:grpSpPr>
        <p:sp>
          <p:nvSpPr>
            <p:cNvPr id="47" name="直线连接符 21"/>
            <p:cNvSpPr/>
            <p:nvPr/>
          </p:nvSpPr>
          <p:spPr>
            <a:xfrm flipV="1">
              <a:off x="179280" y="1328760"/>
              <a:ext cx="225612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同侧圆角矩形 23"/>
            <p:cNvSpPr/>
            <p:nvPr/>
          </p:nvSpPr>
          <p:spPr>
            <a:xfrm>
              <a:off x="363240" y="765000"/>
              <a:ext cx="200052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`{]G_)E%4NYHXO)DPZ2B5SB"/>
          <p:cNvPicPr/>
          <p:nvPr/>
        </p:nvPicPr>
        <p:blipFill>
          <a:blip r:embed="rId1"/>
          <a:stretch/>
        </p:blipFill>
        <p:spPr>
          <a:xfrm>
            <a:off x="250920" y="866880"/>
            <a:ext cx="8569080" cy="537048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0"/>
          <p:cNvGrpSpPr/>
          <p:nvPr/>
        </p:nvGrpSpPr>
        <p:grpSpPr>
          <a:xfrm>
            <a:off x="179280" y="765000"/>
            <a:ext cx="2256120" cy="569880"/>
            <a:chOff x="179280" y="765000"/>
            <a:chExt cx="2256120" cy="569880"/>
          </a:xfrm>
        </p:grpSpPr>
        <p:sp>
          <p:nvSpPr>
            <p:cNvPr id="51" name="直线连接符 21"/>
            <p:cNvSpPr/>
            <p:nvPr/>
          </p:nvSpPr>
          <p:spPr>
            <a:xfrm flipV="1">
              <a:off x="179280" y="1328760"/>
              <a:ext cx="225612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同侧圆角矩形 23"/>
            <p:cNvSpPr/>
            <p:nvPr/>
          </p:nvSpPr>
          <p:spPr>
            <a:xfrm>
              <a:off x="363240" y="765000"/>
              <a:ext cx="200052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()FG8FKS5~A4VC]L0RJ4$ON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40072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10"/>
          <p:cNvGrpSpPr/>
          <p:nvPr/>
        </p:nvGrpSpPr>
        <p:grpSpPr>
          <a:xfrm>
            <a:off x="179280" y="765000"/>
            <a:ext cx="2256120" cy="569880"/>
            <a:chOff x="179280" y="765000"/>
            <a:chExt cx="2256120" cy="569880"/>
          </a:xfrm>
        </p:grpSpPr>
        <p:sp>
          <p:nvSpPr>
            <p:cNvPr id="55" name="直线连接符 21"/>
            <p:cNvSpPr/>
            <p:nvPr/>
          </p:nvSpPr>
          <p:spPr>
            <a:xfrm flipV="1">
              <a:off x="179280" y="1328760"/>
              <a:ext cx="225612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同侧圆角矩形 23"/>
            <p:cNvSpPr/>
            <p:nvPr/>
          </p:nvSpPr>
          <p:spPr>
            <a:xfrm>
              <a:off x="363240" y="765000"/>
              <a:ext cx="200052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70124133132976"/>
          <p:cNvPicPr/>
          <p:nvPr/>
        </p:nvPicPr>
        <p:blipFill>
          <a:blip r:embed="rId1"/>
          <a:stretch/>
        </p:blipFill>
        <p:spPr>
          <a:xfrm>
            <a:off x="395280" y="907920"/>
            <a:ext cx="8496360" cy="5329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55640" y="1341360"/>
            <a:ext cx="824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组合作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读一读（读读课文第二小节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比一比（第二小节和第一小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有什么不同？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说一说（你发现了什么？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同侧圆角矩形 1"/>
          <p:cNvSpPr/>
          <p:nvPr/>
        </p:nvSpPr>
        <p:spPr>
          <a:xfrm>
            <a:off x="539640" y="98100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图片1"/>
          <p:cNvPicPr/>
          <p:nvPr/>
        </p:nvPicPr>
        <p:blipFill>
          <a:blip r:embed="rId1"/>
          <a:stretch/>
        </p:blipFill>
        <p:spPr>
          <a:xfrm>
            <a:off x="250920" y="765000"/>
            <a:ext cx="8893080" cy="532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698920" y="4724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492360" y="472428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43498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é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492360" y="43498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 Narrow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643280" y="981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788000" y="25639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 Narrow"/>
              </a:rPr>
              <a:t>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771640" y="949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698920" y="299736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900000" y="1197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yǐ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556000" y="25639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84360" y="2997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84360" y="256392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ē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1371600" y="29718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1476360" y="25639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85800" y="43434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ē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611280" y="472428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403280" y="47656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1474920" y="43498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ǒ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4643280" y="292428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3352680" y="29718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3327480" y="9144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5191200" y="99072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900000" y="1628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1547640" y="162864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5257800" y="289548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4643280" y="620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 Narrow"/>
              </a:rPr>
              <a:t>hò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2773440" y="62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 Narrow"/>
              </a:rPr>
              <a:t>qi</a:t>
            </a:r>
            <a:r>
              <a:rPr b="1" lang="en-US" sz="2800" spc="-1" strike="noStrike">
                <a:solidFill>
                  <a:srgbClr val="1f497d"/>
                </a:solidFill>
                <a:latin typeface="宋体"/>
              </a:rPr>
              <a:t>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同侧圆角矩形 9"/>
          <p:cNvSpPr/>
          <p:nvPr/>
        </p:nvSpPr>
        <p:spPr>
          <a:xfrm>
            <a:off x="46836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图片1"/>
          <p:cNvPicPr/>
          <p:nvPr/>
        </p:nvPicPr>
        <p:blipFill>
          <a:blip r:embed="rId1"/>
          <a:stretch/>
        </p:blipFill>
        <p:spPr>
          <a:xfrm>
            <a:off x="324000" y="765000"/>
            <a:ext cx="8280360" cy="5575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698920" y="4724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492360" y="472428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643280" y="981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771640" y="949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698920" y="299736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84360" y="2997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371600" y="29718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11280" y="46926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403280" y="46926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643280" y="292428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348000" y="299736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3352680" y="99072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148360" y="981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84360" y="981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303200" y="9460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226120" y="289548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图片1"/>
          <p:cNvPicPr/>
          <p:nvPr/>
        </p:nvPicPr>
        <p:blipFill>
          <a:blip r:embed="rId1"/>
          <a:stretch/>
        </p:blipFill>
        <p:spPr>
          <a:xfrm>
            <a:off x="250920" y="836640"/>
            <a:ext cx="8893080" cy="5329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270080" y="26370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他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727520" y="2708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143160" y="3933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7T02:16:00Z</dcterms:created>
  <dc:creator/>
  <dc:description/>
  <dc:language>en-US</dc:language>
  <cp:lastModifiedBy>Administrator</cp:lastModifiedBy>
  <dcterms:modified xsi:type="dcterms:W3CDTF">2017-09-26T06:47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