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1"/>
          <p:cNvSpPr/>
          <p:nvPr/>
        </p:nvSpPr>
        <p:spPr>
          <a:xfrm>
            <a:off x="2556000" y="1155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5</a:t>
            </a:r>
            <a:r>
              <a:rPr b="1" lang="zh-CN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、请 星 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图片1"/>
          <p:cNvPicPr/>
          <p:nvPr/>
        </p:nvPicPr>
        <p:blipFill>
          <a:blip r:embed="rId1"/>
          <a:stretch/>
        </p:blipFill>
        <p:spPr>
          <a:xfrm>
            <a:off x="250920" y="765000"/>
            <a:ext cx="8675640" cy="5472360"/>
          </a:xfrm>
          <a:prstGeom prst="rect">
            <a:avLst/>
          </a:prstGeom>
          <a:ln w="0">
            <a:noFill/>
          </a:ln>
        </p:spPr>
      </p:pic>
      <p:sp>
        <p:nvSpPr>
          <p:cNvPr id="95" name="同侧圆角矩形 2"/>
          <p:cNvSpPr/>
          <p:nvPr/>
        </p:nvSpPr>
        <p:spPr>
          <a:xfrm>
            <a:off x="53964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线连接符 21"/>
          <p:cNvSpPr/>
          <p:nvPr/>
        </p:nvSpPr>
        <p:spPr>
          <a:xfrm flipV="1">
            <a:off x="611280" y="148428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F:\七彩课堂插图板式封面\排版用图标、页眉页脚\标题图（终-排版用）共29个\我会说.jpg"/>
          <p:cNvPicPr/>
          <p:nvPr/>
        </p:nvPicPr>
        <p:blipFill>
          <a:blip r:embed="rId2"/>
          <a:stretch/>
        </p:blipFill>
        <p:spPr>
          <a:xfrm>
            <a:off x="485640" y="4508640"/>
            <a:ext cx="2232000" cy="1657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476360" y="155736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星光闪闪的夜空中，一弯新月就像一艘小船一样。院子里的小姑娘走着月亮船来到天空中请星星到家中做客，这是多么美妙的情景呀！等我长大了，我也会成为一名宇航员，到太空中请星星和太阳到我家里来做客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4" descr="图片1"/>
          <p:cNvPicPr/>
          <p:nvPr/>
        </p:nvPicPr>
        <p:blipFill>
          <a:blip r:embed="rId1"/>
          <a:stretch/>
        </p:blipFill>
        <p:spPr>
          <a:xfrm>
            <a:off x="250920" y="765000"/>
            <a:ext cx="8675640" cy="5472360"/>
          </a:xfrm>
          <a:prstGeom prst="rect">
            <a:avLst/>
          </a:prstGeom>
          <a:ln w="0">
            <a:noFill/>
          </a:ln>
        </p:spPr>
      </p:pic>
      <p:sp>
        <p:nvSpPr>
          <p:cNvPr id="100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71760" y="2131920"/>
            <a:ext cx="6273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看拼音写词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uè  liang     zhĭ  yǒu    lái   huí    lĭ  mi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   ） （            ）（        ）（ 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uè  guāng     zhĭ  hăo      lái  qù    shǒu  l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       ）（           ）（         ）（ 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照样子，写句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：月亮弯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像只小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亮圆圆像（                               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闪烁的星星像（                            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342520" y="287172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月    亮          只   有      来    回    里   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354760" y="359244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月      光          只    好       来  去       手   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529160" y="464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张笑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636440" y="5013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亮晶晶的宝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4" descr="图片1"/>
          <p:cNvPicPr/>
          <p:nvPr/>
        </p:nvPicPr>
        <p:blipFill>
          <a:blip r:embed="rId1"/>
          <a:stretch/>
        </p:blipFill>
        <p:spPr>
          <a:xfrm>
            <a:off x="250920" y="765000"/>
            <a:ext cx="8675640" cy="547236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"/>
          <p:cNvSpPr/>
          <p:nvPr/>
        </p:nvSpPr>
        <p:spPr>
          <a:xfrm>
            <a:off x="1545840" y="3141720"/>
            <a:ext cx="33537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xiǎo chuán   yáo   yá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小 船  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摇 摇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yáo   dào   tiān     biā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摇 到 天  边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01360" y="549360"/>
            <a:ext cx="31615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yuè  liang wān  wā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月亮 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弯  弯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xiàng zhī xiǎo chu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像 只小 船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月亮小孩"/>
          <p:cNvPicPr/>
          <p:nvPr/>
        </p:nvPicPr>
        <p:blipFill>
          <a:blip r:embed="rId2"/>
          <a:stretch/>
        </p:blipFill>
        <p:spPr>
          <a:xfrm rot="21195600">
            <a:off x="6043320" y="658440"/>
            <a:ext cx="2652480" cy="319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4" descr="图片1"/>
          <p:cNvPicPr/>
          <p:nvPr/>
        </p:nvPicPr>
        <p:blipFill>
          <a:blip r:embed="rId1"/>
          <a:stretch/>
        </p:blipFill>
        <p:spPr>
          <a:xfrm>
            <a:off x="250920" y="765000"/>
            <a:ext cx="8675640" cy="547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月亮小孩"/>
          <p:cNvPicPr/>
          <p:nvPr/>
        </p:nvPicPr>
        <p:blipFill>
          <a:blip r:embed="rId2"/>
          <a:stretch/>
        </p:blipFill>
        <p:spPr>
          <a:xfrm rot="21195600">
            <a:off x="6084360" y="691920"/>
            <a:ext cx="2652840" cy="3192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242800" y="3787920"/>
            <a:ext cx="5580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tiān  biān  qǐng    lái   xiǎo   xīng  x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天 边 请 来 小 星  星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190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1903"/>
                </a:solidFill>
                <a:latin typeface="Arial"/>
              </a:rPr>
              <a:t>xī    xī     hā     hā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     zuò   mǎn  chu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嘻嘻 哈 哈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 坐 满  船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 rot="19960800">
            <a:off x="684360" y="764640"/>
            <a:ext cx="877680" cy="98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f1903"/>
                </a:solidFill>
                <a:latin typeface="Arial"/>
              </a:rPr>
              <a:t>xī</a:t>
            </a:r>
            <a:r>
              <a:rPr b="0" lang="en-US" sz="1600" spc="-1" strike="noStrike">
                <a:solidFill>
                  <a:srgbClr val="ef190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f1903"/>
                </a:solidFill>
                <a:latin typeface="Arial"/>
              </a:rPr>
              <a:t>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5"/>
          <p:cNvSpPr/>
          <p:nvPr/>
        </p:nvSpPr>
        <p:spPr>
          <a:xfrm rot="744000">
            <a:off x="1474560" y="703440"/>
            <a:ext cx="1008000" cy="1062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1903"/>
                </a:solidFill>
                <a:latin typeface="Arial"/>
              </a:rPr>
              <a:t>xī</a:t>
            </a:r>
            <a:r>
              <a:rPr b="0" lang="en-US" sz="1600" spc="-1" strike="noStrike">
                <a:solidFill>
                  <a:srgbClr val="ef190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f1903"/>
                </a:solidFill>
                <a:latin typeface="Arial"/>
              </a:rPr>
              <a:t>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6"/>
          <p:cNvSpPr/>
          <p:nvPr/>
        </p:nvSpPr>
        <p:spPr>
          <a:xfrm rot="3166800">
            <a:off x="2050200" y="1332360"/>
            <a:ext cx="865080" cy="727200"/>
          </a:xfrm>
          <a:custGeom>
            <a:avLst/>
            <a:gdLst/>
            <a:ahLst/>
            <a:rect l="l" t="t" r="r" b="b"/>
            <a:pathLst>
              <a:path w="865187" h="727075">
                <a:moveTo>
                  <a:pt x="0" y="277717"/>
                </a:moveTo>
                <a:lnTo>
                  <a:pt x="330473" y="277719"/>
                </a:lnTo>
                <a:lnTo>
                  <a:pt x="432593" y="0"/>
                </a:lnTo>
                <a:lnTo>
                  <a:pt x="534713" y="277719"/>
                </a:lnTo>
                <a:lnTo>
                  <a:pt x="865186" y="277717"/>
                </a:lnTo>
                <a:lnTo>
                  <a:pt x="597826" y="449355"/>
                </a:lnTo>
                <a:lnTo>
                  <a:pt x="699950" y="727073"/>
                </a:lnTo>
                <a:lnTo>
                  <a:pt x="432593" y="555432"/>
                </a:lnTo>
                <a:lnTo>
                  <a:pt x="165236" y="727073"/>
                </a:lnTo>
                <a:lnTo>
                  <a:pt x="267360" y="449355"/>
                </a:lnTo>
                <a:lnTo>
                  <a:pt x="0" y="2777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7"/>
          <p:cNvSpPr/>
          <p:nvPr/>
        </p:nvSpPr>
        <p:spPr>
          <a:xfrm rot="19875000">
            <a:off x="2627280" y="620280"/>
            <a:ext cx="936720" cy="1008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1903"/>
                </a:solidFill>
                <a:latin typeface="Arial"/>
              </a:rPr>
              <a:t>h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f1903"/>
                </a:solidFill>
                <a:latin typeface="Arial"/>
              </a:rPr>
              <a:t>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8"/>
          <p:cNvSpPr/>
          <p:nvPr/>
        </p:nvSpPr>
        <p:spPr>
          <a:xfrm rot="4084200">
            <a:off x="616680" y="1900800"/>
            <a:ext cx="911160" cy="931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1903"/>
                </a:solidFill>
                <a:latin typeface="Arial"/>
              </a:rPr>
              <a:t>h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f1903"/>
                </a:solidFill>
                <a:latin typeface="Arial"/>
              </a:rPr>
              <a:t>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9"/>
          <p:cNvSpPr/>
          <p:nvPr/>
        </p:nvSpPr>
        <p:spPr>
          <a:xfrm rot="3166800">
            <a:off x="1189080" y="2484000"/>
            <a:ext cx="790560" cy="657360"/>
          </a:xfrm>
          <a:custGeom>
            <a:avLst/>
            <a:gdLst/>
            <a:ahLst/>
            <a:rect l="l" t="t" r="r" b="b"/>
            <a:pathLst>
              <a:path w="790575" h="655637">
                <a:moveTo>
                  <a:pt x="0" y="250430"/>
                </a:moveTo>
                <a:lnTo>
                  <a:pt x="301974" y="250432"/>
                </a:lnTo>
                <a:lnTo>
                  <a:pt x="395287" y="0"/>
                </a:lnTo>
                <a:lnTo>
                  <a:pt x="488600" y="250432"/>
                </a:lnTo>
                <a:lnTo>
                  <a:pt x="790574" y="250430"/>
                </a:lnTo>
                <a:lnTo>
                  <a:pt x="546271" y="405204"/>
                </a:lnTo>
                <a:lnTo>
                  <a:pt x="639588" y="655635"/>
                </a:lnTo>
                <a:lnTo>
                  <a:pt x="395287" y="500858"/>
                </a:lnTo>
                <a:lnTo>
                  <a:pt x="150986" y="655635"/>
                </a:lnTo>
                <a:lnTo>
                  <a:pt x="244303" y="405204"/>
                </a:lnTo>
                <a:lnTo>
                  <a:pt x="0" y="25043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7229E-006 C 0.01111 0.03724 0.0224 0.07448 0.05417 0.09091 C 0.08594 0.10733 0.14289 0.10895 0.19063 0.09877 C 0.23837 0.08859 0.26823 0.05968 0.34115 0.02984 C 0.41407 2.57228999999901E-006 0.58264 -0.06732 0.6283 -0.07981 C 0.67396 -0.0923 0.61754 -0.062 0.61493 -0.04557 C 0.61233 -0.02915 0.61302 0.00532 0.6125 0.01873 E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1818E-006 C 0.01892 0.06338 0.0382 0.12815 0.0651 0.15383 C 0.09167 0.18043 0.12552 0.16493 0.16094 0.1566 C 0.19653 0.14827 0.2375 0.1337 0.27778 0.10363 C 0.31806 0.0731 0.36545 -0.01111 0.40313 -0.02498 C 0.44167 -0.03886 0.48438 -0.00486 0.50695 0.01943 C 0.52951 0.04372 0.5316 0.09993 0.5382 0.12121 E">
                                      <p:cBhvr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67453E-006 C 0.01875 0.0354 0.03768 0.07079 0.06129 0.08629 C 0.0849 0.10179 0.11268 0.09924 0.14132 0.09253 C 0.16997 0.08583 0.19393 0.04905 0.23299 0.04534 C 0.27205 0.04164 0.33316 0.05182 0.37518 0.07056 C 0.41754 0.0893 0.46736 0.14342 0.48594 0.15823 E"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113E-007 C 0.03003 0.01967 0.06007 0.03956 0.09427 0.05159 C 0.12847 0.06362 0.17378 0.07287 0.20486 0.07194 C 0.23594 0.07102 0.25556 0.04419 0.28125 0.04534 C 0.30694 0.0465 0.32882 0.06685 0.35885 0.07842 C 0.38889 0.08999 0.42326 0.11173 0.46128 0.11428 C 0.49913 0.11682 0.53819 0.10872 0.58715 0.09392 C 0.63611 0.07911 0.69566 0.05205 0.75538 0.02499 E"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4386E-006 C 0.00834 0.03816 0.01667 0.07656 0.04462 0.09252 C 0.07257 0.10848 0.13524 0.08304 0.16823 0.09576 C 0.20122 0.10848 0.19584 0.13393 0.24236 0.16932 C 0.28889 0.20471 0.40469 0.2792 0.4474 0.30811 E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0324 C 0.02847 0.0037 0.06076 0.01064 0.09878 0.03424 C 0.1368 0.05783 0.17778 0.1233 0.22465 0.13787 C 0.27153 0.15244 0.32691 0.1189 0.37986 0.12214 C 0.43281 0.12538 0.48107 0.15453 0.54236 0.15661 C 0.60364 0.15869 0.70521 0.1388 0.74809 0.13417 E">
                                      <p:cBhvr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图片1"/>
          <p:cNvPicPr/>
          <p:nvPr/>
        </p:nvPicPr>
        <p:blipFill>
          <a:blip r:embed="rId1"/>
          <a:stretch/>
        </p:blipFill>
        <p:spPr>
          <a:xfrm>
            <a:off x="250920" y="765000"/>
            <a:ext cx="8675640" cy="547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月亮小孩"/>
          <p:cNvPicPr/>
          <p:nvPr/>
        </p:nvPicPr>
        <p:blipFill>
          <a:blip r:embed="rId2"/>
          <a:stretch/>
        </p:blipFill>
        <p:spPr>
          <a:xfrm rot="21195600">
            <a:off x="5363640" y="620280"/>
            <a:ext cx="2652840" cy="319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007g"/>
          <p:cNvPicPr/>
          <p:nvPr/>
        </p:nvPicPr>
        <p:blipFill>
          <a:blip r:embed="rId3"/>
          <a:stretch/>
        </p:blipFill>
        <p:spPr>
          <a:xfrm rot="2284200">
            <a:off x="7164360" y="2707920"/>
            <a:ext cx="79236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007g"/>
          <p:cNvPicPr/>
          <p:nvPr/>
        </p:nvPicPr>
        <p:blipFill>
          <a:blip r:embed="rId4"/>
          <a:stretch/>
        </p:blipFill>
        <p:spPr>
          <a:xfrm rot="1011000">
            <a:off x="6876720" y="270828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07g"/>
          <p:cNvPicPr/>
          <p:nvPr/>
        </p:nvPicPr>
        <p:blipFill>
          <a:blip r:embed="rId5"/>
          <a:stretch/>
        </p:blipFill>
        <p:spPr>
          <a:xfrm rot="19777200">
            <a:off x="6156000" y="764640"/>
            <a:ext cx="712800" cy="88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08h"/>
          <p:cNvPicPr/>
          <p:nvPr/>
        </p:nvPicPr>
        <p:blipFill>
          <a:blip r:embed="rId6"/>
          <a:stretch/>
        </p:blipFill>
        <p:spPr>
          <a:xfrm>
            <a:off x="6084720" y="220500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05e"/>
          <p:cNvPicPr/>
          <p:nvPr/>
        </p:nvPicPr>
        <p:blipFill>
          <a:blip r:embed="rId7"/>
          <a:stretch/>
        </p:blipFill>
        <p:spPr>
          <a:xfrm>
            <a:off x="6588000" y="2708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007g"/>
          <p:cNvPicPr/>
          <p:nvPr/>
        </p:nvPicPr>
        <p:blipFill>
          <a:blip r:embed="rId8"/>
          <a:stretch/>
        </p:blipFill>
        <p:spPr>
          <a:xfrm rot="20938800">
            <a:off x="5795640" y="177336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008h"/>
          <p:cNvPicPr/>
          <p:nvPr/>
        </p:nvPicPr>
        <p:blipFill>
          <a:blip r:embed="rId9"/>
          <a:stretch/>
        </p:blipFill>
        <p:spPr>
          <a:xfrm rot="19505400">
            <a:off x="6012000" y="141264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005e"/>
          <p:cNvPicPr/>
          <p:nvPr/>
        </p:nvPicPr>
        <p:blipFill>
          <a:blip r:embed="rId10"/>
          <a:stretch/>
        </p:blipFill>
        <p:spPr>
          <a:xfrm>
            <a:off x="6804000" y="292428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189720" y="3519360"/>
            <a:ext cx="578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chu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x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ī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x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zh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j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满船星星眨眼睛</a:t>
            </a:r>
            <a:r>
              <a:rPr b="1" lang="en-US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l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i d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o w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ǒ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ji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u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li w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来到我家院里玩</a:t>
            </a:r>
            <a:r>
              <a:rPr b="0" lang="zh-CN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987640" y="38606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f1903"/>
                </a:solidFill>
                <a:latin typeface="Arial"/>
              </a:rPr>
              <a:t>眨眼睛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2D1219ES0-121436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472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547640" y="1413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655640" y="1052640"/>
            <a:ext cx="7488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yu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è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  li</a:t>
            </a:r>
            <a:r>
              <a:rPr b="1" lang="en-US" sz="2000" spc="-1" strike="noStrike">
                <a:solidFill>
                  <a:srgbClr val="eae523"/>
                </a:solidFill>
                <a:latin typeface="宋体"/>
              </a:rPr>
              <a:t>a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 w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w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   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iàng zhī xiǎo chuá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月    亮     弯    弯，   像   只  小   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19280" y="2133720"/>
            <a:ext cx="734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iǎo chuán   yáo   yáo        yáo   dào   tiān   biā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小     船     摇   摇，   摇    到   天   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47640" y="3141720"/>
            <a:ext cx="5183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tiān  biān  qǐng    lái   xiǎo   xīng  x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天   边    请    来  小     星   星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52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ī    xī     hā     hā     zuò   mǎn  chuá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嘻   嘻   哈   哈     坐    满  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619280" y="4797360"/>
            <a:ext cx="506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m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chu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x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ī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x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zh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j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满  船  星  星 眨 眼  睛</a:t>
            </a:r>
            <a:r>
              <a:rPr b="1" lang="en-US" sz="2400" spc="-1" strike="noStrike">
                <a:solidFill>
                  <a:srgbClr val="eae523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l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i d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o w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ǒ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ji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u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li w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来 到 我 家 院 里 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alibri"/>
                <a:ea typeface="黑体"/>
              </a:rPr>
              <a:t>5</a:t>
            </a:r>
            <a:r>
              <a:rPr b="0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r>
              <a:rPr b="0" lang="zh-CN" sz="4800" spc="-1" strike="noStrike">
                <a:solidFill>
                  <a:srgbClr val="ff3300"/>
                </a:solidFill>
                <a:latin typeface="Calibri"/>
                <a:ea typeface="黑体"/>
              </a:rPr>
              <a:t>请   星   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图片1"/>
          <p:cNvPicPr/>
          <p:nvPr/>
        </p:nvPicPr>
        <p:blipFill>
          <a:blip r:embed="rId1"/>
          <a:stretch/>
        </p:blipFill>
        <p:spPr>
          <a:xfrm>
            <a:off x="250920" y="765000"/>
            <a:ext cx="8675640" cy="5472360"/>
          </a:xfrm>
          <a:prstGeom prst="rect">
            <a:avLst/>
          </a:prstGeom>
          <a:ln w="0">
            <a:noFill/>
          </a:ln>
        </p:spPr>
      </p:pic>
      <p:sp>
        <p:nvSpPr>
          <p:cNvPr id="7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5796000" y="981000"/>
            <a:ext cx="2779560" cy="19432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016720" y="2735280"/>
            <a:ext cx="46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月亮船摇到天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请星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小星星坐满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星星来到我家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2771640" y="306864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771640" y="3645000"/>
            <a:ext cx="1008360" cy="57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图片1"/>
          <p:cNvPicPr/>
          <p:nvPr/>
        </p:nvPicPr>
        <p:blipFill>
          <a:blip r:embed="rId1"/>
          <a:stretch/>
        </p:blipFill>
        <p:spPr>
          <a:xfrm>
            <a:off x="250920" y="765000"/>
            <a:ext cx="8675640" cy="5472360"/>
          </a:xfrm>
          <a:prstGeom prst="rect">
            <a:avLst/>
          </a:prstGeom>
          <a:ln w="0">
            <a:noFill/>
          </a:ln>
        </p:spPr>
      </p:pic>
      <p:sp>
        <p:nvSpPr>
          <p:cNvPr id="80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F:\七彩课堂插图板式封面\排版用图标、页眉页脚\标题图（终-排版用）共29个\概括主题.jpg"/>
          <p:cNvPicPr/>
          <p:nvPr/>
        </p:nvPicPr>
        <p:blipFill>
          <a:blip r:embed="rId2"/>
          <a:stretch/>
        </p:blipFill>
        <p:spPr>
          <a:xfrm>
            <a:off x="6659640" y="450864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900000" y="2276640"/>
            <a:ext cx="75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本文是一首儿歌，描写了小女孩幻想坐着月亮船与星星嬉戏的神奇图景，语言优美，形象而奇妙的比喻激发了我们对夜空的向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图片1"/>
          <p:cNvPicPr/>
          <p:nvPr/>
        </p:nvPicPr>
        <p:blipFill>
          <a:blip r:embed="rId1"/>
          <a:stretch/>
        </p:blipFill>
        <p:spPr>
          <a:xfrm>
            <a:off x="250920" y="765000"/>
            <a:ext cx="8675640" cy="5472360"/>
          </a:xfrm>
          <a:prstGeom prst="rect">
            <a:avLst/>
          </a:prstGeom>
          <a:ln w="0">
            <a:noFill/>
          </a:ln>
        </p:spPr>
      </p:pic>
      <p:sp>
        <p:nvSpPr>
          <p:cNvPr id="8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F:\七彩课堂插图板式封面\排版用图标、页眉页脚\标题图（终-排版用）共29个\写法宝典.jpg"/>
          <p:cNvPicPr/>
          <p:nvPr/>
        </p:nvPicPr>
        <p:blipFill>
          <a:blip r:embed="rId2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971640" y="234936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想象  是人在脑子中凭借记忆所提供的材料进行加工，从而产生新的形象的心理过程。也就是人们将过去经验中已形成的一些暂时联系进行新的结合。课文中写道的“嘻嘻哈哈坐满船、来到我家里玩”这些都是想象。想象是一种能够突破时间和空间的束缚，反映客观世界的一种形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4" descr="图片1"/>
          <p:cNvPicPr/>
          <p:nvPr/>
        </p:nvPicPr>
        <p:blipFill>
          <a:blip r:embed="rId1"/>
          <a:stretch/>
        </p:blipFill>
        <p:spPr>
          <a:xfrm>
            <a:off x="250920" y="765000"/>
            <a:ext cx="8675640" cy="5472360"/>
          </a:xfrm>
          <a:prstGeom prst="rect">
            <a:avLst/>
          </a:prstGeom>
          <a:ln w="0">
            <a:noFill/>
          </a:ln>
        </p:spPr>
      </p:pic>
      <p:sp>
        <p:nvSpPr>
          <p:cNvPr id="90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F:\七彩课堂插图板式封面\排版用图标、页眉页脚\标题图（终-排版用）共29个\拓展延伸.jpg"/>
          <p:cNvPicPr/>
          <p:nvPr/>
        </p:nvPicPr>
        <p:blipFill>
          <a:blip r:embed="rId2"/>
          <a:stretch/>
        </p:blipFill>
        <p:spPr>
          <a:xfrm>
            <a:off x="6516720" y="4437000"/>
            <a:ext cx="2368440" cy="1656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3549240" y="2048040"/>
            <a:ext cx="21009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关星空的谚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、星星稀，好天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、星星明，来日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、夜里星光明，明天依旧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、星稀天气凉，星密太阳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06:57:38Z</dcterms:created>
  <dc:creator/>
  <dc:description/>
  <dc:language>en-US</dc:language>
  <cp:lastModifiedBy>Administrator</cp:lastModifiedBy>
  <dcterms:modified xsi:type="dcterms:W3CDTF">2017-09-26T07:01:2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