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0.gif" ContentType="image/gif"/>
  <Override PartName="/ppt/media/image9.gif" ContentType="image/gif"/>
  <Override PartName="/ppt/media/image8.gif" ContentType="image/gif"/>
  <Override PartName="/ppt/media/image17.jpeg" ContentType="image/jpeg"/>
  <Override PartName="/ppt/media/image11.jpeg" ContentType="image/jpeg"/>
  <Override PartName="/ppt/media/chimes.wav" ContentType="audio/x-wav"/>
  <Override PartName="/ppt/media/image16.jpeg" ContentType="image/jpeg"/>
  <Override PartName="/ppt/media/image7.gif" ContentType="image/gif"/>
  <Override PartName="/ppt/media/image15.jpeg" ContentType="image/jpeg"/>
  <Override PartName="/ppt/media/image14.jpeg" ContentType="image/jpeg"/>
  <Override PartName="/ppt/media/image5.png" ContentType="image/png"/>
  <Override PartName="/ppt/media/image4.gif" ContentType="image/gif"/>
  <Override PartName="/ppt/media/image1.jpeg" ContentType="image/jpeg"/>
  <Override PartName="/ppt/media/image2.jpeg" ContentType="image/jpeg"/>
  <Override PartName="/ppt/media/image3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E9B0-C4A3-4B19-A3EF-9009596F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D1FC-D754-46FB-ADE5-4164FCC1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6D9C-4A23-4235-BDFD-23940935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EDCF-EBD3-49F0-BC3F-BC7F241D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3FDD-524F-42D8-96A2-E167C9EB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7086-3EC9-4826-ADEB-A2C8533D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B39C-C94E-4FE9-853E-AF5B4729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B596-4C28-4934-8B3C-5E5A35D5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076D-1CEA-4F35-9365-B280F2AE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6E77-3553-4414-8107-E65AACFB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7FCB-ABAF-4FF6-A1B8-156A6048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B56D-D5D4-4BCF-847F-D6685B8F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79CD-8B10-480D-8DD2-5E77CC6B4E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image" Target="../media/image3.gif"/><Relationship Id="rId27" Type="http://schemas.openxmlformats.org/officeDocument/2006/relationships/image" Target="../media/image3.gi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image" Target="../media/image3.gif"/><Relationship Id="rId27" Type="http://schemas.openxmlformats.org/officeDocument/2006/relationships/image" Target="../media/image3.gi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3.gif"/><Relationship Id="rId43" Type="http://schemas.openxmlformats.org/officeDocument/2006/relationships/image" Target="../media/image3.gif"/><Relationship Id="rId44" Type="http://schemas.openxmlformats.org/officeDocument/2006/relationships/image" Target="../media/image3.gif"/><Relationship Id="rId45" Type="http://schemas.openxmlformats.org/officeDocument/2006/relationships/image" Target="../media/image3.gif"/><Relationship Id="rId46" Type="http://schemas.openxmlformats.org/officeDocument/2006/relationships/image" Target="../media/image3.gif"/><Relationship Id="rId47" Type="http://schemas.openxmlformats.org/officeDocument/2006/relationships/image" Target="../media/image3.gif"/><Relationship Id="rId48" Type="http://schemas.openxmlformats.org/officeDocument/2006/relationships/image" Target="../media/image3.gif"/><Relationship Id="rId49" Type="http://schemas.openxmlformats.org/officeDocument/2006/relationships/image" Target="../media/image3.gif"/><Relationship Id="rId50" Type="http://schemas.openxmlformats.org/officeDocument/2006/relationships/image" Target="../media/image3.gif"/><Relationship Id="rId51" Type="http://schemas.openxmlformats.org/officeDocument/2006/relationships/image" Target="../media/image3.gif"/><Relationship Id="rId52" Type="http://schemas.openxmlformats.org/officeDocument/2006/relationships/audio" Target="../media/chimes.wav"/><Relationship Id="rId53" Type="http://schemas.openxmlformats.org/officeDocument/2006/relationships/audio" Target="../media/chimes.wav"/><Relationship Id="rId54" Type="http://schemas.openxmlformats.org/officeDocument/2006/relationships/audio" Target="../media/chimes.wav"/><Relationship Id="rId55" Type="http://schemas.openxmlformats.org/officeDocument/2006/relationships/audio" Target="../media/chimes.wav"/><Relationship Id="rId56" Type="http://schemas.openxmlformats.org/officeDocument/2006/relationships/audio" Target="../media/chimes.wav"/><Relationship Id="rId57" Type="http://schemas.openxmlformats.org/officeDocument/2006/relationships/audio" Target="../media/chimes.wav"/><Relationship Id="rId58" Type="http://schemas.openxmlformats.org/officeDocument/2006/relationships/audio" Target="../media/chimes.wav"/><Relationship Id="rId59" Type="http://schemas.openxmlformats.org/officeDocument/2006/relationships/audio" Target="../media/chimes.wav"/><Relationship Id="rId60" Type="http://schemas.openxmlformats.org/officeDocument/2006/relationships/audio" Target="../media/chimes.wav"/><Relationship Id="rId61" Type="http://schemas.openxmlformats.org/officeDocument/2006/relationships/audio" Target="../media/chimes.wav"/><Relationship Id="rId62" Type="http://schemas.openxmlformats.org/officeDocument/2006/relationships/audio" Target="../media/chimes.wav"/><Relationship Id="rId63" Type="http://schemas.openxmlformats.org/officeDocument/2006/relationships/audio" Target="../media/chimes.wav"/><Relationship Id="rId64" Type="http://schemas.openxmlformats.org/officeDocument/2006/relationships/audio" Target="../media/chimes.wav"/><Relationship Id="rId65" Type="http://schemas.openxmlformats.org/officeDocument/2006/relationships/audio" Target="../media/chimes.wav"/><Relationship Id="rId66" Type="http://schemas.openxmlformats.org/officeDocument/2006/relationships/audio" Target="../media/chimes.wav"/><Relationship Id="rId67" Type="http://schemas.openxmlformats.org/officeDocument/2006/relationships/audio" Target="../media/chimes.wav"/><Relationship Id="rId68" Type="http://schemas.openxmlformats.org/officeDocument/2006/relationships/audio" Target="../media/chimes.wav"/><Relationship Id="rId69" Type="http://schemas.openxmlformats.org/officeDocument/2006/relationships/audio" Target="../media/chimes.wav"/><Relationship Id="rId70" Type="http://schemas.openxmlformats.org/officeDocument/2006/relationships/audio" Target="../media/chimes.wav"/><Relationship Id="rId71" Type="http://schemas.openxmlformats.org/officeDocument/2006/relationships/audio" Target="../media/chimes.wav"/><Relationship Id="rId7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9393" descr="26024_201004062214181PXPH"/>
          <p:cNvPicPr/>
          <p:nvPr/>
        </p:nvPicPr>
        <p:blipFill>
          <a:blip r:embed="rId1"/>
          <a:stretch/>
        </p:blipFill>
        <p:spPr>
          <a:xfrm>
            <a:off x="1440" y="-7920"/>
            <a:ext cx="918072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59394"/>
          <p:cNvSpPr/>
          <p:nvPr/>
        </p:nvSpPr>
        <p:spPr>
          <a:xfrm>
            <a:off x="179280" y="476280"/>
            <a:ext cx="87487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ǐ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ng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xīng  x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en-US" sz="9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5</a:t>
            </a:r>
            <a:r>
              <a:rPr b="1" lang="en-US" sz="7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9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请</a:t>
            </a:r>
            <a:r>
              <a:rPr b="1" lang="zh-CN" sz="9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星 星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59395" descr="01"/>
          <p:cNvPicPr/>
          <p:nvPr/>
        </p:nvPicPr>
        <p:blipFill>
          <a:blip r:embed="rId2"/>
          <a:stretch/>
        </p:blipFill>
        <p:spPr>
          <a:xfrm>
            <a:off x="6372360" y="33336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59396" descr="01"/>
          <p:cNvPicPr/>
          <p:nvPr/>
        </p:nvPicPr>
        <p:blipFill>
          <a:blip r:embed="rId3"/>
          <a:stretch/>
        </p:blipFill>
        <p:spPr>
          <a:xfrm>
            <a:off x="0" y="328464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59397" descr="01"/>
          <p:cNvPicPr/>
          <p:nvPr/>
        </p:nvPicPr>
        <p:blipFill>
          <a:blip r:embed="rId4"/>
          <a:stretch/>
        </p:blipFill>
        <p:spPr>
          <a:xfrm>
            <a:off x="7164360" y="4221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9398" descr="01"/>
          <p:cNvPicPr/>
          <p:nvPr/>
        </p:nvPicPr>
        <p:blipFill>
          <a:blip r:embed="rId5"/>
          <a:stretch/>
        </p:blipFill>
        <p:spPr>
          <a:xfrm>
            <a:off x="3564000" y="33336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9399" descr="01"/>
          <p:cNvPicPr/>
          <p:nvPr/>
        </p:nvPicPr>
        <p:blipFill>
          <a:blip r:embed="rId6"/>
          <a:stretch/>
        </p:blipFill>
        <p:spPr>
          <a:xfrm>
            <a:off x="7524720" y="981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59400" descr="01"/>
          <p:cNvPicPr/>
          <p:nvPr/>
        </p:nvPicPr>
        <p:blipFill>
          <a:blip r:embed="rId7"/>
          <a:stretch/>
        </p:blipFill>
        <p:spPr>
          <a:xfrm>
            <a:off x="324000" y="11970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59401" descr="01"/>
          <p:cNvPicPr/>
          <p:nvPr/>
        </p:nvPicPr>
        <p:blipFill>
          <a:blip r:embed="rId8"/>
          <a:stretch/>
        </p:blipFill>
        <p:spPr>
          <a:xfrm>
            <a:off x="6659640" y="141300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59402" descr="01"/>
          <p:cNvPicPr/>
          <p:nvPr/>
        </p:nvPicPr>
        <p:blipFill>
          <a:blip r:embed="rId9"/>
          <a:stretch/>
        </p:blipFill>
        <p:spPr>
          <a:xfrm>
            <a:off x="4356000" y="16286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59403" descr="01"/>
          <p:cNvPicPr/>
          <p:nvPr/>
        </p:nvPicPr>
        <p:blipFill>
          <a:blip r:embed="rId10"/>
          <a:stretch/>
        </p:blipFill>
        <p:spPr>
          <a:xfrm>
            <a:off x="2340000" y="16286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59404" descr="01"/>
          <p:cNvPicPr/>
          <p:nvPr/>
        </p:nvPicPr>
        <p:blipFill>
          <a:blip r:embed="rId11"/>
          <a:stretch/>
        </p:blipFill>
        <p:spPr>
          <a:xfrm>
            <a:off x="2627280" y="4437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59405" descr="01"/>
          <p:cNvPicPr/>
          <p:nvPr/>
        </p:nvPicPr>
        <p:blipFill>
          <a:blip r:embed="rId12"/>
          <a:stretch/>
        </p:blipFill>
        <p:spPr>
          <a:xfrm>
            <a:off x="611280" y="306864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9406" descr="01"/>
          <p:cNvPicPr/>
          <p:nvPr/>
        </p:nvPicPr>
        <p:blipFill>
          <a:blip r:embed="rId13"/>
          <a:stretch/>
        </p:blipFill>
        <p:spPr>
          <a:xfrm>
            <a:off x="2340000" y="3333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59407" descr="01"/>
          <p:cNvPicPr/>
          <p:nvPr/>
        </p:nvPicPr>
        <p:blipFill>
          <a:blip r:embed="rId14"/>
          <a:stretch/>
        </p:blipFill>
        <p:spPr>
          <a:xfrm>
            <a:off x="6227640" y="4941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59408" descr="01"/>
          <p:cNvPicPr/>
          <p:nvPr/>
        </p:nvPicPr>
        <p:blipFill>
          <a:blip r:embed="rId15"/>
          <a:stretch/>
        </p:blipFill>
        <p:spPr>
          <a:xfrm>
            <a:off x="5003640" y="47973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59409" descr="01"/>
          <p:cNvPicPr/>
          <p:nvPr/>
        </p:nvPicPr>
        <p:blipFill>
          <a:blip r:embed="rId16"/>
          <a:stretch/>
        </p:blipFill>
        <p:spPr>
          <a:xfrm>
            <a:off x="684360" y="476280"/>
            <a:ext cx="761760" cy="4017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59410" descr="01"/>
          <p:cNvPicPr/>
          <p:nvPr/>
        </p:nvPicPr>
        <p:blipFill>
          <a:blip r:embed="rId17"/>
          <a:stretch/>
        </p:blipFill>
        <p:spPr>
          <a:xfrm>
            <a:off x="5003640" y="4046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59411" descr="01"/>
          <p:cNvPicPr/>
          <p:nvPr/>
        </p:nvPicPr>
        <p:blipFill>
          <a:blip r:embed="rId18"/>
          <a:stretch/>
        </p:blipFill>
        <p:spPr>
          <a:xfrm>
            <a:off x="7596360" y="234936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59412" descr="01"/>
          <p:cNvPicPr/>
          <p:nvPr/>
        </p:nvPicPr>
        <p:blipFill>
          <a:blip r:embed="rId19"/>
          <a:stretch/>
        </p:blipFill>
        <p:spPr>
          <a:xfrm>
            <a:off x="5724360" y="16286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59413" descr="01"/>
          <p:cNvPicPr/>
          <p:nvPr/>
        </p:nvPicPr>
        <p:blipFill>
          <a:blip r:embed="rId20"/>
          <a:stretch/>
        </p:blipFill>
        <p:spPr>
          <a:xfrm>
            <a:off x="5076720" y="3429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59414" descr="01"/>
          <p:cNvPicPr/>
          <p:nvPr/>
        </p:nvPicPr>
        <p:blipFill>
          <a:blip r:embed="rId21"/>
          <a:stretch/>
        </p:blipFill>
        <p:spPr>
          <a:xfrm>
            <a:off x="3851280" y="2851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59415" descr="01"/>
          <p:cNvPicPr/>
          <p:nvPr/>
        </p:nvPicPr>
        <p:blipFill>
          <a:blip r:embed="rId22"/>
          <a:stretch/>
        </p:blipFill>
        <p:spPr>
          <a:xfrm>
            <a:off x="3276720" y="112536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59416" descr="01"/>
          <p:cNvPicPr/>
          <p:nvPr/>
        </p:nvPicPr>
        <p:blipFill>
          <a:blip r:embed="rId23"/>
          <a:stretch/>
        </p:blipFill>
        <p:spPr>
          <a:xfrm>
            <a:off x="3276720" y="47242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59417" descr="01"/>
          <p:cNvPicPr/>
          <p:nvPr/>
        </p:nvPicPr>
        <p:blipFill>
          <a:blip r:embed="rId24"/>
          <a:stretch/>
        </p:blipFill>
        <p:spPr>
          <a:xfrm>
            <a:off x="826920" y="4724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椭圆 59418"/>
          <p:cNvSpPr/>
          <p:nvPr/>
        </p:nvSpPr>
        <p:spPr>
          <a:xfrm>
            <a:off x="179280" y="6165720"/>
            <a:ext cx="914400" cy="482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十字星 64513"/>
          <p:cNvSpPr/>
          <p:nvPr/>
        </p:nvSpPr>
        <p:spPr>
          <a:xfrm>
            <a:off x="6659640" y="1197000"/>
            <a:ext cx="323640" cy="790560"/>
          </a:xfrm>
          <a:custGeom>
            <a:avLst/>
            <a:gdLst>
              <a:gd name="textAreaLeft" fmla="*/ 133200 w 323640"/>
              <a:gd name="textAreaRight" fmla="*/ 190440 w 323640"/>
              <a:gd name="textAreaTop" fmla="*/ 325800 h 790560"/>
              <a:gd name="textAreaBottom" fmla="*/ 464760 h 79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十字星 64514"/>
          <p:cNvSpPr/>
          <p:nvPr/>
        </p:nvSpPr>
        <p:spPr>
          <a:xfrm>
            <a:off x="5724360" y="2924280"/>
            <a:ext cx="287640" cy="720720"/>
          </a:xfrm>
          <a:custGeom>
            <a:avLst/>
            <a:gdLst>
              <a:gd name="textAreaLeft" fmla="*/ 118440 w 287640"/>
              <a:gd name="textAreaRight" fmla="*/ 169200 w 287640"/>
              <a:gd name="textAreaTop" fmla="*/ 297000 h 720720"/>
              <a:gd name="textAreaBottom" fmla="*/ 423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十字星 64515"/>
          <p:cNvSpPr/>
          <p:nvPr/>
        </p:nvSpPr>
        <p:spPr>
          <a:xfrm>
            <a:off x="8244000" y="3213000"/>
            <a:ext cx="215640" cy="720720"/>
          </a:xfrm>
          <a:custGeom>
            <a:avLst/>
            <a:gdLst>
              <a:gd name="textAreaLeft" fmla="*/ 88920 w 215640"/>
              <a:gd name="textAreaRight" fmla="*/ 126720 w 215640"/>
              <a:gd name="textAreaTop" fmla="*/ 297000 h 720720"/>
              <a:gd name="textAreaBottom" fmla="*/ 423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十字星 64516"/>
          <p:cNvSpPr/>
          <p:nvPr/>
        </p:nvSpPr>
        <p:spPr>
          <a:xfrm>
            <a:off x="8928000" y="404640"/>
            <a:ext cx="216000" cy="503280"/>
          </a:xfrm>
          <a:custGeom>
            <a:avLst/>
            <a:gdLst>
              <a:gd name="textAreaLeft" fmla="*/ 88920 w 216000"/>
              <a:gd name="textAreaRight" fmla="*/ 127080 w 21600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64517"/>
          <p:cNvSpPr/>
          <p:nvPr/>
        </p:nvSpPr>
        <p:spPr>
          <a:xfrm>
            <a:off x="468360" y="472428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小船 摇 摇，摇到天边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64518"/>
          <p:cNvSpPr/>
          <p:nvPr/>
        </p:nvSpPr>
        <p:spPr>
          <a:xfrm>
            <a:off x="2195640" y="386064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新月形 64519"/>
          <p:cNvSpPr/>
          <p:nvPr/>
        </p:nvSpPr>
        <p:spPr>
          <a:xfrm rot="15983400">
            <a:off x="1150560" y="-62280"/>
            <a:ext cx="1946520" cy="331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461" y="2031"/>
                  <a:pt x="11321" y="5080"/>
                  <a:pt x="11321" y="10800"/>
                </a:cubicBezTo>
                <a:cubicBezTo>
                  <a:pt x="11321" y="16520"/>
                  <a:pt x="16461" y="1956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十字星 64520"/>
          <p:cNvSpPr/>
          <p:nvPr/>
        </p:nvSpPr>
        <p:spPr>
          <a:xfrm>
            <a:off x="6877080" y="189000"/>
            <a:ext cx="216000" cy="503280"/>
          </a:xfrm>
          <a:custGeom>
            <a:avLst/>
            <a:gdLst>
              <a:gd name="textAreaLeft" fmla="*/ 88920 w 216000"/>
              <a:gd name="textAreaRight" fmla="*/ 127080 w 21600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十字星 64521"/>
          <p:cNvSpPr/>
          <p:nvPr/>
        </p:nvSpPr>
        <p:spPr>
          <a:xfrm>
            <a:off x="8532720" y="1125360"/>
            <a:ext cx="216000" cy="503280"/>
          </a:xfrm>
          <a:custGeom>
            <a:avLst/>
            <a:gdLst>
              <a:gd name="textAreaLeft" fmla="*/ 88920 w 216000"/>
              <a:gd name="textAreaRight" fmla="*/ 127080 w 21600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十字星 64522"/>
          <p:cNvSpPr/>
          <p:nvPr/>
        </p:nvSpPr>
        <p:spPr>
          <a:xfrm>
            <a:off x="6372360" y="2997360"/>
            <a:ext cx="215640" cy="502920"/>
          </a:xfrm>
          <a:custGeom>
            <a:avLst/>
            <a:gdLst>
              <a:gd name="textAreaLeft" fmla="*/ 88920 w 215640"/>
              <a:gd name="textAreaRight" fmla="*/ 126720 w 215640"/>
              <a:gd name="textAreaTop" fmla="*/ 207360 h 502920"/>
              <a:gd name="textAreaBottom" fmla="*/ 29556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十字星 64523"/>
          <p:cNvSpPr/>
          <p:nvPr/>
        </p:nvSpPr>
        <p:spPr>
          <a:xfrm>
            <a:off x="7596360" y="0"/>
            <a:ext cx="288720" cy="503280"/>
          </a:xfrm>
          <a:custGeom>
            <a:avLst/>
            <a:gdLst>
              <a:gd name="textAreaLeft" fmla="*/ 119160 w 288720"/>
              <a:gd name="textAreaRight" fmla="*/ 169560 w 288720"/>
              <a:gd name="textAreaTop" fmla="*/ 207720 h 503280"/>
              <a:gd name="textAreaBottom" fmla="*/ 2955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11" y="8911"/>
                </a:lnTo>
                <a:lnTo>
                  <a:pt x="10800" y="0"/>
                </a:lnTo>
                <a:lnTo>
                  <a:pt x="12689" y="8911"/>
                </a:lnTo>
                <a:lnTo>
                  <a:pt x="21600" y="10800"/>
                </a:lnTo>
                <a:lnTo>
                  <a:pt x="12689" y="12689"/>
                </a:lnTo>
                <a:lnTo>
                  <a:pt x="10800" y="21600"/>
                </a:lnTo>
                <a:lnTo>
                  <a:pt x="8911" y="12689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64524"/>
          <p:cNvSpPr/>
          <p:nvPr/>
        </p:nvSpPr>
        <p:spPr>
          <a:xfrm>
            <a:off x="468360" y="429264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iǎo chuán yáo  yáo         yáo  dào  tiā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bi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64525" descr="01"/>
          <p:cNvPicPr/>
          <p:nvPr/>
        </p:nvPicPr>
        <p:blipFill>
          <a:blip r:embed="rId1"/>
          <a:stretch/>
        </p:blipFill>
        <p:spPr>
          <a:xfrm>
            <a:off x="4716360" y="2421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64526" descr="01"/>
          <p:cNvPicPr/>
          <p:nvPr/>
        </p:nvPicPr>
        <p:blipFill>
          <a:blip r:embed="rId2"/>
          <a:stretch/>
        </p:blipFill>
        <p:spPr>
          <a:xfrm>
            <a:off x="3564000" y="333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64527" descr="01"/>
          <p:cNvPicPr/>
          <p:nvPr/>
        </p:nvPicPr>
        <p:blipFill>
          <a:blip r:embed="rId3"/>
          <a:stretch/>
        </p:blipFill>
        <p:spPr>
          <a:xfrm>
            <a:off x="5003640" y="9079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64528" descr="01"/>
          <p:cNvPicPr/>
          <p:nvPr/>
        </p:nvPicPr>
        <p:blipFill>
          <a:blip r:embed="rId4"/>
          <a:stretch/>
        </p:blipFill>
        <p:spPr>
          <a:xfrm>
            <a:off x="6084720" y="333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64529" descr="01"/>
          <p:cNvPicPr/>
          <p:nvPr/>
        </p:nvPicPr>
        <p:blipFill>
          <a:blip r:embed="rId5"/>
          <a:stretch/>
        </p:blipFill>
        <p:spPr>
          <a:xfrm>
            <a:off x="250920" y="260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64530" descr="01"/>
          <p:cNvPicPr/>
          <p:nvPr/>
        </p:nvPicPr>
        <p:blipFill>
          <a:blip r:embed="rId6"/>
          <a:stretch/>
        </p:blipFill>
        <p:spPr>
          <a:xfrm>
            <a:off x="5292720" y="1844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64531" descr="01"/>
          <p:cNvPicPr/>
          <p:nvPr/>
        </p:nvPicPr>
        <p:blipFill>
          <a:blip r:embed="rId7"/>
          <a:stretch/>
        </p:blipFill>
        <p:spPr>
          <a:xfrm>
            <a:off x="3203640" y="342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64532" descr="01"/>
          <p:cNvPicPr/>
          <p:nvPr/>
        </p:nvPicPr>
        <p:blipFill>
          <a:blip r:embed="rId8"/>
          <a:stretch/>
        </p:blipFill>
        <p:spPr>
          <a:xfrm>
            <a:off x="7093080" y="494172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64533" descr="01"/>
          <p:cNvPicPr/>
          <p:nvPr/>
        </p:nvPicPr>
        <p:blipFill>
          <a:blip r:embed="rId9"/>
          <a:stretch/>
        </p:blipFill>
        <p:spPr>
          <a:xfrm>
            <a:off x="6227640" y="4508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64534" descr="01"/>
          <p:cNvPicPr/>
          <p:nvPr/>
        </p:nvPicPr>
        <p:blipFill>
          <a:blip r:embed="rId10"/>
          <a:stretch/>
        </p:blipFill>
        <p:spPr>
          <a:xfrm>
            <a:off x="7451640" y="1341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64535" descr="01"/>
          <p:cNvPicPr/>
          <p:nvPr/>
        </p:nvPicPr>
        <p:blipFill>
          <a:blip r:embed="rId11"/>
          <a:stretch/>
        </p:blipFill>
        <p:spPr>
          <a:xfrm>
            <a:off x="3564000" y="213372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64536" descr="01"/>
          <p:cNvPicPr/>
          <p:nvPr/>
        </p:nvPicPr>
        <p:blipFill>
          <a:blip r:embed="rId12"/>
          <a:stretch/>
        </p:blipFill>
        <p:spPr>
          <a:xfrm>
            <a:off x="395280" y="3357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64537" descr="01"/>
          <p:cNvPicPr/>
          <p:nvPr/>
        </p:nvPicPr>
        <p:blipFill>
          <a:blip r:embed="rId13"/>
          <a:stretch/>
        </p:blipFill>
        <p:spPr>
          <a:xfrm>
            <a:off x="5003640" y="5516640"/>
            <a:ext cx="1152720" cy="10810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64538" descr="01"/>
          <p:cNvPicPr/>
          <p:nvPr/>
        </p:nvPicPr>
        <p:blipFill>
          <a:blip r:embed="rId14"/>
          <a:stretch/>
        </p:blipFill>
        <p:spPr>
          <a:xfrm>
            <a:off x="6516720" y="1916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4539" descr="01"/>
          <p:cNvPicPr/>
          <p:nvPr/>
        </p:nvPicPr>
        <p:blipFill>
          <a:blip r:embed="rId15"/>
          <a:stretch/>
        </p:blipFill>
        <p:spPr>
          <a:xfrm>
            <a:off x="2700360" y="2133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64540" descr="01"/>
          <p:cNvPicPr/>
          <p:nvPr/>
        </p:nvPicPr>
        <p:blipFill>
          <a:blip r:embed="rId16"/>
          <a:stretch/>
        </p:blipFill>
        <p:spPr>
          <a:xfrm>
            <a:off x="1116000" y="14842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64541" descr="01"/>
          <p:cNvPicPr/>
          <p:nvPr/>
        </p:nvPicPr>
        <p:blipFill>
          <a:blip r:embed="rId17"/>
          <a:stretch/>
        </p:blipFill>
        <p:spPr>
          <a:xfrm>
            <a:off x="4140360" y="1341360"/>
            <a:ext cx="1009440" cy="10098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64542" descr="01"/>
          <p:cNvPicPr/>
          <p:nvPr/>
        </p:nvPicPr>
        <p:blipFill>
          <a:blip r:embed="rId18"/>
          <a:stretch/>
        </p:blipFill>
        <p:spPr>
          <a:xfrm>
            <a:off x="179280" y="213372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64543" descr="01"/>
          <p:cNvPicPr/>
          <p:nvPr/>
        </p:nvPicPr>
        <p:blipFill>
          <a:blip r:embed="rId19"/>
          <a:stretch/>
        </p:blipFill>
        <p:spPr>
          <a:xfrm>
            <a:off x="4572000" y="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64544" descr="01"/>
          <p:cNvPicPr/>
          <p:nvPr/>
        </p:nvPicPr>
        <p:blipFill>
          <a:blip r:embed="rId20"/>
          <a:stretch/>
        </p:blipFill>
        <p:spPr>
          <a:xfrm>
            <a:off x="7020000" y="476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64545" descr="01"/>
          <p:cNvPicPr/>
          <p:nvPr/>
        </p:nvPicPr>
        <p:blipFill>
          <a:blip r:embed="rId21"/>
          <a:stretch/>
        </p:blipFill>
        <p:spPr>
          <a:xfrm>
            <a:off x="1187280" y="26028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64546" descr="01"/>
          <p:cNvPicPr/>
          <p:nvPr/>
        </p:nvPicPr>
        <p:blipFill>
          <a:blip r:embed="rId22"/>
          <a:stretch/>
        </p:blipFill>
        <p:spPr>
          <a:xfrm>
            <a:off x="2411280" y="33336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64547" descr="01"/>
          <p:cNvPicPr/>
          <p:nvPr/>
        </p:nvPicPr>
        <p:blipFill>
          <a:blip r:embed="rId23"/>
          <a:stretch/>
        </p:blipFill>
        <p:spPr>
          <a:xfrm>
            <a:off x="7308720" y="3645000"/>
            <a:ext cx="1009800" cy="100944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64548" descr="01"/>
          <p:cNvPicPr/>
          <p:nvPr/>
        </p:nvPicPr>
        <p:blipFill>
          <a:blip r:embed="rId24"/>
          <a:stretch/>
        </p:blipFill>
        <p:spPr>
          <a:xfrm>
            <a:off x="7451640" y="31417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64549" descr="01"/>
          <p:cNvPicPr/>
          <p:nvPr/>
        </p:nvPicPr>
        <p:blipFill>
          <a:blip r:embed="rId25"/>
          <a:stretch/>
        </p:blipFill>
        <p:spPr>
          <a:xfrm>
            <a:off x="4284720" y="2133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64550" descr="01"/>
          <p:cNvPicPr/>
          <p:nvPr/>
        </p:nvPicPr>
        <p:blipFill>
          <a:blip r:embed="rId26"/>
          <a:stretch/>
        </p:blipFill>
        <p:spPr>
          <a:xfrm>
            <a:off x="3780000" y="450864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64551" descr="01"/>
          <p:cNvPicPr/>
          <p:nvPr/>
        </p:nvPicPr>
        <p:blipFill>
          <a:blip r:embed="rId27"/>
          <a:stretch/>
        </p:blipFill>
        <p:spPr>
          <a:xfrm>
            <a:off x="8459640" y="35719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64552" descr="01"/>
          <p:cNvPicPr/>
          <p:nvPr/>
        </p:nvPicPr>
        <p:blipFill>
          <a:blip r:embed="rId28"/>
          <a:stretch/>
        </p:blipFill>
        <p:spPr>
          <a:xfrm>
            <a:off x="8101080" y="242100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64553" descr="01"/>
          <p:cNvPicPr/>
          <p:nvPr/>
        </p:nvPicPr>
        <p:blipFill>
          <a:blip r:embed="rId29"/>
          <a:stretch/>
        </p:blipFill>
        <p:spPr>
          <a:xfrm>
            <a:off x="8891640" y="400356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64554" descr="01"/>
          <p:cNvPicPr/>
          <p:nvPr/>
        </p:nvPicPr>
        <p:blipFill>
          <a:blip r:embed="rId30"/>
          <a:stretch/>
        </p:blipFill>
        <p:spPr>
          <a:xfrm>
            <a:off x="7956720" y="33336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64555" descr="01"/>
          <p:cNvPicPr/>
          <p:nvPr/>
        </p:nvPicPr>
        <p:blipFill>
          <a:blip r:embed="rId31"/>
          <a:stretch/>
        </p:blipFill>
        <p:spPr>
          <a:xfrm>
            <a:off x="1692360" y="278136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64556" descr="01"/>
          <p:cNvPicPr/>
          <p:nvPr/>
        </p:nvPicPr>
        <p:blipFill>
          <a:blip r:embed="rId32"/>
          <a:stretch/>
        </p:blipFill>
        <p:spPr>
          <a:xfrm>
            <a:off x="8891640" y="400356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64557" descr="01"/>
          <p:cNvPicPr/>
          <p:nvPr/>
        </p:nvPicPr>
        <p:blipFill>
          <a:blip r:embed="rId33"/>
          <a:stretch/>
        </p:blipFill>
        <p:spPr>
          <a:xfrm>
            <a:off x="7451640" y="227664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2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3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dur="indefinite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25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dur="indefinite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25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dur="indefinite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21 0.09352 L 0.16511 0.06898 C 0.19913 0.06435 0.24861 0.05208 0.29931 0.03588 C 0.35764 0.01713 0.40347 -0.00093 0.43524 -0.01736 L 0.58715 -0.0926 E">
                                      <p:cBhvr>
                                        <p:cTn id="107" dur="3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25608"/>
          <p:cNvSpPr/>
          <p:nvPr/>
        </p:nvSpPr>
        <p:spPr>
          <a:xfrm>
            <a:off x="1545840" y="3141720"/>
            <a:ext cx="33537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xiǎo chuán   yáo   yá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小 船  </a:t>
            </a:r>
            <a:r>
              <a:rPr b="1" lang="zh-CN" sz="4800" spc="-1" strike="noStrike">
                <a:solidFill>
                  <a:srgbClr val="ef1903"/>
                </a:solidFill>
                <a:latin typeface="Arial"/>
                <a:ea typeface="方正楷体简体"/>
              </a:rPr>
              <a:t>摇 摇</a:t>
            </a: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yáo   dào   tiān     bi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摇 到 天  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25609"/>
          <p:cNvSpPr/>
          <p:nvPr/>
        </p:nvSpPr>
        <p:spPr>
          <a:xfrm>
            <a:off x="1701360" y="549360"/>
            <a:ext cx="316152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yuè  liang wān  w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月亮 </a:t>
            </a:r>
            <a:r>
              <a:rPr b="1" lang="zh-CN" sz="4800" spc="-1" strike="noStrike">
                <a:solidFill>
                  <a:srgbClr val="ef1903"/>
                </a:solidFill>
                <a:latin typeface="Arial"/>
                <a:ea typeface="方正楷体简体"/>
              </a:rPr>
              <a:t>弯  弯</a:t>
            </a: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xiàng zhī xiǎo chu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像 只小 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25611" descr="月亮小孩"/>
          <p:cNvPicPr/>
          <p:nvPr/>
        </p:nvPicPr>
        <p:blipFill>
          <a:blip r:embed="rId1"/>
          <a:stretch/>
        </p:blipFill>
        <p:spPr>
          <a:xfrm rot="21195600">
            <a:off x="6043320" y="658440"/>
            <a:ext cx="2652480" cy="319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32770" descr="20071124030355823"/>
          <p:cNvPicPr/>
          <p:nvPr/>
        </p:nvPicPr>
        <p:blipFill>
          <a:blip r:embed="rId1"/>
          <a:stretch/>
        </p:blipFill>
        <p:spPr>
          <a:xfrm>
            <a:off x="5867280" y="4437000"/>
            <a:ext cx="1095480" cy="10670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32771" descr="20071124030355823"/>
          <p:cNvPicPr/>
          <p:nvPr/>
        </p:nvPicPr>
        <p:blipFill>
          <a:blip r:embed="rId2"/>
          <a:stretch/>
        </p:blipFill>
        <p:spPr>
          <a:xfrm>
            <a:off x="7956720" y="476280"/>
            <a:ext cx="863280" cy="84132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32772" descr="20071124030355823"/>
          <p:cNvPicPr/>
          <p:nvPr/>
        </p:nvPicPr>
        <p:blipFill>
          <a:blip r:embed="rId3"/>
          <a:stretch/>
        </p:blipFill>
        <p:spPr>
          <a:xfrm>
            <a:off x="611280" y="3500280"/>
            <a:ext cx="720720" cy="70200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32773" descr="20071124030355823"/>
          <p:cNvPicPr/>
          <p:nvPr/>
        </p:nvPicPr>
        <p:blipFill>
          <a:blip r:embed="rId4"/>
          <a:stretch/>
        </p:blipFill>
        <p:spPr>
          <a:xfrm>
            <a:off x="468360" y="5373720"/>
            <a:ext cx="1095480" cy="106668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32774" descr="20071124030355554"/>
          <p:cNvPicPr/>
          <p:nvPr/>
        </p:nvPicPr>
        <p:blipFill>
          <a:blip r:embed="rId5"/>
          <a:stretch/>
        </p:blipFill>
        <p:spPr>
          <a:xfrm>
            <a:off x="6227640" y="333360"/>
            <a:ext cx="576360" cy="45576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32775" descr="20071124030355554"/>
          <p:cNvPicPr/>
          <p:nvPr/>
        </p:nvPicPr>
        <p:blipFill>
          <a:blip r:embed="rId6"/>
          <a:stretch/>
        </p:blipFill>
        <p:spPr>
          <a:xfrm>
            <a:off x="324000" y="260280"/>
            <a:ext cx="720720" cy="56988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32776" descr="20071124030355554"/>
          <p:cNvPicPr/>
          <p:nvPr/>
        </p:nvPicPr>
        <p:blipFill>
          <a:blip r:embed="rId7"/>
          <a:stretch/>
        </p:blipFill>
        <p:spPr>
          <a:xfrm>
            <a:off x="3635280" y="1125360"/>
            <a:ext cx="647640" cy="51120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32777" descr="20071124030355554"/>
          <p:cNvPicPr/>
          <p:nvPr/>
        </p:nvPicPr>
        <p:blipFill>
          <a:blip r:embed="rId8"/>
          <a:stretch/>
        </p:blipFill>
        <p:spPr>
          <a:xfrm>
            <a:off x="7885080" y="6237360"/>
            <a:ext cx="432000" cy="34128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32778" descr="20071124030355554"/>
          <p:cNvPicPr/>
          <p:nvPr/>
        </p:nvPicPr>
        <p:blipFill>
          <a:blip r:embed="rId9"/>
          <a:stretch/>
        </p:blipFill>
        <p:spPr>
          <a:xfrm>
            <a:off x="3203640" y="3860640"/>
            <a:ext cx="952560" cy="75276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32779" descr="20071124030355554"/>
          <p:cNvPicPr/>
          <p:nvPr/>
        </p:nvPicPr>
        <p:blipFill>
          <a:blip r:embed="rId10"/>
          <a:stretch/>
        </p:blipFill>
        <p:spPr>
          <a:xfrm>
            <a:off x="8604360" y="3429000"/>
            <a:ext cx="718920" cy="568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8237" descr="月亮小孩"/>
          <p:cNvPicPr/>
          <p:nvPr/>
        </p:nvPicPr>
        <p:blipFill>
          <a:blip r:embed="rId1"/>
          <a:stretch/>
        </p:blipFill>
        <p:spPr>
          <a:xfrm rot="21195600">
            <a:off x="6084360" y="691920"/>
            <a:ext cx="2652840" cy="3192480"/>
          </a:xfrm>
          <a:prstGeom prst="rect">
            <a:avLst/>
          </a:prstGeom>
          <a:ln w="0">
            <a:noFill/>
          </a:ln>
        </p:spPr>
      </p:pic>
      <p:sp>
        <p:nvSpPr>
          <p:cNvPr id="181" name="文本框 8230"/>
          <p:cNvSpPr/>
          <p:nvPr/>
        </p:nvSpPr>
        <p:spPr>
          <a:xfrm>
            <a:off x="2242800" y="3787920"/>
            <a:ext cx="5580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tiān  biān  qǐng    lái   xiǎo   xīng  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天 边 请 来 小 星  星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f190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1903"/>
                </a:solidFill>
                <a:latin typeface="Arial"/>
              </a:rPr>
              <a:t>xī    xī     hā     hā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     zuò   mǎn  chu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1903"/>
                </a:solidFill>
                <a:latin typeface="Arial"/>
                <a:ea typeface="方正楷体简体"/>
              </a:rPr>
              <a:t>嘻嘻 哈 哈</a:t>
            </a: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 坐 满  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五角星 8231"/>
          <p:cNvSpPr/>
          <p:nvPr/>
        </p:nvSpPr>
        <p:spPr>
          <a:xfrm rot="19960800">
            <a:off x="684360" y="764640"/>
            <a:ext cx="877680" cy="9874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f1903"/>
                </a:solidFill>
                <a:latin typeface="Arial"/>
              </a:rPr>
              <a:t>xī</a:t>
            </a:r>
            <a:r>
              <a:rPr b="0" lang="en-US" sz="1600" spc="-1" strike="noStrike">
                <a:solidFill>
                  <a:srgbClr val="ef190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f1903"/>
                </a:solidFill>
                <a:latin typeface="Arial"/>
              </a:rPr>
              <a:t>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五角星 8232"/>
          <p:cNvSpPr/>
          <p:nvPr/>
        </p:nvSpPr>
        <p:spPr>
          <a:xfrm rot="744000">
            <a:off x="1474560" y="703440"/>
            <a:ext cx="1008000" cy="1062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f1903"/>
                </a:solidFill>
                <a:latin typeface="Arial"/>
              </a:rPr>
              <a:t>xī</a:t>
            </a:r>
            <a:r>
              <a:rPr b="0" lang="en-US" sz="1600" spc="-1" strike="noStrike">
                <a:solidFill>
                  <a:srgbClr val="ef190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f1903"/>
                </a:solidFill>
                <a:latin typeface="Arial"/>
              </a:rPr>
              <a:t>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五角星 8233"/>
          <p:cNvSpPr/>
          <p:nvPr/>
        </p:nvSpPr>
        <p:spPr>
          <a:xfrm rot="3166800">
            <a:off x="2053080" y="1335600"/>
            <a:ext cx="865080" cy="726840"/>
          </a:xfrm>
          <a:custGeom>
            <a:avLst/>
            <a:gdLst/>
            <a:ahLst/>
            <a:rect l="l" t="t" r="r" b="b"/>
            <a:pathLst>
              <a:path w="865188" h="727075">
                <a:moveTo>
                  <a:pt x="0" y="277717"/>
                </a:moveTo>
                <a:lnTo>
                  <a:pt x="330474" y="277719"/>
                </a:lnTo>
                <a:lnTo>
                  <a:pt x="432594" y="0"/>
                </a:lnTo>
                <a:lnTo>
                  <a:pt x="534713" y="277719"/>
                </a:lnTo>
                <a:lnTo>
                  <a:pt x="865187" y="277717"/>
                </a:lnTo>
                <a:lnTo>
                  <a:pt x="597827" y="449355"/>
                </a:lnTo>
                <a:lnTo>
                  <a:pt x="699951" y="727073"/>
                </a:lnTo>
                <a:lnTo>
                  <a:pt x="432594" y="555432"/>
                </a:lnTo>
                <a:lnTo>
                  <a:pt x="165236" y="727073"/>
                </a:lnTo>
                <a:lnTo>
                  <a:pt x="267360" y="44935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五角星 8234"/>
          <p:cNvSpPr/>
          <p:nvPr/>
        </p:nvSpPr>
        <p:spPr>
          <a:xfrm rot="19875000">
            <a:off x="2627280" y="620280"/>
            <a:ext cx="936720" cy="1008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f1903"/>
                </a:solidFill>
                <a:latin typeface="Arial"/>
              </a:rPr>
              <a:t>h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f1903"/>
                </a:solidFill>
                <a:latin typeface="Arial"/>
              </a:rPr>
              <a:t>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五角星 8235"/>
          <p:cNvSpPr/>
          <p:nvPr/>
        </p:nvSpPr>
        <p:spPr>
          <a:xfrm rot="4084200">
            <a:off x="619560" y="1903680"/>
            <a:ext cx="911160" cy="932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1903"/>
                </a:solidFill>
                <a:latin typeface="Arial"/>
              </a:rPr>
              <a:t>h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f1903"/>
                </a:solidFill>
                <a:latin typeface="Arial"/>
              </a:rPr>
              <a:t>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五角星 8239"/>
          <p:cNvSpPr/>
          <p:nvPr/>
        </p:nvSpPr>
        <p:spPr>
          <a:xfrm rot="3166800">
            <a:off x="1189440" y="2486520"/>
            <a:ext cx="790560" cy="655560"/>
          </a:xfrm>
          <a:custGeom>
            <a:avLst/>
            <a:gdLst/>
            <a:ahLst/>
            <a:rect l="l" t="t" r="r" b="b"/>
            <a:pathLst>
              <a:path w="790575" h="655637">
                <a:moveTo>
                  <a:pt x="0" y="250430"/>
                </a:moveTo>
                <a:lnTo>
                  <a:pt x="301974" y="250432"/>
                </a:lnTo>
                <a:lnTo>
                  <a:pt x="395287" y="0"/>
                </a:lnTo>
                <a:lnTo>
                  <a:pt x="488600" y="250432"/>
                </a:lnTo>
                <a:lnTo>
                  <a:pt x="790574" y="250430"/>
                </a:lnTo>
                <a:lnTo>
                  <a:pt x="546271" y="405204"/>
                </a:lnTo>
                <a:lnTo>
                  <a:pt x="639588" y="655635"/>
                </a:lnTo>
                <a:lnTo>
                  <a:pt x="395287" y="500858"/>
                </a:lnTo>
                <a:lnTo>
                  <a:pt x="150986" y="655635"/>
                </a:lnTo>
                <a:lnTo>
                  <a:pt x="244303" y="40520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57229E-006 C 0.01111 0.03724 0.0224 0.07448 0.05417 0.09091 C 0.08594 0.10733 0.14289 0.10895 0.19063 0.09877 C 0.23837 0.08859 0.26823 0.05968 0.34115 0.02984 C 0.41407 2.57228999999901E-006 0.58264 -0.06732 0.6283 -0.07981 C 0.67396 -0.0923 0.61754 -0.062 0.61493 -0.04557 C 0.61233 -0.02915 0.61302 0.00532 0.6125 0.01873 E">
                                      <p:cBhvr>
                                        <p:cTn id="123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81818E-006 C 0.01892 0.06338 0.0382 0.12815 0.0651 0.15383 C 0.09167 0.18043 0.12552 0.16493 0.16094 0.1566 C 0.19653 0.14827 0.2375 0.1337 0.27778 0.10363 C 0.31806 0.0731 0.36545 -0.01111 0.40313 -0.02498 C 0.44167 -0.03886 0.48438 -0.00486 0.50695 0.01943 C 0.52951 0.04372 0.5316 0.09993 0.5382 0.12121 E">
                                      <p:cBhvr>
                                        <p:cTn id="125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8.67453E-006 C 0.01875 0.0354 0.03768 0.07079 0.06129 0.08629 C 0.0849 0.10179 0.11268 0.09924 0.14132 0.09253 C 0.16997 0.08583 0.19393 0.04905 0.23299 0.04534 C 0.27205 0.04164 0.33316 0.05182 0.37518 0.07056 C 0.41754 0.0893 0.46736 0.14342 0.48594 0.15823 E">
                                      <p:cBhvr>
                                        <p:cTn id="127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0113E-007 C 0.03003 0.01967 0.06007 0.03956 0.09427 0.05159 C 0.12847 0.06362 0.17378 0.07287 0.20486 0.07194 C 0.23594 0.07102 0.25556 0.04419 0.28125 0.04534 C 0.30694 0.0465 0.32882 0.06685 0.35885 0.07842 C 0.38889 0.08999 0.42326 0.11173 0.46128 0.11428 C 0.49913 0.11682 0.53819 0.10872 0.58715 0.09392 C 0.63611 0.07911 0.69566 0.05205 0.75538 0.02499 E">
                                      <p:cBhvr>
                                        <p:cTn id="129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84386E-006 C 0.00834 0.03816 0.01667 0.07656 0.04462 0.09252 C 0.07257 0.10848 0.13524 0.08304 0.16823 0.09576 C 0.20122 0.10848 0.19584 0.13393 0.24236 0.16932 C 0.28889 0.20471 0.40469 0.2792 0.4474 0.30811 E">
                                      <p:cBhvr>
                                        <p:cTn id="131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5 -0.00324 C 0.02847 0.0037 0.06076 0.01064 0.09878 0.03424 C 0.1368 0.05783 0.17778 0.1233 0.22465 0.13787 C 0.27153 0.15244 0.32691 0.1189 0.37986 0.12214 C 0.43281 0.12538 0.48107 0.15453 0.54236 0.15661 C 0.60364 0.15869 0.70521 0.1388 0.74809 0.13417 E">
                                      <p:cBhvr>
                                        <p:cTn id="133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9317" descr="月亮小孩"/>
          <p:cNvPicPr/>
          <p:nvPr/>
        </p:nvPicPr>
        <p:blipFill>
          <a:blip r:embed="rId1"/>
          <a:stretch/>
        </p:blipFill>
        <p:spPr>
          <a:xfrm rot="21195600">
            <a:off x="5363640" y="620280"/>
            <a:ext cx="2652840" cy="31924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9300" descr="007g"/>
          <p:cNvPicPr/>
          <p:nvPr/>
        </p:nvPicPr>
        <p:blipFill>
          <a:blip r:embed="rId2"/>
          <a:stretch/>
        </p:blipFill>
        <p:spPr>
          <a:xfrm rot="2284200">
            <a:off x="7164360" y="2707920"/>
            <a:ext cx="792360" cy="68256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9301" descr="007g"/>
          <p:cNvPicPr/>
          <p:nvPr/>
        </p:nvPicPr>
        <p:blipFill>
          <a:blip r:embed="rId3"/>
          <a:stretch/>
        </p:blipFill>
        <p:spPr>
          <a:xfrm rot="1011000">
            <a:off x="6876720" y="2708280"/>
            <a:ext cx="792000" cy="68256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9309" descr="007g"/>
          <p:cNvPicPr/>
          <p:nvPr/>
        </p:nvPicPr>
        <p:blipFill>
          <a:blip r:embed="rId4"/>
          <a:stretch/>
        </p:blipFill>
        <p:spPr>
          <a:xfrm rot="19777200">
            <a:off x="6156000" y="764640"/>
            <a:ext cx="712800" cy="88920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9311" descr="008h"/>
          <p:cNvPicPr/>
          <p:nvPr/>
        </p:nvPicPr>
        <p:blipFill>
          <a:blip r:embed="rId5"/>
          <a:stretch/>
        </p:blipFill>
        <p:spPr>
          <a:xfrm>
            <a:off x="6084720" y="2205000"/>
            <a:ext cx="551160" cy="55080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9312" descr="005e"/>
          <p:cNvPicPr/>
          <p:nvPr/>
        </p:nvPicPr>
        <p:blipFill>
          <a:blip r:embed="rId6"/>
          <a:stretch/>
        </p:blipFill>
        <p:spPr>
          <a:xfrm>
            <a:off x="6588000" y="2708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9314" descr="007g"/>
          <p:cNvPicPr/>
          <p:nvPr/>
        </p:nvPicPr>
        <p:blipFill>
          <a:blip r:embed="rId7"/>
          <a:stretch/>
        </p:blipFill>
        <p:spPr>
          <a:xfrm rot="20938800">
            <a:off x="5795640" y="1773360"/>
            <a:ext cx="792000" cy="68256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9313" descr="008h"/>
          <p:cNvPicPr/>
          <p:nvPr/>
        </p:nvPicPr>
        <p:blipFill>
          <a:blip r:embed="rId8"/>
          <a:stretch/>
        </p:blipFill>
        <p:spPr>
          <a:xfrm rot="19505400">
            <a:off x="6012000" y="141264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9315" descr="005e"/>
          <p:cNvPicPr/>
          <p:nvPr/>
        </p:nvPicPr>
        <p:blipFill>
          <a:blip r:embed="rId9"/>
          <a:stretch/>
        </p:blipFill>
        <p:spPr>
          <a:xfrm>
            <a:off x="6804000" y="2924280"/>
            <a:ext cx="432000" cy="431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43009" descr="月亮小孩"/>
          <p:cNvPicPr/>
          <p:nvPr/>
        </p:nvPicPr>
        <p:blipFill>
          <a:blip r:embed="rId1"/>
          <a:stretch/>
        </p:blipFill>
        <p:spPr>
          <a:xfrm rot="21195600">
            <a:off x="5363640" y="620280"/>
            <a:ext cx="2652840" cy="319248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43010" descr="007g"/>
          <p:cNvPicPr/>
          <p:nvPr/>
        </p:nvPicPr>
        <p:blipFill>
          <a:blip r:embed="rId2"/>
          <a:stretch/>
        </p:blipFill>
        <p:spPr>
          <a:xfrm rot="2284200">
            <a:off x="7164360" y="2707920"/>
            <a:ext cx="792360" cy="68256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43011" descr="007g"/>
          <p:cNvPicPr/>
          <p:nvPr/>
        </p:nvPicPr>
        <p:blipFill>
          <a:blip r:embed="rId3"/>
          <a:stretch/>
        </p:blipFill>
        <p:spPr>
          <a:xfrm rot="1011000">
            <a:off x="6876720" y="2708280"/>
            <a:ext cx="792000" cy="68256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43012" descr="007g"/>
          <p:cNvPicPr/>
          <p:nvPr/>
        </p:nvPicPr>
        <p:blipFill>
          <a:blip r:embed="rId4"/>
          <a:stretch/>
        </p:blipFill>
        <p:spPr>
          <a:xfrm rot="19777200">
            <a:off x="6156000" y="764640"/>
            <a:ext cx="712800" cy="88920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43013" descr="008h"/>
          <p:cNvPicPr/>
          <p:nvPr/>
        </p:nvPicPr>
        <p:blipFill>
          <a:blip r:embed="rId5"/>
          <a:stretch/>
        </p:blipFill>
        <p:spPr>
          <a:xfrm>
            <a:off x="6084720" y="2205000"/>
            <a:ext cx="551160" cy="55080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43014" descr="005e"/>
          <p:cNvPicPr/>
          <p:nvPr/>
        </p:nvPicPr>
        <p:blipFill>
          <a:blip r:embed="rId6"/>
          <a:stretch/>
        </p:blipFill>
        <p:spPr>
          <a:xfrm>
            <a:off x="6588000" y="2708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43015" descr="007g"/>
          <p:cNvPicPr/>
          <p:nvPr/>
        </p:nvPicPr>
        <p:blipFill>
          <a:blip r:embed="rId7"/>
          <a:stretch/>
        </p:blipFill>
        <p:spPr>
          <a:xfrm rot="20938800">
            <a:off x="5795640" y="1773360"/>
            <a:ext cx="792000" cy="68256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43016" descr="008h"/>
          <p:cNvPicPr/>
          <p:nvPr/>
        </p:nvPicPr>
        <p:blipFill>
          <a:blip r:embed="rId8"/>
          <a:stretch/>
        </p:blipFill>
        <p:spPr>
          <a:xfrm rot="19505400">
            <a:off x="6012000" y="141264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43017" descr="005e"/>
          <p:cNvPicPr/>
          <p:nvPr/>
        </p:nvPicPr>
        <p:blipFill>
          <a:blip r:embed="rId9"/>
          <a:stretch/>
        </p:blipFill>
        <p:spPr>
          <a:xfrm>
            <a:off x="6804000" y="292428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206" name="文本框 43018"/>
          <p:cNvSpPr/>
          <p:nvPr/>
        </p:nvSpPr>
        <p:spPr>
          <a:xfrm>
            <a:off x="189720" y="3519360"/>
            <a:ext cx="57830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m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ǎ</a:t>
            </a: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chu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x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ī</a:t>
            </a: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g x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g zh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ǎ</a:t>
            </a: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 y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ǎ</a:t>
            </a: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满船星星眨眼睛</a:t>
            </a:r>
            <a:r>
              <a:rPr b="1" lang="en-US" sz="4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l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i d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à</a:t>
            </a: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o w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ǒ</a:t>
            </a: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 ji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 yu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à</a:t>
            </a: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li w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来到我家院里玩</a:t>
            </a:r>
            <a:r>
              <a:rPr b="0" lang="zh-CN" sz="4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43019"/>
          <p:cNvSpPr/>
          <p:nvPr/>
        </p:nvSpPr>
        <p:spPr>
          <a:xfrm>
            <a:off x="2987640" y="386064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f1903"/>
                </a:solidFill>
                <a:latin typeface="Arial"/>
              </a:rPr>
              <a:t>眨眼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47105" descr="12D1219ES0-1214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文本框 47106"/>
          <p:cNvSpPr/>
          <p:nvPr/>
        </p:nvSpPr>
        <p:spPr>
          <a:xfrm>
            <a:off x="1547640" y="14130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47107"/>
          <p:cNvSpPr/>
          <p:nvPr/>
        </p:nvSpPr>
        <p:spPr>
          <a:xfrm>
            <a:off x="1655640" y="1052640"/>
            <a:ext cx="7488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yu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</a:rPr>
              <a:t>è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  li</a:t>
            </a:r>
            <a:r>
              <a:rPr b="1" lang="en-US" sz="2000" spc="-1" strike="noStrike">
                <a:solidFill>
                  <a:srgbClr val="eae523"/>
                </a:solidFill>
                <a:latin typeface="宋体"/>
              </a:rPr>
              <a:t>a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ng  w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n  w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n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    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xiàng zhī xiǎo chu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月    亮     弯    弯，   像   只  小   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47108"/>
          <p:cNvSpPr/>
          <p:nvPr/>
        </p:nvSpPr>
        <p:spPr>
          <a:xfrm>
            <a:off x="1619280" y="2133720"/>
            <a:ext cx="7345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xiǎo chuán   yáo   yáo        yáo   dào   tiān   biā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小     船     摇   摇，   摇    到   天   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47109"/>
          <p:cNvSpPr/>
          <p:nvPr/>
        </p:nvSpPr>
        <p:spPr>
          <a:xfrm>
            <a:off x="1547640" y="3141720"/>
            <a:ext cx="5183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tiān  biān  qǐng    lái   xiǎo   xīng  x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 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天   边    请    来  小     星   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52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xī    xī     hā     hā     zuò   mǎn  chu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嘻   嘻   哈   哈     坐    满  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47110"/>
          <p:cNvSpPr/>
          <p:nvPr/>
        </p:nvSpPr>
        <p:spPr>
          <a:xfrm>
            <a:off x="1619280" y="4797360"/>
            <a:ext cx="506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m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ǎ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chu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x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ī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g x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g zh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ǎ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 y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ǎ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j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满  船  星  星 眨 眼  睛</a:t>
            </a:r>
            <a:r>
              <a:rPr b="1" lang="en-US" sz="2400" spc="-1" strike="noStrike">
                <a:solidFill>
                  <a:srgbClr val="eae523"/>
                </a:solidFill>
                <a:latin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l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i d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à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o w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ǒ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 ji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 yu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à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li w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来 到 我 家 院 里 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47111"/>
          <p:cNvSpPr/>
          <p:nvPr/>
        </p:nvSpPr>
        <p:spPr>
          <a:xfrm>
            <a:off x="468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  <a:ea typeface="黑体"/>
              </a:rPr>
              <a:t>5</a:t>
            </a:r>
            <a:r>
              <a:rPr b="0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请   星   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57348"/>
          <p:cNvSpPr/>
          <p:nvPr/>
        </p:nvSpPr>
        <p:spPr>
          <a:xfrm>
            <a:off x="2340000" y="17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57349" descr="20098312320056462"/>
          <p:cNvPicPr/>
          <p:nvPr/>
        </p:nvPicPr>
        <p:blipFill>
          <a:blip r:embed="rId1"/>
          <a:srcRect l="0" t="0" r="0" b="9638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57350"/>
          <p:cNvSpPr/>
          <p:nvPr/>
        </p:nvSpPr>
        <p:spPr>
          <a:xfrm>
            <a:off x="2340000" y="17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57351" descr="20098312320056462"/>
          <p:cNvPicPr/>
          <p:nvPr/>
        </p:nvPicPr>
        <p:blipFill>
          <a:blip r:embed="rId2"/>
          <a:srcRect l="0" t="0" r="0" b="6494"/>
          <a:stretch/>
        </p:blipFill>
        <p:spPr>
          <a:xfrm>
            <a:off x="395280" y="0"/>
            <a:ext cx="9144000" cy="641340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57356" descr="KJ6R]PCG$]OS5I%2LCO8]S6"/>
          <p:cNvPicPr/>
          <p:nvPr/>
        </p:nvPicPr>
        <p:blipFill>
          <a:blip r:embed="rId3"/>
          <a:stretch/>
        </p:blipFill>
        <p:spPr>
          <a:xfrm>
            <a:off x="2771640" y="2349360"/>
            <a:ext cx="1057320" cy="135252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57357" descr="6WB21}VXKFH3GIGA1KA9F18"/>
          <p:cNvPicPr/>
          <p:nvPr/>
        </p:nvPicPr>
        <p:blipFill>
          <a:blip r:embed="rId4"/>
          <a:stretch/>
        </p:blipFill>
        <p:spPr>
          <a:xfrm>
            <a:off x="5219640" y="242100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57358" descr="R9`9S_DAF$VP~O3Q)SRNZUB"/>
          <p:cNvPicPr/>
          <p:nvPr/>
        </p:nvPicPr>
        <p:blipFill>
          <a:blip r:embed="rId5"/>
          <a:stretch/>
        </p:blipFill>
        <p:spPr>
          <a:xfrm>
            <a:off x="2771640" y="4005360"/>
            <a:ext cx="1285920" cy="141912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57359" descr="NQ)5CW3__0@{SJEY14C5MN1"/>
          <p:cNvPicPr/>
          <p:nvPr/>
        </p:nvPicPr>
        <p:blipFill>
          <a:blip r:embed="rId6"/>
          <a:stretch/>
        </p:blipFill>
        <p:spPr>
          <a:xfrm>
            <a:off x="5219640" y="4076640"/>
            <a:ext cx="14097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51201" descr="2005922038286559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2843280" y="1557360"/>
          <a:ext cx="3600360" cy="3527280"/>
        </p:xfrm>
        <a:graphic>
          <a:graphicData uri="http://schemas.openxmlformats.org/drawingml/2006/table">
            <a:tbl>
              <a:tblPr/>
              <a:tblGrid>
                <a:gridCol w="1746360"/>
                <a:gridCol w="1854000"/>
              </a:tblGrid>
              <a:tr h="18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任意多边形 51225"/>
          <p:cNvSpPr/>
          <p:nvPr/>
        </p:nvSpPr>
        <p:spPr>
          <a:xfrm>
            <a:off x="3635280" y="2276640"/>
            <a:ext cx="704880" cy="2049120"/>
          </a:xfrm>
          <a:custGeom>
            <a:avLst/>
            <a:gdLst/>
            <a:ahLst/>
            <a:rect l="l" t="t" r="r" b="b"/>
            <a:pathLst>
              <a:path w="1110" h="3227">
                <a:moveTo>
                  <a:pt x="939" y="1852"/>
                </a:moveTo>
                <a:lnTo>
                  <a:pt x="897" y="2151"/>
                </a:lnTo>
                <a:lnTo>
                  <a:pt x="769" y="2390"/>
                </a:lnTo>
                <a:lnTo>
                  <a:pt x="640" y="2629"/>
                </a:lnTo>
                <a:lnTo>
                  <a:pt x="512" y="2808"/>
                </a:lnTo>
                <a:lnTo>
                  <a:pt x="341" y="2988"/>
                </a:lnTo>
                <a:lnTo>
                  <a:pt x="171" y="3167"/>
                </a:lnTo>
                <a:lnTo>
                  <a:pt x="42" y="3227"/>
                </a:lnTo>
                <a:lnTo>
                  <a:pt x="0" y="3227"/>
                </a:lnTo>
                <a:lnTo>
                  <a:pt x="0" y="3227"/>
                </a:lnTo>
                <a:lnTo>
                  <a:pt x="0" y="3167"/>
                </a:lnTo>
                <a:lnTo>
                  <a:pt x="42" y="3107"/>
                </a:lnTo>
                <a:lnTo>
                  <a:pt x="128" y="2988"/>
                </a:lnTo>
                <a:lnTo>
                  <a:pt x="299" y="2749"/>
                </a:lnTo>
                <a:lnTo>
                  <a:pt x="512" y="2450"/>
                </a:lnTo>
                <a:lnTo>
                  <a:pt x="640" y="2091"/>
                </a:lnTo>
                <a:lnTo>
                  <a:pt x="769" y="1733"/>
                </a:lnTo>
                <a:lnTo>
                  <a:pt x="811" y="1315"/>
                </a:lnTo>
                <a:lnTo>
                  <a:pt x="854" y="777"/>
                </a:lnTo>
                <a:lnTo>
                  <a:pt x="854" y="538"/>
                </a:lnTo>
                <a:lnTo>
                  <a:pt x="854" y="299"/>
                </a:lnTo>
                <a:lnTo>
                  <a:pt x="811" y="179"/>
                </a:lnTo>
                <a:lnTo>
                  <a:pt x="811" y="120"/>
                </a:lnTo>
                <a:lnTo>
                  <a:pt x="769" y="60"/>
                </a:lnTo>
                <a:lnTo>
                  <a:pt x="769" y="0"/>
                </a:lnTo>
                <a:lnTo>
                  <a:pt x="811" y="0"/>
                </a:lnTo>
                <a:lnTo>
                  <a:pt x="854" y="60"/>
                </a:lnTo>
                <a:lnTo>
                  <a:pt x="982" y="60"/>
                </a:lnTo>
                <a:lnTo>
                  <a:pt x="1110" y="60"/>
                </a:lnTo>
                <a:lnTo>
                  <a:pt x="1068" y="478"/>
                </a:lnTo>
                <a:lnTo>
                  <a:pt x="1068" y="1016"/>
                </a:lnTo>
                <a:lnTo>
                  <a:pt x="1025" y="1315"/>
                </a:lnTo>
                <a:lnTo>
                  <a:pt x="1025" y="1494"/>
                </a:lnTo>
                <a:lnTo>
                  <a:pt x="982" y="1733"/>
                </a:lnTo>
                <a:lnTo>
                  <a:pt x="939" y="1852"/>
                </a:lnTo>
                <a:lnTo>
                  <a:pt x="939" y="1852"/>
                </a:lnTo>
              </a:path>
            </a:pathLst>
          </a:custGeom>
          <a:solidFill>
            <a:srgbClr val="000000"/>
          </a:solidFill>
          <a:ln w="27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51226"/>
          <p:cNvSpPr/>
          <p:nvPr/>
        </p:nvSpPr>
        <p:spPr>
          <a:xfrm>
            <a:off x="4284720" y="2205000"/>
            <a:ext cx="922320" cy="2162160"/>
          </a:xfrm>
          <a:custGeom>
            <a:avLst/>
            <a:gdLst/>
            <a:ahLst/>
            <a:rect l="l" t="t" r="r" b="b"/>
            <a:pathLst>
              <a:path w="1453" h="3406">
                <a:moveTo>
                  <a:pt x="855" y="2987"/>
                </a:moveTo>
                <a:lnTo>
                  <a:pt x="769" y="2928"/>
                </a:lnTo>
                <a:lnTo>
                  <a:pt x="684" y="2868"/>
                </a:lnTo>
                <a:lnTo>
                  <a:pt x="684" y="2808"/>
                </a:lnTo>
                <a:lnTo>
                  <a:pt x="641" y="2808"/>
                </a:lnTo>
                <a:lnTo>
                  <a:pt x="684" y="2808"/>
                </a:lnTo>
                <a:lnTo>
                  <a:pt x="855" y="2808"/>
                </a:lnTo>
                <a:lnTo>
                  <a:pt x="983" y="2808"/>
                </a:lnTo>
                <a:lnTo>
                  <a:pt x="1068" y="2808"/>
                </a:lnTo>
                <a:lnTo>
                  <a:pt x="1111" y="2808"/>
                </a:lnTo>
                <a:lnTo>
                  <a:pt x="1154" y="2748"/>
                </a:lnTo>
                <a:lnTo>
                  <a:pt x="1154" y="2689"/>
                </a:lnTo>
                <a:lnTo>
                  <a:pt x="1154" y="2569"/>
                </a:lnTo>
                <a:lnTo>
                  <a:pt x="1154" y="2450"/>
                </a:lnTo>
                <a:lnTo>
                  <a:pt x="1154" y="2270"/>
                </a:lnTo>
                <a:lnTo>
                  <a:pt x="1154" y="1314"/>
                </a:lnTo>
                <a:lnTo>
                  <a:pt x="1154" y="1135"/>
                </a:lnTo>
                <a:lnTo>
                  <a:pt x="1154" y="956"/>
                </a:lnTo>
                <a:lnTo>
                  <a:pt x="1111" y="836"/>
                </a:lnTo>
                <a:lnTo>
                  <a:pt x="1111" y="717"/>
                </a:lnTo>
                <a:lnTo>
                  <a:pt x="1111" y="597"/>
                </a:lnTo>
                <a:lnTo>
                  <a:pt x="1111" y="478"/>
                </a:lnTo>
                <a:lnTo>
                  <a:pt x="1068" y="358"/>
                </a:lnTo>
                <a:lnTo>
                  <a:pt x="1025" y="299"/>
                </a:lnTo>
                <a:lnTo>
                  <a:pt x="983" y="239"/>
                </a:lnTo>
                <a:lnTo>
                  <a:pt x="940" y="239"/>
                </a:lnTo>
                <a:lnTo>
                  <a:pt x="855" y="299"/>
                </a:lnTo>
                <a:lnTo>
                  <a:pt x="726" y="299"/>
                </a:lnTo>
                <a:lnTo>
                  <a:pt x="598" y="299"/>
                </a:lnTo>
                <a:lnTo>
                  <a:pt x="427" y="358"/>
                </a:lnTo>
                <a:lnTo>
                  <a:pt x="214" y="358"/>
                </a:lnTo>
                <a:lnTo>
                  <a:pt x="0" y="418"/>
                </a:lnTo>
                <a:lnTo>
                  <a:pt x="0" y="239"/>
                </a:lnTo>
                <a:lnTo>
                  <a:pt x="86" y="239"/>
                </a:lnTo>
                <a:lnTo>
                  <a:pt x="214" y="239"/>
                </a:lnTo>
                <a:lnTo>
                  <a:pt x="342" y="239"/>
                </a:lnTo>
                <a:lnTo>
                  <a:pt x="556" y="179"/>
                </a:lnTo>
                <a:lnTo>
                  <a:pt x="726" y="179"/>
                </a:lnTo>
                <a:lnTo>
                  <a:pt x="855" y="119"/>
                </a:lnTo>
                <a:lnTo>
                  <a:pt x="940" y="119"/>
                </a:lnTo>
                <a:lnTo>
                  <a:pt x="983" y="60"/>
                </a:lnTo>
                <a:lnTo>
                  <a:pt x="1025" y="60"/>
                </a:lnTo>
                <a:lnTo>
                  <a:pt x="1068" y="0"/>
                </a:lnTo>
                <a:lnTo>
                  <a:pt x="1154" y="60"/>
                </a:lnTo>
                <a:lnTo>
                  <a:pt x="1282" y="119"/>
                </a:lnTo>
                <a:lnTo>
                  <a:pt x="1410" y="179"/>
                </a:lnTo>
                <a:lnTo>
                  <a:pt x="1453" y="239"/>
                </a:lnTo>
                <a:lnTo>
                  <a:pt x="1410" y="358"/>
                </a:lnTo>
                <a:lnTo>
                  <a:pt x="1367" y="358"/>
                </a:lnTo>
                <a:lnTo>
                  <a:pt x="1367" y="478"/>
                </a:lnTo>
                <a:lnTo>
                  <a:pt x="1367" y="657"/>
                </a:lnTo>
                <a:lnTo>
                  <a:pt x="1367" y="836"/>
                </a:lnTo>
                <a:lnTo>
                  <a:pt x="1367" y="1314"/>
                </a:lnTo>
                <a:lnTo>
                  <a:pt x="1410" y="1852"/>
                </a:lnTo>
                <a:lnTo>
                  <a:pt x="1410" y="2151"/>
                </a:lnTo>
                <a:lnTo>
                  <a:pt x="1410" y="2390"/>
                </a:lnTo>
                <a:lnTo>
                  <a:pt x="1410" y="2629"/>
                </a:lnTo>
                <a:lnTo>
                  <a:pt x="1410" y="2808"/>
                </a:lnTo>
                <a:lnTo>
                  <a:pt x="1367" y="3107"/>
                </a:lnTo>
                <a:lnTo>
                  <a:pt x="1282" y="3286"/>
                </a:lnTo>
                <a:lnTo>
                  <a:pt x="1239" y="3346"/>
                </a:lnTo>
                <a:lnTo>
                  <a:pt x="1154" y="3406"/>
                </a:lnTo>
                <a:lnTo>
                  <a:pt x="1111" y="3346"/>
                </a:lnTo>
                <a:lnTo>
                  <a:pt x="1068" y="3226"/>
                </a:lnTo>
                <a:lnTo>
                  <a:pt x="1025" y="3107"/>
                </a:lnTo>
                <a:lnTo>
                  <a:pt x="855" y="2987"/>
                </a:lnTo>
                <a:lnTo>
                  <a:pt x="855" y="2987"/>
                </a:lnTo>
              </a:path>
            </a:pathLst>
          </a:custGeom>
          <a:solidFill>
            <a:srgbClr val="000000"/>
          </a:solidFill>
          <a:ln w="27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任意多边形 51227"/>
          <p:cNvSpPr/>
          <p:nvPr/>
        </p:nvSpPr>
        <p:spPr>
          <a:xfrm>
            <a:off x="4211640" y="2852640"/>
            <a:ext cx="647640" cy="152640"/>
          </a:xfrm>
          <a:custGeom>
            <a:avLst/>
            <a:gdLst/>
            <a:ahLst/>
            <a:rect l="l" t="t" r="r" b="b"/>
            <a:pathLst>
              <a:path w="897" h="239">
                <a:moveTo>
                  <a:pt x="385" y="60"/>
                </a:moveTo>
                <a:lnTo>
                  <a:pt x="598" y="0"/>
                </a:lnTo>
                <a:lnTo>
                  <a:pt x="769" y="0"/>
                </a:lnTo>
                <a:lnTo>
                  <a:pt x="855" y="0"/>
                </a:lnTo>
                <a:lnTo>
                  <a:pt x="897" y="60"/>
                </a:lnTo>
                <a:lnTo>
                  <a:pt x="855" y="60"/>
                </a:lnTo>
                <a:lnTo>
                  <a:pt x="812" y="119"/>
                </a:lnTo>
                <a:lnTo>
                  <a:pt x="726" y="119"/>
                </a:lnTo>
                <a:lnTo>
                  <a:pt x="598" y="179"/>
                </a:lnTo>
                <a:lnTo>
                  <a:pt x="342" y="239"/>
                </a:lnTo>
                <a:lnTo>
                  <a:pt x="0" y="239"/>
                </a:lnTo>
                <a:lnTo>
                  <a:pt x="0" y="119"/>
                </a:lnTo>
                <a:lnTo>
                  <a:pt x="43" y="119"/>
                </a:lnTo>
                <a:lnTo>
                  <a:pt x="129" y="119"/>
                </a:lnTo>
                <a:lnTo>
                  <a:pt x="214" y="119"/>
                </a:lnTo>
                <a:lnTo>
                  <a:pt x="385" y="60"/>
                </a:lnTo>
                <a:lnTo>
                  <a:pt x="385" y="60"/>
                </a:lnTo>
              </a:path>
            </a:pathLst>
          </a:custGeom>
          <a:solidFill>
            <a:srgbClr val="000000"/>
          </a:solidFill>
          <a:ln w="27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任意多边形 51228"/>
          <p:cNvSpPr/>
          <p:nvPr/>
        </p:nvSpPr>
        <p:spPr>
          <a:xfrm>
            <a:off x="4191120" y="3284640"/>
            <a:ext cx="668160" cy="152280"/>
          </a:xfrm>
          <a:custGeom>
            <a:avLst/>
            <a:gdLst/>
            <a:ahLst/>
            <a:rect l="l" t="t" r="r" b="b"/>
            <a:pathLst>
              <a:path w="939" h="239">
                <a:moveTo>
                  <a:pt x="0" y="239"/>
                </a:moveTo>
                <a:lnTo>
                  <a:pt x="0" y="120"/>
                </a:lnTo>
                <a:lnTo>
                  <a:pt x="213" y="120"/>
                </a:lnTo>
                <a:lnTo>
                  <a:pt x="427" y="60"/>
                </a:lnTo>
                <a:lnTo>
                  <a:pt x="598" y="0"/>
                </a:lnTo>
                <a:lnTo>
                  <a:pt x="726" y="0"/>
                </a:lnTo>
                <a:lnTo>
                  <a:pt x="897" y="60"/>
                </a:lnTo>
                <a:lnTo>
                  <a:pt x="939" y="120"/>
                </a:lnTo>
                <a:lnTo>
                  <a:pt x="939" y="120"/>
                </a:lnTo>
                <a:lnTo>
                  <a:pt x="939" y="120"/>
                </a:lnTo>
                <a:lnTo>
                  <a:pt x="897" y="179"/>
                </a:lnTo>
                <a:lnTo>
                  <a:pt x="768" y="179"/>
                </a:lnTo>
                <a:lnTo>
                  <a:pt x="640" y="239"/>
                </a:lnTo>
                <a:lnTo>
                  <a:pt x="341" y="239"/>
                </a:lnTo>
                <a:lnTo>
                  <a:pt x="0" y="239"/>
                </a:lnTo>
                <a:lnTo>
                  <a:pt x="0" y="239"/>
                </a:lnTo>
              </a:path>
            </a:pathLst>
          </a:custGeom>
          <a:solidFill>
            <a:srgbClr val="000000"/>
          </a:solidFill>
          <a:ln w="27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52225" descr="20059220382865598[1]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任意多边形 52239"/>
          <p:cNvSpPr/>
          <p:nvPr/>
        </p:nvSpPr>
        <p:spPr>
          <a:xfrm>
            <a:off x="4067280" y="2349360"/>
            <a:ext cx="309600" cy="744840"/>
          </a:xfrm>
          <a:custGeom>
            <a:avLst/>
            <a:gdLst/>
            <a:ahLst/>
            <a:rect l="l" t="t" r="r" b="b"/>
            <a:pathLst>
              <a:path w="488" h="1172">
                <a:moveTo>
                  <a:pt x="341" y="98"/>
                </a:moveTo>
                <a:lnTo>
                  <a:pt x="390" y="196"/>
                </a:lnTo>
                <a:lnTo>
                  <a:pt x="390" y="342"/>
                </a:lnTo>
                <a:lnTo>
                  <a:pt x="439" y="537"/>
                </a:lnTo>
                <a:lnTo>
                  <a:pt x="439" y="732"/>
                </a:lnTo>
                <a:lnTo>
                  <a:pt x="488" y="928"/>
                </a:lnTo>
                <a:lnTo>
                  <a:pt x="488" y="1074"/>
                </a:lnTo>
                <a:lnTo>
                  <a:pt x="488" y="1123"/>
                </a:lnTo>
                <a:lnTo>
                  <a:pt x="488" y="1172"/>
                </a:lnTo>
                <a:lnTo>
                  <a:pt x="439" y="1172"/>
                </a:lnTo>
                <a:lnTo>
                  <a:pt x="390" y="1172"/>
                </a:lnTo>
                <a:lnTo>
                  <a:pt x="341" y="1025"/>
                </a:lnTo>
                <a:lnTo>
                  <a:pt x="292" y="830"/>
                </a:lnTo>
                <a:lnTo>
                  <a:pt x="244" y="537"/>
                </a:lnTo>
                <a:lnTo>
                  <a:pt x="195" y="440"/>
                </a:lnTo>
                <a:lnTo>
                  <a:pt x="146" y="293"/>
                </a:lnTo>
                <a:lnTo>
                  <a:pt x="97" y="244"/>
                </a:lnTo>
                <a:lnTo>
                  <a:pt x="97" y="196"/>
                </a:lnTo>
                <a:lnTo>
                  <a:pt x="48" y="147"/>
                </a:lnTo>
                <a:lnTo>
                  <a:pt x="0" y="49"/>
                </a:lnTo>
                <a:lnTo>
                  <a:pt x="48" y="49"/>
                </a:lnTo>
                <a:lnTo>
                  <a:pt x="97" y="0"/>
                </a:lnTo>
                <a:lnTo>
                  <a:pt x="146" y="49"/>
                </a:lnTo>
                <a:lnTo>
                  <a:pt x="341" y="98"/>
                </a:lnTo>
                <a:lnTo>
                  <a:pt x="341" y="98"/>
                </a:lnTo>
              </a:path>
            </a:pathLst>
          </a:custGeom>
          <a:solidFill>
            <a:srgbClr val="000000"/>
          </a:solidFill>
          <a:ln w="30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52240"/>
          <p:cNvSpPr/>
          <p:nvPr/>
        </p:nvSpPr>
        <p:spPr>
          <a:xfrm>
            <a:off x="4284720" y="2205000"/>
            <a:ext cx="1052280" cy="712800"/>
          </a:xfrm>
          <a:custGeom>
            <a:avLst/>
            <a:gdLst/>
            <a:ahLst/>
            <a:rect l="l" t="t" r="r" b="b"/>
            <a:pathLst>
              <a:path w="1659" h="1123">
                <a:moveTo>
                  <a:pt x="1123" y="1123"/>
                </a:moveTo>
                <a:lnTo>
                  <a:pt x="1171" y="781"/>
                </a:lnTo>
                <a:lnTo>
                  <a:pt x="1220" y="537"/>
                </a:lnTo>
                <a:lnTo>
                  <a:pt x="1269" y="342"/>
                </a:lnTo>
                <a:lnTo>
                  <a:pt x="1220" y="293"/>
                </a:lnTo>
                <a:lnTo>
                  <a:pt x="1123" y="244"/>
                </a:lnTo>
                <a:lnTo>
                  <a:pt x="1074" y="244"/>
                </a:lnTo>
                <a:lnTo>
                  <a:pt x="976" y="293"/>
                </a:lnTo>
                <a:lnTo>
                  <a:pt x="830" y="293"/>
                </a:lnTo>
                <a:lnTo>
                  <a:pt x="683" y="342"/>
                </a:lnTo>
                <a:lnTo>
                  <a:pt x="293" y="391"/>
                </a:lnTo>
                <a:lnTo>
                  <a:pt x="0" y="439"/>
                </a:lnTo>
                <a:lnTo>
                  <a:pt x="0" y="244"/>
                </a:lnTo>
                <a:lnTo>
                  <a:pt x="488" y="195"/>
                </a:lnTo>
                <a:lnTo>
                  <a:pt x="927" y="146"/>
                </a:lnTo>
                <a:lnTo>
                  <a:pt x="1074" y="98"/>
                </a:lnTo>
                <a:lnTo>
                  <a:pt x="1171" y="49"/>
                </a:lnTo>
                <a:lnTo>
                  <a:pt x="1269" y="0"/>
                </a:lnTo>
                <a:lnTo>
                  <a:pt x="1367" y="49"/>
                </a:lnTo>
                <a:lnTo>
                  <a:pt x="1513" y="146"/>
                </a:lnTo>
                <a:lnTo>
                  <a:pt x="1611" y="195"/>
                </a:lnTo>
                <a:lnTo>
                  <a:pt x="1659" y="244"/>
                </a:lnTo>
                <a:lnTo>
                  <a:pt x="1659" y="293"/>
                </a:lnTo>
                <a:lnTo>
                  <a:pt x="1611" y="342"/>
                </a:lnTo>
                <a:lnTo>
                  <a:pt x="1562" y="439"/>
                </a:lnTo>
                <a:lnTo>
                  <a:pt x="1464" y="586"/>
                </a:lnTo>
                <a:lnTo>
                  <a:pt x="1367" y="781"/>
                </a:lnTo>
                <a:lnTo>
                  <a:pt x="1269" y="1123"/>
                </a:lnTo>
                <a:lnTo>
                  <a:pt x="1123" y="1123"/>
                </a:lnTo>
                <a:lnTo>
                  <a:pt x="1123" y="1123"/>
                </a:lnTo>
              </a:path>
            </a:pathLst>
          </a:custGeom>
          <a:solidFill>
            <a:srgbClr val="000000"/>
          </a:solidFill>
          <a:ln w="30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52241"/>
          <p:cNvSpPr/>
          <p:nvPr/>
        </p:nvSpPr>
        <p:spPr>
          <a:xfrm>
            <a:off x="4302000" y="2852640"/>
            <a:ext cx="774720" cy="185760"/>
          </a:xfrm>
          <a:custGeom>
            <a:avLst/>
            <a:gdLst/>
            <a:ahLst/>
            <a:rect l="l" t="t" r="r" b="b"/>
            <a:pathLst>
              <a:path w="1220" h="293">
                <a:moveTo>
                  <a:pt x="586" y="98"/>
                </a:moveTo>
                <a:lnTo>
                  <a:pt x="781" y="49"/>
                </a:lnTo>
                <a:lnTo>
                  <a:pt x="928" y="49"/>
                </a:lnTo>
                <a:lnTo>
                  <a:pt x="1123" y="0"/>
                </a:lnTo>
                <a:lnTo>
                  <a:pt x="1172" y="0"/>
                </a:lnTo>
                <a:lnTo>
                  <a:pt x="1220" y="49"/>
                </a:lnTo>
                <a:lnTo>
                  <a:pt x="1220" y="98"/>
                </a:lnTo>
                <a:lnTo>
                  <a:pt x="1220" y="147"/>
                </a:lnTo>
                <a:lnTo>
                  <a:pt x="1172" y="147"/>
                </a:lnTo>
                <a:lnTo>
                  <a:pt x="1074" y="196"/>
                </a:lnTo>
                <a:lnTo>
                  <a:pt x="928" y="196"/>
                </a:lnTo>
                <a:lnTo>
                  <a:pt x="683" y="244"/>
                </a:lnTo>
                <a:lnTo>
                  <a:pt x="342" y="293"/>
                </a:lnTo>
                <a:lnTo>
                  <a:pt x="49" y="293"/>
                </a:lnTo>
                <a:lnTo>
                  <a:pt x="0" y="196"/>
                </a:lnTo>
                <a:lnTo>
                  <a:pt x="293" y="147"/>
                </a:lnTo>
                <a:lnTo>
                  <a:pt x="586" y="98"/>
                </a:lnTo>
                <a:lnTo>
                  <a:pt x="586" y="98"/>
                </a:lnTo>
              </a:path>
            </a:pathLst>
          </a:custGeom>
          <a:solidFill>
            <a:srgbClr val="000000"/>
          </a:solidFill>
          <a:ln w="30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52242"/>
          <p:cNvSpPr/>
          <p:nvPr/>
        </p:nvSpPr>
        <p:spPr>
          <a:xfrm>
            <a:off x="3693960" y="3213000"/>
            <a:ext cx="806760" cy="743040"/>
          </a:xfrm>
          <a:custGeom>
            <a:avLst/>
            <a:gdLst/>
            <a:ahLst/>
            <a:rect l="l" t="t" r="r" b="b"/>
            <a:pathLst>
              <a:path w="1269" h="1171">
                <a:moveTo>
                  <a:pt x="683" y="586"/>
                </a:moveTo>
                <a:lnTo>
                  <a:pt x="830" y="390"/>
                </a:lnTo>
                <a:lnTo>
                  <a:pt x="927" y="293"/>
                </a:lnTo>
                <a:lnTo>
                  <a:pt x="976" y="195"/>
                </a:lnTo>
                <a:lnTo>
                  <a:pt x="976" y="97"/>
                </a:lnTo>
                <a:lnTo>
                  <a:pt x="976" y="49"/>
                </a:lnTo>
                <a:lnTo>
                  <a:pt x="976" y="49"/>
                </a:lnTo>
                <a:lnTo>
                  <a:pt x="1025" y="0"/>
                </a:lnTo>
                <a:lnTo>
                  <a:pt x="1123" y="49"/>
                </a:lnTo>
                <a:lnTo>
                  <a:pt x="1172" y="97"/>
                </a:lnTo>
                <a:lnTo>
                  <a:pt x="1220" y="146"/>
                </a:lnTo>
                <a:lnTo>
                  <a:pt x="1269" y="195"/>
                </a:lnTo>
                <a:lnTo>
                  <a:pt x="1269" y="244"/>
                </a:lnTo>
                <a:lnTo>
                  <a:pt x="1220" y="342"/>
                </a:lnTo>
                <a:lnTo>
                  <a:pt x="1123" y="439"/>
                </a:lnTo>
                <a:lnTo>
                  <a:pt x="976" y="634"/>
                </a:lnTo>
                <a:lnTo>
                  <a:pt x="732" y="781"/>
                </a:lnTo>
                <a:lnTo>
                  <a:pt x="488" y="976"/>
                </a:lnTo>
                <a:lnTo>
                  <a:pt x="244" y="1074"/>
                </a:lnTo>
                <a:lnTo>
                  <a:pt x="146" y="1123"/>
                </a:lnTo>
                <a:lnTo>
                  <a:pt x="98" y="1171"/>
                </a:lnTo>
                <a:lnTo>
                  <a:pt x="0" y="1171"/>
                </a:lnTo>
                <a:lnTo>
                  <a:pt x="49" y="1123"/>
                </a:lnTo>
                <a:lnTo>
                  <a:pt x="98" y="1123"/>
                </a:lnTo>
                <a:lnTo>
                  <a:pt x="146" y="1025"/>
                </a:lnTo>
                <a:lnTo>
                  <a:pt x="293" y="927"/>
                </a:lnTo>
                <a:lnTo>
                  <a:pt x="537" y="732"/>
                </a:lnTo>
                <a:lnTo>
                  <a:pt x="683" y="586"/>
                </a:lnTo>
                <a:lnTo>
                  <a:pt x="683" y="586"/>
                </a:lnTo>
              </a:path>
            </a:pathLst>
          </a:custGeom>
          <a:solidFill>
            <a:srgbClr val="000000"/>
          </a:solidFill>
          <a:ln w="30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52243"/>
          <p:cNvSpPr/>
          <p:nvPr/>
        </p:nvSpPr>
        <p:spPr>
          <a:xfrm>
            <a:off x="4859280" y="3213000"/>
            <a:ext cx="620640" cy="712800"/>
          </a:xfrm>
          <a:custGeom>
            <a:avLst/>
            <a:gdLst/>
            <a:ahLst/>
            <a:rect l="l" t="t" r="r" b="b"/>
            <a:pathLst>
              <a:path w="976" h="1123">
                <a:moveTo>
                  <a:pt x="342" y="195"/>
                </a:moveTo>
                <a:lnTo>
                  <a:pt x="732" y="488"/>
                </a:lnTo>
                <a:lnTo>
                  <a:pt x="879" y="635"/>
                </a:lnTo>
                <a:lnTo>
                  <a:pt x="976" y="781"/>
                </a:lnTo>
                <a:lnTo>
                  <a:pt x="976" y="1025"/>
                </a:lnTo>
                <a:lnTo>
                  <a:pt x="928" y="1074"/>
                </a:lnTo>
                <a:lnTo>
                  <a:pt x="928" y="1123"/>
                </a:lnTo>
                <a:lnTo>
                  <a:pt x="879" y="1074"/>
                </a:lnTo>
                <a:lnTo>
                  <a:pt x="830" y="1025"/>
                </a:lnTo>
                <a:lnTo>
                  <a:pt x="732" y="927"/>
                </a:lnTo>
                <a:lnTo>
                  <a:pt x="537" y="732"/>
                </a:lnTo>
                <a:lnTo>
                  <a:pt x="195" y="293"/>
                </a:lnTo>
                <a:lnTo>
                  <a:pt x="49" y="146"/>
                </a:lnTo>
                <a:lnTo>
                  <a:pt x="0" y="49"/>
                </a:lnTo>
                <a:lnTo>
                  <a:pt x="0" y="0"/>
                </a:lnTo>
                <a:lnTo>
                  <a:pt x="98" y="0"/>
                </a:lnTo>
                <a:lnTo>
                  <a:pt x="195" y="49"/>
                </a:lnTo>
                <a:lnTo>
                  <a:pt x="342" y="195"/>
                </a:lnTo>
                <a:lnTo>
                  <a:pt x="342" y="195"/>
                </a:lnTo>
              </a:path>
            </a:pathLst>
          </a:custGeom>
          <a:solidFill>
            <a:srgbClr val="000000"/>
          </a:solidFill>
          <a:ln w="30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916360" y="1413000"/>
          <a:ext cx="3600360" cy="3527280"/>
        </p:xfrm>
        <a:graphic>
          <a:graphicData uri="http://schemas.openxmlformats.org/drawingml/2006/table">
            <a:tbl>
              <a:tblPr/>
              <a:tblGrid>
                <a:gridCol w="1746360"/>
                <a:gridCol w="1854000"/>
              </a:tblGrid>
              <a:tr h="18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48129" descr="12D1219ES0-1214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48130"/>
          <p:cNvSpPr/>
          <p:nvPr/>
        </p:nvSpPr>
        <p:spPr>
          <a:xfrm>
            <a:off x="1547640" y="14130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48131"/>
          <p:cNvSpPr/>
          <p:nvPr/>
        </p:nvSpPr>
        <p:spPr>
          <a:xfrm>
            <a:off x="1655640" y="1052640"/>
            <a:ext cx="7488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yu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</a:rPr>
              <a:t>è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  li</a:t>
            </a:r>
            <a:r>
              <a:rPr b="1" lang="en-US" sz="2000" spc="-1" strike="noStrike">
                <a:solidFill>
                  <a:srgbClr val="eae523"/>
                </a:solidFill>
                <a:latin typeface="宋体"/>
              </a:rPr>
              <a:t>a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ng  w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n  w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n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    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xiàng zhī xiǎo chu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月    亮     弯    弯，   像   只  小   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48132"/>
          <p:cNvSpPr/>
          <p:nvPr/>
        </p:nvSpPr>
        <p:spPr>
          <a:xfrm>
            <a:off x="1619280" y="2133720"/>
            <a:ext cx="7345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xiǎo chuán   yáo   yáo        yáo   dào   tiān   biā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小     船     摇   摇，   摇    到   天   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8133"/>
          <p:cNvSpPr/>
          <p:nvPr/>
        </p:nvSpPr>
        <p:spPr>
          <a:xfrm>
            <a:off x="1547640" y="3141720"/>
            <a:ext cx="5183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tiān  biān  qǐng    lái   xiǎo   xīng  x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 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天   边    请    来  小     星   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52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xī    xī     hā     hā     zuò   mǎn  chu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嘻   嘻   哈   哈     坐    满  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8134"/>
          <p:cNvSpPr/>
          <p:nvPr/>
        </p:nvSpPr>
        <p:spPr>
          <a:xfrm>
            <a:off x="1619280" y="4797360"/>
            <a:ext cx="506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m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ǎ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chu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x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ī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g x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g zh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ǎ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 y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ǎ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j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满  船  星  星 眨 眼  睛</a:t>
            </a:r>
            <a:r>
              <a:rPr b="1" lang="en-US" sz="2400" spc="-1" strike="noStrike">
                <a:solidFill>
                  <a:srgbClr val="eae523"/>
                </a:solidFill>
                <a:latin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l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i d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à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o w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ǒ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 ji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 yu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à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li w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来 到 我 家 院 里 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48135"/>
          <p:cNvSpPr/>
          <p:nvPr/>
        </p:nvSpPr>
        <p:spPr>
          <a:xfrm>
            <a:off x="468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  <a:ea typeface="黑体"/>
              </a:rPr>
              <a:t>5</a:t>
            </a:r>
            <a:r>
              <a:rPr b="0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请   星   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53249" descr="20059220382865598[1]"/>
          <p:cNvPicPr/>
          <p:nvPr/>
        </p:nvPicPr>
        <p:blipFill>
          <a:blip r:embed="rId1"/>
          <a:stretch/>
        </p:blipFill>
        <p:spPr>
          <a:xfrm>
            <a:off x="-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任意多边形 53264"/>
          <p:cNvSpPr/>
          <p:nvPr/>
        </p:nvSpPr>
        <p:spPr>
          <a:xfrm>
            <a:off x="4168800" y="1057320"/>
            <a:ext cx="2208240" cy="2181240"/>
          </a:xfrm>
          <a:custGeom>
            <a:avLst/>
            <a:gdLst/>
            <a:ahLst/>
            <a:rect l="l" t="t" r="r" b="b"/>
            <a:pathLst>
              <a:path w="3478" h="3435">
                <a:moveTo>
                  <a:pt x="305" y="2712"/>
                </a:moveTo>
                <a:lnTo>
                  <a:pt x="610" y="2471"/>
                </a:lnTo>
                <a:lnTo>
                  <a:pt x="915" y="2230"/>
                </a:lnTo>
                <a:lnTo>
                  <a:pt x="1098" y="1989"/>
                </a:lnTo>
                <a:lnTo>
                  <a:pt x="1281" y="1687"/>
                </a:lnTo>
                <a:lnTo>
                  <a:pt x="1342" y="1808"/>
                </a:lnTo>
                <a:lnTo>
                  <a:pt x="1220" y="2049"/>
                </a:lnTo>
                <a:lnTo>
                  <a:pt x="1037" y="2230"/>
                </a:lnTo>
                <a:lnTo>
                  <a:pt x="854" y="2410"/>
                </a:lnTo>
                <a:lnTo>
                  <a:pt x="610" y="2591"/>
                </a:lnTo>
                <a:lnTo>
                  <a:pt x="366" y="2712"/>
                </a:lnTo>
                <a:lnTo>
                  <a:pt x="183" y="2832"/>
                </a:lnTo>
                <a:lnTo>
                  <a:pt x="0" y="2892"/>
                </a:lnTo>
                <a:lnTo>
                  <a:pt x="0" y="2892"/>
                </a:lnTo>
                <a:lnTo>
                  <a:pt x="0" y="2892"/>
                </a:lnTo>
                <a:lnTo>
                  <a:pt x="61" y="2832"/>
                </a:lnTo>
                <a:lnTo>
                  <a:pt x="183" y="2772"/>
                </a:lnTo>
                <a:lnTo>
                  <a:pt x="305" y="2712"/>
                </a:lnTo>
                <a:lnTo>
                  <a:pt x="305" y="2712"/>
                </a:lnTo>
                <a:close/>
                <a:moveTo>
                  <a:pt x="1037" y="1507"/>
                </a:moveTo>
                <a:lnTo>
                  <a:pt x="915" y="1567"/>
                </a:lnTo>
                <a:lnTo>
                  <a:pt x="854" y="1567"/>
                </a:lnTo>
                <a:lnTo>
                  <a:pt x="793" y="1446"/>
                </a:lnTo>
                <a:lnTo>
                  <a:pt x="671" y="1326"/>
                </a:lnTo>
                <a:lnTo>
                  <a:pt x="610" y="1085"/>
                </a:lnTo>
                <a:lnTo>
                  <a:pt x="854" y="1145"/>
                </a:lnTo>
                <a:lnTo>
                  <a:pt x="976" y="1205"/>
                </a:lnTo>
                <a:lnTo>
                  <a:pt x="1037" y="1266"/>
                </a:lnTo>
                <a:lnTo>
                  <a:pt x="1037" y="1386"/>
                </a:lnTo>
                <a:lnTo>
                  <a:pt x="1037" y="1446"/>
                </a:lnTo>
                <a:lnTo>
                  <a:pt x="1037" y="1507"/>
                </a:lnTo>
                <a:lnTo>
                  <a:pt x="1037" y="1507"/>
                </a:lnTo>
                <a:close/>
                <a:moveTo>
                  <a:pt x="183" y="1868"/>
                </a:moveTo>
                <a:lnTo>
                  <a:pt x="122" y="1808"/>
                </a:lnTo>
                <a:lnTo>
                  <a:pt x="61" y="1748"/>
                </a:lnTo>
                <a:lnTo>
                  <a:pt x="305" y="1748"/>
                </a:lnTo>
                <a:lnTo>
                  <a:pt x="610" y="1687"/>
                </a:lnTo>
                <a:lnTo>
                  <a:pt x="793" y="1627"/>
                </a:lnTo>
                <a:lnTo>
                  <a:pt x="1037" y="1627"/>
                </a:lnTo>
                <a:lnTo>
                  <a:pt x="1342" y="1567"/>
                </a:lnTo>
                <a:lnTo>
                  <a:pt x="1647" y="1507"/>
                </a:lnTo>
                <a:lnTo>
                  <a:pt x="1953" y="1446"/>
                </a:lnTo>
                <a:lnTo>
                  <a:pt x="2197" y="1446"/>
                </a:lnTo>
                <a:lnTo>
                  <a:pt x="2380" y="1446"/>
                </a:lnTo>
                <a:lnTo>
                  <a:pt x="2502" y="1446"/>
                </a:lnTo>
                <a:lnTo>
                  <a:pt x="2624" y="1446"/>
                </a:lnTo>
                <a:lnTo>
                  <a:pt x="2746" y="1446"/>
                </a:lnTo>
                <a:lnTo>
                  <a:pt x="2807" y="1567"/>
                </a:lnTo>
                <a:lnTo>
                  <a:pt x="2868" y="1627"/>
                </a:lnTo>
                <a:lnTo>
                  <a:pt x="2868" y="1627"/>
                </a:lnTo>
                <a:lnTo>
                  <a:pt x="2807" y="1627"/>
                </a:lnTo>
                <a:lnTo>
                  <a:pt x="2563" y="1627"/>
                </a:lnTo>
                <a:lnTo>
                  <a:pt x="2319" y="1627"/>
                </a:lnTo>
                <a:lnTo>
                  <a:pt x="2075" y="1687"/>
                </a:lnTo>
                <a:lnTo>
                  <a:pt x="1770" y="1687"/>
                </a:lnTo>
                <a:lnTo>
                  <a:pt x="1464" y="1748"/>
                </a:lnTo>
                <a:lnTo>
                  <a:pt x="793" y="1868"/>
                </a:lnTo>
                <a:lnTo>
                  <a:pt x="610" y="1868"/>
                </a:lnTo>
                <a:lnTo>
                  <a:pt x="488" y="1928"/>
                </a:lnTo>
                <a:lnTo>
                  <a:pt x="427" y="1928"/>
                </a:lnTo>
                <a:lnTo>
                  <a:pt x="366" y="1928"/>
                </a:lnTo>
                <a:lnTo>
                  <a:pt x="183" y="1868"/>
                </a:lnTo>
                <a:lnTo>
                  <a:pt x="183" y="1868"/>
                </a:lnTo>
                <a:close/>
                <a:moveTo>
                  <a:pt x="1281" y="663"/>
                </a:moveTo>
                <a:lnTo>
                  <a:pt x="1525" y="603"/>
                </a:lnTo>
                <a:lnTo>
                  <a:pt x="1708" y="543"/>
                </a:lnTo>
                <a:lnTo>
                  <a:pt x="1892" y="543"/>
                </a:lnTo>
                <a:lnTo>
                  <a:pt x="1953" y="543"/>
                </a:lnTo>
                <a:lnTo>
                  <a:pt x="2136" y="543"/>
                </a:lnTo>
                <a:lnTo>
                  <a:pt x="2197" y="543"/>
                </a:lnTo>
                <a:lnTo>
                  <a:pt x="2258" y="603"/>
                </a:lnTo>
                <a:lnTo>
                  <a:pt x="2258" y="663"/>
                </a:lnTo>
                <a:lnTo>
                  <a:pt x="2258" y="723"/>
                </a:lnTo>
                <a:lnTo>
                  <a:pt x="2136" y="723"/>
                </a:lnTo>
                <a:lnTo>
                  <a:pt x="2014" y="784"/>
                </a:lnTo>
                <a:lnTo>
                  <a:pt x="1770" y="844"/>
                </a:lnTo>
                <a:lnTo>
                  <a:pt x="1403" y="844"/>
                </a:lnTo>
                <a:lnTo>
                  <a:pt x="1220" y="904"/>
                </a:lnTo>
                <a:lnTo>
                  <a:pt x="1098" y="904"/>
                </a:lnTo>
                <a:lnTo>
                  <a:pt x="976" y="904"/>
                </a:lnTo>
                <a:lnTo>
                  <a:pt x="915" y="904"/>
                </a:lnTo>
                <a:lnTo>
                  <a:pt x="732" y="904"/>
                </a:lnTo>
                <a:lnTo>
                  <a:pt x="610" y="844"/>
                </a:lnTo>
                <a:lnTo>
                  <a:pt x="610" y="784"/>
                </a:lnTo>
                <a:lnTo>
                  <a:pt x="671" y="723"/>
                </a:lnTo>
                <a:lnTo>
                  <a:pt x="793" y="723"/>
                </a:lnTo>
                <a:lnTo>
                  <a:pt x="1037" y="723"/>
                </a:lnTo>
                <a:lnTo>
                  <a:pt x="1281" y="663"/>
                </a:lnTo>
                <a:lnTo>
                  <a:pt x="1281" y="663"/>
                </a:lnTo>
                <a:close/>
                <a:moveTo>
                  <a:pt x="1586" y="723"/>
                </a:moveTo>
                <a:lnTo>
                  <a:pt x="1586" y="964"/>
                </a:lnTo>
                <a:lnTo>
                  <a:pt x="1586" y="1266"/>
                </a:lnTo>
                <a:lnTo>
                  <a:pt x="1586" y="1687"/>
                </a:lnTo>
                <a:lnTo>
                  <a:pt x="1525" y="2230"/>
                </a:lnTo>
                <a:lnTo>
                  <a:pt x="1525" y="2471"/>
                </a:lnTo>
                <a:lnTo>
                  <a:pt x="1525" y="2712"/>
                </a:lnTo>
                <a:lnTo>
                  <a:pt x="1525" y="2953"/>
                </a:lnTo>
                <a:lnTo>
                  <a:pt x="1525" y="3073"/>
                </a:lnTo>
                <a:lnTo>
                  <a:pt x="1525" y="3254"/>
                </a:lnTo>
                <a:lnTo>
                  <a:pt x="1525" y="3314"/>
                </a:lnTo>
                <a:lnTo>
                  <a:pt x="1464" y="3374"/>
                </a:lnTo>
                <a:lnTo>
                  <a:pt x="1464" y="3435"/>
                </a:lnTo>
                <a:lnTo>
                  <a:pt x="1403" y="3374"/>
                </a:lnTo>
                <a:lnTo>
                  <a:pt x="1342" y="3374"/>
                </a:lnTo>
                <a:lnTo>
                  <a:pt x="1281" y="3254"/>
                </a:lnTo>
                <a:lnTo>
                  <a:pt x="1220" y="3194"/>
                </a:lnTo>
                <a:lnTo>
                  <a:pt x="1220" y="3013"/>
                </a:lnTo>
                <a:lnTo>
                  <a:pt x="1220" y="2832"/>
                </a:lnTo>
                <a:lnTo>
                  <a:pt x="1281" y="2651"/>
                </a:lnTo>
                <a:lnTo>
                  <a:pt x="1281" y="2410"/>
                </a:lnTo>
                <a:lnTo>
                  <a:pt x="1281" y="2230"/>
                </a:lnTo>
                <a:lnTo>
                  <a:pt x="1281" y="1928"/>
                </a:lnTo>
                <a:lnTo>
                  <a:pt x="1281" y="1567"/>
                </a:lnTo>
                <a:lnTo>
                  <a:pt x="1281" y="1145"/>
                </a:lnTo>
                <a:lnTo>
                  <a:pt x="1281" y="723"/>
                </a:lnTo>
                <a:lnTo>
                  <a:pt x="1281" y="422"/>
                </a:lnTo>
                <a:lnTo>
                  <a:pt x="1281" y="241"/>
                </a:lnTo>
                <a:lnTo>
                  <a:pt x="1220" y="181"/>
                </a:lnTo>
                <a:lnTo>
                  <a:pt x="1220" y="121"/>
                </a:lnTo>
                <a:lnTo>
                  <a:pt x="1220" y="61"/>
                </a:lnTo>
                <a:lnTo>
                  <a:pt x="1220" y="0"/>
                </a:lnTo>
                <a:lnTo>
                  <a:pt x="1403" y="0"/>
                </a:lnTo>
                <a:lnTo>
                  <a:pt x="1525" y="61"/>
                </a:lnTo>
                <a:lnTo>
                  <a:pt x="1586" y="121"/>
                </a:lnTo>
                <a:lnTo>
                  <a:pt x="1647" y="181"/>
                </a:lnTo>
                <a:lnTo>
                  <a:pt x="1647" y="241"/>
                </a:lnTo>
                <a:lnTo>
                  <a:pt x="1647" y="302"/>
                </a:lnTo>
                <a:lnTo>
                  <a:pt x="1647" y="422"/>
                </a:lnTo>
                <a:lnTo>
                  <a:pt x="1586" y="543"/>
                </a:lnTo>
                <a:lnTo>
                  <a:pt x="1586" y="723"/>
                </a:lnTo>
                <a:lnTo>
                  <a:pt x="1586" y="723"/>
                </a:lnTo>
                <a:close/>
                <a:moveTo>
                  <a:pt x="2197" y="1205"/>
                </a:moveTo>
                <a:lnTo>
                  <a:pt x="1892" y="1446"/>
                </a:lnTo>
                <a:lnTo>
                  <a:pt x="1770" y="1507"/>
                </a:lnTo>
                <a:lnTo>
                  <a:pt x="1708" y="1446"/>
                </a:lnTo>
                <a:lnTo>
                  <a:pt x="1708" y="1446"/>
                </a:lnTo>
                <a:lnTo>
                  <a:pt x="1770" y="1326"/>
                </a:lnTo>
                <a:lnTo>
                  <a:pt x="1953" y="1085"/>
                </a:lnTo>
                <a:lnTo>
                  <a:pt x="1953" y="1025"/>
                </a:lnTo>
                <a:lnTo>
                  <a:pt x="1953" y="964"/>
                </a:lnTo>
                <a:lnTo>
                  <a:pt x="1953" y="964"/>
                </a:lnTo>
                <a:lnTo>
                  <a:pt x="2014" y="904"/>
                </a:lnTo>
                <a:lnTo>
                  <a:pt x="2075" y="844"/>
                </a:lnTo>
                <a:lnTo>
                  <a:pt x="2197" y="904"/>
                </a:lnTo>
                <a:lnTo>
                  <a:pt x="2319" y="964"/>
                </a:lnTo>
                <a:lnTo>
                  <a:pt x="2380" y="1025"/>
                </a:lnTo>
                <a:lnTo>
                  <a:pt x="2319" y="1145"/>
                </a:lnTo>
                <a:lnTo>
                  <a:pt x="2197" y="1205"/>
                </a:lnTo>
                <a:lnTo>
                  <a:pt x="2197" y="1205"/>
                </a:lnTo>
                <a:close/>
                <a:moveTo>
                  <a:pt x="3478" y="2651"/>
                </a:moveTo>
                <a:lnTo>
                  <a:pt x="3478" y="2712"/>
                </a:lnTo>
                <a:lnTo>
                  <a:pt x="3417" y="2712"/>
                </a:lnTo>
                <a:lnTo>
                  <a:pt x="3295" y="2772"/>
                </a:lnTo>
                <a:lnTo>
                  <a:pt x="3112" y="2772"/>
                </a:lnTo>
                <a:lnTo>
                  <a:pt x="2807" y="2832"/>
                </a:lnTo>
                <a:lnTo>
                  <a:pt x="2685" y="2832"/>
                </a:lnTo>
                <a:lnTo>
                  <a:pt x="2624" y="2832"/>
                </a:lnTo>
                <a:lnTo>
                  <a:pt x="2502" y="2772"/>
                </a:lnTo>
                <a:lnTo>
                  <a:pt x="2319" y="2591"/>
                </a:lnTo>
                <a:lnTo>
                  <a:pt x="2136" y="2471"/>
                </a:lnTo>
                <a:lnTo>
                  <a:pt x="1953" y="2290"/>
                </a:lnTo>
                <a:lnTo>
                  <a:pt x="1708" y="2049"/>
                </a:lnTo>
                <a:lnTo>
                  <a:pt x="1342" y="1748"/>
                </a:lnTo>
                <a:lnTo>
                  <a:pt x="1403" y="1627"/>
                </a:lnTo>
                <a:lnTo>
                  <a:pt x="2075" y="2049"/>
                </a:lnTo>
                <a:lnTo>
                  <a:pt x="2441" y="2290"/>
                </a:lnTo>
                <a:lnTo>
                  <a:pt x="2990" y="2471"/>
                </a:lnTo>
                <a:lnTo>
                  <a:pt x="3173" y="2531"/>
                </a:lnTo>
                <a:lnTo>
                  <a:pt x="3356" y="2591"/>
                </a:lnTo>
                <a:lnTo>
                  <a:pt x="3478" y="2651"/>
                </a:lnTo>
                <a:lnTo>
                  <a:pt x="3478" y="2651"/>
                </a:lnTo>
                <a:lnTo>
                  <a:pt x="3478" y="26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53265"/>
          <p:cNvSpPr/>
          <p:nvPr/>
        </p:nvSpPr>
        <p:spPr>
          <a:xfrm>
            <a:off x="4211640" y="2852640"/>
            <a:ext cx="1046160" cy="228600"/>
          </a:xfrm>
          <a:custGeom>
            <a:avLst/>
            <a:gdLst/>
            <a:ahLst/>
            <a:rect l="l" t="t" r="r" b="b"/>
            <a:pathLst>
              <a:path w="1648" h="361">
                <a:moveTo>
                  <a:pt x="671" y="120"/>
                </a:moveTo>
                <a:lnTo>
                  <a:pt x="915" y="60"/>
                </a:lnTo>
                <a:lnTo>
                  <a:pt x="1098" y="0"/>
                </a:lnTo>
                <a:lnTo>
                  <a:pt x="1282" y="0"/>
                </a:lnTo>
                <a:lnTo>
                  <a:pt x="1343" y="0"/>
                </a:lnTo>
                <a:lnTo>
                  <a:pt x="1526" y="0"/>
                </a:lnTo>
                <a:lnTo>
                  <a:pt x="1587" y="0"/>
                </a:lnTo>
                <a:lnTo>
                  <a:pt x="1648" y="60"/>
                </a:lnTo>
                <a:lnTo>
                  <a:pt x="1648" y="120"/>
                </a:lnTo>
                <a:lnTo>
                  <a:pt x="1648" y="180"/>
                </a:lnTo>
                <a:lnTo>
                  <a:pt x="1526" y="180"/>
                </a:lnTo>
                <a:lnTo>
                  <a:pt x="1404" y="241"/>
                </a:lnTo>
                <a:lnTo>
                  <a:pt x="1160" y="301"/>
                </a:lnTo>
                <a:lnTo>
                  <a:pt x="793" y="301"/>
                </a:lnTo>
                <a:lnTo>
                  <a:pt x="610" y="361"/>
                </a:lnTo>
                <a:lnTo>
                  <a:pt x="488" y="361"/>
                </a:lnTo>
                <a:lnTo>
                  <a:pt x="366" y="361"/>
                </a:lnTo>
                <a:lnTo>
                  <a:pt x="305" y="361"/>
                </a:lnTo>
                <a:lnTo>
                  <a:pt x="122" y="361"/>
                </a:lnTo>
                <a:lnTo>
                  <a:pt x="0" y="301"/>
                </a:lnTo>
                <a:lnTo>
                  <a:pt x="0" y="241"/>
                </a:lnTo>
                <a:lnTo>
                  <a:pt x="61" y="180"/>
                </a:lnTo>
                <a:lnTo>
                  <a:pt x="183" y="180"/>
                </a:lnTo>
                <a:lnTo>
                  <a:pt x="427" y="180"/>
                </a:lnTo>
                <a:lnTo>
                  <a:pt x="671" y="120"/>
                </a:lnTo>
                <a:lnTo>
                  <a:pt x="671" y="120"/>
                </a:lnTo>
              </a:path>
            </a:pathLst>
          </a:custGeom>
          <a:solidFill>
            <a:srgbClr val="000000"/>
          </a:solidFill>
          <a:ln w="38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53266"/>
          <p:cNvSpPr/>
          <p:nvPr/>
        </p:nvSpPr>
        <p:spPr>
          <a:xfrm>
            <a:off x="4211640" y="3213000"/>
            <a:ext cx="271440" cy="306360"/>
          </a:xfrm>
          <a:custGeom>
            <a:avLst/>
            <a:gdLst/>
            <a:ahLst/>
            <a:rect l="l" t="t" r="r" b="b"/>
            <a:pathLst>
              <a:path w="427" h="482">
                <a:moveTo>
                  <a:pt x="427" y="422"/>
                </a:moveTo>
                <a:lnTo>
                  <a:pt x="305" y="482"/>
                </a:lnTo>
                <a:lnTo>
                  <a:pt x="244" y="482"/>
                </a:lnTo>
                <a:lnTo>
                  <a:pt x="183" y="361"/>
                </a:lnTo>
                <a:lnTo>
                  <a:pt x="61" y="241"/>
                </a:lnTo>
                <a:lnTo>
                  <a:pt x="0" y="0"/>
                </a:lnTo>
                <a:lnTo>
                  <a:pt x="244" y="60"/>
                </a:lnTo>
                <a:lnTo>
                  <a:pt x="366" y="120"/>
                </a:lnTo>
                <a:lnTo>
                  <a:pt x="427" y="181"/>
                </a:lnTo>
                <a:lnTo>
                  <a:pt x="427" y="301"/>
                </a:lnTo>
                <a:lnTo>
                  <a:pt x="427" y="361"/>
                </a:lnTo>
                <a:lnTo>
                  <a:pt x="427" y="422"/>
                </a:lnTo>
                <a:lnTo>
                  <a:pt x="427" y="422"/>
                </a:lnTo>
              </a:path>
            </a:pathLst>
          </a:custGeom>
          <a:solidFill>
            <a:srgbClr val="000000"/>
          </a:solidFill>
          <a:ln w="38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53267"/>
          <p:cNvSpPr/>
          <p:nvPr/>
        </p:nvSpPr>
        <p:spPr>
          <a:xfrm>
            <a:off x="4932360" y="3068640"/>
            <a:ext cx="426960" cy="422280"/>
          </a:xfrm>
          <a:custGeom>
            <a:avLst/>
            <a:gdLst/>
            <a:ahLst/>
            <a:rect l="l" t="t" r="r" b="b"/>
            <a:pathLst>
              <a:path w="672" h="663">
                <a:moveTo>
                  <a:pt x="489" y="361"/>
                </a:moveTo>
                <a:lnTo>
                  <a:pt x="184" y="602"/>
                </a:lnTo>
                <a:lnTo>
                  <a:pt x="62" y="663"/>
                </a:lnTo>
                <a:lnTo>
                  <a:pt x="0" y="602"/>
                </a:lnTo>
                <a:lnTo>
                  <a:pt x="0" y="602"/>
                </a:lnTo>
                <a:lnTo>
                  <a:pt x="62" y="482"/>
                </a:lnTo>
                <a:lnTo>
                  <a:pt x="245" y="241"/>
                </a:lnTo>
                <a:lnTo>
                  <a:pt x="245" y="181"/>
                </a:lnTo>
                <a:lnTo>
                  <a:pt x="245" y="120"/>
                </a:lnTo>
                <a:lnTo>
                  <a:pt x="245" y="120"/>
                </a:lnTo>
                <a:lnTo>
                  <a:pt x="306" y="60"/>
                </a:lnTo>
                <a:lnTo>
                  <a:pt x="367" y="0"/>
                </a:lnTo>
                <a:lnTo>
                  <a:pt x="489" y="60"/>
                </a:lnTo>
                <a:lnTo>
                  <a:pt x="611" y="120"/>
                </a:lnTo>
                <a:lnTo>
                  <a:pt x="672" y="181"/>
                </a:lnTo>
                <a:lnTo>
                  <a:pt x="611" y="301"/>
                </a:lnTo>
                <a:lnTo>
                  <a:pt x="489" y="361"/>
                </a:lnTo>
                <a:lnTo>
                  <a:pt x="489" y="361"/>
                </a:lnTo>
              </a:path>
            </a:pathLst>
          </a:custGeom>
          <a:solidFill>
            <a:srgbClr val="000000"/>
          </a:solidFill>
          <a:ln w="38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任意多边形 53268"/>
          <p:cNvSpPr/>
          <p:nvPr/>
        </p:nvSpPr>
        <p:spPr>
          <a:xfrm>
            <a:off x="3851280" y="3500280"/>
            <a:ext cx="1782720" cy="306720"/>
          </a:xfrm>
          <a:custGeom>
            <a:avLst/>
            <a:gdLst/>
            <a:ahLst/>
            <a:rect l="l" t="t" r="r" b="b"/>
            <a:pathLst>
              <a:path w="2807" h="482">
                <a:moveTo>
                  <a:pt x="122" y="422"/>
                </a:moveTo>
                <a:lnTo>
                  <a:pt x="61" y="362"/>
                </a:lnTo>
                <a:lnTo>
                  <a:pt x="0" y="302"/>
                </a:lnTo>
                <a:lnTo>
                  <a:pt x="244" y="302"/>
                </a:lnTo>
                <a:lnTo>
                  <a:pt x="549" y="241"/>
                </a:lnTo>
                <a:lnTo>
                  <a:pt x="732" y="181"/>
                </a:lnTo>
                <a:lnTo>
                  <a:pt x="976" y="181"/>
                </a:lnTo>
                <a:lnTo>
                  <a:pt x="1281" y="121"/>
                </a:lnTo>
                <a:lnTo>
                  <a:pt x="1586" y="61"/>
                </a:lnTo>
                <a:lnTo>
                  <a:pt x="1892" y="0"/>
                </a:lnTo>
                <a:lnTo>
                  <a:pt x="2136" y="0"/>
                </a:lnTo>
                <a:lnTo>
                  <a:pt x="2319" y="0"/>
                </a:lnTo>
                <a:lnTo>
                  <a:pt x="2441" y="0"/>
                </a:lnTo>
                <a:lnTo>
                  <a:pt x="2563" y="0"/>
                </a:lnTo>
                <a:lnTo>
                  <a:pt x="2685" y="0"/>
                </a:lnTo>
                <a:lnTo>
                  <a:pt x="2746" y="121"/>
                </a:lnTo>
                <a:lnTo>
                  <a:pt x="2807" y="181"/>
                </a:lnTo>
                <a:lnTo>
                  <a:pt x="2807" y="181"/>
                </a:lnTo>
                <a:lnTo>
                  <a:pt x="2746" y="181"/>
                </a:lnTo>
                <a:lnTo>
                  <a:pt x="2502" y="181"/>
                </a:lnTo>
                <a:lnTo>
                  <a:pt x="2258" y="181"/>
                </a:lnTo>
                <a:lnTo>
                  <a:pt x="2014" y="241"/>
                </a:lnTo>
                <a:lnTo>
                  <a:pt x="1709" y="241"/>
                </a:lnTo>
                <a:lnTo>
                  <a:pt x="1403" y="302"/>
                </a:lnTo>
                <a:lnTo>
                  <a:pt x="732" y="422"/>
                </a:lnTo>
                <a:lnTo>
                  <a:pt x="549" y="422"/>
                </a:lnTo>
                <a:lnTo>
                  <a:pt x="427" y="482"/>
                </a:lnTo>
                <a:lnTo>
                  <a:pt x="366" y="482"/>
                </a:lnTo>
                <a:lnTo>
                  <a:pt x="305" y="482"/>
                </a:lnTo>
                <a:lnTo>
                  <a:pt x="122" y="422"/>
                </a:lnTo>
                <a:lnTo>
                  <a:pt x="122" y="422"/>
                </a:lnTo>
              </a:path>
            </a:pathLst>
          </a:custGeom>
          <a:solidFill>
            <a:srgbClr val="000000"/>
          </a:solidFill>
          <a:ln w="38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53269"/>
          <p:cNvSpPr/>
          <p:nvPr/>
        </p:nvSpPr>
        <p:spPr>
          <a:xfrm>
            <a:off x="4643280" y="2421000"/>
            <a:ext cx="271800" cy="2449440"/>
          </a:xfrm>
          <a:custGeom>
            <a:avLst/>
            <a:gdLst/>
            <a:ahLst/>
            <a:rect l="l" t="t" r="r" b="b"/>
            <a:pathLst>
              <a:path w="427" h="3435">
                <a:moveTo>
                  <a:pt x="366" y="723"/>
                </a:moveTo>
                <a:lnTo>
                  <a:pt x="366" y="964"/>
                </a:lnTo>
                <a:lnTo>
                  <a:pt x="366" y="1266"/>
                </a:lnTo>
                <a:lnTo>
                  <a:pt x="366" y="1687"/>
                </a:lnTo>
                <a:lnTo>
                  <a:pt x="305" y="2230"/>
                </a:lnTo>
                <a:lnTo>
                  <a:pt x="305" y="2471"/>
                </a:lnTo>
                <a:lnTo>
                  <a:pt x="305" y="2712"/>
                </a:lnTo>
                <a:lnTo>
                  <a:pt x="305" y="2953"/>
                </a:lnTo>
                <a:lnTo>
                  <a:pt x="305" y="3073"/>
                </a:lnTo>
                <a:lnTo>
                  <a:pt x="305" y="3254"/>
                </a:lnTo>
                <a:lnTo>
                  <a:pt x="305" y="3314"/>
                </a:lnTo>
                <a:lnTo>
                  <a:pt x="244" y="3374"/>
                </a:lnTo>
                <a:lnTo>
                  <a:pt x="244" y="3435"/>
                </a:lnTo>
                <a:lnTo>
                  <a:pt x="183" y="3374"/>
                </a:lnTo>
                <a:lnTo>
                  <a:pt x="122" y="3374"/>
                </a:lnTo>
                <a:lnTo>
                  <a:pt x="61" y="3254"/>
                </a:lnTo>
                <a:lnTo>
                  <a:pt x="0" y="3194"/>
                </a:lnTo>
                <a:lnTo>
                  <a:pt x="0" y="3013"/>
                </a:lnTo>
                <a:lnTo>
                  <a:pt x="0" y="2832"/>
                </a:lnTo>
                <a:lnTo>
                  <a:pt x="61" y="2651"/>
                </a:lnTo>
                <a:lnTo>
                  <a:pt x="61" y="2410"/>
                </a:lnTo>
                <a:lnTo>
                  <a:pt x="61" y="2230"/>
                </a:lnTo>
                <a:lnTo>
                  <a:pt x="61" y="1928"/>
                </a:lnTo>
                <a:lnTo>
                  <a:pt x="61" y="1567"/>
                </a:lnTo>
                <a:lnTo>
                  <a:pt x="61" y="1145"/>
                </a:lnTo>
                <a:lnTo>
                  <a:pt x="61" y="723"/>
                </a:lnTo>
                <a:lnTo>
                  <a:pt x="61" y="422"/>
                </a:lnTo>
                <a:lnTo>
                  <a:pt x="61" y="241"/>
                </a:lnTo>
                <a:lnTo>
                  <a:pt x="0" y="181"/>
                </a:lnTo>
                <a:lnTo>
                  <a:pt x="0" y="121"/>
                </a:lnTo>
                <a:lnTo>
                  <a:pt x="0" y="61"/>
                </a:lnTo>
                <a:lnTo>
                  <a:pt x="0" y="0"/>
                </a:lnTo>
                <a:lnTo>
                  <a:pt x="183" y="0"/>
                </a:lnTo>
                <a:lnTo>
                  <a:pt x="305" y="61"/>
                </a:lnTo>
                <a:lnTo>
                  <a:pt x="366" y="121"/>
                </a:lnTo>
                <a:lnTo>
                  <a:pt x="427" y="181"/>
                </a:lnTo>
                <a:lnTo>
                  <a:pt x="427" y="241"/>
                </a:lnTo>
                <a:lnTo>
                  <a:pt x="427" y="302"/>
                </a:lnTo>
                <a:lnTo>
                  <a:pt x="427" y="422"/>
                </a:lnTo>
                <a:lnTo>
                  <a:pt x="366" y="543"/>
                </a:lnTo>
                <a:lnTo>
                  <a:pt x="366" y="723"/>
                </a:lnTo>
                <a:lnTo>
                  <a:pt x="366" y="723"/>
                </a:lnTo>
              </a:path>
            </a:pathLst>
          </a:custGeom>
          <a:solidFill>
            <a:srgbClr val="000000"/>
          </a:solidFill>
          <a:ln w="38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53270"/>
          <p:cNvSpPr/>
          <p:nvPr/>
        </p:nvSpPr>
        <p:spPr>
          <a:xfrm>
            <a:off x="3792600" y="3716280"/>
            <a:ext cx="850680" cy="765360"/>
          </a:xfrm>
          <a:custGeom>
            <a:avLst/>
            <a:gdLst/>
            <a:ahLst/>
            <a:rect l="l" t="t" r="r" b="b"/>
            <a:pathLst>
              <a:path w="1342" h="1205">
                <a:moveTo>
                  <a:pt x="305" y="1025"/>
                </a:moveTo>
                <a:lnTo>
                  <a:pt x="610" y="784"/>
                </a:lnTo>
                <a:lnTo>
                  <a:pt x="915" y="543"/>
                </a:lnTo>
                <a:lnTo>
                  <a:pt x="1098" y="302"/>
                </a:lnTo>
                <a:lnTo>
                  <a:pt x="1281" y="0"/>
                </a:lnTo>
                <a:lnTo>
                  <a:pt x="1342" y="121"/>
                </a:lnTo>
                <a:lnTo>
                  <a:pt x="1220" y="362"/>
                </a:lnTo>
                <a:lnTo>
                  <a:pt x="1037" y="543"/>
                </a:lnTo>
                <a:lnTo>
                  <a:pt x="854" y="723"/>
                </a:lnTo>
                <a:lnTo>
                  <a:pt x="610" y="904"/>
                </a:lnTo>
                <a:lnTo>
                  <a:pt x="366" y="1025"/>
                </a:lnTo>
                <a:lnTo>
                  <a:pt x="183" y="1145"/>
                </a:lnTo>
                <a:lnTo>
                  <a:pt x="0" y="1205"/>
                </a:lnTo>
                <a:lnTo>
                  <a:pt x="0" y="1205"/>
                </a:lnTo>
                <a:lnTo>
                  <a:pt x="0" y="1205"/>
                </a:lnTo>
                <a:lnTo>
                  <a:pt x="61" y="1145"/>
                </a:lnTo>
                <a:lnTo>
                  <a:pt x="183" y="1085"/>
                </a:lnTo>
                <a:lnTo>
                  <a:pt x="305" y="1025"/>
                </a:lnTo>
                <a:lnTo>
                  <a:pt x="305" y="1025"/>
                </a:lnTo>
              </a:path>
            </a:pathLst>
          </a:custGeom>
          <a:solidFill>
            <a:srgbClr val="000000"/>
          </a:solidFill>
          <a:ln w="38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53271"/>
          <p:cNvSpPr/>
          <p:nvPr/>
        </p:nvSpPr>
        <p:spPr>
          <a:xfrm>
            <a:off x="4788000" y="3716280"/>
            <a:ext cx="1355760" cy="765360"/>
          </a:xfrm>
          <a:custGeom>
            <a:avLst/>
            <a:gdLst/>
            <a:ahLst/>
            <a:rect l="l" t="t" r="r" b="b"/>
            <a:pathLst>
              <a:path w="2136" h="1205">
                <a:moveTo>
                  <a:pt x="2136" y="1024"/>
                </a:moveTo>
                <a:lnTo>
                  <a:pt x="2136" y="1085"/>
                </a:lnTo>
                <a:lnTo>
                  <a:pt x="2075" y="1085"/>
                </a:lnTo>
                <a:lnTo>
                  <a:pt x="1953" y="1145"/>
                </a:lnTo>
                <a:lnTo>
                  <a:pt x="1770" y="1145"/>
                </a:lnTo>
                <a:lnTo>
                  <a:pt x="1465" y="1205"/>
                </a:lnTo>
                <a:lnTo>
                  <a:pt x="1343" y="1205"/>
                </a:lnTo>
                <a:lnTo>
                  <a:pt x="1282" y="1205"/>
                </a:lnTo>
                <a:lnTo>
                  <a:pt x="1160" y="1145"/>
                </a:lnTo>
                <a:lnTo>
                  <a:pt x="977" y="964"/>
                </a:lnTo>
                <a:lnTo>
                  <a:pt x="794" y="844"/>
                </a:lnTo>
                <a:lnTo>
                  <a:pt x="611" y="663"/>
                </a:lnTo>
                <a:lnTo>
                  <a:pt x="366" y="422"/>
                </a:lnTo>
                <a:lnTo>
                  <a:pt x="0" y="121"/>
                </a:lnTo>
                <a:lnTo>
                  <a:pt x="61" y="0"/>
                </a:lnTo>
                <a:lnTo>
                  <a:pt x="733" y="422"/>
                </a:lnTo>
                <a:lnTo>
                  <a:pt x="1099" y="663"/>
                </a:lnTo>
                <a:lnTo>
                  <a:pt x="1648" y="844"/>
                </a:lnTo>
                <a:lnTo>
                  <a:pt x="1831" y="904"/>
                </a:lnTo>
                <a:lnTo>
                  <a:pt x="2014" y="964"/>
                </a:lnTo>
                <a:lnTo>
                  <a:pt x="2136" y="1024"/>
                </a:lnTo>
                <a:lnTo>
                  <a:pt x="2136" y="1024"/>
                </a:lnTo>
                <a:lnTo>
                  <a:pt x="2136" y="1024"/>
                </a:lnTo>
              </a:path>
            </a:pathLst>
          </a:custGeom>
          <a:solidFill>
            <a:srgbClr val="000000"/>
          </a:solidFill>
          <a:ln w="38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059280" y="1844640"/>
          <a:ext cx="3600360" cy="3527280"/>
        </p:xfrm>
        <a:graphic>
          <a:graphicData uri="http://schemas.openxmlformats.org/drawingml/2006/table">
            <a:tbl>
              <a:tblPr/>
              <a:tblGrid>
                <a:gridCol w="1746360"/>
                <a:gridCol w="1854000"/>
              </a:tblGrid>
              <a:tr h="18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54273" descr="20059220382865598[1]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3132000" y="1484280"/>
          <a:ext cx="3600360" cy="3524400"/>
        </p:xfrm>
        <a:graphic>
          <a:graphicData uri="http://schemas.openxmlformats.org/drawingml/2006/table">
            <a:tbl>
              <a:tblPr/>
              <a:tblGrid>
                <a:gridCol w="1746360"/>
                <a:gridCol w="18540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任意多边形 54286"/>
          <p:cNvSpPr/>
          <p:nvPr/>
        </p:nvSpPr>
        <p:spPr>
          <a:xfrm>
            <a:off x="4140360" y="2332080"/>
            <a:ext cx="271440" cy="1025640"/>
          </a:xfrm>
          <a:custGeom>
            <a:avLst/>
            <a:gdLst/>
            <a:ahLst/>
            <a:rect l="l" t="t" r="r" b="b"/>
            <a:pathLst>
              <a:path w="427" h="1613">
                <a:moveTo>
                  <a:pt x="305" y="59"/>
                </a:moveTo>
                <a:lnTo>
                  <a:pt x="366" y="597"/>
                </a:lnTo>
                <a:lnTo>
                  <a:pt x="427" y="1015"/>
                </a:lnTo>
                <a:lnTo>
                  <a:pt x="427" y="1254"/>
                </a:lnTo>
                <a:lnTo>
                  <a:pt x="427" y="1434"/>
                </a:lnTo>
                <a:lnTo>
                  <a:pt x="427" y="1553"/>
                </a:lnTo>
                <a:lnTo>
                  <a:pt x="427" y="1613"/>
                </a:lnTo>
                <a:lnTo>
                  <a:pt x="366" y="1613"/>
                </a:lnTo>
                <a:lnTo>
                  <a:pt x="305" y="1553"/>
                </a:lnTo>
                <a:lnTo>
                  <a:pt x="305" y="1434"/>
                </a:lnTo>
                <a:lnTo>
                  <a:pt x="244" y="1135"/>
                </a:lnTo>
                <a:lnTo>
                  <a:pt x="183" y="776"/>
                </a:lnTo>
                <a:lnTo>
                  <a:pt x="183" y="537"/>
                </a:lnTo>
                <a:lnTo>
                  <a:pt x="122" y="298"/>
                </a:lnTo>
                <a:lnTo>
                  <a:pt x="61" y="179"/>
                </a:lnTo>
                <a:lnTo>
                  <a:pt x="0" y="59"/>
                </a:lnTo>
                <a:lnTo>
                  <a:pt x="0" y="0"/>
                </a:lnTo>
                <a:lnTo>
                  <a:pt x="0" y="0"/>
                </a:lnTo>
                <a:lnTo>
                  <a:pt x="61" y="0"/>
                </a:lnTo>
                <a:lnTo>
                  <a:pt x="122" y="0"/>
                </a:lnTo>
                <a:lnTo>
                  <a:pt x="305" y="59"/>
                </a:lnTo>
                <a:lnTo>
                  <a:pt x="305" y="59"/>
                </a:lnTo>
              </a:path>
            </a:pathLst>
          </a:custGeom>
          <a:solidFill>
            <a:srgbClr val="000000"/>
          </a:solidFill>
          <a:ln w="38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54287"/>
          <p:cNvSpPr/>
          <p:nvPr/>
        </p:nvSpPr>
        <p:spPr>
          <a:xfrm>
            <a:off x="4356000" y="2146320"/>
            <a:ext cx="1395360" cy="1138320"/>
          </a:xfrm>
          <a:custGeom>
            <a:avLst/>
            <a:gdLst/>
            <a:ahLst/>
            <a:rect l="l" t="t" r="r" b="b"/>
            <a:pathLst>
              <a:path w="2197" h="1792">
                <a:moveTo>
                  <a:pt x="2014" y="119"/>
                </a:moveTo>
                <a:lnTo>
                  <a:pt x="2136" y="239"/>
                </a:lnTo>
                <a:lnTo>
                  <a:pt x="2197" y="298"/>
                </a:lnTo>
                <a:lnTo>
                  <a:pt x="2136" y="418"/>
                </a:lnTo>
                <a:lnTo>
                  <a:pt x="2075" y="418"/>
                </a:lnTo>
                <a:lnTo>
                  <a:pt x="2075" y="478"/>
                </a:lnTo>
                <a:lnTo>
                  <a:pt x="2014" y="597"/>
                </a:lnTo>
                <a:lnTo>
                  <a:pt x="2014" y="776"/>
                </a:lnTo>
                <a:lnTo>
                  <a:pt x="1953" y="1075"/>
                </a:lnTo>
                <a:lnTo>
                  <a:pt x="1831" y="1374"/>
                </a:lnTo>
                <a:lnTo>
                  <a:pt x="1770" y="1553"/>
                </a:lnTo>
                <a:lnTo>
                  <a:pt x="1648" y="1673"/>
                </a:lnTo>
                <a:lnTo>
                  <a:pt x="1587" y="1732"/>
                </a:lnTo>
                <a:lnTo>
                  <a:pt x="1587" y="1792"/>
                </a:lnTo>
                <a:lnTo>
                  <a:pt x="1526" y="1732"/>
                </a:lnTo>
                <a:lnTo>
                  <a:pt x="1526" y="1732"/>
                </a:lnTo>
                <a:lnTo>
                  <a:pt x="1465" y="1613"/>
                </a:lnTo>
                <a:lnTo>
                  <a:pt x="1404" y="1493"/>
                </a:lnTo>
                <a:lnTo>
                  <a:pt x="1465" y="1434"/>
                </a:lnTo>
                <a:lnTo>
                  <a:pt x="1587" y="1374"/>
                </a:lnTo>
                <a:lnTo>
                  <a:pt x="1587" y="1314"/>
                </a:lnTo>
                <a:lnTo>
                  <a:pt x="1648" y="1195"/>
                </a:lnTo>
                <a:lnTo>
                  <a:pt x="1648" y="1015"/>
                </a:lnTo>
                <a:lnTo>
                  <a:pt x="1709" y="836"/>
                </a:lnTo>
                <a:lnTo>
                  <a:pt x="1770" y="657"/>
                </a:lnTo>
                <a:lnTo>
                  <a:pt x="1770" y="537"/>
                </a:lnTo>
                <a:lnTo>
                  <a:pt x="1831" y="418"/>
                </a:lnTo>
                <a:lnTo>
                  <a:pt x="1831" y="358"/>
                </a:lnTo>
                <a:lnTo>
                  <a:pt x="1770" y="298"/>
                </a:lnTo>
                <a:lnTo>
                  <a:pt x="1709" y="239"/>
                </a:lnTo>
                <a:lnTo>
                  <a:pt x="1526" y="239"/>
                </a:lnTo>
                <a:lnTo>
                  <a:pt x="1526" y="239"/>
                </a:lnTo>
                <a:lnTo>
                  <a:pt x="1404" y="239"/>
                </a:lnTo>
                <a:lnTo>
                  <a:pt x="1282" y="239"/>
                </a:lnTo>
                <a:lnTo>
                  <a:pt x="1099" y="298"/>
                </a:lnTo>
                <a:lnTo>
                  <a:pt x="915" y="298"/>
                </a:lnTo>
                <a:lnTo>
                  <a:pt x="671" y="358"/>
                </a:lnTo>
                <a:lnTo>
                  <a:pt x="366" y="358"/>
                </a:lnTo>
                <a:lnTo>
                  <a:pt x="0" y="418"/>
                </a:lnTo>
                <a:lnTo>
                  <a:pt x="0" y="298"/>
                </a:lnTo>
                <a:lnTo>
                  <a:pt x="366" y="239"/>
                </a:lnTo>
                <a:lnTo>
                  <a:pt x="671" y="179"/>
                </a:lnTo>
                <a:lnTo>
                  <a:pt x="915" y="179"/>
                </a:lnTo>
                <a:lnTo>
                  <a:pt x="1282" y="119"/>
                </a:lnTo>
                <a:lnTo>
                  <a:pt x="1465" y="59"/>
                </a:lnTo>
                <a:lnTo>
                  <a:pt x="1587" y="59"/>
                </a:lnTo>
                <a:lnTo>
                  <a:pt x="1648" y="59"/>
                </a:lnTo>
                <a:lnTo>
                  <a:pt x="1709" y="0"/>
                </a:lnTo>
                <a:lnTo>
                  <a:pt x="1831" y="0"/>
                </a:lnTo>
                <a:lnTo>
                  <a:pt x="1892" y="59"/>
                </a:lnTo>
                <a:lnTo>
                  <a:pt x="2014" y="119"/>
                </a:lnTo>
                <a:lnTo>
                  <a:pt x="2014" y="119"/>
                </a:lnTo>
              </a:path>
            </a:pathLst>
          </a:custGeom>
          <a:solidFill>
            <a:srgbClr val="000000"/>
          </a:solidFill>
          <a:ln w="38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54288"/>
          <p:cNvSpPr/>
          <p:nvPr/>
        </p:nvSpPr>
        <p:spPr>
          <a:xfrm>
            <a:off x="4500720" y="2637000"/>
            <a:ext cx="698400" cy="190440"/>
          </a:xfrm>
          <a:custGeom>
            <a:avLst/>
            <a:gdLst/>
            <a:ahLst/>
            <a:rect l="l" t="t" r="r" b="b"/>
            <a:pathLst>
              <a:path w="1099" h="299">
                <a:moveTo>
                  <a:pt x="61" y="180"/>
                </a:moveTo>
                <a:lnTo>
                  <a:pt x="122" y="180"/>
                </a:lnTo>
                <a:lnTo>
                  <a:pt x="183" y="120"/>
                </a:lnTo>
                <a:lnTo>
                  <a:pt x="305" y="120"/>
                </a:lnTo>
                <a:lnTo>
                  <a:pt x="488" y="60"/>
                </a:lnTo>
                <a:lnTo>
                  <a:pt x="733" y="0"/>
                </a:lnTo>
                <a:lnTo>
                  <a:pt x="855" y="0"/>
                </a:lnTo>
                <a:lnTo>
                  <a:pt x="916" y="0"/>
                </a:lnTo>
                <a:lnTo>
                  <a:pt x="1038" y="0"/>
                </a:lnTo>
                <a:lnTo>
                  <a:pt x="1099" y="60"/>
                </a:lnTo>
                <a:lnTo>
                  <a:pt x="1099" y="120"/>
                </a:lnTo>
                <a:lnTo>
                  <a:pt x="1099" y="120"/>
                </a:lnTo>
                <a:lnTo>
                  <a:pt x="1038" y="180"/>
                </a:lnTo>
                <a:lnTo>
                  <a:pt x="977" y="180"/>
                </a:lnTo>
                <a:lnTo>
                  <a:pt x="855" y="180"/>
                </a:lnTo>
                <a:lnTo>
                  <a:pt x="733" y="239"/>
                </a:lnTo>
                <a:lnTo>
                  <a:pt x="549" y="239"/>
                </a:lnTo>
                <a:lnTo>
                  <a:pt x="427" y="239"/>
                </a:lnTo>
                <a:lnTo>
                  <a:pt x="244" y="299"/>
                </a:lnTo>
                <a:lnTo>
                  <a:pt x="183" y="299"/>
                </a:lnTo>
                <a:lnTo>
                  <a:pt x="122" y="299"/>
                </a:lnTo>
                <a:lnTo>
                  <a:pt x="61" y="299"/>
                </a:lnTo>
                <a:lnTo>
                  <a:pt x="61" y="239"/>
                </a:lnTo>
                <a:lnTo>
                  <a:pt x="0" y="180"/>
                </a:lnTo>
                <a:lnTo>
                  <a:pt x="61" y="180"/>
                </a:lnTo>
                <a:lnTo>
                  <a:pt x="61" y="180"/>
                </a:lnTo>
              </a:path>
            </a:pathLst>
          </a:custGeom>
          <a:solidFill>
            <a:srgbClr val="000000"/>
          </a:solidFill>
          <a:ln w="38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54289"/>
          <p:cNvSpPr/>
          <p:nvPr/>
        </p:nvSpPr>
        <p:spPr>
          <a:xfrm>
            <a:off x="4427640" y="3095640"/>
            <a:ext cx="852480" cy="189000"/>
          </a:xfrm>
          <a:custGeom>
            <a:avLst/>
            <a:gdLst/>
            <a:ahLst/>
            <a:rect l="l" t="t" r="r" b="b"/>
            <a:pathLst>
              <a:path w="1343" h="298">
                <a:moveTo>
                  <a:pt x="0" y="179"/>
                </a:moveTo>
                <a:lnTo>
                  <a:pt x="427" y="119"/>
                </a:lnTo>
                <a:lnTo>
                  <a:pt x="794" y="59"/>
                </a:lnTo>
                <a:lnTo>
                  <a:pt x="977" y="59"/>
                </a:lnTo>
                <a:lnTo>
                  <a:pt x="1099" y="0"/>
                </a:lnTo>
                <a:lnTo>
                  <a:pt x="1160" y="59"/>
                </a:lnTo>
                <a:lnTo>
                  <a:pt x="1343" y="239"/>
                </a:lnTo>
                <a:lnTo>
                  <a:pt x="733" y="239"/>
                </a:lnTo>
                <a:lnTo>
                  <a:pt x="61" y="298"/>
                </a:lnTo>
                <a:lnTo>
                  <a:pt x="0" y="179"/>
                </a:lnTo>
                <a:lnTo>
                  <a:pt x="0" y="179"/>
                </a:lnTo>
              </a:path>
            </a:pathLst>
          </a:custGeom>
          <a:solidFill>
            <a:srgbClr val="000000"/>
          </a:solidFill>
          <a:ln w="38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54290"/>
          <p:cNvSpPr/>
          <p:nvPr/>
        </p:nvSpPr>
        <p:spPr>
          <a:xfrm>
            <a:off x="4788000" y="2365200"/>
            <a:ext cx="193680" cy="1784520"/>
          </a:xfrm>
          <a:custGeom>
            <a:avLst/>
            <a:gdLst/>
            <a:ahLst/>
            <a:rect l="l" t="t" r="r" b="b"/>
            <a:pathLst>
              <a:path w="306" h="2809">
                <a:moveTo>
                  <a:pt x="306" y="180"/>
                </a:moveTo>
                <a:lnTo>
                  <a:pt x="306" y="299"/>
                </a:lnTo>
                <a:lnTo>
                  <a:pt x="306" y="419"/>
                </a:lnTo>
                <a:lnTo>
                  <a:pt x="306" y="717"/>
                </a:lnTo>
                <a:lnTo>
                  <a:pt x="306" y="1016"/>
                </a:lnTo>
                <a:lnTo>
                  <a:pt x="306" y="1434"/>
                </a:lnTo>
                <a:lnTo>
                  <a:pt x="245" y="1853"/>
                </a:lnTo>
                <a:lnTo>
                  <a:pt x="245" y="2271"/>
                </a:lnTo>
                <a:lnTo>
                  <a:pt x="245" y="2809"/>
                </a:lnTo>
                <a:lnTo>
                  <a:pt x="61" y="2809"/>
                </a:lnTo>
                <a:lnTo>
                  <a:pt x="61" y="2211"/>
                </a:lnTo>
                <a:lnTo>
                  <a:pt x="61" y="1673"/>
                </a:lnTo>
                <a:lnTo>
                  <a:pt x="61" y="1315"/>
                </a:lnTo>
                <a:lnTo>
                  <a:pt x="61" y="1016"/>
                </a:lnTo>
                <a:lnTo>
                  <a:pt x="61" y="538"/>
                </a:lnTo>
                <a:lnTo>
                  <a:pt x="0" y="0"/>
                </a:lnTo>
                <a:lnTo>
                  <a:pt x="183" y="0"/>
                </a:lnTo>
                <a:lnTo>
                  <a:pt x="245" y="0"/>
                </a:lnTo>
                <a:lnTo>
                  <a:pt x="306" y="60"/>
                </a:lnTo>
                <a:lnTo>
                  <a:pt x="306" y="120"/>
                </a:lnTo>
                <a:lnTo>
                  <a:pt x="306" y="180"/>
                </a:lnTo>
                <a:lnTo>
                  <a:pt x="306" y="180"/>
                </a:lnTo>
              </a:path>
            </a:pathLst>
          </a:custGeom>
          <a:solidFill>
            <a:srgbClr val="000000"/>
          </a:solidFill>
          <a:ln w="38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54291"/>
          <p:cNvSpPr/>
          <p:nvPr/>
        </p:nvSpPr>
        <p:spPr>
          <a:xfrm>
            <a:off x="4356000" y="3522600"/>
            <a:ext cx="970200" cy="266760"/>
          </a:xfrm>
          <a:custGeom>
            <a:avLst/>
            <a:gdLst/>
            <a:ahLst/>
            <a:rect l="l" t="t" r="r" b="b"/>
            <a:pathLst>
              <a:path w="1526" h="418">
                <a:moveTo>
                  <a:pt x="183" y="418"/>
                </a:moveTo>
                <a:lnTo>
                  <a:pt x="122" y="418"/>
                </a:lnTo>
                <a:lnTo>
                  <a:pt x="61" y="358"/>
                </a:lnTo>
                <a:lnTo>
                  <a:pt x="0" y="299"/>
                </a:lnTo>
                <a:lnTo>
                  <a:pt x="0" y="239"/>
                </a:lnTo>
                <a:lnTo>
                  <a:pt x="0" y="239"/>
                </a:lnTo>
                <a:lnTo>
                  <a:pt x="122" y="239"/>
                </a:lnTo>
                <a:lnTo>
                  <a:pt x="183" y="239"/>
                </a:lnTo>
                <a:lnTo>
                  <a:pt x="305" y="179"/>
                </a:lnTo>
                <a:lnTo>
                  <a:pt x="488" y="179"/>
                </a:lnTo>
                <a:lnTo>
                  <a:pt x="732" y="119"/>
                </a:lnTo>
                <a:lnTo>
                  <a:pt x="916" y="60"/>
                </a:lnTo>
                <a:lnTo>
                  <a:pt x="1099" y="60"/>
                </a:lnTo>
                <a:lnTo>
                  <a:pt x="1221" y="0"/>
                </a:lnTo>
                <a:lnTo>
                  <a:pt x="1343" y="0"/>
                </a:lnTo>
                <a:lnTo>
                  <a:pt x="1465" y="60"/>
                </a:lnTo>
                <a:lnTo>
                  <a:pt x="1526" y="60"/>
                </a:lnTo>
                <a:lnTo>
                  <a:pt x="1526" y="179"/>
                </a:lnTo>
                <a:lnTo>
                  <a:pt x="1404" y="239"/>
                </a:lnTo>
                <a:lnTo>
                  <a:pt x="1282" y="239"/>
                </a:lnTo>
                <a:lnTo>
                  <a:pt x="977" y="299"/>
                </a:lnTo>
                <a:lnTo>
                  <a:pt x="671" y="358"/>
                </a:lnTo>
                <a:lnTo>
                  <a:pt x="488" y="358"/>
                </a:lnTo>
                <a:lnTo>
                  <a:pt x="305" y="418"/>
                </a:lnTo>
                <a:lnTo>
                  <a:pt x="244" y="418"/>
                </a:lnTo>
                <a:lnTo>
                  <a:pt x="183" y="418"/>
                </a:lnTo>
                <a:lnTo>
                  <a:pt x="183" y="418"/>
                </a:lnTo>
              </a:path>
            </a:pathLst>
          </a:custGeom>
          <a:solidFill>
            <a:srgbClr val="000000"/>
          </a:solidFill>
          <a:ln w="38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54292"/>
          <p:cNvSpPr/>
          <p:nvPr/>
        </p:nvSpPr>
        <p:spPr>
          <a:xfrm>
            <a:off x="3780000" y="4057560"/>
            <a:ext cx="2207880" cy="379440"/>
          </a:xfrm>
          <a:custGeom>
            <a:avLst/>
            <a:gdLst/>
            <a:ahLst/>
            <a:rect l="l" t="t" r="r" b="b"/>
            <a:pathLst>
              <a:path w="3478" h="597">
                <a:moveTo>
                  <a:pt x="610" y="538"/>
                </a:moveTo>
                <a:lnTo>
                  <a:pt x="427" y="538"/>
                </a:lnTo>
                <a:lnTo>
                  <a:pt x="305" y="597"/>
                </a:lnTo>
                <a:lnTo>
                  <a:pt x="183" y="538"/>
                </a:lnTo>
                <a:lnTo>
                  <a:pt x="0" y="358"/>
                </a:lnTo>
                <a:lnTo>
                  <a:pt x="122" y="358"/>
                </a:lnTo>
                <a:lnTo>
                  <a:pt x="244" y="358"/>
                </a:lnTo>
                <a:lnTo>
                  <a:pt x="366" y="299"/>
                </a:lnTo>
                <a:lnTo>
                  <a:pt x="610" y="299"/>
                </a:lnTo>
                <a:lnTo>
                  <a:pt x="854" y="239"/>
                </a:lnTo>
                <a:lnTo>
                  <a:pt x="1159" y="239"/>
                </a:lnTo>
                <a:lnTo>
                  <a:pt x="1586" y="179"/>
                </a:lnTo>
                <a:lnTo>
                  <a:pt x="2014" y="119"/>
                </a:lnTo>
                <a:lnTo>
                  <a:pt x="2441" y="60"/>
                </a:lnTo>
                <a:lnTo>
                  <a:pt x="2746" y="60"/>
                </a:lnTo>
                <a:lnTo>
                  <a:pt x="2929" y="0"/>
                </a:lnTo>
                <a:lnTo>
                  <a:pt x="2990" y="0"/>
                </a:lnTo>
                <a:lnTo>
                  <a:pt x="3112" y="0"/>
                </a:lnTo>
                <a:lnTo>
                  <a:pt x="3173" y="0"/>
                </a:lnTo>
                <a:lnTo>
                  <a:pt x="3356" y="179"/>
                </a:lnTo>
                <a:lnTo>
                  <a:pt x="3417" y="239"/>
                </a:lnTo>
                <a:lnTo>
                  <a:pt x="3478" y="299"/>
                </a:lnTo>
                <a:lnTo>
                  <a:pt x="3478" y="358"/>
                </a:lnTo>
                <a:lnTo>
                  <a:pt x="3478" y="358"/>
                </a:lnTo>
                <a:lnTo>
                  <a:pt x="3417" y="358"/>
                </a:lnTo>
                <a:lnTo>
                  <a:pt x="3295" y="358"/>
                </a:lnTo>
                <a:lnTo>
                  <a:pt x="3112" y="299"/>
                </a:lnTo>
                <a:lnTo>
                  <a:pt x="2929" y="299"/>
                </a:lnTo>
                <a:lnTo>
                  <a:pt x="2685" y="299"/>
                </a:lnTo>
                <a:lnTo>
                  <a:pt x="2502" y="299"/>
                </a:lnTo>
                <a:lnTo>
                  <a:pt x="2380" y="299"/>
                </a:lnTo>
                <a:lnTo>
                  <a:pt x="2258" y="299"/>
                </a:lnTo>
                <a:lnTo>
                  <a:pt x="2075" y="299"/>
                </a:lnTo>
                <a:lnTo>
                  <a:pt x="1831" y="299"/>
                </a:lnTo>
                <a:lnTo>
                  <a:pt x="1586" y="358"/>
                </a:lnTo>
                <a:lnTo>
                  <a:pt x="1281" y="418"/>
                </a:lnTo>
                <a:lnTo>
                  <a:pt x="915" y="478"/>
                </a:lnTo>
                <a:lnTo>
                  <a:pt x="610" y="538"/>
                </a:lnTo>
                <a:lnTo>
                  <a:pt x="610" y="538"/>
                </a:lnTo>
              </a:path>
            </a:pathLst>
          </a:custGeom>
          <a:solidFill>
            <a:srgbClr val="000000"/>
          </a:solidFill>
          <a:ln w="38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66561" descr="dreamsky02"/>
          <p:cNvPicPr/>
          <p:nvPr/>
        </p:nvPicPr>
        <p:blipFill>
          <a:blip r:embed="rId1"/>
          <a:srcRect l="0" t="0" r="0" b="7293"/>
          <a:stretch/>
        </p:blipFill>
        <p:spPr>
          <a:xfrm>
            <a:off x="-1476360" y="-531720"/>
            <a:ext cx="12885840" cy="10321920"/>
          </a:xfrm>
          <a:prstGeom prst="rect">
            <a:avLst/>
          </a:prstGeom>
          <a:ln w="0">
            <a:noFill/>
          </a:ln>
        </p:spPr>
      </p:pic>
      <p:sp>
        <p:nvSpPr>
          <p:cNvPr id="258" name="文本框 66562"/>
          <p:cNvSpPr/>
          <p:nvPr/>
        </p:nvSpPr>
        <p:spPr>
          <a:xfrm>
            <a:off x="1187280" y="1916280"/>
            <a:ext cx="701064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66563" descr="01"/>
          <p:cNvPicPr/>
          <p:nvPr/>
        </p:nvPicPr>
        <p:blipFill>
          <a:blip r:embed="rId2"/>
          <a:stretch/>
        </p:blipFill>
        <p:spPr>
          <a:xfrm>
            <a:off x="990720" y="10666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66564" descr="01"/>
          <p:cNvPicPr/>
          <p:nvPr/>
        </p:nvPicPr>
        <p:blipFill>
          <a:blip r:embed="rId3"/>
          <a:stretch/>
        </p:blipFill>
        <p:spPr>
          <a:xfrm>
            <a:off x="1835280" y="3213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66565" descr="01"/>
          <p:cNvPicPr/>
          <p:nvPr/>
        </p:nvPicPr>
        <p:blipFill>
          <a:blip r:embed="rId4"/>
          <a:stretch/>
        </p:blipFill>
        <p:spPr>
          <a:xfrm>
            <a:off x="468360" y="1773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66566" descr="01"/>
          <p:cNvPicPr/>
          <p:nvPr/>
        </p:nvPicPr>
        <p:blipFill>
          <a:blip r:embed="rId5"/>
          <a:stretch/>
        </p:blipFill>
        <p:spPr>
          <a:xfrm>
            <a:off x="900000" y="765000"/>
            <a:ext cx="749520" cy="79236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66567" descr="01"/>
          <p:cNvPicPr/>
          <p:nvPr/>
        </p:nvPicPr>
        <p:blipFill>
          <a:blip r:embed="rId6"/>
          <a:stretch/>
        </p:blipFill>
        <p:spPr>
          <a:xfrm>
            <a:off x="3635280" y="162864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66568" descr="01"/>
          <p:cNvPicPr/>
          <p:nvPr/>
        </p:nvPicPr>
        <p:blipFill>
          <a:blip r:embed="rId7"/>
          <a:stretch/>
        </p:blipFill>
        <p:spPr>
          <a:xfrm>
            <a:off x="324000" y="126828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66569" descr="01"/>
          <p:cNvPicPr/>
          <p:nvPr/>
        </p:nvPicPr>
        <p:blipFill>
          <a:blip r:embed="rId8"/>
          <a:stretch/>
        </p:blipFill>
        <p:spPr>
          <a:xfrm>
            <a:off x="971640" y="2438280"/>
            <a:ext cx="780840" cy="78120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66570" descr="01"/>
          <p:cNvPicPr/>
          <p:nvPr/>
        </p:nvPicPr>
        <p:blipFill>
          <a:blip r:embed="rId9"/>
          <a:stretch/>
        </p:blipFill>
        <p:spPr>
          <a:xfrm>
            <a:off x="3708360" y="9079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66571" descr="01"/>
          <p:cNvPicPr/>
          <p:nvPr/>
        </p:nvPicPr>
        <p:blipFill>
          <a:blip r:embed="rId10"/>
          <a:stretch/>
        </p:blipFill>
        <p:spPr>
          <a:xfrm>
            <a:off x="2411280" y="8366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66572" descr="01"/>
          <p:cNvPicPr/>
          <p:nvPr/>
        </p:nvPicPr>
        <p:blipFill>
          <a:blip r:embed="rId11"/>
          <a:stretch/>
        </p:blipFill>
        <p:spPr>
          <a:xfrm>
            <a:off x="6732720" y="105264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66573" descr="01"/>
          <p:cNvPicPr/>
          <p:nvPr/>
        </p:nvPicPr>
        <p:blipFill>
          <a:blip r:embed="rId12"/>
          <a:stretch/>
        </p:blipFill>
        <p:spPr>
          <a:xfrm>
            <a:off x="4789440" y="3798720"/>
            <a:ext cx="609480" cy="89712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66574" descr="01"/>
          <p:cNvPicPr/>
          <p:nvPr/>
        </p:nvPicPr>
        <p:blipFill>
          <a:blip r:embed="rId13"/>
          <a:stretch/>
        </p:blipFill>
        <p:spPr>
          <a:xfrm>
            <a:off x="4800600" y="1066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66575" descr="01"/>
          <p:cNvPicPr/>
          <p:nvPr/>
        </p:nvPicPr>
        <p:blipFill>
          <a:blip r:embed="rId14"/>
          <a:stretch/>
        </p:blipFill>
        <p:spPr>
          <a:xfrm>
            <a:off x="4572000" y="1413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66576" descr="01"/>
          <p:cNvPicPr/>
          <p:nvPr/>
        </p:nvPicPr>
        <p:blipFill>
          <a:blip r:embed="rId15"/>
          <a:stretch/>
        </p:blipFill>
        <p:spPr>
          <a:xfrm>
            <a:off x="1547640" y="23493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66577" descr="01"/>
          <p:cNvPicPr/>
          <p:nvPr/>
        </p:nvPicPr>
        <p:blipFill>
          <a:blip r:embed="rId16"/>
          <a:stretch/>
        </p:blipFill>
        <p:spPr>
          <a:xfrm>
            <a:off x="611280" y="3284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66578" descr="01"/>
          <p:cNvPicPr/>
          <p:nvPr/>
        </p:nvPicPr>
        <p:blipFill>
          <a:blip r:embed="rId17"/>
          <a:stretch/>
        </p:blipFill>
        <p:spPr>
          <a:xfrm>
            <a:off x="2627280" y="170028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66579" descr="01"/>
          <p:cNvPicPr/>
          <p:nvPr/>
        </p:nvPicPr>
        <p:blipFill>
          <a:blip r:embed="rId18"/>
          <a:stretch/>
        </p:blipFill>
        <p:spPr>
          <a:xfrm>
            <a:off x="7451640" y="227664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66580" descr="01"/>
          <p:cNvPicPr/>
          <p:nvPr/>
        </p:nvPicPr>
        <p:blipFill>
          <a:blip r:embed="rId19"/>
          <a:stretch/>
        </p:blipFill>
        <p:spPr>
          <a:xfrm>
            <a:off x="1258920" y="407664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66581" descr="01"/>
          <p:cNvPicPr/>
          <p:nvPr/>
        </p:nvPicPr>
        <p:blipFill>
          <a:blip r:embed="rId20"/>
          <a:stretch/>
        </p:blipFill>
        <p:spPr>
          <a:xfrm>
            <a:off x="4859280" y="22050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66582" descr="01"/>
          <p:cNvPicPr/>
          <p:nvPr/>
        </p:nvPicPr>
        <p:blipFill>
          <a:blip r:embed="rId21"/>
          <a:stretch/>
        </p:blipFill>
        <p:spPr>
          <a:xfrm>
            <a:off x="6443640" y="170028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279" name="矩形 66583"/>
          <p:cNvSpPr/>
          <p:nvPr/>
        </p:nvSpPr>
        <p:spPr>
          <a:xfrm>
            <a:off x="1116000" y="2997360"/>
            <a:ext cx="675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新月形 66584"/>
          <p:cNvSpPr/>
          <p:nvPr/>
        </p:nvSpPr>
        <p:spPr>
          <a:xfrm rot="15780000">
            <a:off x="3179520" y="1438200"/>
            <a:ext cx="1704960" cy="30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043" y="1881"/>
                  <a:pt x="10486" y="5080"/>
                  <a:pt x="10486" y="10800"/>
                </a:cubicBezTo>
                <a:cubicBezTo>
                  <a:pt x="10486" y="16520"/>
                  <a:pt x="16043" y="1971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66585" descr="01"/>
          <p:cNvPicPr/>
          <p:nvPr/>
        </p:nvPicPr>
        <p:blipFill>
          <a:blip r:embed="rId22"/>
          <a:stretch/>
        </p:blipFill>
        <p:spPr>
          <a:xfrm>
            <a:off x="6012000" y="191628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66586" descr="01"/>
          <p:cNvPicPr/>
          <p:nvPr/>
        </p:nvPicPr>
        <p:blipFill>
          <a:blip r:embed="rId23"/>
          <a:stretch/>
        </p:blipFill>
        <p:spPr>
          <a:xfrm>
            <a:off x="1908000" y="422100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66587" descr="01"/>
          <p:cNvPicPr/>
          <p:nvPr/>
        </p:nvPicPr>
        <p:blipFill>
          <a:blip r:embed="rId24"/>
          <a:stretch/>
        </p:blipFill>
        <p:spPr>
          <a:xfrm>
            <a:off x="1301760" y="0"/>
            <a:ext cx="1200240" cy="126828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66588" descr="01"/>
          <p:cNvPicPr/>
          <p:nvPr/>
        </p:nvPicPr>
        <p:blipFill>
          <a:blip r:embed="rId25"/>
          <a:stretch/>
        </p:blipFill>
        <p:spPr>
          <a:xfrm>
            <a:off x="6372360" y="83664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66589" descr="01"/>
          <p:cNvPicPr/>
          <p:nvPr/>
        </p:nvPicPr>
        <p:blipFill>
          <a:blip r:embed="rId26"/>
          <a:stretch/>
        </p:blipFill>
        <p:spPr>
          <a:xfrm>
            <a:off x="5580000" y="12682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66590" descr="01"/>
          <p:cNvPicPr/>
          <p:nvPr/>
        </p:nvPicPr>
        <p:blipFill>
          <a:blip r:embed="rId27"/>
          <a:stretch/>
        </p:blipFill>
        <p:spPr>
          <a:xfrm>
            <a:off x="6732720" y="14842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66591" descr="01"/>
          <p:cNvPicPr/>
          <p:nvPr/>
        </p:nvPicPr>
        <p:blipFill>
          <a:blip r:embed="rId28"/>
          <a:stretch/>
        </p:blipFill>
        <p:spPr>
          <a:xfrm flipH="1" rot="10800000">
            <a:off x="5651640" y="2708280"/>
            <a:ext cx="1295280" cy="100800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66592" descr="01"/>
          <p:cNvPicPr/>
          <p:nvPr/>
        </p:nvPicPr>
        <p:blipFill>
          <a:blip r:embed="rId29"/>
          <a:stretch/>
        </p:blipFill>
        <p:spPr>
          <a:xfrm>
            <a:off x="7164360" y="476280"/>
            <a:ext cx="504720" cy="53352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66593" descr="01"/>
          <p:cNvPicPr/>
          <p:nvPr/>
        </p:nvPicPr>
        <p:blipFill>
          <a:blip r:embed="rId30"/>
          <a:stretch/>
        </p:blipFill>
        <p:spPr>
          <a:xfrm>
            <a:off x="3637080" y="3979800"/>
            <a:ext cx="504720" cy="78444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66594" descr="01"/>
          <p:cNvPicPr/>
          <p:nvPr/>
        </p:nvPicPr>
        <p:blipFill>
          <a:blip r:embed="rId31"/>
          <a:stretch/>
        </p:blipFill>
        <p:spPr>
          <a:xfrm>
            <a:off x="6372360" y="4365720"/>
            <a:ext cx="504720" cy="53316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66595" descr="01"/>
          <p:cNvPicPr/>
          <p:nvPr/>
        </p:nvPicPr>
        <p:blipFill>
          <a:blip r:embed="rId32"/>
          <a:stretch/>
        </p:blipFill>
        <p:spPr>
          <a:xfrm>
            <a:off x="4140360" y="333360"/>
            <a:ext cx="504720" cy="53352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66596" descr="01"/>
          <p:cNvPicPr/>
          <p:nvPr/>
        </p:nvPicPr>
        <p:blipFill>
          <a:blip r:embed="rId33"/>
          <a:stretch/>
        </p:blipFill>
        <p:spPr>
          <a:xfrm>
            <a:off x="1258920" y="1773360"/>
            <a:ext cx="504720" cy="533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66597" descr="01"/>
          <p:cNvPicPr/>
          <p:nvPr/>
        </p:nvPicPr>
        <p:blipFill>
          <a:blip r:embed="rId34"/>
          <a:stretch/>
        </p:blipFill>
        <p:spPr>
          <a:xfrm>
            <a:off x="684360" y="189000"/>
            <a:ext cx="504720" cy="533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66598" descr="01"/>
          <p:cNvPicPr/>
          <p:nvPr/>
        </p:nvPicPr>
        <p:blipFill>
          <a:blip r:embed="rId35"/>
          <a:stretch/>
        </p:blipFill>
        <p:spPr>
          <a:xfrm>
            <a:off x="5076720" y="189000"/>
            <a:ext cx="505080" cy="53316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66599" descr="01"/>
          <p:cNvPicPr/>
          <p:nvPr/>
        </p:nvPicPr>
        <p:blipFill>
          <a:blip r:embed="rId36"/>
          <a:stretch/>
        </p:blipFill>
        <p:spPr>
          <a:xfrm>
            <a:off x="1547640" y="3429000"/>
            <a:ext cx="505080" cy="5335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66600" descr="01"/>
          <p:cNvPicPr/>
          <p:nvPr/>
        </p:nvPicPr>
        <p:blipFill>
          <a:blip r:embed="rId37"/>
          <a:stretch/>
        </p:blipFill>
        <p:spPr>
          <a:xfrm>
            <a:off x="0" y="1989000"/>
            <a:ext cx="504720" cy="53352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66601" descr="01"/>
          <p:cNvPicPr/>
          <p:nvPr/>
        </p:nvPicPr>
        <p:blipFill>
          <a:blip r:embed="rId38"/>
          <a:stretch/>
        </p:blipFill>
        <p:spPr>
          <a:xfrm>
            <a:off x="3276720" y="260280"/>
            <a:ext cx="504720" cy="53352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66602" descr="01"/>
          <p:cNvPicPr/>
          <p:nvPr/>
        </p:nvPicPr>
        <p:blipFill>
          <a:blip r:embed="rId39"/>
          <a:stretch/>
        </p:blipFill>
        <p:spPr>
          <a:xfrm>
            <a:off x="1692360" y="1413000"/>
            <a:ext cx="504720" cy="53316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66603" descr="01"/>
          <p:cNvPicPr/>
          <p:nvPr/>
        </p:nvPicPr>
        <p:blipFill>
          <a:blip r:embed="rId40"/>
          <a:stretch/>
        </p:blipFill>
        <p:spPr>
          <a:xfrm>
            <a:off x="4356000" y="4653000"/>
            <a:ext cx="505080" cy="53352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66604" descr="01"/>
          <p:cNvPicPr/>
          <p:nvPr/>
        </p:nvPicPr>
        <p:blipFill>
          <a:blip r:embed="rId41"/>
          <a:stretch/>
        </p:blipFill>
        <p:spPr>
          <a:xfrm>
            <a:off x="5219640" y="4581360"/>
            <a:ext cx="504720" cy="53352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66605" descr="01"/>
          <p:cNvPicPr/>
          <p:nvPr/>
        </p:nvPicPr>
        <p:blipFill>
          <a:blip r:embed="rId42"/>
          <a:stretch/>
        </p:blipFill>
        <p:spPr>
          <a:xfrm>
            <a:off x="3564000" y="4724280"/>
            <a:ext cx="504720" cy="53352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66606" descr="01"/>
          <p:cNvPicPr/>
          <p:nvPr/>
        </p:nvPicPr>
        <p:blipFill>
          <a:blip r:embed="rId43"/>
          <a:stretch/>
        </p:blipFill>
        <p:spPr>
          <a:xfrm>
            <a:off x="4140360" y="4437000"/>
            <a:ext cx="885600" cy="1378080"/>
          </a:xfrm>
          <a:prstGeom prst="rect">
            <a:avLst/>
          </a:prstGeom>
          <a:ln w="0">
            <a:noFill/>
          </a:ln>
        </p:spPr>
      </p:pic>
      <p:pic>
        <p:nvPicPr>
          <p:cNvPr id="303" name="图片 66607" descr="01"/>
          <p:cNvPicPr/>
          <p:nvPr/>
        </p:nvPicPr>
        <p:blipFill>
          <a:blip r:embed="rId44"/>
          <a:stretch/>
        </p:blipFill>
        <p:spPr>
          <a:xfrm>
            <a:off x="3203640" y="4437000"/>
            <a:ext cx="682560" cy="10605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66608" descr="01"/>
          <p:cNvPicPr/>
          <p:nvPr/>
        </p:nvPicPr>
        <p:blipFill>
          <a:blip r:embed="rId45"/>
          <a:stretch/>
        </p:blipFill>
        <p:spPr>
          <a:xfrm>
            <a:off x="3851280" y="4797360"/>
            <a:ext cx="504720" cy="78444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66609" descr="01"/>
          <p:cNvPicPr/>
          <p:nvPr/>
        </p:nvPicPr>
        <p:blipFill>
          <a:blip r:embed="rId46"/>
          <a:stretch/>
        </p:blipFill>
        <p:spPr>
          <a:xfrm>
            <a:off x="4572000" y="4508640"/>
            <a:ext cx="504720" cy="533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66610" descr="01"/>
          <p:cNvPicPr/>
          <p:nvPr/>
        </p:nvPicPr>
        <p:blipFill>
          <a:blip r:embed="rId47"/>
          <a:stretch/>
        </p:blipFill>
        <p:spPr>
          <a:xfrm>
            <a:off x="0" y="3213000"/>
            <a:ext cx="504720" cy="53352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66611" descr="01"/>
          <p:cNvPicPr/>
          <p:nvPr/>
        </p:nvPicPr>
        <p:blipFill>
          <a:blip r:embed="rId48"/>
          <a:stretch/>
        </p:blipFill>
        <p:spPr>
          <a:xfrm>
            <a:off x="2411280" y="2133720"/>
            <a:ext cx="505080" cy="53316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66612" descr="01"/>
          <p:cNvPicPr/>
          <p:nvPr/>
        </p:nvPicPr>
        <p:blipFill>
          <a:blip r:embed="rId49"/>
          <a:stretch/>
        </p:blipFill>
        <p:spPr>
          <a:xfrm>
            <a:off x="395280" y="4869000"/>
            <a:ext cx="504720" cy="53316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66613" descr="01"/>
          <p:cNvPicPr/>
          <p:nvPr/>
        </p:nvPicPr>
        <p:blipFill>
          <a:blip r:embed="rId50"/>
          <a:stretch/>
        </p:blipFill>
        <p:spPr>
          <a:xfrm>
            <a:off x="7524720" y="4076640"/>
            <a:ext cx="504720" cy="53352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66614" descr="01"/>
          <p:cNvPicPr/>
          <p:nvPr/>
        </p:nvPicPr>
        <p:blipFill>
          <a:blip r:embed="rId51"/>
          <a:stretch/>
        </p:blipFill>
        <p:spPr>
          <a:xfrm>
            <a:off x="0" y="189000"/>
            <a:ext cx="504720" cy="533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himes.wav"/>
                                        </p:tgtEl>
                                      </p:cMediaNode>
                                    </p:audio>
                                    <p:animMotion origin="layout" path="M 0 0 L 0.25 0.33333 E">
                                      <p:cBhvr>
                                        <p:cTn id="274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himes.wav"/>
                                        </p:tgtEl>
                                      </p:cMediaNode>
                                    </p:audio>
                                    <p:animMotion origin="layout" path="M -0.03246 -0.07222 L -0.28246 -0.07222 E">
                                      <p:cBhvr>
                                        <p:cTn id="278" dur="1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himes.wav"/>
                                        </p:tgtEl>
                                      </p:cMediaNode>
                                    </p:audio>
                                    <p:animMotion origin="layout" path="M -0.04323 0.23403 L 0.02378 0.28727 C 0.03784 0.29931 0.05885 0.30602 0.08073 0.30602 C 0.10573 0.30602 0.12569 0.29931 0.13975 0.28727 L 0.20677 0.23403 E">
                                      <p:cBhvr>
                                        <p:cTn id="28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himes.wav"/>
                                        </p:tgtEl>
                                      </p:cMediaNode>
                                    </p:audio>
                                    <p:animMotion origin="layout" path="M 0 0 L 0.25 -0.33333 E">
                                      <p:cBhvr>
                                        <p:cTn id="282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himes.wav"/>
                                        </p:tgtEl>
                                      </p:cMediaNode>
                                    </p:audio>
                                    <p:animMotion origin="layout" path="M -0.00955 -0.0493 L 0.24045 0.28403 E">
                                      <p:cBhvr>
                                        <p:cTn id="284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himes.wav"/>
                                        </p:tgtEl>
                                      </p:cMediaNode>
                                    </p:audio>
                                    <p:animMotion origin="layout" path="M 0 0 L -0.25 0 E">
                                      <p:cBhvr>
                                        <p:cTn id="288" dur="1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himes.wav"/>
                                        </p:tgtEl>
                                      </p:cMediaNode>
                                    </p:audio>
                                    <p:animMotion origin="layout" path="M -0.07465 -0.12315 L 0.17535 -0.45648 E">
                                      <p:cBhvr>
                                        <p:cTn id="290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himes.wav"/>
                                        </p:tgtEl>
                                      </p:cMediaNode>
                                    </p:audio>
                                    <p:animMotion origin="layout" path="M -0.04323 0.23403 L 0.02378 0.28727 C 0.03784 0.29931 0.05885 0.30602 0.08073 0.30602 C 0.10573 0.30602 0.12569 0.29931 0.13975 0.28727 L 0.20677 0.23403 E">
                                      <p:cBhvr>
                                        <p:cTn id="294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himes.wav"/>
                                        </p:tgtEl>
                                      </p:cMediaNode>
                                    </p:audio>
                                    <p:animMotion origin="layout" path="M 0.02118 -0.11134 L 0.27118 0.22199 E">
                                      <p:cBhvr>
                                        <p:cTn id="296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himes.wav"/>
                                        </p:tgtEl>
                                      </p:cMediaNode>
                                    </p:audio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298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himes.wav"/>
                                        </p:tgtEl>
                                      </p:cMediaNode>
                                    </p:audio>
                                    <p:animMotion origin="layout" path="M -0.16736 -0.0419 L -0.41736 -0.0419 E">
                                      <p:cBhvr>
                                        <p:cTn id="302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himes.wav"/>
                                        </p:tgtEl>
                                      </p:cMediaNode>
                                    </p:audio>
                                    <p:animMotion origin="layout" path="M 0 0 L -0.25 0 E">
                                      <p:cBhvr>
                                        <p:cTn id="306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himes.wav"/>
                                        </p:tgtEl>
                                      </p:cMediaNode>
                                    </p:audio>
                                    <p:animMotion origin="layout" path="M -0.15156 -0.02083 L -0.40156 -0.02083 E">
                                      <p:cBhvr>
                                        <p:cTn id="310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himes.wav"/>
                                        </p:tgtEl>
                                      </p:cMediaNode>
                                    </p:audio>
                                    <p:animMotion origin="layout" path="M -0.22639 0.03148 L -0.47639 0.03148 E">
                                      <p:cBhvr>
                                        <p:cTn id="312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himes.wav"/>
                                        </p:tgtEl>
                                      </p:cMediaNode>
                                    </p:audio>
                                    <p:animMotion origin="layout" path="M 0.0217 -0.28334 L -0.2283 -0.28334 E">
                                      <p:cBhvr>
                                        <p:cTn id="314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himes.wav"/>
                                        </p:tgtEl>
                                      </p:cMediaNode>
                                    </p:audio>
                                    <p:animMotion origin="layout" path="M 0 0 L 0 -0.33333 E">
                                      <p:cBhvr>
                                        <p:cTn id="316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himes.wav"/>
                                        </p:tgtEl>
                                      </p:cMediaNode>
                                    </p:audio>
                                    <p:animMotion origin="layout" path="M 0 0 L 0 -0.33333 E">
                                      <p:cBhvr>
                                        <p:cTn id="318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himes.wav"/>
                                        </p:tgtEl>
                                      </p:cMediaNode>
                                    </p:audio>
                                    <p:animMotion origin="layout" path="M 0 0 L 0 -0.33333 E">
                                      <p:cBhvr>
                                        <p:cTn id="320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chimes.wav"/>
                                        </p:tgtEl>
                                      </p:cMediaNode>
                                    </p:audio>
                                    <p:animMotion origin="layout" path="M 0 0 L 0 -0.33333 E">
                                      <p:cBhvr>
                                        <p:cTn id="322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himes.wav"/>
                                        </p:tgtEl>
                                      </p:cMediaNode>
                                    </p:audio>
                                    <p:animMotion origin="layout" path="M 0 0 L 0 -0.33333 E">
                                      <p:cBhvr>
                                        <p:cTn id="324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五角星 22532"/>
          <p:cNvSpPr/>
          <p:nvPr/>
        </p:nvSpPr>
        <p:spPr>
          <a:xfrm>
            <a:off x="250920" y="404640"/>
            <a:ext cx="2016000" cy="2016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五角星 22545"/>
          <p:cNvSpPr/>
          <p:nvPr/>
        </p:nvSpPr>
        <p:spPr>
          <a:xfrm>
            <a:off x="179280" y="2205000"/>
            <a:ext cx="2016360" cy="2016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五角星 22547"/>
          <p:cNvSpPr/>
          <p:nvPr/>
        </p:nvSpPr>
        <p:spPr>
          <a:xfrm>
            <a:off x="179280" y="4005360"/>
            <a:ext cx="2016360" cy="2016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z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五角星 22548"/>
          <p:cNvSpPr/>
          <p:nvPr/>
        </p:nvSpPr>
        <p:spPr>
          <a:xfrm>
            <a:off x="2340000" y="476280"/>
            <a:ext cx="2016000" cy="2016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五角星 22549"/>
          <p:cNvSpPr/>
          <p:nvPr/>
        </p:nvSpPr>
        <p:spPr>
          <a:xfrm>
            <a:off x="2268360" y="2205000"/>
            <a:ext cx="2016360" cy="2016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五角星 22550"/>
          <p:cNvSpPr/>
          <p:nvPr/>
        </p:nvSpPr>
        <p:spPr>
          <a:xfrm>
            <a:off x="2340000" y="4149720"/>
            <a:ext cx="2016000" cy="2016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五角星 22551"/>
          <p:cNvSpPr/>
          <p:nvPr/>
        </p:nvSpPr>
        <p:spPr>
          <a:xfrm>
            <a:off x="4572000" y="404640"/>
            <a:ext cx="2016000" cy="2016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b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五角星 22552"/>
          <p:cNvSpPr/>
          <p:nvPr/>
        </p:nvSpPr>
        <p:spPr>
          <a:xfrm>
            <a:off x="4500720" y="2205000"/>
            <a:ext cx="2016000" cy="2016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j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五角星 22553"/>
          <p:cNvSpPr/>
          <p:nvPr/>
        </p:nvSpPr>
        <p:spPr>
          <a:xfrm>
            <a:off x="4500720" y="4005360"/>
            <a:ext cx="2016000" cy="2016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五角星 22554"/>
          <p:cNvSpPr/>
          <p:nvPr/>
        </p:nvSpPr>
        <p:spPr>
          <a:xfrm>
            <a:off x="6804000" y="404640"/>
            <a:ext cx="2016000" cy="2016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五角星 22555"/>
          <p:cNvSpPr/>
          <p:nvPr/>
        </p:nvSpPr>
        <p:spPr>
          <a:xfrm>
            <a:off x="6732720" y="2205000"/>
            <a:ext cx="2016000" cy="2016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y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50" autoRev="1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" dur="250" autoRev="1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" dur="250" autoRev="1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3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5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9" dur="25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" dur="25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5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5" dur="25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" dur="25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5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" dur="25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" dur="25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5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7" dur="25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" dur="25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62465"/>
          <p:cNvSpPr/>
          <p:nvPr/>
        </p:nvSpPr>
        <p:spPr>
          <a:xfrm>
            <a:off x="3543480" y="177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2466"/>
          <p:cNvSpPr/>
          <p:nvPr/>
        </p:nvSpPr>
        <p:spPr>
          <a:xfrm>
            <a:off x="0" y="907920"/>
            <a:ext cx="84978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uè  liang    xīng xing     tiān  bi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月  亮    </a:t>
            </a: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星 星  天 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á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ào      yuàn  li         yǎn  j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来 到  院 里  眼 睛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62467" descr="01"/>
          <p:cNvPicPr/>
          <p:nvPr/>
        </p:nvPicPr>
        <p:blipFill>
          <a:blip r:embed="rId1"/>
          <a:stretch/>
        </p:blipFill>
        <p:spPr>
          <a:xfrm>
            <a:off x="2627280" y="3333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62468" descr="01"/>
          <p:cNvPicPr/>
          <p:nvPr/>
        </p:nvPicPr>
        <p:blipFill>
          <a:blip r:embed="rId2"/>
          <a:stretch/>
        </p:blipFill>
        <p:spPr>
          <a:xfrm>
            <a:off x="7596360" y="292428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62469" descr="01"/>
          <p:cNvPicPr/>
          <p:nvPr/>
        </p:nvPicPr>
        <p:blipFill>
          <a:blip r:embed="rId3"/>
          <a:stretch/>
        </p:blipFill>
        <p:spPr>
          <a:xfrm>
            <a:off x="539640" y="4046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62470" descr="01"/>
          <p:cNvPicPr/>
          <p:nvPr/>
        </p:nvPicPr>
        <p:blipFill>
          <a:blip r:embed="rId4"/>
          <a:stretch/>
        </p:blipFill>
        <p:spPr>
          <a:xfrm>
            <a:off x="4356000" y="4046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62471" descr="01"/>
          <p:cNvPicPr/>
          <p:nvPr/>
        </p:nvPicPr>
        <p:blipFill>
          <a:blip r:embed="rId5"/>
          <a:stretch/>
        </p:blipFill>
        <p:spPr>
          <a:xfrm>
            <a:off x="1258920" y="27082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62472" descr="01"/>
          <p:cNvPicPr/>
          <p:nvPr/>
        </p:nvPicPr>
        <p:blipFill>
          <a:blip r:embed="rId6"/>
          <a:stretch/>
        </p:blipFill>
        <p:spPr>
          <a:xfrm>
            <a:off x="6227640" y="292428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62473" descr="01"/>
          <p:cNvPicPr/>
          <p:nvPr/>
        </p:nvPicPr>
        <p:blipFill>
          <a:blip r:embed="rId7"/>
          <a:stretch/>
        </p:blipFill>
        <p:spPr>
          <a:xfrm>
            <a:off x="1763640" y="53006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62474" descr="01"/>
          <p:cNvPicPr/>
          <p:nvPr/>
        </p:nvPicPr>
        <p:blipFill>
          <a:blip r:embed="rId8"/>
          <a:stretch/>
        </p:blipFill>
        <p:spPr>
          <a:xfrm>
            <a:off x="2700360" y="263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62475" descr="01"/>
          <p:cNvPicPr/>
          <p:nvPr/>
        </p:nvPicPr>
        <p:blipFill>
          <a:blip r:embed="rId9"/>
          <a:stretch/>
        </p:blipFill>
        <p:spPr>
          <a:xfrm>
            <a:off x="3276720" y="530064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62476" descr="01"/>
          <p:cNvPicPr/>
          <p:nvPr/>
        </p:nvPicPr>
        <p:blipFill>
          <a:blip r:embed="rId10"/>
          <a:stretch/>
        </p:blipFill>
        <p:spPr>
          <a:xfrm>
            <a:off x="6732720" y="522936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62477" descr="01"/>
          <p:cNvPicPr/>
          <p:nvPr/>
        </p:nvPicPr>
        <p:blipFill>
          <a:blip r:embed="rId11"/>
          <a:stretch/>
        </p:blipFill>
        <p:spPr>
          <a:xfrm>
            <a:off x="4500720" y="55897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62478" descr="01"/>
          <p:cNvPicPr/>
          <p:nvPr/>
        </p:nvPicPr>
        <p:blipFill>
          <a:blip r:embed="rId12"/>
          <a:stretch/>
        </p:blipFill>
        <p:spPr>
          <a:xfrm>
            <a:off x="6012000" y="56610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62479" descr="01"/>
          <p:cNvPicPr/>
          <p:nvPr/>
        </p:nvPicPr>
        <p:blipFill>
          <a:blip r:embed="rId13"/>
          <a:stretch/>
        </p:blipFill>
        <p:spPr>
          <a:xfrm>
            <a:off x="4716360" y="292428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62480" descr="01"/>
          <p:cNvPicPr/>
          <p:nvPr/>
        </p:nvPicPr>
        <p:blipFill>
          <a:blip r:embed="rId14"/>
          <a:stretch/>
        </p:blipFill>
        <p:spPr>
          <a:xfrm>
            <a:off x="5508720" y="501336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62481" descr="01"/>
          <p:cNvPicPr/>
          <p:nvPr/>
        </p:nvPicPr>
        <p:blipFill>
          <a:blip r:embed="rId15"/>
          <a:stretch/>
        </p:blipFill>
        <p:spPr>
          <a:xfrm>
            <a:off x="6877080" y="54936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62482" descr="01"/>
          <p:cNvPicPr/>
          <p:nvPr/>
        </p:nvPicPr>
        <p:blipFill>
          <a:blip r:embed="rId16"/>
          <a:stretch/>
        </p:blipFill>
        <p:spPr>
          <a:xfrm>
            <a:off x="250920" y="314172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62483" descr="01"/>
          <p:cNvPicPr/>
          <p:nvPr/>
        </p:nvPicPr>
        <p:blipFill>
          <a:blip r:embed="rId17"/>
          <a:stretch/>
        </p:blipFill>
        <p:spPr>
          <a:xfrm>
            <a:off x="7524720" y="522936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62484" descr="01"/>
          <p:cNvPicPr/>
          <p:nvPr/>
        </p:nvPicPr>
        <p:blipFill>
          <a:blip r:embed="rId18"/>
          <a:stretch/>
        </p:blipFill>
        <p:spPr>
          <a:xfrm>
            <a:off x="468360" y="530064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五角星 23556"/>
          <p:cNvSpPr/>
          <p:nvPr/>
        </p:nvSpPr>
        <p:spPr>
          <a:xfrm>
            <a:off x="611280" y="549360"/>
            <a:ext cx="2665440" cy="2592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方正楷体简体"/>
              </a:rPr>
              <a:t>眼</a:t>
            </a:r>
            <a:r>
              <a:rPr b="1" lang="zh-CN" sz="4800" spc="-1" strike="noStrike">
                <a:solidFill>
                  <a:srgbClr val="ef1903"/>
                </a:solidFill>
                <a:latin typeface="Arial"/>
                <a:ea typeface="方正楷体简体"/>
              </a:rPr>
              <a:t>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五角星 23558"/>
          <p:cNvSpPr/>
          <p:nvPr/>
        </p:nvSpPr>
        <p:spPr>
          <a:xfrm>
            <a:off x="755640" y="3500280"/>
            <a:ext cx="2665440" cy="2592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方正楷体简体"/>
              </a:rPr>
              <a:t>月</a:t>
            </a:r>
            <a:r>
              <a:rPr b="1" lang="zh-CN" sz="4800" spc="-1" strike="noStrike">
                <a:solidFill>
                  <a:srgbClr val="ef1903"/>
                </a:solidFill>
                <a:latin typeface="Arial"/>
                <a:ea typeface="方正楷体简体"/>
              </a:rPr>
              <a:t>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五角星 23559"/>
          <p:cNvSpPr/>
          <p:nvPr/>
        </p:nvSpPr>
        <p:spPr>
          <a:xfrm>
            <a:off x="5651640" y="549360"/>
            <a:ext cx="2665440" cy="2592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方正楷体简体"/>
              </a:rPr>
              <a:t>来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五角星 23560"/>
          <p:cNvSpPr/>
          <p:nvPr/>
        </p:nvSpPr>
        <p:spPr>
          <a:xfrm>
            <a:off x="5651640" y="3429000"/>
            <a:ext cx="2665440" cy="2592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方正楷体简体"/>
              </a:rPr>
              <a:t>我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五角星 23561"/>
          <p:cNvSpPr/>
          <p:nvPr/>
        </p:nvSpPr>
        <p:spPr>
          <a:xfrm>
            <a:off x="3276720" y="1700280"/>
            <a:ext cx="2665440" cy="2592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方正楷体简体"/>
              </a:rPr>
              <a:t>院</a:t>
            </a:r>
            <a:r>
              <a:rPr b="1" lang="zh-CN" sz="4800" spc="-1" strike="noStrike">
                <a:solidFill>
                  <a:srgbClr val="ef1903"/>
                </a:solidFill>
                <a:latin typeface="Arial"/>
                <a:ea typeface="方正楷体简体"/>
              </a:rPr>
              <a:t>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3082" descr="12D1219ES0-1214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3083"/>
          <p:cNvSpPr/>
          <p:nvPr/>
        </p:nvSpPr>
        <p:spPr>
          <a:xfrm>
            <a:off x="1547640" y="14130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3085"/>
          <p:cNvSpPr/>
          <p:nvPr/>
        </p:nvSpPr>
        <p:spPr>
          <a:xfrm>
            <a:off x="1655640" y="1052640"/>
            <a:ext cx="7488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yu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</a:rPr>
              <a:t>è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  li</a:t>
            </a:r>
            <a:r>
              <a:rPr b="1" lang="en-US" sz="2000" spc="-1" strike="noStrike">
                <a:solidFill>
                  <a:srgbClr val="eae523"/>
                </a:solidFill>
                <a:latin typeface="宋体"/>
              </a:rPr>
              <a:t>a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ng  w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n  w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en-US" sz="2000" spc="-1" strike="noStrike">
                <a:solidFill>
                  <a:srgbClr val="eae523"/>
                </a:solidFill>
                <a:latin typeface="Arial"/>
                <a:ea typeface="方正楷体简体"/>
              </a:rPr>
              <a:t>n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    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xiàng zhī xiǎo chu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月    亮     弯    弯，   像   只  小   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3086"/>
          <p:cNvSpPr/>
          <p:nvPr/>
        </p:nvSpPr>
        <p:spPr>
          <a:xfrm>
            <a:off x="1619280" y="2133720"/>
            <a:ext cx="7345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xiǎo chuán   yáo   yáo        yáo   dào   tiān   biā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</a:rPr>
              <a:t>小     船     摇   摇，   摇    到   天   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3087"/>
          <p:cNvSpPr/>
          <p:nvPr/>
        </p:nvSpPr>
        <p:spPr>
          <a:xfrm>
            <a:off x="1547640" y="3141720"/>
            <a:ext cx="5183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tiān  biān  qǐng    lái   xiǎo   xīng  x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 </a:t>
            </a: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天   边    请    来  小     星   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52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xī    xī     hā     hā     zuò   mǎn  chu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嘻   嘻   哈   哈     坐    满  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3088"/>
          <p:cNvSpPr/>
          <p:nvPr/>
        </p:nvSpPr>
        <p:spPr>
          <a:xfrm>
            <a:off x="1619280" y="4797360"/>
            <a:ext cx="506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m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ǎ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chu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x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ī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g x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g zh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ǎ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 y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ǎ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j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满  船  星  星 眨 眼  睛</a:t>
            </a:r>
            <a:r>
              <a:rPr b="1" lang="en-US" sz="2400" spc="-1" strike="noStrike">
                <a:solidFill>
                  <a:srgbClr val="eae523"/>
                </a:solidFill>
                <a:latin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l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i d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à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o w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ǒ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 ji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 yu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à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 li w</a:t>
            </a:r>
            <a:r>
              <a:rPr b="1" lang="en-US" sz="18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en-US" sz="1800" spc="-1" strike="noStrike">
                <a:solidFill>
                  <a:srgbClr val="eae523"/>
                </a:solidFill>
                <a:latin typeface="楷体_GB2312"/>
                <a:ea typeface="楷体_GB2312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523"/>
                </a:solidFill>
                <a:latin typeface="宋体"/>
              </a:rPr>
              <a:t>来 到 我 家 院 里 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089"/>
          <p:cNvSpPr/>
          <p:nvPr/>
        </p:nvSpPr>
        <p:spPr>
          <a:xfrm>
            <a:off x="468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  <a:ea typeface="黑体"/>
              </a:rPr>
              <a:t>5</a:t>
            </a:r>
            <a:r>
              <a:rPr b="0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请   星   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新月形 38915"/>
          <p:cNvSpPr/>
          <p:nvPr/>
        </p:nvSpPr>
        <p:spPr>
          <a:xfrm rot="13482600">
            <a:off x="6803640" y="620280"/>
            <a:ext cx="1979640" cy="29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eae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新月形 39937"/>
          <p:cNvSpPr/>
          <p:nvPr/>
        </p:nvSpPr>
        <p:spPr>
          <a:xfrm rot="13482600">
            <a:off x="6803640" y="620280"/>
            <a:ext cx="1979640" cy="29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eae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39938"/>
          <p:cNvSpPr/>
          <p:nvPr/>
        </p:nvSpPr>
        <p:spPr>
          <a:xfrm>
            <a:off x="1686960" y="549360"/>
            <a:ext cx="30438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yu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è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  li</a:t>
            </a:r>
            <a:r>
              <a:rPr b="1" lang="en-US" sz="2400" spc="-1" strike="noStrike">
                <a:solidFill>
                  <a:srgbClr val="eae523"/>
                </a:solidFill>
                <a:latin typeface="宋体"/>
              </a:rPr>
              <a:t>a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ng w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n  w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月亮 </a:t>
            </a:r>
            <a:r>
              <a:rPr b="1" lang="zh-CN" sz="4800" spc="-1" strike="noStrike">
                <a:solidFill>
                  <a:srgbClr val="ef1903"/>
                </a:solidFill>
                <a:latin typeface="Arial"/>
                <a:ea typeface="方正楷体简体"/>
              </a:rPr>
              <a:t>弯 弯</a:t>
            </a: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xi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à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像 </a:t>
            </a:r>
            <a:r>
              <a:rPr b="1" lang="zh-CN" sz="4800" spc="-1" strike="noStrike" u="sng">
                <a:solidFill>
                  <a:srgbClr val="eae523"/>
                </a:solidFill>
                <a:uFillTx/>
                <a:latin typeface="Arial"/>
                <a:ea typeface="方正楷体简体"/>
              </a:rPr>
              <a:t>            </a:t>
            </a: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新月形 7184"/>
          <p:cNvSpPr/>
          <p:nvPr/>
        </p:nvSpPr>
        <p:spPr>
          <a:xfrm rot="13482600">
            <a:off x="6803640" y="620280"/>
            <a:ext cx="1979640" cy="29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eae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7185"/>
          <p:cNvSpPr/>
          <p:nvPr/>
        </p:nvSpPr>
        <p:spPr>
          <a:xfrm>
            <a:off x="1600920" y="549360"/>
            <a:ext cx="31766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yu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è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  li</a:t>
            </a:r>
            <a:r>
              <a:rPr b="1" lang="en-US" sz="2400" spc="-1" strike="noStrike">
                <a:solidFill>
                  <a:srgbClr val="eae523"/>
                </a:solidFill>
                <a:latin typeface="宋体"/>
              </a:rPr>
              <a:t>a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ng w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n  w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ā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月亮 </a:t>
            </a:r>
            <a:r>
              <a:rPr b="1" lang="zh-CN" sz="4800" spc="-1" strike="noStrike">
                <a:solidFill>
                  <a:srgbClr val="ef1903"/>
                </a:solidFill>
                <a:latin typeface="Arial"/>
                <a:ea typeface="方正楷体简体"/>
              </a:rPr>
              <a:t>弯 弯</a:t>
            </a: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xi</a:t>
            </a:r>
            <a:r>
              <a:rPr b="1" lang="en-US" sz="2400" spc="-1" strike="noStrike">
                <a:solidFill>
                  <a:srgbClr val="eae523"/>
                </a:solidFill>
                <a:latin typeface="宋体"/>
              </a:rPr>
              <a:t>à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ng zh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ī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 xi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ǎ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o chu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eae523"/>
                </a:solidFill>
                <a:latin typeface="Arial"/>
                <a:ea typeface="方正楷体简体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523"/>
                </a:solidFill>
                <a:latin typeface="Arial"/>
                <a:ea typeface="方正楷体简体"/>
              </a:rPr>
              <a:t>像 只小 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7T01:03:26Z</dcterms:created>
  <dc:creator/>
  <dc:description/>
  <dc:language>en-US</dc:language>
  <cp:lastModifiedBy>Administrator</cp:lastModifiedBy>
  <dcterms:modified xsi:type="dcterms:W3CDTF">2017-09-27T01:03:2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