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gif" ContentType="image/gif"/>
  <Override PartName="/ppt/media/image7.gif" ContentType="image/gif"/>
  <Override PartName="/ppt/media/applause.wav" ContentType="audio/x-wav"/>
  <Override PartName="/ppt/media/image8.gif" ContentType="image/gif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46A-A1FD-478C-8CC0-6DBDF5BD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9C1-663E-4A57-B0F4-8429BEA6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F56-447D-4C66-A92B-541A0E19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AF8-D52E-4CD0-921D-52089A84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425-1407-4A37-AF50-CDF78170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C14-F6F8-49D2-A67A-D37895B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EAF-77BA-4139-BFAC-F67058A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0E5-7871-440A-ABA7-B4345229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4B4-C414-45A7-88C2-B8F0553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C0F-CCFA-4926-96AD-E6B3C52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C2D-D23B-4082-AC94-3C5F5B2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316-1E6A-4DAB-9571-4390CA8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2DE-54C2-45B7-AD67-BD5724509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1"/>
          <p:cNvPicPr/>
          <p:nvPr/>
        </p:nvPicPr>
        <p:blipFill>
          <a:blip r:embed="rId1"/>
          <a:stretch/>
        </p:blipFill>
        <p:spPr>
          <a:xfrm rot="21098400">
            <a:off x="6948360" y="188640"/>
            <a:ext cx="2044800" cy="2205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5867280" y="1341360"/>
            <a:ext cx="648000" cy="792360"/>
          </a:xfrm>
          <a:custGeom>
            <a:avLst/>
            <a:gdLst>
              <a:gd name="textAreaLeft" fmla="*/ 267120 w 648000"/>
              <a:gd name="textAreaRight" fmla="*/ 380880 w 64800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258920" y="5373720"/>
            <a:ext cx="647640" cy="792000"/>
          </a:xfrm>
          <a:custGeom>
            <a:avLst/>
            <a:gdLst>
              <a:gd name="textAreaLeft" fmla="*/ 266760 w 647640"/>
              <a:gd name="textAreaRight" fmla="*/ 380880 w 647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627280" y="1484280"/>
            <a:ext cx="649440" cy="792360"/>
          </a:xfrm>
          <a:custGeom>
            <a:avLst/>
            <a:gdLst>
              <a:gd name="textAreaLeft" fmla="*/ 267480 w 649440"/>
              <a:gd name="textAreaRight" fmla="*/ 381960 w 6494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5292720" y="3933720"/>
            <a:ext cx="647640" cy="792360"/>
          </a:xfrm>
          <a:custGeom>
            <a:avLst/>
            <a:gdLst>
              <a:gd name="textAreaLeft" fmla="*/ 266760 w 647640"/>
              <a:gd name="textAreaRight" fmla="*/ 380880 w 647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900000" y="2852640"/>
            <a:ext cx="647640" cy="792360"/>
          </a:xfrm>
          <a:custGeom>
            <a:avLst/>
            <a:gdLst>
              <a:gd name="textAreaLeft" fmla="*/ 266760 w 647640"/>
              <a:gd name="textAreaRight" fmla="*/ 380880 w 647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835280" y="4076640"/>
            <a:ext cx="1000080" cy="1224000"/>
          </a:xfrm>
          <a:custGeom>
            <a:avLst/>
            <a:gdLst>
              <a:gd name="textAreaLeft" fmla="*/ 412200 w 1000080"/>
              <a:gd name="textAreaRight" fmla="*/ 587880 w 100008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804000" y="3357720"/>
            <a:ext cx="588960" cy="720720"/>
          </a:xfrm>
          <a:custGeom>
            <a:avLst/>
            <a:gdLst>
              <a:gd name="textAreaLeft" fmla="*/ 242640 w 588960"/>
              <a:gd name="textAreaRight" fmla="*/ 346320 w 58896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7812000" y="2492280"/>
            <a:ext cx="1000080" cy="1224000"/>
          </a:xfrm>
          <a:custGeom>
            <a:avLst/>
            <a:gdLst>
              <a:gd name="textAreaLeft" fmla="*/ 412200 w 1000080"/>
              <a:gd name="textAreaRight" fmla="*/ 587880 w 100008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5364000" y="0"/>
            <a:ext cx="1000440" cy="122400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50920" y="5634000"/>
            <a:ext cx="1000080" cy="1224000"/>
          </a:xfrm>
          <a:custGeom>
            <a:avLst/>
            <a:gdLst>
              <a:gd name="textAreaLeft" fmla="*/ 412200 w 1000080"/>
              <a:gd name="textAreaRight" fmla="*/ 587880 w 100008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6084720" y="5634000"/>
            <a:ext cx="1000440" cy="122400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e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179280" y="189000"/>
            <a:ext cx="451080" cy="549360"/>
          </a:xfrm>
          <a:custGeom>
            <a:avLst/>
            <a:gdLst>
              <a:gd name="textAreaLeft" fmla="*/ 185760 w 451080"/>
              <a:gd name="textAreaRight" fmla="*/ 265320 w 45108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366920" y="114300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ef1903"/>
                </a:solidFill>
                <a:latin typeface="Arial"/>
              </a:rPr>
              <a:t>qǐng</a:t>
            </a:r>
            <a:r>
              <a:rPr b="0" lang="en-US" sz="4000" spc="-1" strike="noStrike">
                <a:solidFill>
                  <a:srgbClr val="ef1903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ef1903"/>
                </a:solidFill>
                <a:latin typeface="Arial"/>
              </a:rPr>
              <a:t>xīng   x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 星 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760">
                                      <p:cBhvr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760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2289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2290" descr="月亮小孩"/>
          <p:cNvPicPr/>
          <p:nvPr/>
        </p:nvPicPr>
        <p:blipFill>
          <a:blip r:embed="rId2"/>
          <a:stretch/>
        </p:blipFill>
        <p:spPr>
          <a:xfrm rot="19815600">
            <a:off x="5580000" y="764640"/>
            <a:ext cx="2652840" cy="319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313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3314"/>
          <p:cNvSpPr/>
          <p:nvPr/>
        </p:nvSpPr>
        <p:spPr>
          <a:xfrm>
            <a:off x="1529280" y="3141720"/>
            <a:ext cx="3368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chuán   yáo   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小 船 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摇 摇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yáo   d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  tiān     b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摇 到 天  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3315" descr="月亮小孩"/>
          <p:cNvPicPr/>
          <p:nvPr/>
        </p:nvPicPr>
        <p:blipFill>
          <a:blip r:embed="rId2"/>
          <a:stretch/>
        </p:blipFill>
        <p:spPr>
          <a:xfrm rot="19515600">
            <a:off x="5579640" y="188640"/>
            <a:ext cx="265284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4337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4338"/>
          <p:cNvSpPr/>
          <p:nvPr/>
        </p:nvSpPr>
        <p:spPr>
          <a:xfrm>
            <a:off x="1536840" y="3141720"/>
            <a:ext cx="33537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chuán   yáo   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小 船 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摇 摇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yáo   dào   tiān     b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摇 到 天  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339"/>
          <p:cNvSpPr/>
          <p:nvPr/>
        </p:nvSpPr>
        <p:spPr>
          <a:xfrm>
            <a:off x="1684800" y="549360"/>
            <a:ext cx="3177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yuè  liɑng wān  w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xiàng zhī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ch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只小 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4340" descr="月亮小孩"/>
          <p:cNvPicPr/>
          <p:nvPr/>
        </p:nvPicPr>
        <p:blipFill>
          <a:blip r:embed="rId2"/>
          <a:stretch/>
        </p:blipFill>
        <p:spPr>
          <a:xfrm rot="19395600">
            <a:off x="5508360" y="620280"/>
            <a:ext cx="26524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5361" descr="12D193625120-2I209"/>
          <p:cNvPicPr/>
          <p:nvPr/>
        </p:nvPicPr>
        <p:blipFill>
          <a:blip r:embed="rId1"/>
          <a:stretch/>
        </p:blipFill>
        <p:spPr>
          <a:xfrm>
            <a:off x="-30240" y="44280"/>
            <a:ext cx="9136080" cy="700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月亮小孩"/>
          <p:cNvPicPr/>
          <p:nvPr/>
        </p:nvPicPr>
        <p:blipFill>
          <a:blip r:embed="rId2"/>
          <a:stretch/>
        </p:blipFill>
        <p:spPr>
          <a:xfrm rot="19995600">
            <a:off x="6084720" y="549360"/>
            <a:ext cx="2652840" cy="31924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5363" descr="20071124030355823"/>
          <p:cNvPicPr/>
          <p:nvPr/>
        </p:nvPicPr>
        <p:blipFill>
          <a:blip r:embed="rId3"/>
          <a:stretch/>
        </p:blipFill>
        <p:spPr>
          <a:xfrm>
            <a:off x="755640" y="33336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5364" descr="20071124030355823"/>
          <p:cNvPicPr/>
          <p:nvPr/>
        </p:nvPicPr>
        <p:blipFill>
          <a:blip r:embed="rId4"/>
          <a:stretch/>
        </p:blipFill>
        <p:spPr>
          <a:xfrm>
            <a:off x="1763640" y="1341360"/>
            <a:ext cx="109548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365" descr="20071124030355823"/>
          <p:cNvPicPr/>
          <p:nvPr/>
        </p:nvPicPr>
        <p:blipFill>
          <a:blip r:embed="rId5"/>
          <a:stretch/>
        </p:blipFill>
        <p:spPr>
          <a:xfrm>
            <a:off x="324000" y="1484280"/>
            <a:ext cx="109512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5366" descr="20071124030355554"/>
          <p:cNvPicPr/>
          <p:nvPr/>
        </p:nvPicPr>
        <p:blipFill>
          <a:blip r:embed="rId6"/>
          <a:stretch/>
        </p:blipFill>
        <p:spPr>
          <a:xfrm>
            <a:off x="1116000" y="170028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5367" descr="20071124030355554"/>
          <p:cNvPicPr/>
          <p:nvPr/>
        </p:nvPicPr>
        <p:blipFill>
          <a:blip r:embed="rId7"/>
          <a:stretch/>
        </p:blipFill>
        <p:spPr>
          <a:xfrm>
            <a:off x="324000" y="907920"/>
            <a:ext cx="952200" cy="7527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5368" descr="20071124030355554"/>
          <p:cNvPicPr/>
          <p:nvPr/>
        </p:nvPicPr>
        <p:blipFill>
          <a:blip r:embed="rId8"/>
          <a:stretch/>
        </p:blipFill>
        <p:spPr>
          <a:xfrm>
            <a:off x="1547640" y="907920"/>
            <a:ext cx="952560" cy="7527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5369" descr="20071124030355554"/>
          <p:cNvPicPr/>
          <p:nvPr/>
        </p:nvPicPr>
        <p:blipFill>
          <a:blip r:embed="rId9"/>
          <a:stretch/>
        </p:blipFill>
        <p:spPr>
          <a:xfrm>
            <a:off x="826920" y="1197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5370" descr="20071124030355823"/>
          <p:cNvPicPr/>
          <p:nvPr/>
        </p:nvPicPr>
        <p:blipFill>
          <a:blip r:embed="rId10"/>
          <a:stretch/>
        </p:blipFill>
        <p:spPr>
          <a:xfrm>
            <a:off x="1476360" y="333360"/>
            <a:ext cx="86364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2.5E-006 2.59259E-006 C 0.00521 -0.00741 0.01406 -0.00903 0.02136 -0.01158 C 0.02934 -0.01852 0.0375 -0.0213 0.04705 -0.02292 C 0.06181 -0.02223 0.07656 -0.02223 0.09132 -0.02107 C 0.09584 -0.02084 0.09983 -0.01713 0.10417 -0.01528 C 0.10938 -0.01297 0.11493 -0.01227 0.11997 -0.0095 C 0.12813 -0.00487 0.13594 0.00208 0.14427 0.00555 C 0.15018 0.01111 0.15556 0.01713 0.16129 0.02268 C 0.16841 0.02939 0.17691 0.03333 0.1842 0.03981 C 0.18559 0.0412 0.18733 0.04213 0.18854 0.04375 C 0.18993 0.0456 0.19097 0.04814 0.19271 0.04953 C 0.20556 0.06111 0.18785 0.04004 0.20139 0.05509 C 0.21424 0.06944 0.22882 0.07754 0.24566 0.07986 C 0.27066 0.0787 0.29462 0.0787 0.31858 0.06851 C 0.32275 0.06458 0.32709 0.06296 0.33143 0.05902 C 0.33559 0.05532 0.33785 0.05162 0.34271 0.04953 C 0.34931 0.04074 0.35469 0.03588 0.36285 0.03032 C 0.36875 0.02638 0.37188 0.0199 0.37847 0.01713 C 0.39358 0.00347 0.40886 -0.00718 0.42709 -0.01158 C 0.44271 -0.01088 0.45851 -0.01112 0.47413 -0.0095 C 0.47709 -0.00926 0.48281 -0.00579 0.48281 -0.00579 C 0.48733 -0.00162 0.49184 0.00138 0.49705 0.0037 C 0.5033 0.01203 0.50556 0.01597 0.51285 0.02083 C 0.51806 0.03148 0.51268 0.02314 0.51997 0.02847 C 0.52934 0.03541 0.52934 0.03703 0.53993 0.03981 C 0.54844 0.03912 0.55712 0.03935 0.56563 0.03796 C 0.56979 0.03726 0.57691 0.03194 0.58143 0.03032 C 0.58281 0.02916 0.58403 0.02754 0.58559 0.02662 C 0.58733 0.02569 0.58959 0.02592 0.59132 0.02476 C 0.59393 0.02314 0.59549 0.01759 0.59705 0.01504 C 0.60087 0.00879 0.60417 0.00486 0.60417 -0.00394 E">
                                      <p:cBhvr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-2.5E-006 1.11111E-006 C 0.00278 -0.00533 0.00382 -0.01065 0.00712 -0.01528 C 0.00764 -0.01783 0.00747 -0.02061 0.00851 -0.02269 C 0.01042 -0.02639 0.01337 -0.02917 0.0158 -0.03241 C 0.01754 -0.03473 0.01823 -0.03797 0.01997 -0.04005 C 0.02153 -0.0419 0.02396 -0.04213 0.0257 -0.04375 C 0.03178 -0.04885 0.02882 -0.05047 0.03716 -0.05324 C 0.04341 -0.06158 0.04671 -0.06829 0.05573 -0.07223 C 0.05921 -0.07709 0.06233 -0.07963 0.06719 -0.08195 C 0.07327 -0.08797 0.08351 -0.1044 0.09011 -0.10672 C 0.09723 -0.10903 0.10365 -0.11181 0.11007 -0.11621 C 0.12101 -0.11551 0.13195 -0.11528 0.14289 -0.11412 C 0.14862 -0.11343 0.16007 -0.11042 0.16007 -0.11042 C 0.16476 -0.10834 0.16528 -0.10834 0.16997 -0.10463 C 0.17292 -0.10232 0.17865 -0.09699 0.17865 -0.09699 C 0.18195 -0.09028 0.18507 -0.08982 0.19011 -0.08565 C 0.19462 -0.07616 0.20244 -0.07014 0.20712 -0.06088 C 0.21337 -0.04838 0.2165 -0.0338 0.22431 -0.02269 C 0.22605 -0.01574 0.22691 -0.00996 0.23004 -0.00371 C 0.2316 0.00254 0.23369 0.00671 0.23716 0.01157 C 0.24028 0.0243 0.24671 0.03009 0.25573 0.0324 C 0.28264 0.03009 0.27292 0.03217 0.29011 0.02106 C 0.29271 0.01389 0.29601 0.00578 0.3 1.11111E-006 C 0.30278 -0.01088 0.30869 -0.01875 0.31285 -0.02848 C 0.32084 -0.04723 0.33056 -0.06574 0.34428 -0.07801 C 0.34862 -0.08635 0.35035 -0.08449 0.35712 -0.0875 C 0.36129 -0.09306 0.36719 -0.09699 0.37292 -0.09908 C 0.38351 -0.09815 0.39775 -0.10417 0.40434 -0.09329 C 0.40521 -0.09167 0.40487 -0.08912 0.40573 -0.0875 C 0.40678 -0.08519 0.40869 -0.0838 0.41007 -0.08195 C 0.41355 -0.0676 0.40886 -0.0838 0.41424 -0.07223 C 0.41615 -0.06806 0.41702 -0.06343 0.41858 -0.05903 C 0.41997 -0.04769 0.42171 -0.0375 0.42431 -0.02662 C 0.42466 -0.025 0.42639 -0.02408 0.42709 -0.02269 C 0.43403 -0.00903 0.43889 0.00532 0.45139 0.01157 C 0.45886 0.02083 0.47188 0.02245 0.48143 0.02662 C 0.50834 0.02407 0.49462 0.02477 0.51146 0.01921 C 0.51233 0.01782 0.51303 0.01597 0.51424 0.01527 C 0.51789 0.01342 0.52205 0.01342 0.5257 0.01157 C 0.53021 0.00949 0.53386 0.00602 0.53855 0.00393 C 0.54653 -0.00672 0.54271 -0.00348 0.54862 -0.00764 E">
                                      <p:cBhvr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38889E-006 -2.59259E-006 C 0.00694 0.0375 0.00104 0.00115999999999999 0.00434 0.07801 C 0.00469 0.08727 0.00955 0.09422 0.01562 0.09699 C 0.02917 0.11505 0.0184 0.10255 0.06424 0.09908 C 0.07691 0.09815 0.09184 0.08959 0.10434 0.08565 C 0.1224 0.08704 0.12951 0.08496 0.14288 0.09699 C 0.1467 0.10047 0.1493 0.10486 0.15278 0.10857 C 0.15555 0.11134 0.16146 0.11621 0.16146 0.11621 C 0.16424 0.12732 0.16927 0.13195 0.17569 0.13889 C 0.17899 0.14236 0.18854 0.15556 0.18993 0.15602 C 0.19792 0.15903 0.19375 0.15764 0.20278 0.15996 C 0.2099 0.15926 0.21719 0.15926 0.2243 0.1581 C 0.22899 0.15741 0.23299 0.15278 0.23715 0.15047 C 0.23837 0.14977 0.2474 0.14699 0.24861 0.14653 C 0.25677 0.13935 0.26615 0.13727 0.27569 0.13519 C 0.28993 0.13588 0.30434 0.13542 0.31858 0.13704 C 0.32483 0.13773 0.33507 0.14746 0.34149 0.15047 C 0.34826 0.15718 0.35382 0.16435 0.36146 0.16945 C 0.36545 0.17523 0.36858 0.17824 0.37413 0.18079 C 0.37934 0.18797 0.3809 0.1919 0.38837 0.19422 C 0.39583 0.20162 0.40851 0.21366 0.41701 0.21713 C 0.43663 0.225 0.45729 0.22523 0.47708 0.23033 C 0.50208 0.22917 0.51701 0.23056 0.53854 0.22269 C 0.54514 0.2169 0.55295 0.21412 0.56007 0.20949 C 0.56615 0.20093 0.55903 0.20972 0.56719 0.20371 C 0.57014 0.20139 0.57257 0.19815 0.57569 0.19607 C 0.57656 0.19537 0.5776 0.19491 0.57847 0.19422 E">
                                      <p:cBhvr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Motion origin="layout" path="M 1.38889E-006 1.11111E-006 C 0.00087 -0.00139 0.00208 -0.00231 0.00278 -0.00393 C 0.00347 -0.00555 0.00347 -0.00787 0.00434 -0.00949 C 0.00521 -0.01088 0.01285 -0.01967 0.01424 -0.02106 C 0.01701 -0.02384 0.02292 -0.0287 0.02292 -0.0287 C 0.02674 -0.03634 0.03055 -0.03796 0.03715 -0.04004 C 0.04375 -0.0456 0.05104 -0.04537 0.05851 -0.04768 C 0.12569 -0.04514 0.09115 -0.04884 0.1243 -0.03819 C 0.12812 -0.03565 0.13229 -0.03403 0.13576 -0.03055 C 0.13767 -0.0287 0.13941 -0.02639 0.14149 -0.02477 C 0.14809 -0.01944 0.15642 -0.01551 0.16285 -0.00949 C 0.17049 -0.00231 0.17726 0.00579 0.18576 0.01135 C 0.19687 0.02709 0.21163 0.04097 0.22569 0.05139 C 0.23073 0.0551 0.22899 0.05533 0.2342 0.05718 C 0.23802 0.05857 0.24566 0.06088 0.24566 0.06088 C 0.26163 0.05949 0.26927 0.05903 0.28281 0.05324 C 0.29375 0.03959 0.30625 0.0301 0.31858 0.01898 C 0.32187 0.01597 0.32621 0.01644 0.33003 0.01528 C 0.33246 0.01459 0.33715 0.0132 0.33715 0.0132 C 0.34427 0.01389 0.35139 0.01412 0.35851 0.01528 C 0.36597 0.01644 0.37292 0.02547 0.38003 0.02847 C 0.38351 0.03357 0.38663 0.03588 0.39132 0.03797 C 0.39792 0.04722 0.38958 0.03658 0.4 0.04375 C 0.40121 0.04468 0.40174 0.04653 0.40278 0.04769 C 0.40642 0.05139 0.41389 0.0588 0.41858 0.06088 C 0.4243 0.06898 0.43628 0.07454 0.44427 0.07801 C 0.4691 0.07732 0.4974 0.09144 0.51858 0.07431 C 0.5283 0.06644 0.51337 0.07385 0.52569 0.06852 C 0.52917 0.06389 0.53142 0.06181 0.53142 0.0551 E">
                                      <p:cBhvr>
                                        <p:cTn id="1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C 0.00156 -0.0051 0.00225 -0.01065 0.00433 -0.01528 C 0.00902 -0.02547 0.03402 -0.03727 0.04288 -0.04005 C 0.0467 -0.04121 0.05052 -0.04098 0.05433 -0.0419 C 0.05815 -0.04283 0.06579 -0.04561 0.06579 -0.04561 C 0.08576 -0.04491 0.1059 -0.04491 0.12586 -0.04375 C 0.13003 -0.04352 0.13246 -0.03889 0.13576 -0.03611 C 0.14617 -0.02755 0.15503 -0.01459 0.16579 -0.00764 C 0.16961 -0.00255 0.17413 0.00185 0.17725 0.00764 C 0.18124 0.01481 0.18541 0.02245 0.1901 0.0287 C 0.19288 0.03958 0.18958 0.02963 0.19444 0.03819 C 0.19878 0.04606 0.20208 0.05416 0.20729 0.06111 C 0.2144 0.0706 0.22395 0.07801 0.23298 0.08379 C 0.23628 0.08842 0.23506 0.08819 0.2401 0.08958 C 0.24479 0.09097 0.25433 0.09328 0.25433 0.09328 C 0.29444 0.09097 0.27725 0.09444 0.29861 0.08379 C 0.30677 0.07338 0.29565 0.08634 0.30572 0.07824 C 0.3151 0.0706 0.31857 0.06041 0.33003 0.05532 C 0.33663 0.04861 0.3434 0.03796 0.34999 0.0324 C 0.35694 0.02639 0.36788 0.01875 0.37586 0.01527 C 0.3802 0.01157 0.38385 0.00972 0.38871 0.00764 C 0.39635 0.00833 0.40399 0.00787 0.41145 0.00949 C 0.41319 0.00995 0.41423 0.0125 0.41579 0.01342 C 0.421 0.01666 0.42742 0.01875 0.43298 0.02106 C 0.43767 0.02523 0.44392 0.03032 0.44722 0.03634 C 0.4493 0.04004 0.45295 0.04768 0.45295 0.04768 C 0.45572 0.05926 0.46458 0.06689 0.47152 0.0743 C 0.47465 0.07754 0.47795 0.08356 0.48142 0.08588 C 0.50711 0.10301 0.53038 0.09814 0.56145 0.09907 C 0.56336 0.10046 0.5651 0.10208 0.56718 0.10301 C 0.57083 0.10463 0.57864 0.10671 0.57864 0.10671 C 0.58298 0.11574 0.58142 0.11018 0.58142 0.12384 E">
                                      <p:cBhvr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5.55556E-006 C 0.00192 -0.00394 0.00973 -0.01505 0.01285 -0.01714 C 0.0191 -0.0213 0.02883 -0.02431 0.03577 -0.02663 C 0.0481 -0.03751 0.06737 -0.03102 0.08004 -0.03033 C 0.08542 -0.02547 0.09098 -0.02501 0.09723 -0.02269 C 0.10192 -0.01899 0.10851 -0.01598 0.11285 -0.01135 C 0.11858 -0.0051 0.12396 0.00161 0.13004 0.00763 C 0.13629 0.02013 0.1441 0.03148 0.15001 0.04398 C 0.15244 0.04907 0.15365 0.05578 0.15574 0.06111 C 0.15886 0.06921 0.15765 0.06411 0.16146 0.0706 C 0.16459 0.07592 0.16494 0.08101 0.16858 0.08587 C 0.17032 0.09259 0.17344 0.0949 0.1757 0.10115 C 0.17831 0.10833 0.179 0.11157 0.18421 0.1162 C 0.18681 0.12129 0.18768 0.12384 0.1915 0.12777 C 0.1941 0.13055 0.20001 0.13541 0.20001 0.13541 C 0.20435 0.14398 0.21008 0.14398 0.21719 0.14675 C 0.21997 0.14791 0.2257 0.15046 0.2257 0.15046 C 0.23386 0.14976 0.24202 0.14999 0.25001 0.14861 C 0.26146 0.14652 0.26945 0.12823 0.28004 0.12384 C 0.28421 0.12013 0.28803 0.11828 0.29289 0.1162 C 0.29567 0.11504 0.3014 0.11249 0.3014 0.11249 C 0.30799 0.11319 0.31476 0.11273 0.32136 0.11435 C 0.32275 0.11458 0.3231 0.11736 0.32431 0.11828 C 0.32466 0.11851 0.3349 0.12291 0.33716 0.12384 C 0.33855 0.12453 0.3415 0.12569 0.3415 0.12569 C 0.34706 0.13101 0.35383 0.13518 0.36008 0.13911 C 0.3639 0.14722 0.37032 0.14999 0.3757 0.15624 C 0.39289 0.17592 0.4132 0.20185 0.43577 0.20763 C 0.46598 0.20648 0.48508 0.21273 0.50574 0.1868 C 0.50417 0.16782 0.50435 0.17546 0.50435 0.16388 E">
                                      <p:cBhvr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C 0.0092 0.00393 0.02066 -0.00625 0.02865 -0.01157 C 0.03212 -0.01389 0.03889 -0.01574 0.04288 -0.01713 C 0.05017 -0.02222 0.05799 -0.025 0.0658 -0.0287 C 0.07708 -0.03426 0.0882 -0.03982 0.1 -0.04375 C 0.12118 -0.04259 0.13281 -0.0412 0.15156 -0.0382 C 0.16007 -0.03403 0.16979 -0.03241 0.17865 -0.03056 C 0.18889 -0.0213 0.18403 -0.025 0.19288 -0.01898 C 0.19601 -0.0132 0.19774 -0.00695 0.20156 -0.00185 C 0.20504 0.01227 0.20035 -0.00417 0.20573 0.00764 C 0.20903 0.01481 0.21094 0.02245 0.2158 0.02847 C 0.21215 0.04352 0.21997 0.05648 0.22587 0.06852 C 0.22847 0.07384 0.23438 0.0838 0.23438 0.0838 C 0.23785 0.09861 0.24531 0.11042 0.25295 0.12176 C 0.25451 0.12407 0.2559 0.12685 0.25729 0.1294 C 0.2592 0.1331 0.26059 0.1375 0.26285 0.14097 C 0.26441 0.14329 0.26684 0.14444 0.26858 0.14653 C 0.28229 0.16204 0.28646 0.16366 0.30434 0.16574 C 0.33958 0.1625 0.31493 0.16713 0.32865 0.1618 C 0.33333 0.15995 0.34288 0.15625 0.34288 0.15625 C 0.34427 0.15486 0.34566 0.15347 0.34722 0.15231 C 0.34861 0.15139 0.35035 0.15162 0.35156 0.15046 C 0.35851 0.14468 0.36458 0.13565 0.37153 0.1294 C 0.37882 0.12315 0.38438 0.11412 0.39288 0.11042 C 0.40104 0.11111 0.4092 0.11111 0.41719 0.11227 C 0.42326 0.11319 0.42344 0.11944 0.43004 0.12176 C 0.43785 0.12454 0.43403 0.12268 0.44149 0.12755 C 0.44497 0.13241 0.4467 0.13495 0.45156 0.13704 C 0.45885 0.14352 0.46719 0.14954 0.47431 0.15625 C 0.47587 0.15787 0.47708 0.16018 0.47865 0.1618 C 0.48142 0.16458 0.48715 0.16944 0.48715 0.16944 C 0.49028 0.18079 0.49514 0.18449 0.50156 0.19236 C 0.51441 0.2081 0.50625 0.20417 0.51719 0.20764 C 0.52535 0.21829 0.53333 0.22755 0.54427 0.23241 C 0.55486 0.24583 0.53854 0.22616 0.55156 0.23796 C 0.5533 0.23935 0.55399 0.24236 0.55573 0.24375 C 0.56007 0.24699 0.56806 0.24792 0.57292 0.24954 C 0.59879 0.24838 0.6184 0.25 0.64149 0.24005 C 0.64462 0.23565 0.64705 0.23148 0.65 0.22662 C 0.65087 0.22523 0.65295 0.22292 0.65295 0.22292 E">
                                      <p:cBhvr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75 0.009357 C 0.030412 0.015603 0.029372 0.018143 0.031982 0.028563 C 0.033022 0.032963 0.035802 0.037823 0.037712 0.041763 C 0.041872 0.061893 0.048302 0.078333 0.059232 0.093383 C 0.061662 0.096623 0.065832 0.095923 0.069132 0.097083 C 0.098642 0.122313 0.188052 0.110273 0.196392 0.110513 C 0.217912 0.114443 0.239272 0.122313 0.260622 0.127643 C 0.263922 0.129723 0.267572 0.130643 0.270692 0.133193 C 0.271912 0.134123 0.272432 0.136203 0.273472 0.137133 C 0.276772 0.140143 0.279892 0.141063 0.283542 0.142683 C 0.284932 0.144073 0.286142 0.145693 0.287712 0.146623 C 0.289102 0.147543 0.290832 0.147313 0.292052 0.148473 C 0.293782 0.149863 0.294652 0.152873 0.296392 0.154263 C 0.298992 0.156113 0.304892 0.157963 0.304892 0.157963 C 0.308372 0.162823 0.312532 0.167223 0.316352 0.171393 C 0.320002 0.175323 0.327812 0.182733 0.327812 0.182733 C 0.333712 0.195003 0.346042 0.204723 0.356282 0.209353 C 0.363752 0.219303 0.375902 0.224163 0.386322 0.226713 C 0.402292 0.237133 0.420352 0.231343 0.437712 0.230413 C 0.449692 0.227873 0.461492 0.223473 0.473472 0.220923 C 0.482322 0.216063 0.491352 0.214443 0.500382 0.211433 C 0.513402 0.202643 0.527812 0.198013 0.542052 0.194303 C 0.552462 0.195003 0.563052 0.195003 0.573472 0.196153 C 0.576602 0.196393 0.581112 0.200553 0.583542 0.201943 C 0.591002 0.206343 0.598822 0.209123 0.606282 0.213283 C 0.630762 0.226713 0.609582 0.217453 0.622082 0.222773 C 0.631802 0.231573 0.627292 0.229023 0.634932 0.232273 C 0.648992 0.245003 0.665662 0.253563 0.681982 0.258893 C 0.699162 0.258193 0.716352 0.258423 0.733542 0.257033 C 0.738402 0.256573 0.742912 0.254263 0.747782 0.253333 C 0.756282 0.251713 0.764962 0.249863 0.773472 0.247543 C 0.777292 0.246393 0.784932 0.243843 0.784932 0.243843 C 0.791182 0.235043 0.788052 0.219073 0.781982 0.211433 C 0.779032 0.203333 0.781282 0.203793 0.777812 0.203793 E">
                                      <p:cBhvr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6385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月亮小孩"/>
          <p:cNvPicPr/>
          <p:nvPr/>
        </p:nvPicPr>
        <p:blipFill>
          <a:blip r:embed="rId2"/>
          <a:stretch/>
        </p:blipFill>
        <p:spPr>
          <a:xfrm rot="20115600">
            <a:off x="6084360" y="692280"/>
            <a:ext cx="2652840" cy="3192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042920" y="3787920"/>
            <a:ext cx="8104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t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n    b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n   qǐng    l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i      x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o   xīng  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 边 请 来 小 星 星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ī       xī        h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h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zuò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ef1903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ef190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f1903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嘻 嘻 哈 哈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ef1903"/>
                </a:solidFill>
                <a:latin typeface="楷体_GB2312"/>
                <a:ea typeface="楷体_GB2312"/>
              </a:rPr>
              <a:t>满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船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楷体简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0071124030355823"/>
          <p:cNvPicPr/>
          <p:nvPr/>
        </p:nvPicPr>
        <p:blipFill>
          <a:blip r:embed="rId3"/>
          <a:stretch/>
        </p:blipFill>
        <p:spPr>
          <a:xfrm>
            <a:off x="6227640" y="105408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0071124030355823"/>
          <p:cNvPicPr/>
          <p:nvPr/>
        </p:nvPicPr>
        <p:blipFill>
          <a:blip r:embed="rId4"/>
          <a:stretch/>
        </p:blipFill>
        <p:spPr>
          <a:xfrm>
            <a:off x="6661080" y="220500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20071124030355823"/>
          <p:cNvPicPr/>
          <p:nvPr/>
        </p:nvPicPr>
        <p:blipFill>
          <a:blip r:embed="rId5"/>
          <a:stretch/>
        </p:blipFill>
        <p:spPr>
          <a:xfrm>
            <a:off x="6948360" y="292572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20071124030355554"/>
          <p:cNvPicPr/>
          <p:nvPr/>
        </p:nvPicPr>
        <p:blipFill>
          <a:blip r:embed="rId6"/>
          <a:stretch/>
        </p:blipFill>
        <p:spPr>
          <a:xfrm>
            <a:off x="6227640" y="1628640"/>
            <a:ext cx="952560" cy="752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20071124030355554"/>
          <p:cNvPicPr/>
          <p:nvPr/>
        </p:nvPicPr>
        <p:blipFill>
          <a:blip r:embed="rId7"/>
          <a:stretch/>
        </p:blipFill>
        <p:spPr>
          <a:xfrm>
            <a:off x="7451640" y="292572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20071124030355554"/>
          <p:cNvPicPr/>
          <p:nvPr/>
        </p:nvPicPr>
        <p:blipFill>
          <a:blip r:embed="rId8"/>
          <a:stretch/>
        </p:blipFill>
        <p:spPr>
          <a:xfrm>
            <a:off x="6084720" y="2205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20071124030355554"/>
          <p:cNvPicPr/>
          <p:nvPr/>
        </p:nvPicPr>
        <p:blipFill>
          <a:blip r:embed="rId9"/>
          <a:stretch/>
        </p:blipFill>
        <p:spPr>
          <a:xfrm>
            <a:off x="7885080" y="285444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0071124030355823"/>
          <p:cNvPicPr/>
          <p:nvPr/>
        </p:nvPicPr>
        <p:blipFill>
          <a:blip r:embed="rId10"/>
          <a:stretch/>
        </p:blipFill>
        <p:spPr>
          <a:xfrm>
            <a:off x="5867280" y="1557360"/>
            <a:ext cx="863640" cy="8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20071124030355823"/>
          <p:cNvPicPr/>
          <p:nvPr/>
        </p:nvPicPr>
        <p:blipFill>
          <a:blip r:embed="rId11"/>
          <a:stretch/>
        </p:blipFill>
        <p:spPr>
          <a:xfrm>
            <a:off x="6372360" y="2709720"/>
            <a:ext cx="863640" cy="841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7409" descr="12D193625120-2I209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994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7410" descr="月亮小孩"/>
          <p:cNvPicPr/>
          <p:nvPr/>
        </p:nvPicPr>
        <p:blipFill>
          <a:blip r:embed="rId2"/>
          <a:stretch/>
        </p:blipFill>
        <p:spPr>
          <a:xfrm rot="19875600">
            <a:off x="5651640" y="404640"/>
            <a:ext cx="2652480" cy="31924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7411" descr="007g"/>
          <p:cNvPicPr/>
          <p:nvPr/>
        </p:nvPicPr>
        <p:blipFill>
          <a:blip r:embed="rId3"/>
          <a:stretch/>
        </p:blipFill>
        <p:spPr>
          <a:xfrm rot="2284200">
            <a:off x="7164360" y="2707920"/>
            <a:ext cx="792360" cy="6825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7412" descr="007g"/>
          <p:cNvPicPr/>
          <p:nvPr/>
        </p:nvPicPr>
        <p:blipFill>
          <a:blip r:embed="rId4"/>
          <a:stretch/>
        </p:blipFill>
        <p:spPr>
          <a:xfrm rot="1011000">
            <a:off x="6876720" y="270828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7413" descr="007g"/>
          <p:cNvPicPr/>
          <p:nvPr/>
        </p:nvPicPr>
        <p:blipFill>
          <a:blip r:embed="rId5"/>
          <a:stretch/>
        </p:blipFill>
        <p:spPr>
          <a:xfrm rot="19777200">
            <a:off x="6156000" y="764640"/>
            <a:ext cx="712800" cy="8892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7414" descr="008h"/>
          <p:cNvPicPr/>
          <p:nvPr/>
        </p:nvPicPr>
        <p:blipFill>
          <a:blip r:embed="rId6"/>
          <a:stretch/>
        </p:blipFill>
        <p:spPr>
          <a:xfrm>
            <a:off x="6084720" y="22050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415" descr="005e"/>
          <p:cNvPicPr/>
          <p:nvPr/>
        </p:nvPicPr>
        <p:blipFill>
          <a:blip r:embed="rId7"/>
          <a:stretch/>
        </p:blipFill>
        <p:spPr>
          <a:xfrm>
            <a:off x="658800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7416" descr="007g"/>
          <p:cNvPicPr/>
          <p:nvPr/>
        </p:nvPicPr>
        <p:blipFill>
          <a:blip r:embed="rId8"/>
          <a:stretch/>
        </p:blipFill>
        <p:spPr>
          <a:xfrm rot="20938800">
            <a:off x="5795640" y="17733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7417" descr="008h"/>
          <p:cNvPicPr/>
          <p:nvPr/>
        </p:nvPicPr>
        <p:blipFill>
          <a:blip r:embed="rId9"/>
          <a:stretch/>
        </p:blipFill>
        <p:spPr>
          <a:xfrm rot="19505400">
            <a:off x="6012000" y="1412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7418" descr="005e"/>
          <p:cNvPicPr/>
          <p:nvPr/>
        </p:nvPicPr>
        <p:blipFill>
          <a:blip r:embed="rId10"/>
          <a:stretch/>
        </p:blipFill>
        <p:spPr>
          <a:xfrm>
            <a:off x="6804000" y="2924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7419"/>
          <p:cNvSpPr/>
          <p:nvPr/>
        </p:nvSpPr>
        <p:spPr>
          <a:xfrm>
            <a:off x="539640" y="351936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  zh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  y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  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满 船 星 星 眨 眼 睛</a:t>
            </a: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来到我家院里玩</a:t>
            </a:r>
            <a:r>
              <a:rPr b="0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7420"/>
          <p:cNvSpPr/>
          <p:nvPr/>
        </p:nvSpPr>
        <p:spPr>
          <a:xfrm>
            <a:off x="1908000" y="2060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7421"/>
          <p:cNvSpPr/>
          <p:nvPr/>
        </p:nvSpPr>
        <p:spPr>
          <a:xfrm>
            <a:off x="4211640" y="3860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1903"/>
                </a:solidFill>
                <a:latin typeface="楷体_GB2312"/>
                <a:ea typeface="楷体_GB2312"/>
              </a:rPr>
              <a:t>眨 眼 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8433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8434" descr="月亮小孩"/>
          <p:cNvPicPr/>
          <p:nvPr/>
        </p:nvPicPr>
        <p:blipFill>
          <a:blip r:embed="rId2"/>
          <a:stretch/>
        </p:blipFill>
        <p:spPr>
          <a:xfrm rot="20055600">
            <a:off x="5651640" y="404640"/>
            <a:ext cx="2652480" cy="3192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8435" descr="007g"/>
          <p:cNvPicPr/>
          <p:nvPr/>
        </p:nvPicPr>
        <p:blipFill>
          <a:blip r:embed="rId3"/>
          <a:stretch/>
        </p:blipFill>
        <p:spPr>
          <a:xfrm rot="5644200">
            <a:off x="7235280" y="2707920"/>
            <a:ext cx="790560" cy="6829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8436" descr="007g"/>
          <p:cNvPicPr/>
          <p:nvPr/>
        </p:nvPicPr>
        <p:blipFill>
          <a:blip r:embed="rId4"/>
          <a:stretch/>
        </p:blipFill>
        <p:spPr>
          <a:xfrm rot="16131000">
            <a:off x="6802920" y="2922840"/>
            <a:ext cx="792360" cy="682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8437" descr="007g"/>
          <p:cNvPicPr/>
          <p:nvPr/>
        </p:nvPicPr>
        <p:blipFill>
          <a:blip r:embed="rId5"/>
          <a:stretch/>
        </p:blipFill>
        <p:spPr>
          <a:xfrm rot="21457200">
            <a:off x="5867280" y="764640"/>
            <a:ext cx="714600" cy="889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8438" descr="008h"/>
          <p:cNvPicPr/>
          <p:nvPr/>
        </p:nvPicPr>
        <p:blipFill>
          <a:blip r:embed="rId6"/>
          <a:stretch/>
        </p:blipFill>
        <p:spPr>
          <a:xfrm rot="20700000">
            <a:off x="6084360" y="2276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8439" descr="005e"/>
          <p:cNvPicPr/>
          <p:nvPr/>
        </p:nvPicPr>
        <p:blipFill>
          <a:blip r:embed="rId7"/>
          <a:stretch/>
        </p:blipFill>
        <p:spPr>
          <a:xfrm>
            <a:off x="6588000" y="2637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8440" descr="007g"/>
          <p:cNvPicPr/>
          <p:nvPr/>
        </p:nvPicPr>
        <p:blipFill>
          <a:blip r:embed="rId8"/>
          <a:stretch/>
        </p:blipFill>
        <p:spPr>
          <a:xfrm rot="15358800">
            <a:off x="5722200" y="177084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8441" descr="008h"/>
          <p:cNvPicPr/>
          <p:nvPr/>
        </p:nvPicPr>
        <p:blipFill>
          <a:blip r:embed="rId9"/>
          <a:stretch/>
        </p:blipFill>
        <p:spPr>
          <a:xfrm rot="19505400">
            <a:off x="6084720" y="141264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8442" descr="005e"/>
          <p:cNvPicPr/>
          <p:nvPr/>
        </p:nvPicPr>
        <p:blipFill>
          <a:blip r:embed="rId10"/>
          <a:stretch/>
        </p:blipFill>
        <p:spPr>
          <a:xfrm>
            <a:off x="6661080" y="27082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8443" descr="008h"/>
          <p:cNvPicPr/>
          <p:nvPr/>
        </p:nvPicPr>
        <p:blipFill>
          <a:blip r:embed="rId11"/>
          <a:stretch/>
        </p:blipFill>
        <p:spPr>
          <a:xfrm rot="4860000">
            <a:off x="7738200" y="2491200"/>
            <a:ext cx="55080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9457" descr="12D193625120-2I209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9948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9458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459"/>
          <p:cNvSpPr/>
          <p:nvPr/>
        </p:nvSpPr>
        <p:spPr>
          <a:xfrm>
            <a:off x="1655640" y="1052640"/>
            <a:ext cx="74883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ɑ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  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g zhī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月  亮  弯 弯， 像  只 小 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9460"/>
          <p:cNvSpPr/>
          <p:nvPr/>
        </p:nvSpPr>
        <p:spPr>
          <a:xfrm>
            <a:off x="1619280" y="2133720"/>
            <a:ext cx="7345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d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t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i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   b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小  船  摇  摇， 摇  到 天  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9461"/>
          <p:cNvSpPr/>
          <p:nvPr/>
        </p:nvSpPr>
        <p:spPr>
          <a:xfrm>
            <a:off x="1619280" y="3286080"/>
            <a:ext cx="59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tiān  biān  qǐng   lái  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 xīng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天  边   请  来  小  星   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xī   xī   hā   hā   zuò  m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n  ch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嘻 嘻 哈 哈  坐  满   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462"/>
          <p:cNvSpPr/>
          <p:nvPr/>
        </p:nvSpPr>
        <p:spPr>
          <a:xfrm>
            <a:off x="1619280" y="5229360"/>
            <a:ext cx="5473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满  船   星  星  眨 眼  睛</a:t>
            </a: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来  到 我 家  院 里 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9463"/>
          <p:cNvSpPr/>
          <p:nvPr/>
        </p:nvSpPr>
        <p:spPr>
          <a:xfrm>
            <a:off x="4665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.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  星  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9464"/>
          <p:cNvSpPr/>
          <p:nvPr/>
        </p:nvSpPr>
        <p:spPr>
          <a:xfrm>
            <a:off x="2967120" y="27000"/>
            <a:ext cx="32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9465"/>
          <p:cNvSpPr/>
          <p:nvPr/>
        </p:nvSpPr>
        <p:spPr>
          <a:xfrm>
            <a:off x="3060720" y="2379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q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ǐ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ng      xīng    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097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56" name="五角星 4098"/>
          <p:cNvSpPr/>
          <p:nvPr/>
        </p:nvSpPr>
        <p:spPr>
          <a:xfrm>
            <a:off x="4859280" y="83664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角星 4099"/>
          <p:cNvSpPr/>
          <p:nvPr/>
        </p:nvSpPr>
        <p:spPr>
          <a:xfrm>
            <a:off x="1476360" y="3933720"/>
            <a:ext cx="2016000" cy="201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五角星 4100"/>
          <p:cNvSpPr/>
          <p:nvPr/>
        </p:nvSpPr>
        <p:spPr>
          <a:xfrm>
            <a:off x="4932360" y="3933720"/>
            <a:ext cx="2016000" cy="201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角星 4101"/>
          <p:cNvSpPr/>
          <p:nvPr/>
        </p:nvSpPr>
        <p:spPr>
          <a:xfrm>
            <a:off x="1547640" y="83664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y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121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61" name="五角星 5122"/>
          <p:cNvSpPr/>
          <p:nvPr/>
        </p:nvSpPr>
        <p:spPr>
          <a:xfrm>
            <a:off x="250920" y="47628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5123"/>
          <p:cNvSpPr/>
          <p:nvPr/>
        </p:nvSpPr>
        <p:spPr>
          <a:xfrm>
            <a:off x="2484360" y="47628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5124"/>
          <p:cNvSpPr/>
          <p:nvPr/>
        </p:nvSpPr>
        <p:spPr>
          <a:xfrm>
            <a:off x="4716360" y="47628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b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5125"/>
          <p:cNvSpPr/>
          <p:nvPr/>
        </p:nvSpPr>
        <p:spPr>
          <a:xfrm>
            <a:off x="6877080" y="47628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5126"/>
          <p:cNvSpPr/>
          <p:nvPr/>
        </p:nvSpPr>
        <p:spPr>
          <a:xfrm>
            <a:off x="1332000" y="335772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5127"/>
          <p:cNvSpPr/>
          <p:nvPr/>
        </p:nvSpPr>
        <p:spPr>
          <a:xfrm>
            <a:off x="3564000" y="335772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5128"/>
          <p:cNvSpPr/>
          <p:nvPr/>
        </p:nvSpPr>
        <p:spPr>
          <a:xfrm>
            <a:off x="5796000" y="335772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j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1"/>
                            </p:stCondLst>
                            <p:childTnLst>
                              <p:par>
                                <p:cTn id="3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1"/>
                            </p:stCondLst>
                            <p:childTnLst>
                              <p:par>
                                <p:cTn id="3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1"/>
                            </p:stCondLst>
                            <p:childTnLst>
                              <p:par>
                                <p:cTn id="4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101"/>
                            </p:stCondLst>
                            <p:childTnLst>
                              <p:par>
                                <p:cTn id="4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601"/>
                            </p:stCondLst>
                            <p:childTnLst>
                              <p:par>
                                <p:cTn id="5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145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69" name="五角星 6146"/>
          <p:cNvSpPr/>
          <p:nvPr/>
        </p:nvSpPr>
        <p:spPr>
          <a:xfrm rot="660000">
            <a:off x="323640" y="43920"/>
            <a:ext cx="1871640" cy="20894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角星 6147"/>
          <p:cNvSpPr/>
          <p:nvPr/>
        </p:nvSpPr>
        <p:spPr>
          <a:xfrm rot="20880000">
            <a:off x="2555640" y="44280"/>
            <a:ext cx="1871640" cy="20894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角星 6148"/>
          <p:cNvSpPr/>
          <p:nvPr/>
        </p:nvSpPr>
        <p:spPr>
          <a:xfrm rot="660000">
            <a:off x="4787640" y="188640"/>
            <a:ext cx="187164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角星 6149"/>
          <p:cNvSpPr/>
          <p:nvPr/>
        </p:nvSpPr>
        <p:spPr>
          <a:xfrm rot="21000000">
            <a:off x="6948360" y="43920"/>
            <a:ext cx="1871640" cy="20894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角星 6150"/>
          <p:cNvSpPr/>
          <p:nvPr/>
        </p:nvSpPr>
        <p:spPr>
          <a:xfrm rot="20340000">
            <a:off x="466200" y="2491920"/>
            <a:ext cx="1873440" cy="208908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角星 6151"/>
          <p:cNvSpPr/>
          <p:nvPr/>
        </p:nvSpPr>
        <p:spPr>
          <a:xfrm rot="900000">
            <a:off x="2626920" y="2349360"/>
            <a:ext cx="187164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角星 6152"/>
          <p:cNvSpPr/>
          <p:nvPr/>
        </p:nvSpPr>
        <p:spPr>
          <a:xfrm rot="780000">
            <a:off x="4861080" y="2421000"/>
            <a:ext cx="187164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6153"/>
          <p:cNvSpPr/>
          <p:nvPr/>
        </p:nvSpPr>
        <p:spPr>
          <a:xfrm rot="21120000">
            <a:off x="7093080" y="2491920"/>
            <a:ext cx="1871640" cy="208908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6154"/>
          <p:cNvSpPr/>
          <p:nvPr/>
        </p:nvSpPr>
        <p:spPr>
          <a:xfrm rot="600000">
            <a:off x="755640" y="4581360"/>
            <a:ext cx="187164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6155"/>
          <p:cNvSpPr/>
          <p:nvPr/>
        </p:nvSpPr>
        <p:spPr>
          <a:xfrm rot="20820000">
            <a:off x="3131640" y="4797000"/>
            <a:ext cx="187164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角星 6156"/>
          <p:cNvSpPr/>
          <p:nvPr/>
        </p:nvSpPr>
        <p:spPr>
          <a:xfrm rot="420000">
            <a:off x="5651640" y="4653000"/>
            <a:ext cx="1873080" cy="2087640"/>
          </a:xfrm>
          <a:prstGeom prst="pie">
            <a:avLst/>
          </a:pr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7169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354348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0"/>
            <a:ext cx="8964720" cy="11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īng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ing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u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li</a:t>
            </a:r>
            <a:r>
              <a:rPr b="1" lang="zh-CN" sz="4000" spc="-1" strike="noStrike">
                <a:solidFill>
                  <a:srgbClr val="ef1903"/>
                </a:solidFill>
                <a:latin typeface="Arial"/>
              </a:rPr>
              <a:t>ɑ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ng </a:t>
            </a:r>
            <a:r>
              <a:rPr b="1" lang="zh-CN" sz="3600" spc="-1" strike="noStrike">
                <a:solidFill>
                  <a:srgbClr val="ef1903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xi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o chu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á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星 星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月 亮      小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   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          l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        yu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    li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 边   来 到   院 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xī  xī   h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  h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             zh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   y</a:t>
            </a:r>
            <a:r>
              <a:rPr b="1" lang="zh-CN" sz="4000" spc="-1" strike="noStrike">
                <a:solidFill>
                  <a:srgbClr val="ef1903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ef1903"/>
                </a:solidFill>
                <a:latin typeface="Arial"/>
              </a:rPr>
              <a:t>n   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嘻嘻哈哈    眨 眼 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1"/>
          <p:cNvPicPr/>
          <p:nvPr/>
        </p:nvPicPr>
        <p:blipFill>
          <a:blip r:embed="rId2"/>
          <a:stretch/>
        </p:blipFill>
        <p:spPr>
          <a:xfrm>
            <a:off x="2627280" y="333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01"/>
          <p:cNvPicPr/>
          <p:nvPr/>
        </p:nvPicPr>
        <p:blipFill>
          <a:blip r:embed="rId3"/>
          <a:stretch/>
        </p:blipFill>
        <p:spPr>
          <a:xfrm>
            <a:off x="7596360" y="29242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01"/>
          <p:cNvPicPr/>
          <p:nvPr/>
        </p:nvPicPr>
        <p:blipFill>
          <a:blip r:embed="rId4"/>
          <a:stretch/>
        </p:blipFill>
        <p:spPr>
          <a:xfrm>
            <a:off x="539640" y="404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01"/>
          <p:cNvPicPr/>
          <p:nvPr/>
        </p:nvPicPr>
        <p:blipFill>
          <a:blip r:embed="rId5"/>
          <a:stretch/>
        </p:blipFill>
        <p:spPr>
          <a:xfrm>
            <a:off x="4356000" y="404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1"/>
          <p:cNvPicPr/>
          <p:nvPr/>
        </p:nvPicPr>
        <p:blipFill>
          <a:blip r:embed="rId6"/>
          <a:stretch/>
        </p:blipFill>
        <p:spPr>
          <a:xfrm>
            <a:off x="1258920" y="2708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1"/>
          <p:cNvPicPr/>
          <p:nvPr/>
        </p:nvPicPr>
        <p:blipFill>
          <a:blip r:embed="rId7"/>
          <a:stretch/>
        </p:blipFill>
        <p:spPr>
          <a:xfrm>
            <a:off x="6227640" y="2924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01"/>
          <p:cNvPicPr/>
          <p:nvPr/>
        </p:nvPicPr>
        <p:blipFill>
          <a:blip r:embed="rId8"/>
          <a:stretch/>
        </p:blipFill>
        <p:spPr>
          <a:xfrm>
            <a:off x="1763640" y="5300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01"/>
          <p:cNvPicPr/>
          <p:nvPr/>
        </p:nvPicPr>
        <p:blipFill>
          <a:blip r:embed="rId9"/>
          <a:stretch/>
        </p:blipFill>
        <p:spPr>
          <a:xfrm>
            <a:off x="2700360" y="263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01"/>
          <p:cNvPicPr/>
          <p:nvPr/>
        </p:nvPicPr>
        <p:blipFill>
          <a:blip r:embed="rId10"/>
          <a:stretch/>
        </p:blipFill>
        <p:spPr>
          <a:xfrm>
            <a:off x="3276720" y="530064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01"/>
          <p:cNvPicPr/>
          <p:nvPr/>
        </p:nvPicPr>
        <p:blipFill>
          <a:blip r:embed="rId11"/>
          <a:stretch/>
        </p:blipFill>
        <p:spPr>
          <a:xfrm>
            <a:off x="6732720" y="522936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01"/>
          <p:cNvPicPr/>
          <p:nvPr/>
        </p:nvPicPr>
        <p:blipFill>
          <a:blip r:embed="rId12"/>
          <a:stretch/>
        </p:blipFill>
        <p:spPr>
          <a:xfrm>
            <a:off x="4500720" y="5589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01"/>
          <p:cNvPicPr/>
          <p:nvPr/>
        </p:nvPicPr>
        <p:blipFill>
          <a:blip r:embed="rId13"/>
          <a:stretch/>
        </p:blipFill>
        <p:spPr>
          <a:xfrm>
            <a:off x="6012000" y="5661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"/>
          <p:cNvPicPr/>
          <p:nvPr/>
        </p:nvPicPr>
        <p:blipFill>
          <a:blip r:embed="rId14"/>
          <a:stretch/>
        </p:blipFill>
        <p:spPr>
          <a:xfrm>
            <a:off x="4716360" y="2924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01"/>
          <p:cNvPicPr/>
          <p:nvPr/>
        </p:nvPicPr>
        <p:blipFill>
          <a:blip r:embed="rId15"/>
          <a:stretch/>
        </p:blipFill>
        <p:spPr>
          <a:xfrm>
            <a:off x="5508720" y="501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01"/>
          <p:cNvPicPr/>
          <p:nvPr/>
        </p:nvPicPr>
        <p:blipFill>
          <a:blip r:embed="rId16"/>
          <a:stretch/>
        </p:blipFill>
        <p:spPr>
          <a:xfrm>
            <a:off x="6877080" y="54936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01"/>
          <p:cNvPicPr/>
          <p:nvPr/>
        </p:nvPicPr>
        <p:blipFill>
          <a:blip r:embed="rId17"/>
          <a:stretch/>
        </p:blipFill>
        <p:spPr>
          <a:xfrm>
            <a:off x="250920" y="31417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01"/>
          <p:cNvPicPr/>
          <p:nvPr/>
        </p:nvPicPr>
        <p:blipFill>
          <a:blip r:embed="rId18"/>
          <a:stretch/>
        </p:blipFill>
        <p:spPr>
          <a:xfrm>
            <a:off x="7524720" y="522936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01"/>
          <p:cNvPicPr/>
          <p:nvPr/>
        </p:nvPicPr>
        <p:blipFill>
          <a:blip r:embed="rId19"/>
          <a:stretch/>
        </p:blipFill>
        <p:spPr>
          <a:xfrm>
            <a:off x="468360" y="530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193" descr="12D193625120-2I209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994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194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95"/>
          <p:cNvSpPr/>
          <p:nvPr/>
        </p:nvSpPr>
        <p:spPr>
          <a:xfrm>
            <a:off x="1655640" y="1052640"/>
            <a:ext cx="74883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ɑ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  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g zhī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月  亮  弯 弯， 像  只 小 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6"/>
          <p:cNvSpPr/>
          <p:nvPr/>
        </p:nvSpPr>
        <p:spPr>
          <a:xfrm>
            <a:off x="1619280" y="2133720"/>
            <a:ext cx="7345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 y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d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o   t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i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   b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000" spc="-1" strike="noStrike">
                <a:solidFill>
                  <a:srgbClr val="eae52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小  船  摇  摇， 摇  到 天  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7"/>
          <p:cNvSpPr/>
          <p:nvPr/>
        </p:nvSpPr>
        <p:spPr>
          <a:xfrm>
            <a:off x="1619280" y="3286080"/>
            <a:ext cx="59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tiān  biān  qǐng   lái  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o  xīng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天  边   请  来  小  星   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xī   xī   hā   hā   zuò  m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n  ch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嘻 嘻 哈 哈  坐  满   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8"/>
          <p:cNvSpPr/>
          <p:nvPr/>
        </p:nvSpPr>
        <p:spPr>
          <a:xfrm>
            <a:off x="1619280" y="5229360"/>
            <a:ext cx="5473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满  船   星  星  眨 眼  睛</a:t>
            </a: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来  到 我 家  院 里 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199"/>
          <p:cNvSpPr/>
          <p:nvPr/>
        </p:nvSpPr>
        <p:spPr>
          <a:xfrm>
            <a:off x="4665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.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  星  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200"/>
          <p:cNvSpPr/>
          <p:nvPr/>
        </p:nvSpPr>
        <p:spPr>
          <a:xfrm>
            <a:off x="2967120" y="27000"/>
            <a:ext cx="32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201"/>
          <p:cNvSpPr/>
          <p:nvPr/>
        </p:nvSpPr>
        <p:spPr>
          <a:xfrm>
            <a:off x="3060720" y="2379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q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ǐ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ng      xīng    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9217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1" name="新月形 9218"/>
          <p:cNvSpPr/>
          <p:nvPr/>
        </p:nvSpPr>
        <p:spPr>
          <a:xfrm rot="14682600">
            <a:off x="6499440" y="565200"/>
            <a:ext cx="19778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241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新月形 10242"/>
          <p:cNvSpPr/>
          <p:nvPr/>
        </p:nvSpPr>
        <p:spPr>
          <a:xfrm rot="14022600">
            <a:off x="6802200" y="620280"/>
            <a:ext cx="198108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243"/>
          <p:cNvSpPr/>
          <p:nvPr/>
        </p:nvSpPr>
        <p:spPr>
          <a:xfrm>
            <a:off x="1681560" y="549360"/>
            <a:ext cx="3053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ɑ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</a:t>
            </a:r>
            <a:r>
              <a:rPr b="1" lang="zh-CN" sz="4800" spc="-1" strike="noStrike" u="sng">
                <a:solidFill>
                  <a:srgbClr val="eae523"/>
                </a:solidFill>
                <a:uFillTx/>
                <a:latin typeface="Arial"/>
                <a:ea typeface="方正楷体简体"/>
              </a:rPr>
              <a:t>            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265" descr="12D193625120-2I209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6" name="新月形 11266"/>
          <p:cNvSpPr/>
          <p:nvPr/>
        </p:nvSpPr>
        <p:spPr>
          <a:xfrm rot="13782600">
            <a:off x="6802200" y="620280"/>
            <a:ext cx="198108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267"/>
          <p:cNvSpPr/>
          <p:nvPr/>
        </p:nvSpPr>
        <p:spPr>
          <a:xfrm>
            <a:off x="1592640" y="549360"/>
            <a:ext cx="3191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ɑ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zh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xi</a:t>
            </a: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o chu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只小 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1:05:53Z</dcterms:created>
  <dc:creator/>
  <dc:description/>
  <dc:language>en-US</dc:language>
  <cp:lastModifiedBy>Administrator</cp:lastModifiedBy>
  <dcterms:modified xsi:type="dcterms:W3CDTF">2017-09-27T01:05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