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s://www.baidu.com/s?wd=&#24555;&#20048;&#30340;&#33410;&#26085;&amp;tn=44039180_cpr&amp;fenlei=mv6quAkxTZn0IZRqIHckPjm4nH00T1YLmHf3PHbLP1u9n1ubPHn30ZwV5Hcvrjm3rH6sPfKWUMw85HfYnjn4nH6sgvPsT6KdThsqpZwYTjCEQLGCpyw9Uz4Bmy-bIi4WUvYETgN-TLwGUv3EPHTvPHnsPHbY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10 </a:t>
            </a:r>
            <a:r>
              <a:rPr b="1" lang="zh-CN" sz="5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很快乐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87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F:\七彩课堂插图板式封面\排版用图标、页眉页脚\标题图（终-排版用）共29个\拓展延伸.jpg"/>
          <p:cNvPicPr/>
          <p:nvPr/>
        </p:nvPicPr>
        <p:blipFill>
          <a:blip r:embed="rId2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313080" y="979560"/>
            <a:ext cx="1619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鸟在前面带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风啊吹向我们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像春天一样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来到花园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来到草地上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鲜艳的红领巾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美丽的衣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像许多花儿开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跳啊跳啊跳啊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跳啊跳啊跳啊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快乐的少先队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让我们一齐过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过这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快乐的节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9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F:\七彩课堂插图板式封面\排版用图标、页眉页脚\标题图（终-排版用）共29个\我会说.jpg"/>
          <p:cNvPicPr/>
          <p:nvPr/>
        </p:nvPicPr>
        <p:blipFill>
          <a:blip r:embed="rId2"/>
          <a:stretch/>
        </p:blipFill>
        <p:spPr>
          <a:xfrm>
            <a:off x="485640" y="4508640"/>
            <a:ext cx="2232000" cy="165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258920" y="24922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过学习课文，懂得欣赏自己的长处，快乐而自信地成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11280" y="1484280"/>
            <a:ext cx="763272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课文填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是小铃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发出（     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响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是小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是小学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（    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2"/>
          <p:cNvSpPr/>
          <p:nvPr/>
        </p:nvSpPr>
        <p:spPr>
          <a:xfrm>
            <a:off x="46836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554640" y="27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清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564640" y="4005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空中飞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330640" y="522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"/>
          <p:cNvSpPr/>
          <p:nvPr/>
        </p:nvSpPr>
        <p:spPr>
          <a:xfrm>
            <a:off x="0" y="198900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第二节，想一想小鸟为什么这么快乐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11A1333333-6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600200" y="1676520"/>
            <a:ext cx="5943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是小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会在空中飞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很快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17595835"/>
          <p:cNvPicPr/>
          <p:nvPr/>
        </p:nvPicPr>
        <p:blipFill>
          <a:blip r:embed="rId3"/>
          <a:stretch/>
        </p:blipFill>
        <p:spPr>
          <a:xfrm>
            <a:off x="3962520" y="1371600"/>
            <a:ext cx="159048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7595839"/>
          <p:cNvPicPr/>
          <p:nvPr/>
        </p:nvPicPr>
        <p:blipFill>
          <a:blip r:embed="rId4"/>
          <a:stretch/>
        </p:blipFill>
        <p:spPr>
          <a:xfrm>
            <a:off x="5943600" y="23623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523880" y="1295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676520" y="1447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676520" y="1447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shì    xiǎo niǎ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676520" y="2286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 hùi   zài  kōng zhōng  fēi  xiá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676520" y="3352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hěn  kuài   l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-30240" y="1989000"/>
            <a:ext cx="728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第三节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16360" y="191772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想一想小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2360" y="3213000"/>
            <a:ext cx="77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生为什么这么快乐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1A1333333-6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057400" y="1600200"/>
            <a:ext cx="4648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是小学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会朗读，跑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很快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我们三个都很快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8200532594461"/>
          <p:cNvPicPr/>
          <p:nvPr/>
        </p:nvPicPr>
        <p:blipFill>
          <a:blip r:embed="rId2"/>
          <a:stretch/>
        </p:blipFill>
        <p:spPr>
          <a:xfrm>
            <a:off x="5753160" y="120348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05740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 shì   xiǎo  xúe  shē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057400" y="2286000"/>
            <a:ext cx="42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hùi   lǎng  dú           pǎo    b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133720" y="3200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 hěn  kuài  l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133720" y="4952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ǒ  mén  sān  gè   dōu  hěn  kuài   l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809720" y="3941640"/>
            <a:ext cx="52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ǒ mén sān  gè  dōu  hěn  kuài  l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697040" y="4764240"/>
            <a:ext cx="627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楷体_GB2312"/>
              </a:rPr>
              <a:t>我们三个都 很 快乐 </a:t>
            </a: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19760" y="2349360"/>
            <a:ext cx="367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很快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铃铛    会发出清脆的声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鸟        会在空中飞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学生    会朗读、跑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18760" y="26053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很快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737760" y="2334240"/>
            <a:ext cx="127764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自己的成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快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7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七彩课堂插图板式封面\排版用图标、页眉页脚\标题图（终-排版用）共29个\概括主题.jpg"/>
          <p:cNvPicPr/>
          <p:nvPr/>
        </p:nvPicPr>
        <p:blipFill>
          <a:blip r:embed="rId2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71640" y="220500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本文写小铃铛、小鸟和小学生为自己的长处而快乐，告诉我们自信会让自己感到快乐的道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铃铛5"/>
          <p:cNvPicPr/>
          <p:nvPr/>
        </p:nvPicPr>
        <p:blipFill>
          <a:blip r:embed="rId1"/>
          <a:stretch/>
        </p:blipFill>
        <p:spPr>
          <a:xfrm>
            <a:off x="-28440" y="765000"/>
            <a:ext cx="9207360" cy="5543640"/>
          </a:xfrm>
          <a:prstGeom prst="rect">
            <a:avLst/>
          </a:prstGeom>
          <a:ln w="0">
            <a:noFill/>
          </a:ln>
        </p:spPr>
      </p:pic>
      <p:sp>
        <p:nvSpPr>
          <p:cNvPr id="8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87280" y="2708280"/>
            <a:ext cx="6212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”结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”是“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”结构的一种形式，它是先分说再总结的一种形式。在这种结构中，前面分说的部分是并列关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03:08:00Z</dcterms:created>
  <dc:creator/>
  <dc:description/>
  <dc:language>en-US</dc:language>
  <cp:lastModifiedBy>Administrator</cp:lastModifiedBy>
  <dcterms:modified xsi:type="dcterms:W3CDTF">2017-09-26T07:20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