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C7BF-EA85-4443-B3E6-DEA2F940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D096-404B-40F9-A33F-AC8A467F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B5D-3870-45A0-BCD3-AF3F0DE4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3856-C96C-400A-B1B7-3D009487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C3B6-3752-49D7-810B-0718C642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1A06-974A-4E85-A8E3-86F02CD0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25F-8AD4-429C-9CCD-BC0D9534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0040-F7A2-4DE5-8731-A0759194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D71-5181-4C4F-83C6-03820D00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870-D686-4647-A968-D9BC006F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AA4B-2CF1-4242-95DC-FC0AFCB4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F96B-1F1E-4C3D-B5DE-0D8D5283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5970-495B-4C33-A40A-292A123C2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1844640"/>
            <a:ext cx="5616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楷体"/>
              </a:rPr>
              <a:t>汉语拼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6600"/>
                </a:solidFill>
                <a:latin typeface="方正舒体"/>
                <a:ea typeface="方正舒体"/>
              </a:rPr>
              <a:t>ie  üe  er</a:t>
            </a:r>
            <a:r>
              <a:rPr b="1" lang="en-US" sz="8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31880" y="98280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038480" y="3519360"/>
            <a:ext cx="1067040" cy="106704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舒体"/>
                <a:ea typeface="方正舒体"/>
              </a:rPr>
              <a:t>ü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3138480"/>
            <a:ext cx="5335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4357800"/>
            <a:ext cx="53316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52680" y="4357800"/>
            <a:ext cx="53352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333760" y="3138480"/>
            <a:ext cx="53316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25290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252900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nü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51008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451008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lü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拼一拼  读一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05120"/>
            <a:ext cx="6095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en-US" sz="8000" spc="-1" strike="noStrike">
                <a:solidFill>
                  <a:srgbClr val="000000"/>
                </a:solidFill>
                <a:latin typeface="方正舒体"/>
                <a:ea typeface="方正舒体"/>
              </a:rPr>
              <a:t>n→üe→n</a:t>
            </a:r>
            <a:r>
              <a:rPr b="0" lang="en-US" sz="8000" spc="-1" strike="noStrike">
                <a:solidFill>
                  <a:srgbClr val="ff0000"/>
                </a:solidFill>
                <a:latin typeface="方正舒体"/>
                <a:ea typeface="方正舒体"/>
              </a:rPr>
              <a:t>ü</a:t>
            </a:r>
            <a:r>
              <a:rPr b="0" lang="en-US" sz="8000" spc="-1" strike="noStrike">
                <a:solidFill>
                  <a:srgbClr val="000000"/>
                </a:solidFill>
                <a:latin typeface="方正舒体"/>
                <a:ea typeface="方正舒体"/>
              </a:rPr>
              <a:t>e</a:t>
            </a:r>
            <a:r>
              <a:rPr b="0" lang="en-US" sz="8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13400" y="3809880"/>
            <a:ext cx="48106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方正舒体"/>
                <a:ea typeface="方正舒体"/>
              </a:rPr>
              <a:t>l→üe→l</a:t>
            </a:r>
            <a:r>
              <a:rPr b="0" lang="en-US" sz="8000" spc="-1" strike="noStrike">
                <a:solidFill>
                  <a:srgbClr val="ff0000"/>
                </a:solidFill>
                <a:latin typeface="方正舒体"/>
                <a:ea typeface="方正舒体"/>
              </a:rPr>
              <a:t>ü</a:t>
            </a:r>
            <a:r>
              <a:rPr b="0" lang="en-US" sz="8000" spc="-1" strike="noStrike">
                <a:solidFill>
                  <a:srgbClr val="000000"/>
                </a:solidFill>
                <a:latin typeface="方正舒体"/>
                <a:ea typeface="方正舒体"/>
              </a:rPr>
              <a:t>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31880" y="98280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86200" y="3367080"/>
            <a:ext cx="1066680" cy="10666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舒体"/>
                <a:ea typeface="方正舒体"/>
              </a:rPr>
              <a:t>ü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986200"/>
            <a:ext cx="53352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39006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39006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4205160"/>
            <a:ext cx="5335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200400" y="4205160"/>
            <a:ext cx="5335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181480" y="2986200"/>
            <a:ext cx="533520" cy="533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237636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237636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j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336708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q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336708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q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43578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435780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x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8000" y="3600360"/>
            <a:ext cx="34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2448000"/>
            <a:ext cx="34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8000" y="4681440"/>
            <a:ext cx="34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6720" y="1295280"/>
            <a:ext cx="3529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3080" y="909720"/>
            <a:ext cx="32400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400" spc="-1" strike="noStrike">
                <a:solidFill>
                  <a:srgbClr val="ff0000"/>
                </a:solidFill>
                <a:latin typeface="方正舒体"/>
                <a:ea typeface="方正舒体"/>
              </a:rPr>
              <a:t>er</a:t>
            </a:r>
            <a:endParaRPr b="0" lang="en-US" sz="2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5157720"/>
            <a:ext cx="55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</a:t>
            </a:r>
            <a:r>
              <a:rPr b="1" lang="en-US" sz="6000" spc="-1" strike="noStrike">
                <a:solidFill>
                  <a:srgbClr val="0000ff"/>
                </a:solidFill>
                <a:latin typeface="方正舒体"/>
                <a:ea typeface="方正舒体"/>
              </a:rPr>
              <a:t>ē</a:t>
            </a:r>
            <a:r>
              <a:rPr b="1" lang="zh-CN" sz="6000" spc="-1" strike="noStrike">
                <a:solidFill>
                  <a:srgbClr val="0000ff"/>
                </a:solidFill>
                <a:latin typeface="方正舒体"/>
                <a:ea typeface="方正舒体"/>
              </a:rPr>
              <a:t>r   </a:t>
            </a:r>
            <a:r>
              <a:rPr b="1" lang="en-US" sz="6000" spc="-1" strike="noStrike">
                <a:solidFill>
                  <a:srgbClr val="0000ff"/>
                </a:solidFill>
                <a:latin typeface="方正舒体"/>
                <a:ea typeface="方正舒体"/>
              </a:rPr>
              <a:t>é</a:t>
            </a:r>
            <a:r>
              <a:rPr b="1" lang="zh-CN" sz="6000" spc="-1" strike="noStrike">
                <a:solidFill>
                  <a:srgbClr val="0000ff"/>
                </a:solidFill>
                <a:latin typeface="方正舒体"/>
                <a:ea typeface="方正舒体"/>
              </a:rPr>
              <a:t>r   ěr    è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55640" y="2637000"/>
            <a:ext cx="230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0" spc="-1" strike="noStrike">
                <a:solidFill>
                  <a:srgbClr val="ff0000"/>
                </a:solidFill>
                <a:latin typeface="方正舒体"/>
                <a:ea typeface="方正舒体"/>
              </a:rPr>
              <a:t>er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549360"/>
            <a:ext cx="6264360" cy="3816360"/>
          </a:xfrm>
          <a:prstGeom prst="wedgeEllipseCallout">
            <a:avLst>
              <a:gd name="adj1" fmla="val -61708"/>
              <a:gd name="adj2" fmla="val 39643"/>
            </a:avLst>
          </a:prstGeom>
          <a:solidFill>
            <a:srgbClr val="bbe0e3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不是复韵母，我是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特殊韵母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谢谢复韵母兄弟和我做朋友，我不再孤单了！和朋友在一起我真快乐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方正舒体"/>
                <a:ea typeface="方正舒体"/>
              </a:rPr>
              <a:t>iē    ié   iě   i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5960" y="2057400"/>
            <a:ext cx="784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方正舒体"/>
                <a:ea typeface="方正舒体"/>
              </a:rPr>
              <a:t>üē  üé  üě  ü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040" y="3860640"/>
            <a:ext cx="747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方正舒体"/>
                <a:ea typeface="方正舒体"/>
              </a:rPr>
              <a:t>ēr   ér  ěr   è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31880" y="98280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52480" y="2193840"/>
            <a:ext cx="56390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华文楷体"/>
              </a:rPr>
              <a:t>比一比，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</a:t>
            </a:r>
            <a:r>
              <a:rPr b="1" lang="en-US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ei—ie</a:t>
            </a: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ei—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</a:t>
            </a:r>
            <a:r>
              <a:rPr b="1" lang="en-US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iu—ui</a:t>
            </a: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ie—ü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40464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楷体"/>
              </a:rPr>
              <a:t>复韵母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1557360"/>
            <a:ext cx="575964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66cc"/>
                </a:solidFill>
                <a:latin typeface="方正舒体"/>
                <a:ea typeface="方正舒体"/>
              </a:rPr>
              <a:t>ɑ</a:t>
            </a:r>
            <a:r>
              <a:rPr b="0" lang="zh-CN" sz="7000" spc="-1" strike="noStrike">
                <a:solidFill>
                  <a:srgbClr val="ff66cc"/>
                </a:solidFill>
                <a:latin typeface="方正舒体"/>
                <a:ea typeface="方正舒体"/>
              </a:rPr>
              <a:t>i    ei   ui 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66cc"/>
                </a:solidFill>
                <a:latin typeface="方正舒体"/>
                <a:ea typeface="方正舒体"/>
              </a:rPr>
              <a:t>ɑ</a:t>
            </a:r>
            <a:r>
              <a:rPr b="0" lang="zh-CN" sz="7000" spc="-1" strike="noStrike">
                <a:solidFill>
                  <a:srgbClr val="ff66cc"/>
                </a:solidFill>
                <a:latin typeface="方正舒体"/>
                <a:ea typeface="方正舒体"/>
              </a:rPr>
              <a:t>o   ou  iu   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ff66cc"/>
                </a:solidFill>
                <a:latin typeface="方正舒体"/>
                <a:ea typeface="方正舒体"/>
              </a:rPr>
              <a:t>ie    ue  er</a:t>
            </a:r>
            <a:r>
              <a:rPr b="0" lang="zh-CN" sz="7000" spc="-1" strike="noStrike">
                <a:solidFill>
                  <a:srgbClr val="000000"/>
                </a:solidFill>
                <a:latin typeface="方正舒体"/>
                <a:ea typeface="方正舒体"/>
              </a:rPr>
              <a:t>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    </a:t>
            </a:r>
            <a:r>
              <a:rPr b="0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yuè  er</a:t>
            </a:r>
            <a:r>
              <a:rPr b="0" lang="zh-CN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wān  w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ff"/>
                </a:solidFill>
                <a:latin typeface="华文楷体"/>
                <a:ea typeface="华文楷体"/>
              </a:rPr>
              <a:t>            </a:t>
            </a:r>
            <a:r>
              <a:rPr b="0" lang="zh-CN" sz="4400" spc="-1" strike="noStrike">
                <a:solidFill>
                  <a:srgbClr val="0099ff"/>
                </a:solidFill>
                <a:latin typeface="华文楷体"/>
                <a:ea typeface="华文楷体"/>
              </a:rPr>
              <a:t>月  儿   弯    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yuè  er  wān  wān  guà  lán  ti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zh-CN" sz="4400" spc="-1" strike="noStrike">
                <a:solidFill>
                  <a:srgbClr val="0099ff"/>
                </a:solidFill>
                <a:latin typeface="华文楷体"/>
                <a:ea typeface="华文楷体"/>
              </a:rPr>
              <a:t>月  儿  弯    弯    挂  蓝   天</a:t>
            </a:r>
            <a:r>
              <a:rPr b="0" lang="zh-CN" sz="4400" spc="-1" strike="noStrike">
                <a:solidFill>
                  <a:srgbClr val="0099ff"/>
                </a:solidFill>
                <a:latin typeface="华文楷体"/>
                <a:ea typeface="华文楷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xiǎo  xī  wān  wān  chū  qīng  sh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ff"/>
                </a:solidFill>
                <a:latin typeface="华文楷体"/>
                <a:ea typeface="华文楷体"/>
              </a:rPr>
              <a:t> </a:t>
            </a:r>
            <a:r>
              <a:rPr b="0" lang="zh-CN" sz="4400" spc="-1" strike="noStrike">
                <a:solidFill>
                  <a:srgbClr val="0099ff"/>
                </a:solidFill>
                <a:latin typeface="华文楷体"/>
                <a:ea typeface="华文楷体"/>
              </a:rPr>
              <a:t>小   溪  弯   弯    出   青   山</a:t>
            </a:r>
            <a:r>
              <a:rPr b="0" lang="zh-CN" sz="4400" spc="-1" strike="noStrike">
                <a:solidFill>
                  <a:srgbClr val="0099ff"/>
                </a:solidFill>
                <a:latin typeface="华文楷体"/>
                <a:ea typeface="华文楷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dà  hé  wān  wān  liú  rù  hǎ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ff"/>
                </a:solidFill>
                <a:latin typeface="华文楷体"/>
                <a:ea typeface="华文楷体"/>
              </a:rPr>
              <a:t> </a:t>
            </a:r>
            <a:r>
              <a:rPr b="0" lang="zh-CN" sz="4400" spc="-1" strike="noStrike">
                <a:solidFill>
                  <a:srgbClr val="0099ff"/>
                </a:solidFill>
                <a:latin typeface="华文楷体"/>
                <a:ea typeface="华文楷体"/>
              </a:rPr>
              <a:t>大 河   弯   弯   流 入 海</a:t>
            </a:r>
            <a:r>
              <a:rPr b="0" lang="zh-CN" sz="4400" spc="-1" strike="noStrike">
                <a:solidFill>
                  <a:srgbClr val="0099ff"/>
                </a:solidFill>
                <a:latin typeface="华文楷体"/>
                <a:ea typeface="华文楷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jiē  dào  wān  wān  dào  xiào  yu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ff"/>
                </a:solidFill>
                <a:latin typeface="华文楷体"/>
                <a:ea typeface="华文楷体"/>
              </a:rPr>
              <a:t> </a:t>
            </a:r>
            <a:r>
              <a:rPr b="0" lang="zh-CN" sz="4400" spc="-1" strike="noStrike">
                <a:solidFill>
                  <a:srgbClr val="0099ff"/>
                </a:solidFill>
                <a:latin typeface="华文楷体"/>
                <a:ea typeface="华文楷体"/>
              </a:rPr>
              <a:t>街  道   弯    弯    到   校    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24000" y="3745080"/>
            <a:ext cx="34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2592360"/>
            <a:ext cx="34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4797360"/>
            <a:ext cx="34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2720" y="1413000"/>
            <a:ext cx="3529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1052640"/>
            <a:ext cx="28101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400" spc="-1" strike="noStrike">
                <a:solidFill>
                  <a:srgbClr val="ff0000"/>
                </a:solidFill>
                <a:latin typeface="方正舒体"/>
                <a:ea typeface="方正舒体"/>
              </a:rPr>
              <a:t>ie</a:t>
            </a:r>
            <a:endParaRPr b="0" lang="en-US" sz="2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75560" y="5084640"/>
            <a:ext cx="563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方正舒体"/>
                <a:ea typeface="方正舒体"/>
              </a:rPr>
              <a:t>  </a:t>
            </a:r>
            <a:r>
              <a:rPr b="0" lang="en-US" sz="8000" spc="-1" strike="noStrike">
                <a:solidFill>
                  <a:srgbClr val="333399"/>
                </a:solidFill>
                <a:latin typeface="方正舒体"/>
                <a:ea typeface="方正舒体"/>
              </a:rPr>
              <a:t>iē  ié  iě  i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-181080"/>
            <a:ext cx="9144000" cy="703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413080" y="2997360"/>
            <a:ext cx="2305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方正舒体"/>
              </a:rPr>
              <a:t>ie</a:t>
            </a:r>
            <a:endParaRPr b="1" lang="en-US" sz="96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156360" y="4005360"/>
            <a:ext cx="2087640" cy="22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ln w="0">
                  <a:noFill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方正舒体"/>
              </a:rPr>
              <a:t>ei</a:t>
            </a:r>
            <a:endParaRPr b="0" lang="en-US" sz="9600" spc="-1" strike="noStrike">
              <a:ln w="0">
                <a:noFill/>
              </a:ln>
              <a:solidFill>
                <a:srgbClr val="0033cc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方正舒体"/>
              <a:ea typeface="方正舒体"/>
            </a:endParaRPr>
          </a:p>
        </p:txBody>
      </p:sp>
    </p:spTree>
  </p:cSld>
  <p:transition spd="slow"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100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100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1880" y="98280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86200" y="3367080"/>
            <a:ext cx="1066680" cy="10666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舒体"/>
                <a:ea typeface="方正舒体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743200"/>
            <a:ext cx="5335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8280" y="3548160"/>
            <a:ext cx="56916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274360" y="3633480"/>
            <a:ext cx="576360" cy="19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4495680"/>
            <a:ext cx="5335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00400" y="4495680"/>
            <a:ext cx="5335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181480" y="2819520"/>
            <a:ext cx="533520" cy="533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21337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220968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d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6216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13848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t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396252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473868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l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063240" y="4096800"/>
            <a:ext cx="579240" cy="19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76160" y="4162320"/>
            <a:ext cx="572760" cy="20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472428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397656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n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058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5397480" y="836640"/>
            <a:ext cx="403200" cy="29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方正舒体"/>
              </a:rPr>
              <a:t>i</a:t>
            </a:r>
            <a:endParaRPr b="1" lang="en-US" sz="96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56360" y="1557360"/>
            <a:ext cx="1584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楷体"/>
              </a:rPr>
              <a:t>e</a:t>
            </a:r>
            <a:endParaRPr b="1" lang="en-US" sz="96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464000" y="1557360"/>
            <a:ext cx="1800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方正舒体"/>
              </a:rPr>
              <a:t>y</a:t>
            </a:r>
            <a:endParaRPr b="0" lang="en-US" sz="96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12760" y="620640"/>
            <a:ext cx="2016000" cy="15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楷体"/>
              </a:rPr>
              <a:t>变一变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p:transition spd="slow"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-465120" y="-23760"/>
            <a:ext cx="9605880" cy="7040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692360" y="3933720"/>
            <a:ext cx="6670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方正舒体"/>
                <a:ea typeface="方正舒体"/>
              </a:rPr>
              <a:t>yē   yé   yě   y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97080" y="3672000"/>
            <a:ext cx="3454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7080" y="2519280"/>
            <a:ext cx="3454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97080" y="4753080"/>
            <a:ext cx="3454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7080" y="1295280"/>
            <a:ext cx="3527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616572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84360" y="981000"/>
            <a:ext cx="3240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400" spc="-1" strike="noStrike">
                <a:solidFill>
                  <a:srgbClr val="ff0000"/>
                </a:solidFill>
                <a:latin typeface="方正舒体"/>
                <a:ea typeface="方正舒体"/>
              </a:rPr>
              <a:t>üe</a:t>
            </a:r>
            <a:endParaRPr b="0" lang="en-US" sz="2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25800" y="5157720"/>
            <a:ext cx="6008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3399"/>
                </a:solidFill>
                <a:latin typeface="方正舒体"/>
                <a:ea typeface="方正舒体"/>
              </a:rPr>
              <a:t>üē  üé  üě  üè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58400" y="476280"/>
            <a:ext cx="2433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方正舒体"/>
                <a:ea typeface="方正舒体"/>
              </a:rPr>
              <a:t>ü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90120" y="3645000"/>
            <a:ext cx="3530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方正舒体"/>
                <a:ea typeface="方正舒体"/>
              </a:rPr>
              <a:t>y</a:t>
            </a:r>
            <a:r>
              <a:rPr b="1" lang="en-US" sz="15000" spc="-1" strike="noStrike">
                <a:solidFill>
                  <a:srgbClr val="ffffff"/>
                </a:solidFill>
                <a:latin typeface="方正舒体"/>
                <a:ea typeface="方正舒体"/>
              </a:rPr>
              <a:t>u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1400040" y="-311040"/>
            <a:ext cx="10544040" cy="7210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03480" y="177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24200" y="3860640"/>
            <a:ext cx="67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方正舒体"/>
                <a:ea typeface="方正舒体"/>
              </a:rPr>
              <a:t>y</a:t>
            </a:r>
            <a:r>
              <a:rPr b="1" lang="en-US" sz="6000" spc="-1" strike="noStrike">
                <a:solidFill>
                  <a:srgbClr val="ff0000"/>
                </a:solidFill>
                <a:latin typeface="方正舒体"/>
                <a:ea typeface="方正舒体"/>
              </a:rPr>
              <a:t>uē  </a:t>
            </a:r>
            <a:r>
              <a:rPr b="0" lang="en-US" sz="6000" spc="-1" strike="noStrike">
                <a:solidFill>
                  <a:srgbClr val="ff0000"/>
                </a:solidFill>
                <a:latin typeface="方正舒体"/>
                <a:ea typeface="方正舒体"/>
              </a:rPr>
              <a:t>y</a:t>
            </a:r>
            <a:r>
              <a:rPr b="1" lang="en-US" sz="6000" spc="-1" strike="noStrike">
                <a:solidFill>
                  <a:srgbClr val="ff0000"/>
                </a:solidFill>
                <a:latin typeface="方正舒体"/>
                <a:ea typeface="方正舒体"/>
              </a:rPr>
              <a:t>ué  </a:t>
            </a:r>
            <a:r>
              <a:rPr b="0" lang="en-US" sz="6000" spc="-1" strike="noStrike">
                <a:solidFill>
                  <a:srgbClr val="ff0000"/>
                </a:solidFill>
                <a:latin typeface="方正舒体"/>
                <a:ea typeface="方正舒体"/>
              </a:rPr>
              <a:t>y</a:t>
            </a:r>
            <a:r>
              <a:rPr b="1" lang="en-US" sz="6000" spc="-1" strike="noStrike">
                <a:solidFill>
                  <a:srgbClr val="ff0000"/>
                </a:solidFill>
                <a:latin typeface="方正舒体"/>
                <a:ea typeface="方正舒体"/>
              </a:rPr>
              <a:t>uě  </a:t>
            </a:r>
            <a:r>
              <a:rPr b="0" lang="en-US" sz="6000" spc="-1" strike="noStrike">
                <a:solidFill>
                  <a:srgbClr val="ff0000"/>
                </a:solidFill>
                <a:latin typeface="方正舒体"/>
                <a:ea typeface="方正舒体"/>
              </a:rPr>
              <a:t>y</a:t>
            </a:r>
            <a:r>
              <a:rPr b="1" lang="en-US" sz="6000" spc="-1" strike="noStrike">
                <a:solidFill>
                  <a:srgbClr val="ff0000"/>
                </a:solidFill>
                <a:latin typeface="方正舒体"/>
                <a:ea typeface="方正舒体"/>
              </a:rPr>
              <a:t>u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3" name="chimes.wav"/>
      </p:stSnd>
    </p:sndAc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3:06:57Z</dcterms:created>
  <dc:creator/>
  <dc:description/>
  <dc:language>en-US</dc:language>
  <cp:lastModifiedBy/>
  <dcterms:modified xsi:type="dcterms:W3CDTF">2014-08-15T01:53:04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5</vt:lpwstr>
  </property>
</Properties>
</file>