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2979-D3FA-451A-8D01-D5BD47985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BD8A-77CF-4783-99B5-854F049B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772781-43FA-4857-9E85-B94CE888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246CB-4342-4C31-B7AE-143985F5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1BD10-31EF-4116-B601-D1CE12D4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18EB5-BA27-4D95-830F-E63E2E9C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ED420-9ACF-4912-9474-B65E88AA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EF5AE-11FC-4912-9979-774BB38A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BDE5A-DB5B-4A20-A0C5-EA732399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CA29D-8C7E-40E3-8D1D-2DB234050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B8928-0E92-434C-9F35-D19C5F1E0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DB1B9D-166E-4761-B780-06166D335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6A12-6126-4510-BC14-DC49313F7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39D71-2744-4876-9691-D5925F1A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911976-9B28-48D1-858A-2C0B5E68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A7F4A-83A1-4B8B-83EB-CF24E061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F0FBB-5B08-4868-B7B2-C8CF621C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CC709A-9208-4686-8BF9-18F1AECE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2BF3A8-2984-4B4A-8997-F713EA3C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E06353-882B-4971-BD1E-35ECD39D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958786-E055-40BC-ACAD-5B21329F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302CC7-93E2-441E-9F68-AB1F5B79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3CD15C-A0AB-44BE-8EEC-5B05362F6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644A-1E49-471E-8613-DF66BEE8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73A6E-AA76-4AF9-8747-5092C3ED3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7F12A-F72B-4988-A151-CF7528B0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6090E-34FB-4A20-889F-194BF3E4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16D0D-38A8-4185-855C-02749E89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909EB-7201-4C26-9A66-61F68F3F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6B178-465C-42A3-84B7-63868AA0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AD9E07-82AD-46C8-9AEC-DB60D32D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AF42C-DBA8-4DD1-8509-ACF0DE35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E6B86-6649-4D1E-A559-A10749E7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E5784-7278-420C-ACCC-598C2876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3791-EAD5-464E-A703-9F0136643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8EB22-5E53-47E7-B205-C197E7A7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E094B-E022-462A-8717-3EDF516FB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62925-8A45-481C-9769-14E81354F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B31A3-0EE3-4BC1-B220-387F281C9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25F885-E523-450C-8C15-DF7237FB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EF2378-40A9-4928-BB81-6C0E94CF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3FEA15-7701-4F12-A765-6A3C5C17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999DF5-FB51-43A2-A34A-9BEAA79C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0F053E-FBD5-462C-BDA6-473D8DFD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F1FE38-2F96-4701-A846-409CEFB4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647C-A939-48A4-9EF6-38018E50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ABDE5C-B1D4-4B3B-8DA7-0D27701A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9E6E17-5FC7-49A3-BC0B-888EAE8E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A386FD-A1F3-43AD-9738-3388BF38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44DC87-A07E-41D7-8ECA-F92742586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4D007E-BCB5-4EAF-B96C-67333311E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54C333-8E82-4DC2-9B72-E80061AAD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F871A2-DBCE-4356-968E-B622F8B4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4903B0-3D82-469F-9F9B-F0113124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EAFB63-4C78-4744-8F82-F3E70D63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9692E4-AAF8-4CF9-8FAE-C8D34489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E0DB-F820-4156-A999-993654BE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22B294-9B62-4C64-86E7-9FA5B8F5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FE004A-2C99-4A73-9883-D2523B9A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8C7B13-004C-48E4-81F1-3E5D325F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FE5FE7-773A-46A8-94B2-7E2A434C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992E1D-C8F9-41F8-B3D4-09A93A40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3B519E-D4FE-4CDF-8304-2A63AD389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0999DC-9900-470D-AF56-901DDA5E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3169-ADEC-4B26-BEC5-07DB063A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6E1F-097E-4A5B-9796-C4F38B91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AE15-CD3E-4558-B928-C6FDE3C9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F577-9FA5-4251-8AE0-17C8D120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384D-9B7E-44E8-A0A2-38C287A2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8D76-1115-45EF-BF40-6FFC07AA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9BA6-C150-44F7-9999-0A7F1BA4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73C8-86C2-4D8D-8711-3801B03A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3FDE-0605-420B-AEC1-AC0A067E5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0032-05C2-4D34-A522-57268DF6D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3DA1E-84B8-42B3-8FD7-74C6CEBC0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712E3-49C4-4DD8-AD66-4DD33BFE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094F9-139D-449B-835D-D2F70C57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5D0C5-ACE5-4ADF-AB13-85B9DA78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7B1B9-5DF3-4762-90C1-CDAAB304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7606-14DD-43BC-808B-4B1BEA0F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36F63-6707-4F28-B569-1D9FDAB5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C4A69-1B8A-4BF9-ABBD-737314D1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8EC08-3C18-4D7C-9E4B-F3014A48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69B93-2E23-4BFC-B052-4EAB7AA1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94ADF-D692-4B7D-95E7-520A1605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3E244-5092-448C-A1EF-391EE579F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2FB47-8661-4784-B65A-AF3E1CF3F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C1F6D-9F0E-4315-9029-BAA2C8FEE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93F0A-A330-4B56-8674-18191ABD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2D92E-EC53-4CAF-87D2-F9B2D6F5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6E38-6466-461B-AA73-03826F23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24AB2-C240-4CB4-B61F-92CDC0E3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849FE-7756-431C-968B-5057E925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86F01-B1D1-485F-8615-08AD5DB3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E05D7-95F8-41D6-B290-A386A44B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2836E-EFA1-4CF7-92CD-6E158260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9ED80-8634-4F29-906D-A1D9598E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7E25A-55D4-4F13-8421-1EEE14AE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58BB8-6E8F-4C05-87CC-E44F12073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B26DD-39A7-4004-A864-7EE092691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76B84-FDF5-4C65-9AF8-C3AAF72A6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6833-FE08-4476-BEA1-38B6DBB0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346D7-7C81-492D-A2B9-AE79574C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BE3D2-1912-471E-8927-1E7EE56C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607A8-149C-4EB8-B852-75B2BFD6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E9B21-15A9-4D14-9ACD-1DF0FA60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90FFC-2A67-47EC-82DE-90918ED3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C2D21-1450-4C0F-B1AE-43898210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B310B-D36A-47BF-8DC0-319E662E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1D9C7-A581-4839-90EC-D207C25D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E6C5D-048F-4A0E-8C3E-31F26C81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046FE-4FFA-429C-8834-7779922D5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4FD1-12DD-4D42-8138-DD397488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499F1-971A-4C07-92EE-6C296D33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C53CF-AC19-46C6-858D-6A5CAD9E3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20B8D-101F-478C-A6C8-30B93C11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2F7CB-0D9B-4828-BFAC-A22EE337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B4B1E-2949-44CC-9A09-97B5C4F3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5239A-F334-497B-AD22-83004B9F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231A8-7A77-439C-8FB2-92EE92BA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29E74-E426-4552-A83A-DD7FAE06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6756F-B30E-47F6-A7F9-C34BC09C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06CAE-C688-467E-B39E-7910319F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70FE-DFE1-4041-9BAA-F50A17EF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0C4D6-21FE-45BE-B1F8-09748236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C60F4-907A-403A-98E7-8C406B3D7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0969B-EF35-4D02-96E2-C17CD7E4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E73F5-DBD6-41F3-B2F6-91A572F1D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64D8A-E77E-4392-BA07-9F793010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870EB-FE55-4B82-813F-0E64C4ED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FAC1E-2D90-44CD-8F14-A62C81B4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155EA-9FDE-43A0-BF9B-07B09817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96EEF-FE57-4851-A3D8-EEEDC5A3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56BAA-7D58-4AEB-862E-B80F7255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1E2B-DFD0-4D89-AA81-D5B920EE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C44B8-E776-435B-B31E-60FF8C5F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53173-2603-49A9-A366-BD592720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D749C-2EFB-4B17-9732-7C518EC1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9E8C1-2A2A-4C52-B3C5-38DC77546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507EC-D0BB-4978-B30A-F6466A375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C9C95-467C-4094-87A1-2D8AEA702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760DA-3C79-4567-B4D9-C29509EE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E62E5-51FD-4039-BB16-2AE9222A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778D3-8CF9-4851-81E9-9C2A3D03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2085E-D449-4214-953D-5D0BD060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0B05-DDE3-4729-BCFE-01292F98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1965D-1563-444B-A100-D008D9FE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6AD2A-8FB6-4E5C-B9E6-DFE49F2A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02E4B-B1E8-4E5D-AFE9-DF4933FF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67606-41B8-4210-8950-3AAAC410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7F4BF-0CFE-4ABA-8693-187012CE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011AE-BC96-48DC-BAD6-D5570865F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338A2-EE25-4372-B512-BCAF558A4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00ADCE-DF29-431A-B1F7-F5D7A37CB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75C19-ACCD-4048-B2D6-4B42AA87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BE490-091A-475A-B766-F25D8884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EE70-2B2A-486D-8339-62790839F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97FD-961C-4A3B-A3DB-29F424CD1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5DF5-87EC-4FC0-818D-8F1CC1B1A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E17C-B775-4A39-9E9B-C26C4E5BC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7AD4-B26A-49F5-B170-A145A2CF4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4FF9-485E-4F79-8FF7-E7927ABF9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3C0E-699F-4198-8B85-2E877280B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BC60-2DC4-4980-AF31-1CE27F9AC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ECAC-CAD3-4267-A984-D4FE12526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2B09-82BA-4C68-A369-3E47934DD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85E1-9C71-4728-B391-909392DAC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5528-14FB-495F-8D87-0EE7C4FAE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2792-60AA-4990-A681-998066358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6"/>
          <p:cNvSpPr/>
          <p:nvPr/>
        </p:nvSpPr>
        <p:spPr>
          <a:xfrm>
            <a:off x="5334120" y="10666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长大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8"/>
          <p:cNvSpPr/>
          <p:nvPr/>
        </p:nvSpPr>
        <p:spPr>
          <a:xfrm>
            <a:off x="4267080" y="38088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h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9" descr="未命名4">
            <a:hlinkClick r:id="rId1"/>
          </p:cNvPr>
          <p:cNvPicPr/>
          <p:nvPr/>
        </p:nvPicPr>
        <p:blipFill>
          <a:blip r:embed="rId2"/>
          <a:srcRect l="28339" t="0" r="13599" b="48668"/>
          <a:stretch/>
        </p:blipFill>
        <p:spPr>
          <a:xfrm>
            <a:off x="380880" y="2514600"/>
            <a:ext cx="3097440" cy="2933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/>
            </a:outerShdw>
          </a:effectLst>
        </p:spPr>
      </p:pic>
      <p:sp>
        <p:nvSpPr>
          <p:cNvPr id="536" name="Text Box 11"/>
          <p:cNvSpPr/>
          <p:nvPr/>
        </p:nvSpPr>
        <p:spPr>
          <a:xfrm>
            <a:off x="3505320" y="106668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玛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6"/>
          <p:cNvSpPr/>
          <p:nvPr/>
        </p:nvSpPr>
        <p:spPr>
          <a:xfrm>
            <a:off x="2240640" y="1712880"/>
            <a:ext cx="4978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一次，马莎发现地脏了，就学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妈妈的样子                  了。妈妈高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说：“马莎，你好像是个大孩子啦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7"/>
          <p:cNvSpPr/>
          <p:nvPr/>
        </p:nvSpPr>
        <p:spPr>
          <a:xfrm>
            <a:off x="3289320" y="2703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地扫干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2" dur="20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5"/>
          <p:cNvSpPr/>
          <p:nvPr/>
        </p:nvSpPr>
        <p:spPr>
          <a:xfrm>
            <a:off x="2136960" y="1828800"/>
            <a:ext cx="5322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爸爸下班回家，马莎给他              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爸爸摸着她的头说：“小马莎，你真懂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个大孩子啦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6"/>
          <p:cNvSpPr/>
          <p:nvPr/>
        </p:nvSpPr>
        <p:spPr>
          <a:xfrm>
            <a:off x="5869080" y="19810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倒了一杯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20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 Box 5"/>
          <p:cNvSpPr/>
          <p:nvPr/>
        </p:nvSpPr>
        <p:spPr>
          <a:xfrm>
            <a:off x="1630440" y="1676520"/>
            <a:ext cx="5936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马莎还是        自己的              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但是，全家人都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马莎长大了。她也觉得自己长大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"/>
          <p:cNvSpPr/>
          <p:nvPr/>
        </p:nvSpPr>
        <p:spPr>
          <a:xfrm>
            <a:off x="4183560" y="1676520"/>
            <a:ext cx="285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穿着           小红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7"/>
          <p:cNvSpPr/>
          <p:nvPr/>
        </p:nvSpPr>
        <p:spPr>
          <a:xfrm>
            <a:off x="1235880" y="250668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梳着娃娃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8" dur="20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 Box 6"/>
          <p:cNvSpPr/>
          <p:nvPr/>
        </p:nvSpPr>
        <p:spPr>
          <a:xfrm>
            <a:off x="2018520" y="1143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8"/>
          <p:cNvSpPr/>
          <p:nvPr/>
        </p:nvSpPr>
        <p:spPr>
          <a:xfrm>
            <a:off x="3847320" y="1143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9"/>
          <p:cNvSpPr/>
          <p:nvPr/>
        </p:nvSpPr>
        <p:spPr>
          <a:xfrm>
            <a:off x="6133320" y="12193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11"/>
          <p:cNvSpPr/>
          <p:nvPr/>
        </p:nvSpPr>
        <p:spPr>
          <a:xfrm>
            <a:off x="3085200" y="36576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2"/>
          <p:cNvSpPr/>
          <p:nvPr/>
        </p:nvSpPr>
        <p:spPr>
          <a:xfrm>
            <a:off x="1256400" y="36576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3"/>
          <p:cNvSpPr/>
          <p:nvPr/>
        </p:nvSpPr>
        <p:spPr>
          <a:xfrm>
            <a:off x="7006680" y="36576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衣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14"/>
          <p:cNvSpPr/>
          <p:nvPr/>
        </p:nvSpPr>
        <p:spPr>
          <a:xfrm>
            <a:off x="4914000" y="37339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15"/>
          <p:cNvSpPr/>
          <p:nvPr/>
        </p:nvSpPr>
        <p:spPr>
          <a:xfrm>
            <a:off x="4191120" y="1905120"/>
            <a:ext cx="106668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16"/>
          <p:cNvSpPr/>
          <p:nvPr/>
        </p:nvSpPr>
        <p:spPr>
          <a:xfrm>
            <a:off x="2514600" y="1752480"/>
            <a:ext cx="480060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17"/>
          <p:cNvSpPr/>
          <p:nvPr/>
        </p:nvSpPr>
        <p:spPr>
          <a:xfrm flipH="1">
            <a:off x="3504960" y="1981080"/>
            <a:ext cx="281916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18"/>
          <p:cNvSpPr/>
          <p:nvPr/>
        </p:nvSpPr>
        <p:spPr>
          <a:xfrm flipH="1">
            <a:off x="1599840" y="1676520"/>
            <a:ext cx="60948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6"/>
          <p:cNvSpPr/>
          <p:nvPr/>
        </p:nvSpPr>
        <p:spPr>
          <a:xfrm>
            <a:off x="385920" y="254304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只要学会扫地、倒水就长大了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想一想，小马莎还会做什么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WordArt 8"/>
          <p:cNvSpPr txBox="1"/>
          <p:nvPr/>
        </p:nvSpPr>
        <p:spPr>
          <a:xfrm>
            <a:off x="685800" y="295200"/>
            <a:ext cx="4915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？想一想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57" name="Text Box 10"/>
          <p:cNvSpPr/>
          <p:nvPr/>
        </p:nvSpPr>
        <p:spPr>
          <a:xfrm>
            <a:off x="415800" y="45720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长大”是什么意思？怎样才叫长大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5"/>
          <p:cNvSpPr/>
          <p:nvPr/>
        </p:nvSpPr>
        <p:spPr>
          <a:xfrm>
            <a:off x="1446840" y="38592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自读课文，要求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1066680" y="193356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认识的字用自己喜欢的符号标出来，用自己想的办法读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1066680" y="4191120"/>
            <a:ext cx="71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认真观察，课文一共有几个自然段，在每个自然段前加上序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7"/>
          <p:cNvSpPr/>
          <p:nvPr/>
        </p:nvSpPr>
        <p:spPr>
          <a:xfrm>
            <a:off x="2666880" y="304920"/>
            <a:ext cx="40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拼音我会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9"/>
          <p:cNvSpPr/>
          <p:nvPr/>
        </p:nvSpPr>
        <p:spPr>
          <a:xfrm>
            <a:off x="2770920" y="5715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0"/>
          <p:cNvSpPr/>
          <p:nvPr/>
        </p:nvSpPr>
        <p:spPr>
          <a:xfrm>
            <a:off x="380880" y="13716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1"/>
          <p:cNvSpPr/>
          <p:nvPr/>
        </p:nvSpPr>
        <p:spPr>
          <a:xfrm>
            <a:off x="561240" y="5715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2"/>
          <p:cNvSpPr/>
          <p:nvPr/>
        </p:nvSpPr>
        <p:spPr>
          <a:xfrm>
            <a:off x="7543800" y="13716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3"/>
          <p:cNvSpPr/>
          <p:nvPr/>
        </p:nvSpPr>
        <p:spPr>
          <a:xfrm>
            <a:off x="5334120" y="144792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4"/>
          <p:cNvSpPr/>
          <p:nvPr/>
        </p:nvSpPr>
        <p:spPr>
          <a:xfrm>
            <a:off x="2971800" y="144792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5"/>
          <p:cNvSpPr/>
          <p:nvPr/>
        </p:nvSpPr>
        <p:spPr>
          <a:xfrm>
            <a:off x="5031000" y="3886200"/>
            <a:ext cx="122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à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6"/>
          <p:cNvSpPr/>
          <p:nvPr/>
        </p:nvSpPr>
        <p:spPr>
          <a:xfrm>
            <a:off x="2743200" y="38862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à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7"/>
          <p:cNvSpPr/>
          <p:nvPr/>
        </p:nvSpPr>
        <p:spPr>
          <a:xfrm>
            <a:off x="293400" y="3962520"/>
            <a:ext cx="133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ā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8"/>
          <p:cNvSpPr/>
          <p:nvPr/>
        </p:nvSpPr>
        <p:spPr>
          <a:xfrm>
            <a:off x="7323840" y="2743200"/>
            <a:ext cx="141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ǒ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9"/>
          <p:cNvSpPr/>
          <p:nvPr/>
        </p:nvSpPr>
        <p:spPr>
          <a:xfrm>
            <a:off x="5107320" y="2819520"/>
            <a:ext cx="9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h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20"/>
          <p:cNvSpPr/>
          <p:nvPr/>
        </p:nvSpPr>
        <p:spPr>
          <a:xfrm>
            <a:off x="2666880" y="281952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ì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21"/>
          <p:cNvSpPr/>
          <p:nvPr/>
        </p:nvSpPr>
        <p:spPr>
          <a:xfrm>
            <a:off x="152280" y="28954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ià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23"/>
          <p:cNvSpPr/>
          <p:nvPr/>
        </p:nvSpPr>
        <p:spPr>
          <a:xfrm>
            <a:off x="5715000" y="571644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24"/>
          <p:cNvSpPr/>
          <p:nvPr/>
        </p:nvSpPr>
        <p:spPr>
          <a:xfrm flipV="1">
            <a:off x="1219320" y="4495320"/>
            <a:ext cx="42670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25"/>
          <p:cNvSpPr/>
          <p:nvPr/>
        </p:nvSpPr>
        <p:spPr>
          <a:xfrm>
            <a:off x="4343400" y="4724280"/>
            <a:ext cx="1676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26"/>
          <p:cNvSpPr/>
          <p:nvPr/>
        </p:nvSpPr>
        <p:spPr>
          <a:xfrm>
            <a:off x="1143000" y="4572000"/>
            <a:ext cx="21337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27"/>
          <p:cNvSpPr/>
          <p:nvPr/>
        </p:nvSpPr>
        <p:spPr>
          <a:xfrm flipV="1">
            <a:off x="990720" y="2057040"/>
            <a:ext cx="46479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28"/>
          <p:cNvSpPr/>
          <p:nvPr/>
        </p:nvSpPr>
        <p:spPr>
          <a:xfrm>
            <a:off x="1371600" y="1905120"/>
            <a:ext cx="647712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29"/>
          <p:cNvSpPr/>
          <p:nvPr/>
        </p:nvSpPr>
        <p:spPr>
          <a:xfrm>
            <a:off x="3581280" y="2057400"/>
            <a:ext cx="19051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30"/>
          <p:cNvSpPr/>
          <p:nvPr/>
        </p:nvSpPr>
        <p:spPr>
          <a:xfrm flipV="1">
            <a:off x="3505320" y="1981080"/>
            <a:ext cx="441936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WordArt 31"/>
          <p:cNvSpPr txBox="1"/>
          <p:nvPr/>
        </p:nvSpPr>
        <p:spPr>
          <a:xfrm>
            <a:off x="198360" y="304920"/>
            <a:ext cx="1905120" cy="61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第一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WordArt 5"/>
          <p:cNvSpPr txBox="1"/>
          <p:nvPr/>
        </p:nvSpPr>
        <p:spPr>
          <a:xfrm>
            <a:off x="523800" y="396720"/>
            <a:ext cx="2371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第三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564" name="Text Box 6"/>
          <p:cNvSpPr/>
          <p:nvPr/>
        </p:nvSpPr>
        <p:spPr>
          <a:xfrm>
            <a:off x="3621240" y="542880"/>
            <a:ext cx="441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多音字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1665000" y="23464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9"/>
          <p:cNvSpPr/>
          <p:nvPr/>
        </p:nvSpPr>
        <p:spPr>
          <a:xfrm>
            <a:off x="2378160" y="211788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0"/>
          <p:cNvSpPr/>
          <p:nvPr/>
        </p:nvSpPr>
        <p:spPr>
          <a:xfrm>
            <a:off x="2504160" y="18558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1"/>
          <p:cNvSpPr/>
          <p:nvPr/>
        </p:nvSpPr>
        <p:spPr>
          <a:xfrm>
            <a:off x="2531880" y="2879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2"/>
          <p:cNvSpPr/>
          <p:nvPr/>
        </p:nvSpPr>
        <p:spPr>
          <a:xfrm>
            <a:off x="3624120" y="1828800"/>
            <a:ext cx="22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发书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3"/>
          <p:cNvSpPr/>
          <p:nvPr/>
        </p:nvSpPr>
        <p:spPr>
          <a:xfrm>
            <a:off x="3639960" y="2955960"/>
            <a:ext cx="22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头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理发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4"/>
          <p:cNvSpPr/>
          <p:nvPr/>
        </p:nvSpPr>
        <p:spPr>
          <a:xfrm>
            <a:off x="1588680" y="45561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15"/>
          <p:cNvSpPr/>
          <p:nvPr/>
        </p:nvSpPr>
        <p:spPr>
          <a:xfrm>
            <a:off x="2301840" y="455616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6"/>
          <p:cNvSpPr/>
          <p:nvPr/>
        </p:nvSpPr>
        <p:spPr>
          <a:xfrm>
            <a:off x="2684520" y="4098960"/>
            <a:ext cx="9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u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7"/>
          <p:cNvSpPr/>
          <p:nvPr/>
        </p:nvSpPr>
        <p:spPr>
          <a:xfrm>
            <a:off x="2684520" y="5318280"/>
            <a:ext cx="105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à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8"/>
          <p:cNvSpPr/>
          <p:nvPr/>
        </p:nvSpPr>
        <p:spPr>
          <a:xfrm>
            <a:off x="4020840" y="4251240"/>
            <a:ext cx="22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觉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发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9"/>
          <p:cNvSpPr/>
          <p:nvPr/>
        </p:nvSpPr>
        <p:spPr>
          <a:xfrm>
            <a:off x="3893400" y="5394240"/>
            <a:ext cx="113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睡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WordArt 5"/>
          <p:cNvSpPr txBox="1"/>
          <p:nvPr/>
        </p:nvSpPr>
        <p:spPr>
          <a:xfrm>
            <a:off x="210960" y="254160"/>
            <a:ext cx="19051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第二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578" name="Text Box 6"/>
          <p:cNvSpPr/>
          <p:nvPr/>
        </p:nvSpPr>
        <p:spPr>
          <a:xfrm>
            <a:off x="3278160" y="9097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拼音我会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7"/>
          <p:cNvSpPr/>
          <p:nvPr/>
        </p:nvSpPr>
        <p:spPr>
          <a:xfrm>
            <a:off x="192240" y="2362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妈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8"/>
          <p:cNvSpPr/>
          <p:nvPr/>
        </p:nvSpPr>
        <p:spPr>
          <a:xfrm>
            <a:off x="3392640" y="36846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扫 干 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9"/>
          <p:cNvSpPr/>
          <p:nvPr/>
        </p:nvSpPr>
        <p:spPr>
          <a:xfrm>
            <a:off x="1792440" y="37339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脏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0"/>
          <p:cNvSpPr/>
          <p:nvPr/>
        </p:nvSpPr>
        <p:spPr>
          <a:xfrm>
            <a:off x="2021040" y="23893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怎 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2"/>
          <p:cNvSpPr/>
          <p:nvPr/>
        </p:nvSpPr>
        <p:spPr>
          <a:xfrm>
            <a:off x="-36360" y="3657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3"/>
          <p:cNvSpPr/>
          <p:nvPr/>
        </p:nvSpPr>
        <p:spPr>
          <a:xfrm>
            <a:off x="7278840" y="2362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真  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4"/>
          <p:cNvSpPr/>
          <p:nvPr/>
        </p:nvSpPr>
        <p:spPr>
          <a:xfrm>
            <a:off x="5678640" y="23623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头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5"/>
          <p:cNvSpPr/>
          <p:nvPr/>
        </p:nvSpPr>
        <p:spPr>
          <a:xfrm>
            <a:off x="4078440" y="23623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穿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6"/>
          <p:cNvSpPr/>
          <p:nvPr/>
        </p:nvSpPr>
        <p:spPr>
          <a:xfrm>
            <a:off x="2097000" y="48769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7"/>
          <p:cNvSpPr/>
          <p:nvPr/>
        </p:nvSpPr>
        <p:spPr>
          <a:xfrm>
            <a:off x="192240" y="4876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懂  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8"/>
          <p:cNvSpPr/>
          <p:nvPr/>
        </p:nvSpPr>
        <p:spPr>
          <a:xfrm>
            <a:off x="7701120" y="3733920"/>
            <a:ext cx="155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倒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9"/>
          <p:cNvSpPr/>
          <p:nvPr/>
        </p:nvSpPr>
        <p:spPr>
          <a:xfrm>
            <a:off x="5830920" y="37339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22"/>
          <p:cNvSpPr/>
          <p:nvPr/>
        </p:nvSpPr>
        <p:spPr>
          <a:xfrm>
            <a:off x="7280640" y="48769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23"/>
          <p:cNvSpPr/>
          <p:nvPr/>
        </p:nvSpPr>
        <p:spPr>
          <a:xfrm>
            <a:off x="5221440" y="48769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4"/>
          <p:cNvSpPr/>
          <p:nvPr/>
        </p:nvSpPr>
        <p:spPr>
          <a:xfrm>
            <a:off x="3773520" y="48769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娃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27"/>
          <p:cNvSpPr/>
          <p:nvPr/>
        </p:nvSpPr>
        <p:spPr>
          <a:xfrm>
            <a:off x="-44280" y="1828800"/>
            <a:ext cx="14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ā 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28"/>
          <p:cNvSpPr/>
          <p:nvPr/>
        </p:nvSpPr>
        <p:spPr>
          <a:xfrm>
            <a:off x="1782000" y="1878120"/>
            <a:ext cx="19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zěn y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29"/>
          <p:cNvSpPr/>
          <p:nvPr/>
        </p:nvSpPr>
        <p:spPr>
          <a:xfrm>
            <a:off x="7039800" y="1828800"/>
            <a:ext cx="18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zhēn sh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30"/>
          <p:cNvSpPr/>
          <p:nvPr/>
        </p:nvSpPr>
        <p:spPr>
          <a:xfrm>
            <a:off x="6213240" y="182880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31"/>
          <p:cNvSpPr/>
          <p:nvPr/>
        </p:nvSpPr>
        <p:spPr>
          <a:xfrm>
            <a:off x="3840120" y="1828800"/>
            <a:ext cx="137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hu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32"/>
          <p:cNvSpPr/>
          <p:nvPr/>
        </p:nvSpPr>
        <p:spPr>
          <a:xfrm>
            <a:off x="7431480" y="3230640"/>
            <a:ext cx="17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ào ch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33"/>
          <p:cNvSpPr/>
          <p:nvPr/>
        </p:nvSpPr>
        <p:spPr>
          <a:xfrm>
            <a:off x="5602320" y="32004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āo xì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34"/>
          <p:cNvSpPr/>
          <p:nvPr/>
        </p:nvSpPr>
        <p:spPr>
          <a:xfrm>
            <a:off x="3066480" y="3200400"/>
            <a:ext cx="255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ǎo gān jì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35"/>
          <p:cNvSpPr/>
          <p:nvPr/>
        </p:nvSpPr>
        <p:spPr>
          <a:xfrm>
            <a:off x="1782360" y="327672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zā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36"/>
          <p:cNvSpPr/>
          <p:nvPr/>
        </p:nvSpPr>
        <p:spPr>
          <a:xfrm>
            <a:off x="-46080" y="3200400"/>
            <a:ext cx="14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ā xi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37"/>
          <p:cNvSpPr/>
          <p:nvPr/>
        </p:nvSpPr>
        <p:spPr>
          <a:xfrm>
            <a:off x="7278840" y="44146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38"/>
          <p:cNvSpPr/>
          <p:nvPr/>
        </p:nvSpPr>
        <p:spPr>
          <a:xfrm>
            <a:off x="5221800" y="4343400"/>
            <a:ext cx="13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jué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39"/>
          <p:cNvSpPr/>
          <p:nvPr/>
        </p:nvSpPr>
        <p:spPr>
          <a:xfrm>
            <a:off x="3621600" y="4419720"/>
            <a:ext cx="13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á 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40"/>
          <p:cNvSpPr/>
          <p:nvPr/>
        </p:nvSpPr>
        <p:spPr>
          <a:xfrm>
            <a:off x="2097000" y="43434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41"/>
          <p:cNvSpPr/>
          <p:nvPr/>
        </p:nvSpPr>
        <p:spPr>
          <a:xfrm>
            <a:off x="-57960" y="4343400"/>
            <a:ext cx="18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ǒng sh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7" dur="20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2" dur="20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1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9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9" descr="5"/>
          <p:cNvPicPr/>
          <p:nvPr/>
        </p:nvPicPr>
        <p:blipFill>
          <a:blip r:embed="rId1"/>
          <a:stretch/>
        </p:blipFill>
        <p:spPr>
          <a:xfrm>
            <a:off x="0" y="0"/>
            <a:ext cx="4038480" cy="32004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10" descr="未命名2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12408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11" descr="未命名3"/>
          <p:cNvPicPr/>
          <p:nvPr/>
        </p:nvPicPr>
        <p:blipFill>
          <a:blip r:embed="rId3"/>
          <a:stretch/>
        </p:blipFill>
        <p:spPr>
          <a:xfrm>
            <a:off x="0" y="3429000"/>
            <a:ext cx="4038480" cy="34290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12" descr="未命名4"/>
          <p:cNvPicPr/>
          <p:nvPr/>
        </p:nvPicPr>
        <p:blipFill>
          <a:blip r:embed="rId4"/>
          <a:stretch/>
        </p:blipFill>
        <p:spPr>
          <a:xfrm>
            <a:off x="4572000" y="3276720"/>
            <a:ext cx="4572000" cy="358128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13"/>
          <p:cNvSpPr/>
          <p:nvPr/>
        </p:nvSpPr>
        <p:spPr>
          <a:xfrm>
            <a:off x="2590920" y="31240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哪一幅图说到马莎长大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4"/>
          <p:cNvSpPr/>
          <p:nvPr/>
        </p:nvSpPr>
        <p:spPr>
          <a:xfrm>
            <a:off x="1482120" y="2590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学打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5"/>
          <p:cNvSpPr/>
          <p:nvPr/>
        </p:nvSpPr>
        <p:spPr>
          <a:xfrm>
            <a:off x="6206760" y="2209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学扫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7"/>
          <p:cNvSpPr/>
          <p:nvPr/>
        </p:nvSpPr>
        <p:spPr>
          <a:xfrm>
            <a:off x="3137040" y="4867560"/>
            <a:ext cx="5461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倒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8"/>
          <p:cNvSpPr/>
          <p:nvPr/>
        </p:nvSpPr>
        <p:spPr>
          <a:xfrm>
            <a:off x="8461440" y="447552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打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6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5"/>
          <p:cNvSpPr/>
          <p:nvPr/>
        </p:nvSpPr>
        <p:spPr>
          <a:xfrm>
            <a:off x="3026880" y="4604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马莎真想快快长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6"/>
          <p:cNvSpPr/>
          <p:nvPr/>
        </p:nvSpPr>
        <p:spPr>
          <a:xfrm>
            <a:off x="455760" y="25351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7"/>
          <p:cNvSpPr/>
          <p:nvPr/>
        </p:nvSpPr>
        <p:spPr>
          <a:xfrm>
            <a:off x="2107080" y="1881360"/>
            <a:ext cx="5348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怎样才能长大呢？马莎想了好多办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她        妈妈的           ，又学姑姑的样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8"/>
          <p:cNvSpPr/>
          <p:nvPr/>
        </p:nvSpPr>
        <p:spPr>
          <a:xfrm>
            <a:off x="1861560" y="2362320"/>
            <a:ext cx="25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穿上           高跟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9"/>
          <p:cNvSpPr/>
          <p:nvPr/>
        </p:nvSpPr>
        <p:spPr>
          <a:xfrm>
            <a:off x="1784520" y="28670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头发卷成卷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2080080" y="4373640"/>
            <a:ext cx="460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人们看了，都笑起来，说：“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个小孩子     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1"/>
          <p:cNvSpPr/>
          <p:nvPr/>
        </p:nvSpPr>
        <p:spPr>
          <a:xfrm>
            <a:off x="3130920" y="4867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2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0" dur="20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5"/>
          <p:cNvSpPr/>
          <p:nvPr/>
        </p:nvSpPr>
        <p:spPr>
          <a:xfrm>
            <a:off x="1431720" y="380880"/>
            <a:ext cx="187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声读课文，想一想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6"/>
          <p:cNvSpPr/>
          <p:nvPr/>
        </p:nvSpPr>
        <p:spPr>
          <a:xfrm>
            <a:off x="762120" y="225576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玛莎为什么想长大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7"/>
          <p:cNvSpPr/>
          <p:nvPr/>
        </p:nvSpPr>
        <p:spPr>
          <a:xfrm>
            <a:off x="762120" y="4038480"/>
            <a:ext cx="792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为什么大家夸他长大了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WordArt 7"/>
          <p:cNvSpPr txBox="1"/>
          <p:nvPr/>
        </p:nvSpPr>
        <p:spPr>
          <a:xfrm>
            <a:off x="282600" y="298440"/>
            <a:ext cx="277164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比一比</a:t>
            </a:r>
            <a:endParaRPr b="1" lang="en-US" sz="7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29" name="Text Box 8"/>
          <p:cNvSpPr/>
          <p:nvPr/>
        </p:nvSpPr>
        <p:spPr>
          <a:xfrm>
            <a:off x="289080" y="1805040"/>
            <a:ext cx="913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妈妈高兴地说：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马莎你            个大孩子了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9"/>
          <p:cNvSpPr/>
          <p:nvPr/>
        </p:nvSpPr>
        <p:spPr>
          <a:xfrm>
            <a:off x="1668240" y="3048120"/>
            <a:ext cx="552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爸爸摸着她的头说：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小马莎，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是个大孩子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0"/>
          <p:cNvSpPr/>
          <p:nvPr/>
        </p:nvSpPr>
        <p:spPr>
          <a:xfrm>
            <a:off x="4854600" y="1809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好像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1"/>
          <p:cNvSpPr/>
          <p:nvPr/>
        </p:nvSpPr>
        <p:spPr>
          <a:xfrm>
            <a:off x="5943600" y="30574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你真懂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2"/>
          <p:cNvSpPr/>
          <p:nvPr/>
        </p:nvSpPr>
        <p:spPr>
          <a:xfrm>
            <a:off x="304920" y="43639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全家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都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马莎长大了。她也觉得自己长大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13" descr="large_PWKi_4753c132089"/>
          <p:cNvPicPr/>
          <p:nvPr/>
        </p:nvPicPr>
        <p:blipFill>
          <a:blip r:embed="rId3"/>
          <a:stretch/>
        </p:blipFill>
        <p:spPr>
          <a:xfrm>
            <a:off x="7467480" y="5359320"/>
            <a:ext cx="1117800" cy="111780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14" descr="large_5ZnU_4682o132089"/>
          <p:cNvPicPr/>
          <p:nvPr/>
        </p:nvPicPr>
        <p:blipFill>
          <a:blip r:embed="rId4"/>
          <a:stretch/>
        </p:blipFill>
        <p:spPr>
          <a:xfrm>
            <a:off x="3733920" y="507996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16" descr="large_6kmH_4725d132089"/>
          <p:cNvPicPr/>
          <p:nvPr/>
        </p:nvPicPr>
        <p:blipFill>
          <a:blip r:embed="rId5"/>
          <a:stretch/>
        </p:blipFill>
        <p:spPr>
          <a:xfrm>
            <a:off x="5715000" y="5283360"/>
            <a:ext cx="111744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2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3:12:06Z</dcterms:created>
  <dc:creator/>
  <dc:description/>
  <dc:language>en-US</dc:language>
  <cp:lastModifiedBy>gmwang</cp:lastModifiedBy>
  <dcterms:modified xsi:type="dcterms:W3CDTF">2016-10-08T06:19:40Z</dcterms:modified>
  <cp:revision>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