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chimes.wav" ContentType="audio/x-wav"/>
  <Override PartName="/ppt/media/ZFJ1.WAV" ContentType="audio/x-wav"/>
  <Override PartName="/ppt/media/image8.png" ContentType="image/png"/>
  <Override PartName="/ppt/media/image5.gif" ContentType="image/gif"/>
  <Override PartName="/ppt/media/camera.wav" ContentType="audio/x-wav"/>
  <Override PartName="/ppt/media/image17.gif" ContentType="image/gif"/>
  <Override PartName="/ppt/media/SEA.WAV" ContentType="audio/x-wav"/>
  <Override PartName="/ppt/media/image6.png" ContentType="image/png"/>
  <Override PartName="/ppt/media/image4.png" ContentType="image/png"/>
  <Override PartName="/ppt/media/image7.png" ContentType="image/png"/>
  <Override PartName="/ppt/media/image3.png" ContentType="image/png"/>
  <Override PartName="/ppt/media/type.wav" ContentType="audio/x-wav"/>
  <Override PartName="/ppt/media/image18.png" ContentType="image/png"/>
  <Override PartName="/ppt/media/projctor.wav" ContentType="audio/x-wav"/>
  <Override PartName="/ppt/media/image14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15.png" ContentType="image/png"/>
  <Override PartName="/ppt/media/image12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0A1-7079-46CF-953A-E4073B3F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9AA-C24F-4F84-A51E-84FDFE88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CF2B9-6DA9-4456-A914-FC76FC46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20B83-F0D6-4ECE-89AE-79A21854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E472C-BF5D-43D4-AC3B-72A55D84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EFBE7-D628-4986-8700-36E10184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3DEB2-E44C-4D41-814A-7565FDFE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FB632-DCD6-4D31-AC8C-6369832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D1ED2-141E-4227-8194-DD8972CC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E21D5-0286-4B2C-87CB-2CBC5775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97ADA-D31F-4E6C-8335-D6064CAC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20B76-4764-4531-B39C-CF69A845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C46-965B-4093-9ED3-9DF7B6A1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9CF2F-8214-404D-B6CB-2EECDD59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70E3-81AC-4EB5-BC42-6D43A66B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10D78-D0AC-4A7C-A675-570073F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61434-23CE-4C4F-AC33-CD334EAD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FF615-F91A-4485-9511-A7F3644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281A0-2083-480F-BFFD-FF961CC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0E692-0ECD-4292-96DE-BEE1EDD1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0A1A-B943-4B2C-8E32-39AE7AA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1E46C-8B0A-42C7-8DD5-3F9B98F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A1C74-2E78-4C1B-876A-66B9656F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369-F742-4214-BBF7-04DC18A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2125C-257A-4C84-AEA9-35E6A6C4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85BF6-E79C-4E7A-A01E-57E2DCAB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4B208-DA01-416B-8F5F-07D07D0E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BE18-EEDC-43E9-9EC5-E053F977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51320-843E-4C94-83BC-E7FB7C9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DB722-1A9D-4B3A-A7ED-5EE3E33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6A4DA-20D5-48D6-AD51-57435482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97D3C-6AE6-4A5B-B40A-BEABB9C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D2EAB-DF02-4110-8A98-4ECB9D7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86CAC-E4E4-4E1B-89DB-9002D98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C90A-E05F-49CB-9350-96C47AFF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25CDC-D3F9-40B9-A80B-4C3F2FB4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6228-6C9D-4A38-8AC0-50836F4F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7647F-BE04-4286-B2EA-D3468DD8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33826-F219-4C20-8DFC-FCEA627E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7E1D2-0A7B-4327-B02F-A1B69F0C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170EA-1496-451F-8821-4756AD72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02980-EE99-44CE-86D0-6ED5D36A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29984-E8CA-47C9-A340-96AB6B1E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7AAA4-9CF5-44B9-B72C-2E96D2B3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1541F-4610-4774-8369-30D5A0C7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3FF4-BDBB-4474-B999-E9000DA3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6865D-9EB8-4F23-9524-4623684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C1FA4-F553-452A-96C7-F481D18B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69392-6B50-452D-A8C7-EDE3F12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2AC94-9B53-4C4F-BEBB-76BE4DF3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813CA-2DDB-433B-865B-80FB20DF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6680-DA76-4287-B279-57402CC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7DA5-E03A-4AB6-9519-D93F66C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83D9-C86F-4643-9B97-4240016F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D9EE-27B6-495C-889E-E9B6DD4A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F1ED-35A3-4E69-AF33-CB6083A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60D-CE26-4E1D-9851-ABBA1945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CEC7-796D-48D5-8608-72C0099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149-EF95-4CC1-ACA1-AF1CEE0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69EE-8D03-48BD-BC0B-37E5CE08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1F78-3C8A-4A4D-BB28-F0928B67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6954-28B5-45ED-A21E-5E2B21B3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BFB6-C9FF-4C18-AAEF-81812321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459A-11A7-4007-B020-B7F59FE4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DA17-5394-41CD-9183-696B97B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0E68-937D-4E24-8628-87F98D5B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2F73-3B20-4638-92DE-3BB314AC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F99-3EA3-4605-9AE9-12A93FA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E8C6-2692-4A6B-B226-EE952BD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6530-02D2-4767-9BE3-D713881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3270-8BC8-488F-B065-E07191E8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57EC-7B53-47CE-A8F4-855D750A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BAA3-0828-499F-81A4-71892141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77C3-6AA8-4A6F-9313-22A3CB41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05A3-1139-4702-83C1-836F8E26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061C-4B5F-4F11-92FD-77EFBF05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EE39-D865-4F86-8F6A-7141E6B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8088-C174-48FB-BEBC-7A7DC7F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F35-3416-4179-89DC-AD5A6D40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2211-83FA-4B11-BB89-D50FE3F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8FAE-3724-4D33-B989-9660F5D1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5726-B3DB-40A6-91C7-0FFA127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E0B0-1863-4A30-B82B-C311A7B6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FACA-09D1-4DF2-9184-34B7A5D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FFFD-EA14-492B-9C38-96984B3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3A55-5DB9-447D-9922-2126DD83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A02B-1AB6-4BAD-94F2-CD52BBDD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4898-A5A7-45FF-9081-FBC21057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F16A-52AE-4E64-B325-2280A555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0E2-B4AF-4360-9D22-95F389BC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8BB9-D783-4852-880D-A49149BB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33A47-DEBF-4579-B9C0-9E5A3A8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4EBB-D852-4999-B21E-D6BF4AD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6256-881A-4E1D-B06F-539CB3A4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E14D-12CF-490A-9128-B8C796AE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0054A-F016-409F-A216-FD0687C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F1A9E-11F0-4955-9FF9-85B5A81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4EDA-F50D-4036-9D1D-9C36316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64AD-FB14-49E9-9117-6C591EB5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7B0A2-2959-44B3-B6B7-A06F9B54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85C-1FE9-4FD1-978C-46CE654C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F5FB-C125-4A49-A872-4413A8E4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A16EF-94A1-4F4D-919F-623107E8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5A1C-236E-4787-A97B-D6E2AAAE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5D553-7345-468E-9EF9-B3A50B02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B053-BFAF-4D56-BD91-7CE980DD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7915-3CF3-4B8D-AB58-7AB9B2AF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E6D8-47F5-416F-ACD2-5C98EA29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B649-5920-45E4-B08A-564FB7D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AB8CC-6CC9-4478-AA30-5007092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60AF1-0C9A-4EA7-8787-0A74479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21E-C8B9-436D-AC97-0E2F486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962BE-ECE1-4665-9E94-7DF998FE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49245-6702-4053-8EBA-D5D55C4F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BD015-772E-492F-B594-76BB6DA4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F0AA9-F5CC-4F70-9117-6BA5C761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B1C5-77BB-4B22-A1BB-583AF08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2E80-F45D-41ED-968E-DD3B88B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1830-6162-4530-88F9-7280FAE2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615ED-BD15-4A53-B638-ABF73586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9D34A-A62C-4B23-AFC8-B565BE4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DA3A6-7DAF-4F25-A5CD-24756167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E35-64D0-41BA-B118-489374C7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8A42-76FC-4654-825C-6E1A67B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2347-8171-4279-847E-FCAF6572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1BCB7-DCEC-4115-8DF5-8EAAF954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9908F-CC89-4EF4-97B2-F79BE095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F285-8B1A-4C21-AD16-33BEB573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F50C9-B859-4DFE-BB87-AAB0FF22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E034C-926C-4695-B1B6-12B0925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37B4E-1FD0-4E65-B6A9-0C4E026F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34956-12E2-48E4-B033-CB81787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29072-E3CA-4638-B617-4EA6A73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5EC-361E-4E50-A076-E42177FF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E6D2-7EE0-4F88-9958-A06D431F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A3F3-574F-42B0-B605-1092CA0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C68D-C9BB-420E-B3F3-F0FE653C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B4857-52D6-4045-B129-20E24B7A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04CE9-6E0A-4CD5-821D-A8F5C2F9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9E689-91C8-4E32-8676-FA5B42BE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CF20-BDF9-41A1-B64F-A7EFA387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DC0C8-6D4D-487A-B457-5B10973A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E74F3-6984-46C1-ACC2-93ECB04E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B5FF8-C229-49DF-88DD-C8A58C10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1D61-CF4D-4D34-9DB7-DCD1230C8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53F9-BE26-4E5A-B62B-81FDC37A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9C35-446B-488C-BA18-B8463B7C7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4E1-A9A1-48F7-B5C9-DB2ECF6BF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7879-F90D-4584-82A9-FCEC2DC4A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4250-C1E6-40DF-B522-CBED0AEA4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FC33-10DF-44FC-8BAC-B1AB84C1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08D-2991-47C3-82E4-22E31722F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35D6-2C09-43DC-B948-1BE11DB2B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E33F-C660-46C9-A60E-A1A5EE3D3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6B79-6316-48D2-9DD1-3BF764405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803-7015-44DC-AA03-14AF0034C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ZFJ1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audio" Target="../media/SEA.WAV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English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WordArt 3"/>
          <p:cNvSpPr txBox="1"/>
          <p:nvPr/>
        </p:nvSpPr>
        <p:spPr>
          <a:xfrm>
            <a:off x="2819520" y="175248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家住在大海边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17"/>
          <p:cNvGrpSpPr/>
          <p:nvPr/>
        </p:nvGrpSpPr>
        <p:grpSpPr>
          <a:xfrm>
            <a:off x="1600200" y="380880"/>
            <a:ext cx="5638680" cy="1600200"/>
            <a:chOff x="1600200" y="380880"/>
            <a:chExt cx="5638680" cy="1600200"/>
          </a:xfrm>
        </p:grpSpPr>
        <p:sp>
          <p:nvSpPr>
            <p:cNvPr id="521" name="AutoShape 5"/>
            <p:cNvSpPr/>
            <p:nvPr/>
          </p:nvSpPr>
          <p:spPr>
            <a:xfrm>
              <a:off x="1600200" y="380880"/>
              <a:ext cx="5638680" cy="1600200"/>
            </a:xfrm>
            <a:prstGeom prst="irregularSeal1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6"/>
            <p:cNvSpPr/>
            <p:nvPr/>
          </p:nvSpPr>
          <p:spPr>
            <a:xfrm>
              <a:off x="3276720" y="76212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小 画 家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8"/>
          <p:cNvGrpSpPr/>
          <p:nvPr/>
        </p:nvGrpSpPr>
        <p:grpSpPr>
          <a:xfrm>
            <a:off x="1981080" y="2286000"/>
            <a:ext cx="5867640" cy="581400"/>
            <a:chOff x="1981080" y="2286000"/>
            <a:chExt cx="5867640" cy="581400"/>
          </a:xfrm>
        </p:grpSpPr>
        <p:sp>
          <p:nvSpPr>
            <p:cNvPr id="524" name="AutoShape 7"/>
            <p:cNvSpPr/>
            <p:nvPr/>
          </p:nvSpPr>
          <p:spPr>
            <a:xfrm>
              <a:off x="1981080" y="2286000"/>
              <a:ext cx="609840" cy="533520"/>
            </a:xfrm>
            <a:custGeom>
              <a:avLst/>
              <a:gdLst>
                <a:gd name="textAreaLeft" fmla="*/ 251280 w 609840"/>
                <a:gd name="textAreaRight" fmla="*/ 358560 w 60984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10"/>
            <p:cNvSpPr/>
            <p:nvPr/>
          </p:nvSpPr>
          <p:spPr>
            <a:xfrm>
              <a:off x="2666880" y="2286000"/>
              <a:ext cx="518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把你编的故事画成一幅画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9"/>
          <p:cNvGrpSpPr/>
          <p:nvPr/>
        </p:nvGrpSpPr>
        <p:grpSpPr>
          <a:xfrm>
            <a:off x="1981080" y="3048120"/>
            <a:ext cx="6324840" cy="581400"/>
            <a:chOff x="1981080" y="3048120"/>
            <a:chExt cx="6324840" cy="581400"/>
          </a:xfrm>
        </p:grpSpPr>
        <p:sp>
          <p:nvSpPr>
            <p:cNvPr id="527" name="Text Box 12"/>
            <p:cNvSpPr/>
            <p:nvPr/>
          </p:nvSpPr>
          <p:spPr>
            <a:xfrm>
              <a:off x="2666880" y="3048120"/>
              <a:ext cx="563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把今天学的诗歌画成一幅画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AutoShape 14"/>
            <p:cNvSpPr/>
            <p:nvPr/>
          </p:nvSpPr>
          <p:spPr>
            <a:xfrm>
              <a:off x="1981080" y="3048120"/>
              <a:ext cx="609840" cy="533160"/>
            </a:xfrm>
            <a:custGeom>
              <a:avLst/>
              <a:gdLst>
                <a:gd name="textAreaLeft" fmla="*/ 251280 w 609840"/>
                <a:gd name="textAreaRight" fmla="*/ 358560 w 60984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20"/>
          <p:cNvGrpSpPr/>
          <p:nvPr/>
        </p:nvGrpSpPr>
        <p:grpSpPr>
          <a:xfrm>
            <a:off x="1981080" y="3809880"/>
            <a:ext cx="5486400" cy="581400"/>
            <a:chOff x="1981080" y="3809880"/>
            <a:chExt cx="5486400" cy="581400"/>
          </a:xfrm>
        </p:grpSpPr>
        <p:sp>
          <p:nvSpPr>
            <p:cNvPr id="530" name="Text Box 13"/>
            <p:cNvSpPr/>
            <p:nvPr/>
          </p:nvSpPr>
          <p:spPr>
            <a:xfrm>
              <a:off x="2666880" y="3809880"/>
              <a:ext cx="480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把大海里有趣的东西画成一幅画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AutoShape 16"/>
            <p:cNvSpPr/>
            <p:nvPr/>
          </p:nvSpPr>
          <p:spPr>
            <a:xfrm>
              <a:off x="1981080" y="3809880"/>
              <a:ext cx="609840" cy="533520"/>
            </a:xfrm>
            <a:custGeom>
              <a:avLst/>
              <a:gdLst>
                <a:gd name="textAreaLeft" fmla="*/ 251280 w 609840"/>
                <a:gd name="textAreaRight" fmla="*/ 358560 w 60984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3071880" y="1071720"/>
            <a:ext cx="4800600" cy="4373640"/>
            <a:chOff x="3071880" y="1071720"/>
            <a:chExt cx="4800600" cy="4373640"/>
          </a:xfrm>
        </p:grpSpPr>
        <p:sp>
          <p:nvSpPr>
            <p:cNvPr id="496" name="Text Box 6"/>
            <p:cNvSpPr/>
            <p:nvPr/>
          </p:nvSpPr>
          <p:spPr>
            <a:xfrm>
              <a:off x="3300480" y="1681200"/>
              <a:ext cx="457200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天蓝蓝，海蓝蓝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家住在大海边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海边有个月亮湾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湾里有条打鱼船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船上有位老爷爷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他的故事说不完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8"/>
            <p:cNvSpPr/>
            <p:nvPr/>
          </p:nvSpPr>
          <p:spPr>
            <a:xfrm>
              <a:off x="3071880" y="107172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我家住在大海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Line 10"/>
          <p:cNvSpPr/>
          <p:nvPr/>
        </p:nvSpPr>
        <p:spPr>
          <a:xfrm>
            <a:off x="3286080" y="16430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FJ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English12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a17"/>
          <p:cNvPicPr/>
          <p:nvPr/>
        </p:nvPicPr>
        <p:blipFill>
          <a:blip r:embed="rId2"/>
          <a:stretch/>
        </p:blipFill>
        <p:spPr>
          <a:xfrm>
            <a:off x="6877080" y="36450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4486320" cy="885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4"/>
          <a:stretch/>
        </p:blipFill>
        <p:spPr>
          <a:xfrm>
            <a:off x="3276720" y="1197000"/>
            <a:ext cx="4476600" cy="914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5"/>
          <a:stretch/>
        </p:blipFill>
        <p:spPr>
          <a:xfrm>
            <a:off x="2309760" y="2971800"/>
            <a:ext cx="452448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2009330150726%E6%B5%B7%E8%BE%B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642960" y="44290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天蓝蓝，海蓝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dissolve/>
    <p:sndAc>
      <p:stSnd>
        <p:snd r:embed="rId2" name="camera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20080707094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5"/>
          <p:cNvSpPr/>
          <p:nvPr/>
        </p:nvSpPr>
        <p:spPr>
          <a:xfrm>
            <a:off x="3059280" y="6093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我家住在大海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horz"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2233055B8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65654"/>
          <p:cNvPicPr/>
          <p:nvPr/>
        </p:nvPicPr>
        <p:blipFill>
          <a:blip r:embed="rId2"/>
          <a:stretch/>
        </p:blipFill>
        <p:spPr>
          <a:xfrm rot="10800000">
            <a:off x="7343280" y="188640"/>
            <a:ext cx="1800360" cy="14716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4716360" y="5950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Times New Roman"/>
              </a:rPr>
              <a:t>海边有个月亮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blinds dir="vert"/>
    <p:sndAc>
      <p:stSnd>
        <p:snd r:embed="rId3" name="camera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71280" y="762120"/>
            <a:ext cx="9001440" cy="533376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4"/>
          <p:cNvSpPr/>
          <p:nvPr/>
        </p:nvSpPr>
        <p:spPr>
          <a:xfrm>
            <a:off x="2700360" y="1159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湾里有条打鱼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plit dir="out" orient="vert"/>
    <p:sndAc>
      <p:stSnd>
        <p:snd r:embed="rId2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7667640" cy="61657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4"/>
          <p:cNvSpPr/>
          <p:nvPr/>
        </p:nvSpPr>
        <p:spPr>
          <a:xfrm>
            <a:off x="92160" y="1844640"/>
            <a:ext cx="12556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船上有个老爷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的故事讲不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amera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nghlish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1_20[1]"/>
          <p:cNvPicPr/>
          <p:nvPr/>
        </p:nvPicPr>
        <p:blipFill>
          <a:blip r:embed="rId2"/>
          <a:stretch/>
        </p:blipFill>
        <p:spPr>
          <a:xfrm>
            <a:off x="380880" y="22860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33804[1]"/>
          <p:cNvPicPr/>
          <p:nvPr/>
        </p:nvPicPr>
        <p:blipFill>
          <a:blip r:embed="rId3"/>
          <a:stretch/>
        </p:blipFill>
        <p:spPr>
          <a:xfrm>
            <a:off x="53341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4" name="SE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43:10Z</dcterms:created>
  <dc:creator/>
  <dc:description/>
  <dc:language>en-US</dc:language>
  <cp:lastModifiedBy/>
  <dcterms:modified xsi:type="dcterms:W3CDTF">2016-06-14T07:25:38Z</dcterms:modified>
  <cp:revision>11</cp:revision>
  <dc:subject/>
  <dc:title/>
</cp:coreProperties>
</file>