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GY.WAV" ContentType="audio/x-wav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10D-29FA-4FF4-9E6D-0E5933F5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4F4-3FFA-4F96-BCF2-1553D1CF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E9B-C802-4370-A0BB-54D234D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77D-566F-4C0F-8CB7-4C28E04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E87-3AAD-403C-BC61-941DA54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B2A-D734-469B-9987-63D7826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3B6-22EE-450F-BEB8-29EC7E32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275-647A-4F1B-82EC-D8D6DCA6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5AE-06AE-4FFE-B90B-84B4D199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0CD-03F4-4555-8A57-FFA79C2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5C4-4CC8-48C5-A9C5-BD9CA9AB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AE2-7681-43FE-9D7B-218D272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A53-D34B-466B-88E6-59FB341ECB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E35D-DE83-43BE-AE27-2FFDE3419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REE2"/>
          <p:cNvPicPr/>
          <p:nvPr/>
        </p:nvPicPr>
        <p:blipFill>
          <a:blip r:embed="rId2"/>
          <a:stretch/>
        </p:blipFill>
        <p:spPr>
          <a:xfrm>
            <a:off x="0" y="657360"/>
            <a:ext cx="6858000" cy="6200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894200" y="6094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树的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8"/>
          <p:cNvPicPr/>
          <p:nvPr/>
        </p:nvPicPr>
        <p:blipFill>
          <a:blip r:embed="rId1"/>
          <a:stretch/>
        </p:blipFill>
        <p:spPr>
          <a:xfrm>
            <a:off x="4427640" y="3357720"/>
            <a:ext cx="4698720" cy="350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"/>
          <p:cNvPicPr/>
          <p:nvPr/>
        </p:nvPicPr>
        <p:blipFill>
          <a:blip r:embed="rId2"/>
          <a:stretch/>
        </p:blipFill>
        <p:spPr>
          <a:xfrm>
            <a:off x="0" y="0"/>
            <a:ext cx="4629240" cy="33656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4"/>
          <p:cNvSpPr/>
          <p:nvPr/>
        </p:nvSpPr>
        <p:spPr>
          <a:xfrm>
            <a:off x="684360" y="40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老树的年轮会告诉你它有多少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TREE2"/>
          <p:cNvPicPr/>
          <p:nvPr/>
        </p:nvPicPr>
        <p:blipFill>
          <a:blip r:embed="rId2"/>
          <a:stretch/>
        </p:blipFill>
        <p:spPr>
          <a:xfrm>
            <a:off x="0" y="657360"/>
            <a:ext cx="6858000" cy="620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BOY2"/>
          <p:cNvPicPr/>
          <p:nvPr/>
        </p:nvPicPr>
        <p:blipFill>
          <a:blip r:embed="rId3"/>
          <a:stretch/>
        </p:blipFill>
        <p:spPr>
          <a:xfrm>
            <a:off x="6248520" y="4071960"/>
            <a:ext cx="2895480" cy="28098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2071800" y="357120"/>
            <a:ext cx="6781680" cy="3048120"/>
          </a:xfrm>
          <a:prstGeom prst="wedgeRoundRectCallout">
            <a:avLst>
              <a:gd name="adj1" fmla="val 22754"/>
              <a:gd name="adj2" fmla="val 76666"/>
              <a:gd name="adj3" fmla="val 16667"/>
            </a:avLst>
          </a:prstGeom>
          <a:noFill/>
          <a:ln cap="sq"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有多少鸟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在你身上安过家</a:t>
            </a:r>
            <a:r>
              <a:rPr b="1" lang="en-US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你谈过话</a:t>
            </a:r>
            <a:r>
              <a:rPr b="1" lang="en-US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TREE2"/>
          <p:cNvPicPr/>
          <p:nvPr/>
        </p:nvPicPr>
        <p:blipFill>
          <a:blip r:embed="rId2"/>
          <a:stretch/>
        </p:blipFill>
        <p:spPr>
          <a:xfrm>
            <a:off x="0" y="657360"/>
            <a:ext cx="6858000" cy="620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OY2"/>
          <p:cNvPicPr/>
          <p:nvPr/>
        </p:nvPicPr>
        <p:blipFill>
          <a:blip r:embed="rId3"/>
          <a:stretch/>
        </p:blipFill>
        <p:spPr>
          <a:xfrm>
            <a:off x="6273720" y="4148280"/>
            <a:ext cx="2895840" cy="2809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2209680" y="642960"/>
            <a:ext cx="6934320" cy="2552760"/>
          </a:xfrm>
          <a:prstGeom prst="wedgeRoundRectCallout">
            <a:avLst>
              <a:gd name="adj1" fmla="val 21851"/>
              <a:gd name="adj2" fmla="val 81787"/>
              <a:gd name="adj3" fmla="val 16667"/>
            </a:avLst>
          </a:prstGeom>
          <a:noFill/>
          <a:ln cap="sq"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身穿礼服的音乐家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从哪儿来的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唱的都是什么歌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REE2"/>
          <p:cNvPicPr/>
          <p:nvPr/>
        </p:nvPicPr>
        <p:blipFill>
          <a:blip r:embed="rId2"/>
          <a:stretch/>
        </p:blipFill>
        <p:spPr>
          <a:xfrm>
            <a:off x="0" y="0"/>
            <a:ext cx="6858000" cy="6200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5000760" y="1500120"/>
            <a:ext cx="3714480" cy="2362320"/>
          </a:xfrm>
          <a:prstGeom prst="wedgeRoundRectCallout">
            <a:avLst>
              <a:gd name="adj1" fmla="val -1972"/>
              <a:gd name="adj2" fmla="val 85037"/>
              <a:gd name="adj3" fmla="val 16667"/>
            </a:avLst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还能对老树提什么问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BOY2"/>
          <p:cNvPicPr/>
          <p:nvPr/>
        </p:nvPicPr>
        <p:blipFill>
          <a:blip r:embed="rId3"/>
          <a:stretch/>
        </p:blipFill>
        <p:spPr>
          <a:xfrm>
            <a:off x="6273720" y="4148280"/>
            <a:ext cx="28958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26" descr="caodi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27" descr="TREE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8"/>
          <p:cNvSpPr/>
          <p:nvPr/>
        </p:nvSpPr>
        <p:spPr>
          <a:xfrm>
            <a:off x="4145040" y="2071800"/>
            <a:ext cx="429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老树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老树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________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________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课后练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楷体"/>
              </a:rPr>
              <a:t>　　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习活动：把老树的故事讲给大家听罢，你也可以再去找一些有关老树的资料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-28440" y="1500120"/>
            <a:ext cx="9142200" cy="535788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3"/>
          <p:cNvSpPr/>
          <p:nvPr/>
        </p:nvSpPr>
        <p:spPr>
          <a:xfrm>
            <a:off x="3276720" y="54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老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826920" y="1060560"/>
            <a:ext cx="7718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80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63640" y="1341360"/>
            <a:ext cx="5605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谈话         礼服    告诉      安家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19280" y="270972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乐         童话    百岁       这些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352600" y="2508120"/>
            <a:ext cx="466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G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928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zhè  m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ɑ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  tán  lǐ fú  yīn  yuè  n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   吗   谈  礼 服  音   乐   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b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ɑ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 tón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 lǎo  bǎi  ān  huà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ào  sù</a:t>
            </a: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吧  童   老   百   安  话   告  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107520" y="476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树的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981160" y="170028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老树，老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怎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么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有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百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733560" y="4203720"/>
            <a:ext cx="2375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多少鸟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107520" y="3556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树的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792520" y="1628640"/>
            <a:ext cx="5029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些身穿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礼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从哪儿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得都是什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702240" y="4203720"/>
            <a:ext cx="2923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老树，老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告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告诉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故事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OY2"/>
          <p:cNvPicPr/>
          <p:nvPr/>
        </p:nvPicPr>
        <p:blipFill>
          <a:blip r:embed="rId2"/>
          <a:stretch/>
        </p:blipFill>
        <p:spPr>
          <a:xfrm>
            <a:off x="6289560" y="4143240"/>
            <a:ext cx="2895840" cy="281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TREE2"/>
          <p:cNvPicPr/>
          <p:nvPr/>
        </p:nvPicPr>
        <p:blipFill>
          <a:blip r:embed="rId3"/>
          <a:stretch/>
        </p:blipFill>
        <p:spPr>
          <a:xfrm>
            <a:off x="0" y="657360"/>
            <a:ext cx="6858000" cy="6200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0"/>
          <p:cNvSpPr/>
          <p:nvPr/>
        </p:nvSpPr>
        <p:spPr>
          <a:xfrm>
            <a:off x="1928880" y="285840"/>
            <a:ext cx="6933960" cy="3200400"/>
          </a:xfrm>
          <a:prstGeom prst="wedgeRoundRectCallout">
            <a:avLst>
              <a:gd name="adj1" fmla="val 28847"/>
              <a:gd name="adj2" fmla="val 73013"/>
              <a:gd name="adj3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760920" y="428760"/>
            <a:ext cx="338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树，老树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怎么这么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有一百岁了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2:39:14Z</dcterms:created>
  <dc:creator/>
  <dc:description/>
  <cp:keywords/>
  <dc:language>en-US</dc:language>
  <cp:lastModifiedBy>yy</cp:lastModifiedBy>
  <dcterms:modified xsi:type="dcterms:W3CDTF">2017-09-01T01:32:5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