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779E-8E10-4BB7-B732-30AA4A4B0775}" type="datetime">
              <a:rPr b="0" lang="zh-CN" sz="2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EB70-0156-47A8-8018-D3ACDB268CF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01C2-928B-4C34-A39B-EA8FE0C80E2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2248-6820-440F-B8B9-216403E9605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52E4-BE70-42F7-A9A2-0F3FA83372F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41F2-077C-44B7-984A-A88100FBA8F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4B5E-58AE-4202-81AD-FD293E171F5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EC3B-59B4-4590-B6F1-D629D119DC9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080E-DF29-47DA-BB35-B479A179625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B1C9-43F6-4FE5-9932-8DBA35492CE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7492-47AF-44F4-AB41-8CFE515DBDC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A741-80DE-4CDE-BF41-0F818791E71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1C69-A4A5-45C0-A154-336172C0AEB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64F3-CB0F-4442-9309-EBCAEE0F350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924B-E9A3-4DE3-BF26-44F09ED91C6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E0C-A1D7-4C35-8CC6-0BFF9D61F0B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831-F283-45A6-BE0A-1D7EEF6D601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79A6-327B-4D8E-AD08-46F7622F3EA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7D7-33C6-418B-BA4D-C4240539721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9A08-3B19-4A23-BA98-FB1186973FA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2B98-93A4-4EE8-B356-A0A2EA9AB23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2A88-12BE-40F5-AB05-7BE5BBAAB26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6A0-13CF-4111-89F5-BA498A58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0C2-2151-406B-9570-6A3D8B2C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75F-A236-49AB-91EF-874518F4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2BF-A3B9-4FBE-84AE-176A99C0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FB39-18BA-4E5E-A8E6-1312A29E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AACD-9ED8-4B36-92D0-13027722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F466-BC51-41DE-807E-D172D827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C949-57E7-40E7-8BD1-218603A2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C3DB-72D9-4D3A-BBAD-740C43AA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EE09-48FB-4149-8A6F-10CCDBCF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4A13-40B7-4BE1-944B-3B22FC9E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B90-8430-4FC3-B8C8-15E1127B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F32A-B872-4C66-A1D5-EED1C824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8C0E-1091-4B0A-AEB6-CCBAC129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4AD2-0310-4072-9027-33515C90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B79E-AB65-495C-BFE7-49D5BB19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9493-27C7-410A-B330-1ECA5C17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AFC-7D59-4948-B6BF-55688DD8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3F0-922A-448B-B900-9E97DE0A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FBD-BD5F-4F15-978D-18D3757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78B-FE09-4BE6-88A6-4561B75C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E81-32BA-43F2-AD36-97938BB3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339-59FC-4F07-90D4-2067A450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459-8CFF-41E3-880A-CA0AB7E8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517C-5985-4514-9D98-3F0CBBAF24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3D12-2D7D-4150-93B6-8F4867A2D4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8730-93C8-4A94-921C-EF487680CC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2286000" y="3071880"/>
            <a:ext cx="5400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584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80"/>
                  </a:solidFill>
                  <a:bevel/>
                </a:ln>
                <a:solidFill>
                  <a:srgbClr val="800080"/>
                </a:solidFill>
                <a:latin typeface="宋体"/>
              </a:rPr>
              <a:t>劝学</a:t>
            </a:r>
            <a:endParaRPr b="1" lang="en-US" sz="1800" spc="1" strike="noStrike">
              <a:ln w="9360">
                <a:solidFill>
                  <a:srgbClr val="800080"/>
                </a:solidFill>
                <a:bevel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929600" y="4714920"/>
            <a:ext cx="890640" cy="757080"/>
            <a:chOff x="1929600" y="4714920"/>
            <a:chExt cx="890640" cy="757080"/>
          </a:xfrm>
        </p:grpSpPr>
        <p:sp>
          <p:nvSpPr>
            <p:cNvPr id="92" name="AutoShape 6"/>
            <p:cNvSpPr/>
            <p:nvPr/>
          </p:nvSpPr>
          <p:spPr>
            <a:xfrm rot="720000">
              <a:off x="1983960" y="4789440"/>
              <a:ext cx="781200" cy="60804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7"/>
            <p:cNvSpPr/>
            <p:nvPr/>
          </p:nvSpPr>
          <p:spPr>
            <a:xfrm rot="720000">
              <a:off x="2004480" y="4808520"/>
              <a:ext cx="737280" cy="5576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预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3429000" y="4786920"/>
            <a:ext cx="813240" cy="692640"/>
            <a:chOff x="3429000" y="4786920"/>
            <a:chExt cx="813240" cy="692640"/>
          </a:xfrm>
        </p:grpSpPr>
        <p:sp>
          <p:nvSpPr>
            <p:cNvPr id="95" name="AutoShape 9"/>
            <p:cNvSpPr/>
            <p:nvPr/>
          </p:nvSpPr>
          <p:spPr>
            <a:xfrm rot="120000">
              <a:off x="3440160" y="4800240"/>
              <a:ext cx="790560" cy="66528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10"/>
            <p:cNvSpPr/>
            <p:nvPr/>
          </p:nvSpPr>
          <p:spPr>
            <a:xfrm rot="120000">
              <a:off x="3459600" y="4821840"/>
              <a:ext cx="746280" cy="60984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Arial"/>
                  <a:ea typeface="华文新魏"/>
                </a:rPr>
                <a:t>详解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6637320" y="4624560"/>
            <a:ext cx="870120" cy="668160"/>
            <a:chOff x="6637320" y="4624560"/>
            <a:chExt cx="870120" cy="668160"/>
          </a:xfrm>
        </p:grpSpPr>
        <p:sp>
          <p:nvSpPr>
            <p:cNvPr id="98" name="AutoShape 12"/>
            <p:cNvSpPr/>
            <p:nvPr/>
          </p:nvSpPr>
          <p:spPr>
            <a:xfrm rot="21060000">
              <a:off x="6675480" y="4683240"/>
              <a:ext cx="793800" cy="550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13"/>
            <p:cNvSpPr/>
            <p:nvPr/>
          </p:nvSpPr>
          <p:spPr>
            <a:xfrm rot="21060000">
              <a:off x="6693840" y="4701600"/>
              <a:ext cx="749160" cy="50508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4881240" y="4675680"/>
            <a:ext cx="953640" cy="840600"/>
            <a:chOff x="4881240" y="4675680"/>
            <a:chExt cx="953640" cy="840600"/>
          </a:xfrm>
        </p:grpSpPr>
        <p:sp>
          <p:nvSpPr>
            <p:cNvPr id="101" name="AutoShape 15"/>
            <p:cNvSpPr/>
            <p:nvPr/>
          </p:nvSpPr>
          <p:spPr>
            <a:xfrm rot="20220000">
              <a:off x="4962600" y="4807080"/>
              <a:ext cx="790560" cy="577800"/>
            </a:xfrm>
            <a:prstGeom prst="roundRect">
              <a:avLst>
                <a:gd name="adj" fmla="val 26292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6"/>
            <p:cNvSpPr/>
            <p:nvPr/>
          </p:nvSpPr>
          <p:spPr>
            <a:xfrm rot="20220000">
              <a:off x="4980240" y="4827240"/>
              <a:ext cx="746280" cy="529920"/>
            </a:xfrm>
            <a:prstGeom prst="roundRect">
              <a:avLst>
                <a:gd name="adj" fmla="val 270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ff9b0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Box 16"/>
          <p:cNvSpPr/>
          <p:nvPr/>
        </p:nvSpPr>
        <p:spPr>
          <a:xfrm>
            <a:off x="3643200" y="1571760"/>
            <a:ext cx="3429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13C2-6754-4D5C-9F4A-5AAD022CCB7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无标题-4"/>
          <p:cNvPicPr/>
          <p:nvPr/>
        </p:nvPicPr>
        <p:blipFill>
          <a:blip r:embed="rId1"/>
          <a:stretch/>
        </p:blipFill>
        <p:spPr>
          <a:xfrm>
            <a:off x="0" y="746280"/>
            <a:ext cx="9144000" cy="1241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无标题-5"/>
          <p:cNvPicPr/>
          <p:nvPr/>
        </p:nvPicPr>
        <p:blipFill>
          <a:blip r:embed="rId2"/>
          <a:stretch/>
        </p:blipFill>
        <p:spPr>
          <a:xfrm>
            <a:off x="179280" y="20808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682560" y="1989000"/>
            <a:ext cx="86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3349800" y="947880"/>
            <a:ext cx="300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6"/>
          <p:cNvSpPr/>
          <p:nvPr/>
        </p:nvSpPr>
        <p:spPr>
          <a:xfrm flipV="1">
            <a:off x="1882800" y="2825640"/>
            <a:ext cx="74628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1908000" y="3645000"/>
            <a:ext cx="74628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4656240" y="2282760"/>
            <a:ext cx="441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（更改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（更加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040200" y="3232080"/>
            <a:ext cx="41958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300" spc="-1" strike="noStrike">
                <a:solidFill>
                  <a:srgbClr val="000000"/>
                </a:solidFill>
                <a:latin typeface="宋体"/>
              </a:rPr>
              <a:t>ɡènɡ</a:t>
            </a: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3059280" y="2090880"/>
            <a:ext cx="37447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300" spc="-1" strike="noStrike">
                <a:solidFill>
                  <a:srgbClr val="000000"/>
                </a:solidFill>
                <a:latin typeface="宋体"/>
              </a:rPr>
              <a:t>ɡēnɡ</a:t>
            </a: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611280" y="4219560"/>
            <a:ext cx="86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12"/>
          <p:cNvSpPr/>
          <p:nvPr/>
        </p:nvSpPr>
        <p:spPr>
          <a:xfrm flipV="1">
            <a:off x="2009880" y="4949640"/>
            <a:ext cx="74592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2009880" y="5697360"/>
            <a:ext cx="74592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4716360" y="4525920"/>
            <a:ext cx="441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（发展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（黑发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3421080" y="4365720"/>
            <a:ext cx="16556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300" spc="-1" strike="noStrike">
                <a:solidFill>
                  <a:srgbClr val="000000"/>
                </a:solidFill>
                <a:latin typeface="宋体"/>
              </a:rPr>
              <a:t>fā</a:t>
            </a: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3492360" y="5373720"/>
            <a:ext cx="11718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300" spc="-1" strike="noStrike">
                <a:solidFill>
                  <a:srgbClr val="000000"/>
                </a:solidFill>
                <a:latin typeface="宋体"/>
              </a:rPr>
              <a:t>fà</a:t>
            </a: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440" y="83808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4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FA9A-2C02-4288-AB48-D637EC7EE2C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670040" y="407844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五更鸡：凌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点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点，天快亮时，鸡啼叫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1486080"/>
            <a:ext cx="84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更灯火五更鸡，正是男儿读书时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39640" y="2565360"/>
            <a:ext cx="76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更：古人把一夜分为五更，每更大约两小时，三更是晚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点到凌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1440" y="83808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5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C74F-2B37-4EC8-95C8-79A7E7EEED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6720" y="3286080"/>
            <a:ext cx="78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晚上灯火下学到三更，五更鸡叫又早起学习，这一早一晚正是男儿读书的好时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24000" y="1843200"/>
            <a:ext cx="84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更灯火五更鸡，正是男儿读书时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0" y="836640"/>
            <a:ext cx="9109080" cy="5545080"/>
          </a:xfrm>
          <a:prstGeom prst="rect">
            <a:avLst/>
          </a:prstGeom>
          <a:ln w="0">
            <a:noFill/>
          </a:ln>
        </p:spPr>
      </p:pic>
      <p:sp>
        <p:nvSpPr>
          <p:cNvPr id="25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4EA7-780C-4009-A733-298C0572843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116000" y="2575080"/>
            <a:ext cx="57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黑发：年少时期，指少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116000" y="3397320"/>
            <a:ext cx="57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首：人老了，指老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24000" y="1036800"/>
            <a:ext cx="91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知勤学早，白首方悔读书迟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-34920" y="836640"/>
            <a:ext cx="9178920" cy="5545080"/>
          </a:xfrm>
          <a:prstGeom prst="rect">
            <a:avLst/>
          </a:prstGeom>
          <a:ln w="0">
            <a:noFill/>
          </a:ln>
        </p:spPr>
      </p:pic>
      <p:sp>
        <p:nvSpPr>
          <p:cNvPr id="26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7FB8-76BF-4A09-B189-0C93F50D424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24000" y="1036800"/>
            <a:ext cx="91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知勤学早，白首方悔读书迟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755640" y="263700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轻不知勤奋学习，等到年老时读书就晚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1551-74DD-4739-897E-F24D162CB9A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无标题-4"/>
          <p:cNvPicPr/>
          <p:nvPr/>
        </p:nvPicPr>
        <p:blipFill>
          <a:blip r:embed="rId1"/>
          <a:stretch/>
        </p:blipFill>
        <p:spPr>
          <a:xfrm>
            <a:off x="0" y="625320"/>
            <a:ext cx="9144000" cy="1241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无标题-5"/>
          <p:cNvPicPr/>
          <p:nvPr/>
        </p:nvPicPr>
        <p:blipFill>
          <a:blip r:embed="rId2"/>
          <a:stretch/>
        </p:blipFill>
        <p:spPr>
          <a:xfrm>
            <a:off x="179280" y="20808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35280" y="1866960"/>
            <a:ext cx="70848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更灯火五更鸡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正是男儿读书时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黑发不知勤学早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白首方悔读书迟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564000" y="517680"/>
            <a:ext cx="30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劝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038560" y="1409760"/>
            <a:ext cx="24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   颜真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2E9C-1384-466F-9237-435A3324F5B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34640" y="-100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会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3540240" y="1684440"/>
            <a:ext cx="1581120" cy="1512720"/>
            <a:chOff x="3540240" y="1684440"/>
            <a:chExt cx="1581120" cy="1512720"/>
          </a:xfrm>
        </p:grpSpPr>
        <p:sp>
          <p:nvSpPr>
            <p:cNvPr id="278" name="Rectangle 4"/>
            <p:cNvSpPr/>
            <p:nvPr/>
          </p:nvSpPr>
          <p:spPr>
            <a:xfrm>
              <a:off x="3540240" y="1684440"/>
              <a:ext cx="1581120" cy="1512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 flipH="1">
              <a:off x="3540240" y="2440800"/>
              <a:ext cx="158112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Line 6"/>
            <p:cNvSpPr/>
            <p:nvPr/>
          </p:nvSpPr>
          <p:spPr>
            <a:xfrm>
              <a:off x="4331160" y="1721880"/>
              <a:ext cx="0" cy="14752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Group 3"/>
          <p:cNvGrpSpPr/>
          <p:nvPr/>
        </p:nvGrpSpPr>
        <p:grpSpPr>
          <a:xfrm>
            <a:off x="5118120" y="1684440"/>
            <a:ext cx="1582560" cy="1512720"/>
            <a:chOff x="5118120" y="1684440"/>
            <a:chExt cx="1582560" cy="1512720"/>
          </a:xfrm>
        </p:grpSpPr>
        <p:sp>
          <p:nvSpPr>
            <p:cNvPr id="282" name="Rectangle 4"/>
            <p:cNvSpPr/>
            <p:nvPr/>
          </p:nvSpPr>
          <p:spPr>
            <a:xfrm>
              <a:off x="5118120" y="1684440"/>
              <a:ext cx="1582560" cy="1512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 flipH="1">
              <a:off x="5118120" y="2440800"/>
              <a:ext cx="158256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Line 6"/>
            <p:cNvSpPr/>
            <p:nvPr/>
          </p:nvSpPr>
          <p:spPr>
            <a:xfrm>
              <a:off x="5909760" y="1721880"/>
              <a:ext cx="0" cy="14752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Group 3"/>
          <p:cNvGrpSpPr/>
          <p:nvPr/>
        </p:nvGrpSpPr>
        <p:grpSpPr>
          <a:xfrm>
            <a:off x="1960200" y="3549600"/>
            <a:ext cx="1583280" cy="1513080"/>
            <a:chOff x="1960200" y="3549600"/>
            <a:chExt cx="1583280" cy="1513080"/>
          </a:xfrm>
        </p:grpSpPr>
        <p:sp>
          <p:nvSpPr>
            <p:cNvPr id="286" name="Rectangle 4"/>
            <p:cNvSpPr/>
            <p:nvPr/>
          </p:nvSpPr>
          <p:spPr>
            <a:xfrm>
              <a:off x="1960560" y="3549600"/>
              <a:ext cx="1582920" cy="1513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H="1">
              <a:off x="1960200" y="4306320"/>
              <a:ext cx="158292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752200" y="3587040"/>
              <a:ext cx="0" cy="14756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3"/>
          <p:cNvGrpSpPr/>
          <p:nvPr/>
        </p:nvGrpSpPr>
        <p:grpSpPr>
          <a:xfrm>
            <a:off x="3540240" y="3549600"/>
            <a:ext cx="1581120" cy="1513080"/>
            <a:chOff x="3540240" y="3549600"/>
            <a:chExt cx="1581120" cy="1513080"/>
          </a:xfrm>
        </p:grpSpPr>
        <p:sp>
          <p:nvSpPr>
            <p:cNvPr id="290" name="Rectangle 4"/>
            <p:cNvSpPr/>
            <p:nvPr/>
          </p:nvSpPr>
          <p:spPr>
            <a:xfrm>
              <a:off x="3540240" y="3549600"/>
              <a:ext cx="1581120" cy="1513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 flipH="1">
              <a:off x="3540240" y="4306320"/>
              <a:ext cx="158112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4331160" y="3587040"/>
              <a:ext cx="0" cy="14756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3"/>
          <p:cNvGrpSpPr/>
          <p:nvPr/>
        </p:nvGrpSpPr>
        <p:grpSpPr>
          <a:xfrm>
            <a:off x="5118120" y="3549600"/>
            <a:ext cx="1582560" cy="1513080"/>
            <a:chOff x="5118120" y="3549600"/>
            <a:chExt cx="1582560" cy="1513080"/>
          </a:xfrm>
        </p:grpSpPr>
        <p:sp>
          <p:nvSpPr>
            <p:cNvPr id="294" name="Rectangle 4"/>
            <p:cNvSpPr/>
            <p:nvPr/>
          </p:nvSpPr>
          <p:spPr>
            <a:xfrm>
              <a:off x="5118120" y="3549600"/>
              <a:ext cx="1582560" cy="1513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Line 5"/>
            <p:cNvSpPr/>
            <p:nvPr/>
          </p:nvSpPr>
          <p:spPr>
            <a:xfrm flipH="1">
              <a:off x="5118120" y="4306320"/>
              <a:ext cx="158256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Line 6"/>
            <p:cNvSpPr/>
            <p:nvPr/>
          </p:nvSpPr>
          <p:spPr>
            <a:xfrm>
              <a:off x="5909760" y="3587040"/>
              <a:ext cx="0" cy="14756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978200" y="1701720"/>
            <a:ext cx="1581120" cy="1511280"/>
            <a:chOff x="1978200" y="1701720"/>
            <a:chExt cx="1581120" cy="1511280"/>
          </a:xfrm>
        </p:grpSpPr>
        <p:sp>
          <p:nvSpPr>
            <p:cNvPr id="298" name="Rectangle 4"/>
            <p:cNvSpPr/>
            <p:nvPr/>
          </p:nvSpPr>
          <p:spPr>
            <a:xfrm>
              <a:off x="1978200" y="1701720"/>
              <a:ext cx="158112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 flipH="1">
              <a:off x="1978200" y="2457360"/>
              <a:ext cx="158112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6"/>
            <p:cNvSpPr/>
            <p:nvPr/>
          </p:nvSpPr>
          <p:spPr>
            <a:xfrm>
              <a:off x="2769120" y="1738800"/>
              <a:ext cx="0" cy="147384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WordArt 28"/>
          <p:cNvSpPr txBox="1"/>
          <p:nvPr/>
        </p:nvSpPr>
        <p:spPr>
          <a:xfrm>
            <a:off x="2484360" y="2565360"/>
            <a:ext cx="719280" cy="787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劝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2" name="WordArt 29"/>
          <p:cNvSpPr txBox="1"/>
          <p:nvPr/>
        </p:nvSpPr>
        <p:spPr>
          <a:xfrm>
            <a:off x="3992400" y="2575080"/>
            <a:ext cx="685800" cy="787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5572080" y="2575080"/>
            <a:ext cx="685800" cy="787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更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2414520" y="4441680"/>
            <a:ext cx="685800" cy="787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发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3992400" y="4441680"/>
            <a:ext cx="685800" cy="787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首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5572080" y="4441680"/>
            <a:ext cx="685800" cy="787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迟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6679800" y="1668600"/>
            <a:ext cx="1583280" cy="1512720"/>
            <a:chOff x="6679800" y="1668600"/>
            <a:chExt cx="1583280" cy="1512720"/>
          </a:xfrm>
        </p:grpSpPr>
        <p:sp>
          <p:nvSpPr>
            <p:cNvPr id="308" name="Rectangle 4"/>
            <p:cNvSpPr/>
            <p:nvPr/>
          </p:nvSpPr>
          <p:spPr>
            <a:xfrm>
              <a:off x="6680160" y="1668600"/>
              <a:ext cx="1582920" cy="1512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5"/>
            <p:cNvSpPr/>
            <p:nvPr/>
          </p:nvSpPr>
          <p:spPr>
            <a:xfrm flipH="1">
              <a:off x="6679800" y="2424960"/>
              <a:ext cx="158292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6"/>
            <p:cNvSpPr/>
            <p:nvPr/>
          </p:nvSpPr>
          <p:spPr>
            <a:xfrm>
              <a:off x="7471800" y="1706040"/>
              <a:ext cx="0" cy="147528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WordArt 38"/>
          <p:cNvSpPr txBox="1"/>
          <p:nvPr/>
        </p:nvSpPr>
        <p:spPr>
          <a:xfrm>
            <a:off x="7134120" y="2558880"/>
            <a:ext cx="685800" cy="787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书</a:t>
            </a:r>
            <a:endParaRPr b="1" lang="en-US" sz="54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内容占位符 2"/>
          <p:cNvSpPr/>
          <p:nvPr/>
        </p:nvSpPr>
        <p:spPr>
          <a:xfrm>
            <a:off x="3060720" y="0"/>
            <a:ext cx="2214720" cy="78732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拓展提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322080" y="1270080"/>
            <a:ext cx="182664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背一背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而不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习惯成自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才出于勤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3346920" y="2278080"/>
            <a:ext cx="14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ér        yà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3275640" y="31417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guàn           rá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63480" y="412740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yú      fè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内容占位符 2"/>
          <p:cNvSpPr/>
          <p:nvPr/>
        </p:nvSpPr>
        <p:spPr>
          <a:xfrm>
            <a:off x="3214800" y="100008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134360" y="2205000"/>
            <a:ext cx="109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扩词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406520" y="3429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（     ）（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03280" y="40784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（     ）（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403280" y="46544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（     ）（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234880" y="350208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劝告        奉劝        劝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2218320" y="413064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首先        首长        首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2218320" y="470520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发现        发明        发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9B22-8CF7-4A4B-92DE-9161E7DD2E9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595160" y="1486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反义词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593720" y="3112920"/>
            <a:ext cx="5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721880" y="398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94160" y="4900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2556000" y="3429000"/>
            <a:ext cx="122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2556000" y="4292640"/>
            <a:ext cx="12240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2484360" y="5229360"/>
            <a:ext cx="12240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3948120" y="31161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3914280" y="40068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914280" y="49417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4439160" y="31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4350960" y="4057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4422240" y="4991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999720"/>
            <a:ext cx="221472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资料宝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70680" y="2349360"/>
            <a:ext cx="4322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劝学》是唐朝诗人颜真卿所写的一首古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劝勉青少年要珍惜少壮年华，少年时代要知道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愤苦读，勤奋学习，有所作为，否则，等到老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再想读书就迟了，后悔已晚，应该珍惜时光。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孩子初步理解人生短暂，从而提高学习的积极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诗歌以短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字便揭示了这个深刻的道理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达到了催人奋进的效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F063-F59B-4A3F-BC01-0B93E5CF91A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117440" y="1486080"/>
            <a:ext cx="131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改错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身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尺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手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961720" y="263844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2945880" y="319572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2945880" y="369720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961720" y="414972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334764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知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3330720" y="326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身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3330720" y="376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迟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3330720" y="4199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首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1CD0-DA7C-43AE-A7F1-EF61C2D598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nth33y1b[1]"/>
          <p:cNvPicPr/>
          <p:nvPr/>
        </p:nvPicPr>
        <p:blipFill>
          <a:blip r:embed="rId1"/>
          <a:stretch/>
        </p:blipFill>
        <p:spPr>
          <a:xfrm>
            <a:off x="1476360" y="836640"/>
            <a:ext cx="6473880" cy="561672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3"/>
          <p:cNvGrpSpPr/>
          <p:nvPr/>
        </p:nvGrpSpPr>
        <p:grpSpPr>
          <a:xfrm>
            <a:off x="6588000" y="2565360"/>
            <a:ext cx="1298880" cy="1370160"/>
            <a:chOff x="6588000" y="2565360"/>
            <a:chExt cx="1298880" cy="1370160"/>
          </a:xfrm>
        </p:grpSpPr>
        <p:pic>
          <p:nvPicPr>
            <p:cNvPr id="109" name="Picture 4" descr="tklu1geq[1]"/>
            <p:cNvPicPr/>
            <p:nvPr/>
          </p:nvPicPr>
          <p:blipFill>
            <a:blip r:embed="rId2"/>
            <a:stretch/>
          </p:blipFill>
          <p:spPr>
            <a:xfrm>
              <a:off x="6588000" y="2565360"/>
              <a:ext cx="129888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5"/>
            <p:cNvSpPr/>
            <p:nvPr/>
          </p:nvSpPr>
          <p:spPr>
            <a:xfrm>
              <a:off x="6647760" y="3103920"/>
              <a:ext cx="115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大叫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6"/>
          <p:cNvGrpSpPr/>
          <p:nvPr/>
        </p:nvGrpSpPr>
        <p:grpSpPr>
          <a:xfrm>
            <a:off x="2916360" y="1557360"/>
            <a:ext cx="1510920" cy="1473120"/>
            <a:chOff x="2916360" y="1557360"/>
            <a:chExt cx="1510920" cy="1473120"/>
          </a:xfrm>
        </p:grpSpPr>
        <p:pic>
          <p:nvPicPr>
            <p:cNvPr id="112" name="Picture 7" descr="tklu1geq[1]"/>
            <p:cNvPicPr/>
            <p:nvPr/>
          </p:nvPicPr>
          <p:blipFill>
            <a:blip r:embed="rId3"/>
            <a:stretch/>
          </p:blipFill>
          <p:spPr>
            <a:xfrm>
              <a:off x="2916360" y="1557360"/>
              <a:ext cx="138312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8"/>
            <p:cNvSpPr/>
            <p:nvPr/>
          </p:nvSpPr>
          <p:spPr>
            <a:xfrm>
              <a:off x="2978640" y="2077560"/>
              <a:ext cx="14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1476360" y="1989000"/>
            <a:ext cx="1655280" cy="1543320"/>
            <a:chOff x="1476360" y="1989000"/>
            <a:chExt cx="1655280" cy="1543320"/>
          </a:xfrm>
        </p:grpSpPr>
        <p:pic>
          <p:nvPicPr>
            <p:cNvPr id="115" name="Picture 10" descr="tklu1geq[1]"/>
            <p:cNvPicPr/>
            <p:nvPr/>
          </p:nvPicPr>
          <p:blipFill>
            <a:blip r:embed="rId4"/>
            <a:stretch/>
          </p:blipFill>
          <p:spPr>
            <a:xfrm>
              <a:off x="1476360" y="1989000"/>
              <a:ext cx="165528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1"/>
            <p:cNvSpPr/>
            <p:nvPr/>
          </p:nvSpPr>
          <p:spPr>
            <a:xfrm>
              <a:off x="1702440" y="2592720"/>
              <a:ext cx="128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袋鼠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2"/>
          <p:cNvGrpSpPr/>
          <p:nvPr/>
        </p:nvGrpSpPr>
        <p:grpSpPr>
          <a:xfrm>
            <a:off x="2917800" y="2494080"/>
            <a:ext cx="1440000" cy="1328760"/>
            <a:chOff x="2917800" y="2494080"/>
            <a:chExt cx="1440000" cy="1328760"/>
          </a:xfrm>
        </p:grpSpPr>
        <p:pic>
          <p:nvPicPr>
            <p:cNvPr id="118" name="Picture 13" descr="tklu1geq[1]"/>
            <p:cNvPicPr/>
            <p:nvPr/>
          </p:nvPicPr>
          <p:blipFill>
            <a:blip r:embed="rId5"/>
            <a:stretch/>
          </p:blipFill>
          <p:spPr>
            <a:xfrm>
              <a:off x="2917800" y="2494080"/>
              <a:ext cx="14400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14"/>
            <p:cNvSpPr/>
            <p:nvPr/>
          </p:nvSpPr>
          <p:spPr>
            <a:xfrm>
              <a:off x="2982600" y="2995560"/>
              <a:ext cx="12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蛇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15"/>
          <p:cNvGrpSpPr/>
          <p:nvPr/>
        </p:nvGrpSpPr>
        <p:grpSpPr>
          <a:xfrm>
            <a:off x="2052720" y="1123920"/>
            <a:ext cx="1295280" cy="1284480"/>
            <a:chOff x="2052720" y="1123920"/>
            <a:chExt cx="1295280" cy="1284480"/>
          </a:xfrm>
        </p:grpSpPr>
        <p:pic>
          <p:nvPicPr>
            <p:cNvPr id="121" name="Picture 16" descr="tklu1geq[1]"/>
            <p:cNvPicPr/>
            <p:nvPr/>
          </p:nvPicPr>
          <p:blipFill>
            <a:blip r:embed="rId6"/>
            <a:stretch/>
          </p:blipFill>
          <p:spPr>
            <a:xfrm>
              <a:off x="2052720" y="1123920"/>
              <a:ext cx="1295280" cy="12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17"/>
            <p:cNvSpPr/>
            <p:nvPr/>
          </p:nvSpPr>
          <p:spPr>
            <a:xfrm>
              <a:off x="2183760" y="1602000"/>
              <a:ext cx="7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老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18"/>
          <p:cNvGrpSpPr/>
          <p:nvPr/>
        </p:nvGrpSpPr>
        <p:grpSpPr>
          <a:xfrm>
            <a:off x="1908000" y="3141720"/>
            <a:ext cx="1368720" cy="1297080"/>
            <a:chOff x="1908000" y="3141720"/>
            <a:chExt cx="1368720" cy="1297080"/>
          </a:xfrm>
        </p:grpSpPr>
        <p:pic>
          <p:nvPicPr>
            <p:cNvPr id="124" name="Picture 19" descr="tklu1geq[1]"/>
            <p:cNvPicPr/>
            <p:nvPr/>
          </p:nvPicPr>
          <p:blipFill>
            <a:blip r:embed="rId7"/>
            <a:stretch/>
          </p:blipFill>
          <p:spPr>
            <a:xfrm>
              <a:off x="1908000" y="3141720"/>
              <a:ext cx="1368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20"/>
            <p:cNvSpPr/>
            <p:nvPr/>
          </p:nvSpPr>
          <p:spPr>
            <a:xfrm>
              <a:off x="2063880" y="3601080"/>
              <a:ext cx="11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21"/>
          <p:cNvGrpSpPr/>
          <p:nvPr/>
        </p:nvGrpSpPr>
        <p:grpSpPr>
          <a:xfrm>
            <a:off x="3060720" y="3502080"/>
            <a:ext cx="1442520" cy="1222200"/>
            <a:chOff x="3060720" y="3502080"/>
            <a:chExt cx="1442520" cy="1222200"/>
          </a:xfrm>
        </p:grpSpPr>
        <p:pic>
          <p:nvPicPr>
            <p:cNvPr id="127" name="Picture 22" descr="tklu1geq[1]"/>
            <p:cNvPicPr/>
            <p:nvPr/>
          </p:nvPicPr>
          <p:blipFill>
            <a:blip r:embed="rId8"/>
            <a:stretch/>
          </p:blipFill>
          <p:spPr>
            <a:xfrm>
              <a:off x="3060720" y="3502080"/>
              <a:ext cx="137772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23"/>
            <p:cNvSpPr/>
            <p:nvPr/>
          </p:nvSpPr>
          <p:spPr>
            <a:xfrm>
              <a:off x="3122640" y="3933720"/>
              <a:ext cx="138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狮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24"/>
          <p:cNvGrpSpPr/>
          <p:nvPr/>
        </p:nvGrpSpPr>
        <p:grpSpPr>
          <a:xfrm>
            <a:off x="6299280" y="1413000"/>
            <a:ext cx="1371600" cy="1488960"/>
            <a:chOff x="6299280" y="1413000"/>
            <a:chExt cx="1371600" cy="1488960"/>
          </a:xfrm>
        </p:grpSpPr>
        <p:pic>
          <p:nvPicPr>
            <p:cNvPr id="130" name="Picture 25" descr="tklu1geq[1]"/>
            <p:cNvPicPr/>
            <p:nvPr/>
          </p:nvPicPr>
          <p:blipFill>
            <a:blip r:embed="rId9"/>
            <a:stretch/>
          </p:blipFill>
          <p:spPr>
            <a:xfrm>
              <a:off x="6299280" y="1413000"/>
              <a:ext cx="13716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26"/>
            <p:cNvSpPr/>
            <p:nvPr/>
          </p:nvSpPr>
          <p:spPr>
            <a:xfrm>
              <a:off x="6446880" y="1945080"/>
              <a:ext cx="7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骆驼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27"/>
          <p:cNvGrpSpPr/>
          <p:nvPr/>
        </p:nvGrpSpPr>
        <p:grpSpPr>
          <a:xfrm>
            <a:off x="2989440" y="693720"/>
            <a:ext cx="1439640" cy="1284480"/>
            <a:chOff x="2989440" y="693720"/>
            <a:chExt cx="1439640" cy="1284480"/>
          </a:xfrm>
        </p:grpSpPr>
        <p:pic>
          <p:nvPicPr>
            <p:cNvPr id="133" name="Picture 28" descr="tklu1geq[1]"/>
            <p:cNvPicPr/>
            <p:nvPr/>
          </p:nvPicPr>
          <p:blipFill>
            <a:blip r:embed="rId10"/>
            <a:stretch/>
          </p:blipFill>
          <p:spPr>
            <a:xfrm>
              <a:off x="2989440" y="693720"/>
              <a:ext cx="1439640" cy="12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29"/>
            <p:cNvSpPr/>
            <p:nvPr/>
          </p:nvSpPr>
          <p:spPr>
            <a:xfrm>
              <a:off x="3192120" y="1171800"/>
              <a:ext cx="7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猪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30"/>
          <p:cNvGrpSpPr/>
          <p:nvPr/>
        </p:nvGrpSpPr>
        <p:grpSpPr>
          <a:xfrm>
            <a:off x="4284720" y="1413000"/>
            <a:ext cx="1437840" cy="1473120"/>
            <a:chOff x="4284720" y="1413000"/>
            <a:chExt cx="1437840" cy="1473120"/>
          </a:xfrm>
        </p:grpSpPr>
        <p:pic>
          <p:nvPicPr>
            <p:cNvPr id="136" name="Picture 31" descr="tklu1geq[1]"/>
            <p:cNvPicPr/>
            <p:nvPr/>
          </p:nvPicPr>
          <p:blipFill>
            <a:blip r:embed="rId11"/>
            <a:stretch/>
          </p:blipFill>
          <p:spPr>
            <a:xfrm>
              <a:off x="4284720" y="1413000"/>
              <a:ext cx="131652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2"/>
            <p:cNvSpPr/>
            <p:nvPr/>
          </p:nvSpPr>
          <p:spPr>
            <a:xfrm>
              <a:off x="4343760" y="1933200"/>
              <a:ext cx="137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熊猫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Group 33"/>
          <p:cNvGrpSpPr/>
          <p:nvPr/>
        </p:nvGrpSpPr>
        <p:grpSpPr>
          <a:xfrm>
            <a:off x="4213080" y="2565360"/>
            <a:ext cx="1510920" cy="1328760"/>
            <a:chOff x="4213080" y="2565360"/>
            <a:chExt cx="1510920" cy="1328760"/>
          </a:xfrm>
        </p:grpSpPr>
        <p:pic>
          <p:nvPicPr>
            <p:cNvPr id="139" name="Picture 34" descr="tklu1geq[1]"/>
            <p:cNvPicPr/>
            <p:nvPr/>
          </p:nvPicPr>
          <p:blipFill>
            <a:blip r:embed="rId12"/>
            <a:stretch/>
          </p:blipFill>
          <p:spPr>
            <a:xfrm>
              <a:off x="4213080" y="2565360"/>
              <a:ext cx="1383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5"/>
            <p:cNvSpPr/>
            <p:nvPr/>
          </p:nvSpPr>
          <p:spPr>
            <a:xfrm>
              <a:off x="4275360" y="3034440"/>
              <a:ext cx="14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狐狸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36"/>
          <p:cNvGrpSpPr/>
          <p:nvPr/>
        </p:nvGrpSpPr>
        <p:grpSpPr>
          <a:xfrm>
            <a:off x="5148360" y="3070080"/>
            <a:ext cx="1439640" cy="1328760"/>
            <a:chOff x="5148360" y="3070080"/>
            <a:chExt cx="1439640" cy="1328760"/>
          </a:xfrm>
        </p:grpSpPr>
        <p:pic>
          <p:nvPicPr>
            <p:cNvPr id="142" name="Picture 37" descr="tklu1geq[1]"/>
            <p:cNvPicPr/>
            <p:nvPr/>
          </p:nvPicPr>
          <p:blipFill>
            <a:blip r:embed="rId13"/>
            <a:stretch/>
          </p:blipFill>
          <p:spPr>
            <a:xfrm>
              <a:off x="5148360" y="3070080"/>
              <a:ext cx="14396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38"/>
            <p:cNvSpPr/>
            <p:nvPr/>
          </p:nvSpPr>
          <p:spPr>
            <a:xfrm>
              <a:off x="5213160" y="3571560"/>
              <a:ext cx="126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猫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39"/>
          <p:cNvGrpSpPr/>
          <p:nvPr/>
        </p:nvGrpSpPr>
        <p:grpSpPr>
          <a:xfrm>
            <a:off x="5292720" y="2205000"/>
            <a:ext cx="1584000" cy="1328760"/>
            <a:chOff x="5292720" y="2205000"/>
            <a:chExt cx="1584000" cy="1328760"/>
          </a:xfrm>
        </p:grpSpPr>
        <p:pic>
          <p:nvPicPr>
            <p:cNvPr id="145" name="Picture 40" descr="tklu1geq[1]"/>
            <p:cNvPicPr/>
            <p:nvPr/>
          </p:nvPicPr>
          <p:blipFill>
            <a:blip r:embed="rId14"/>
            <a:stretch/>
          </p:blipFill>
          <p:spPr>
            <a:xfrm>
              <a:off x="5292720" y="2205000"/>
              <a:ext cx="15840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41"/>
            <p:cNvSpPr/>
            <p:nvPr/>
          </p:nvSpPr>
          <p:spPr>
            <a:xfrm>
              <a:off x="5364000" y="2706480"/>
              <a:ext cx="139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梅花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42"/>
          <p:cNvGrpSpPr/>
          <p:nvPr/>
        </p:nvGrpSpPr>
        <p:grpSpPr>
          <a:xfrm>
            <a:off x="5435640" y="693720"/>
            <a:ext cx="1441440" cy="1328760"/>
            <a:chOff x="5435640" y="693720"/>
            <a:chExt cx="1441440" cy="1328760"/>
          </a:xfrm>
        </p:grpSpPr>
        <p:pic>
          <p:nvPicPr>
            <p:cNvPr id="148" name="Picture 43" descr="tklu1geq[1]"/>
            <p:cNvPicPr/>
            <p:nvPr/>
          </p:nvPicPr>
          <p:blipFill>
            <a:blip r:embed="rId15"/>
            <a:stretch/>
          </p:blipFill>
          <p:spPr>
            <a:xfrm>
              <a:off x="5435640" y="693720"/>
              <a:ext cx="1441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44"/>
            <p:cNvSpPr/>
            <p:nvPr/>
          </p:nvSpPr>
          <p:spPr>
            <a:xfrm>
              <a:off x="5500440" y="1195200"/>
              <a:ext cx="127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鸡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5"/>
          <p:cNvGrpSpPr/>
          <p:nvPr/>
        </p:nvGrpSpPr>
        <p:grpSpPr>
          <a:xfrm>
            <a:off x="4429080" y="620640"/>
            <a:ext cx="1150920" cy="1330560"/>
            <a:chOff x="4429080" y="620640"/>
            <a:chExt cx="1150920" cy="1330560"/>
          </a:xfrm>
        </p:grpSpPr>
        <p:pic>
          <p:nvPicPr>
            <p:cNvPr id="151" name="Picture 46" descr="tklu1geq[1]"/>
            <p:cNvPicPr/>
            <p:nvPr/>
          </p:nvPicPr>
          <p:blipFill>
            <a:blip r:embed="rId16"/>
            <a:stretch/>
          </p:blipFill>
          <p:spPr>
            <a:xfrm>
              <a:off x="4429080" y="620640"/>
              <a:ext cx="115092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47"/>
            <p:cNvSpPr/>
            <p:nvPr/>
          </p:nvSpPr>
          <p:spPr>
            <a:xfrm>
              <a:off x="4480920" y="1122840"/>
              <a:ext cx="101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兔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内容占位符 2"/>
          <p:cNvSpPr/>
          <p:nvPr/>
        </p:nvSpPr>
        <p:spPr>
          <a:xfrm>
            <a:off x="3419640" y="-27000"/>
            <a:ext cx="221436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5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5869-5879-4DB6-A492-91FF8C54AC8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无标题-4"/>
          <p:cNvPicPr/>
          <p:nvPr/>
        </p:nvPicPr>
        <p:blipFill>
          <a:blip r:embed="rId1"/>
          <a:stretch/>
        </p:blipFill>
        <p:spPr>
          <a:xfrm>
            <a:off x="0" y="765000"/>
            <a:ext cx="9180360" cy="1236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无标题-5"/>
          <p:cNvPicPr/>
          <p:nvPr/>
        </p:nvPicPr>
        <p:blipFill>
          <a:blip r:embed="rId2"/>
          <a:stretch/>
        </p:blipFill>
        <p:spPr>
          <a:xfrm>
            <a:off x="179280" y="20808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79640" y="2205000"/>
            <a:ext cx="70851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更灯火五更鸡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是男儿读书时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发不知勤学早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首方悔读书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916360" y="836640"/>
            <a:ext cx="30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劝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038560" y="1409760"/>
            <a:ext cx="24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   颜真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内容占位符 2"/>
          <p:cNvSpPr/>
          <p:nvPr/>
        </p:nvSpPr>
        <p:spPr>
          <a:xfrm>
            <a:off x="2987640" y="-27000"/>
            <a:ext cx="2216160" cy="72072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预习</a:t>
            </a: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检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047680" y="2349360"/>
            <a:ext cx="35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sān gēng dēng huǒ wǔ gēng j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035800" y="343224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zhèng shì nán ér dú shū sh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2079720" y="442764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hēi  fà  bù  zhī  qín xué zǎ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2075760" y="547704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bái shǒu fāng huǐ dú shū ch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38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劝 学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唐  颜真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BC1A-9719-49E6-AA83-C2DB257990D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无标题-4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07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绿花0"/>
          <p:cNvPicPr/>
          <p:nvPr/>
        </p:nvPicPr>
        <p:blipFill>
          <a:blip r:embed="rId2"/>
          <a:srcRect l="0" t="73942" r="80252" b="0"/>
          <a:stretch/>
        </p:blipFill>
        <p:spPr>
          <a:xfrm>
            <a:off x="-36360" y="4869000"/>
            <a:ext cx="1644480" cy="1636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绿花1"/>
          <p:cNvPicPr/>
          <p:nvPr/>
        </p:nvPicPr>
        <p:blipFill>
          <a:blip r:embed="rId3"/>
          <a:srcRect l="15764" t="54593" r="59031" b="0"/>
          <a:stretch/>
        </p:blipFill>
        <p:spPr>
          <a:xfrm>
            <a:off x="1692360" y="3933720"/>
            <a:ext cx="1790640" cy="2421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绿花2"/>
          <p:cNvPicPr/>
          <p:nvPr/>
        </p:nvPicPr>
        <p:blipFill>
          <a:blip r:embed="rId4"/>
          <a:srcRect l="57472" t="47832" r="17331" b="2142"/>
          <a:stretch/>
        </p:blipFill>
        <p:spPr>
          <a:xfrm>
            <a:off x="5364000" y="3933720"/>
            <a:ext cx="1656000" cy="2467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绿花4"/>
          <p:cNvPicPr/>
          <p:nvPr/>
        </p:nvPicPr>
        <p:blipFill>
          <a:blip r:embed="rId5"/>
          <a:srcRect l="79591" t="60241" r="0" b="0"/>
          <a:stretch/>
        </p:blipFill>
        <p:spPr>
          <a:xfrm>
            <a:off x="7667640" y="4508640"/>
            <a:ext cx="1368360" cy="2000160"/>
          </a:xfrm>
          <a:prstGeom prst="rect">
            <a:avLst/>
          </a:prstGeom>
          <a:ln w="0">
            <a:noFill/>
          </a:ln>
        </p:spPr>
      </p:pic>
      <p:sp>
        <p:nvSpPr>
          <p:cNvPr id="172" name="Oval 8"/>
          <p:cNvSpPr/>
          <p:nvPr/>
        </p:nvSpPr>
        <p:spPr>
          <a:xfrm>
            <a:off x="3851280" y="1052640"/>
            <a:ext cx="793800" cy="861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073480" y="175896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qī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556080" y="3222720"/>
            <a:ext cx="46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唐代中期杰出书法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060720" y="-27000"/>
            <a:ext cx="2214720" cy="785880"/>
          </a:xfrm>
          <a:prstGeom prst="rect">
            <a:avLst/>
          </a:prstGeom>
          <a:solidFill>
            <a:srgbClr val="fabf8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课文解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348000" y="1341360"/>
            <a:ext cx="5546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Calibri"/>
              </a:rPr>
              <a:t>勉励人们要不停的学习</a:t>
            </a:r>
            <a:r>
              <a:rPr b="1" lang="en-US" sz="2800" spc="-1" strike="noStrike">
                <a:solidFill>
                  <a:srgbClr val="3333cc"/>
                </a:solidFill>
                <a:latin typeface="Calibri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Calibri"/>
              </a:rPr>
              <a:t>只有这样才能增长知识，发展才能，培养高尚的品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D6FD-660F-4925-AC09-B1F2D5801FE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无标题-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"/>
          <p:cNvSpPr txBox="1"/>
          <p:nvPr/>
        </p:nvSpPr>
        <p:spPr>
          <a:xfrm>
            <a:off x="1187280" y="1341360"/>
            <a:ext cx="215928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劝学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774520" y="3141720"/>
            <a:ext cx="729000" cy="2658960"/>
          </a:xfrm>
          <a:prstGeom prst="rect">
            <a:avLst/>
          </a:prstGeom>
          <a:solidFill>
            <a:srgbClr val="e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劝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774520" y="441432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学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3780000" y="4149720"/>
            <a:ext cx="2016000" cy="493560"/>
          </a:xfrm>
          <a:prstGeom prst="leftArrow">
            <a:avLst>
              <a:gd name="adj1" fmla="val 50000"/>
              <a:gd name="adj2" fmla="val 102096"/>
            </a:avLst>
          </a:prstGeom>
          <a:solidFill>
            <a:srgbClr val="f7fbff"/>
          </a:solidFill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214680" y="3213000"/>
            <a:ext cx="729000" cy="2649600"/>
          </a:xfrm>
          <a:prstGeom prst="rect">
            <a:avLst/>
          </a:prstGeom>
          <a:solidFill>
            <a:srgbClr val="e1f0ff">
              <a:alpha val="50000"/>
            </a:srgbClr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汉鼎繁古印"/>
                <a:ea typeface="汉鼎繁古印"/>
              </a:rPr>
              <a:t>劝  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467F-A548-42BF-80B0-6D2F6E91E26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无标题-4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1241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无标题-5"/>
          <p:cNvPicPr/>
          <p:nvPr/>
        </p:nvPicPr>
        <p:blipFill>
          <a:blip r:embed="rId2"/>
          <a:stretch/>
        </p:blipFill>
        <p:spPr>
          <a:xfrm>
            <a:off x="179280" y="20808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620720" y="1700280"/>
            <a:ext cx="7085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更灯火五更鸡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是男儿读书时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黑发不知勤学早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首方悔读书迟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2773440" y="2062080"/>
            <a:ext cx="614160" cy="693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916360" y="909720"/>
            <a:ext cx="30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劝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038560" y="1409760"/>
            <a:ext cx="24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   颜真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3997440" y="3070080"/>
            <a:ext cx="1081080" cy="712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1695600" y="4079880"/>
            <a:ext cx="1149120" cy="711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898800" y="4078440"/>
            <a:ext cx="60336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2254320" y="5086440"/>
            <a:ext cx="663480" cy="72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5051520" y="5087880"/>
            <a:ext cx="60300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349800" y="5087880"/>
            <a:ext cx="64764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60D2-3737-4A69-AD43-9CF1DB7DF65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无标题-4"/>
          <p:cNvPicPr/>
          <p:nvPr/>
        </p:nvPicPr>
        <p:blipFill>
          <a:blip r:embed="rId1"/>
          <a:stretch/>
        </p:blipFill>
        <p:spPr>
          <a:xfrm>
            <a:off x="-34920" y="838080"/>
            <a:ext cx="9217080" cy="124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无标题-5"/>
          <p:cNvPicPr/>
          <p:nvPr/>
        </p:nvPicPr>
        <p:blipFill>
          <a:blip r:embed="rId2"/>
          <a:stretch/>
        </p:blipFill>
        <p:spPr>
          <a:xfrm>
            <a:off x="34920" y="260280"/>
            <a:ext cx="2448000" cy="18320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2017800" y="476280"/>
            <a:ext cx="301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091120" y="4892760"/>
            <a:ext cx="216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425680" y="2990880"/>
            <a:ext cx="650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425680" y="3960720"/>
            <a:ext cx="125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22440" y="4892760"/>
            <a:ext cx="185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041800" y="5697360"/>
            <a:ext cx="12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041800" y="3076560"/>
            <a:ext cx="11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422440" y="2039760"/>
            <a:ext cx="14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041800" y="3960720"/>
            <a:ext cx="21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451240" y="5697360"/>
            <a:ext cx="177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5041800" y="208908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900520" y="2089080"/>
            <a:ext cx="132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3189240" y="2016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qu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7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Text Box 18"/>
          <p:cNvSpPr/>
          <p:nvPr/>
        </p:nvSpPr>
        <p:spPr>
          <a:xfrm>
            <a:off x="5842080" y="1994040"/>
            <a:ext cx="17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xu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9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6" name="Text Box 20"/>
          <p:cNvSpPr/>
          <p:nvPr/>
        </p:nvSpPr>
        <p:spPr>
          <a:xfrm>
            <a:off x="5834160" y="2897280"/>
            <a:ext cx="11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sh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3351240" y="393876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hē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972040" y="40100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f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3354480" y="4943520"/>
            <a:ext cx="9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qí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805360" y="4871880"/>
            <a:ext cx="14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ē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3189240" y="5819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shŏ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5972040" y="5819760"/>
            <a:ext cx="17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hu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351240" y="2968560"/>
            <a:ext cx="10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C4C4-9782-4A85-B627-9459264FDB2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无标题-4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124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无标题-5"/>
          <p:cNvPicPr/>
          <p:nvPr/>
        </p:nvPicPr>
        <p:blipFill>
          <a:blip r:embed="rId2"/>
          <a:stretch/>
        </p:blipFill>
        <p:spPr>
          <a:xfrm>
            <a:off x="179280" y="18900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1835280" y="1866960"/>
            <a:ext cx="70848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更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灯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五更鸡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正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男儿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书时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黑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勤学早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白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方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书迟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276720" y="981000"/>
            <a:ext cx="30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劝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645080" y="1486080"/>
            <a:ext cx="24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   颜真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06:57:22Z</dcterms:created>
  <dc:creator/>
  <dc:description/>
  <cp:keywords/>
  <dc:language>en-US</dc:language>
  <cp:lastModifiedBy/>
  <dcterms:modified xsi:type="dcterms:W3CDTF">2017-02-05T06:57:25Z</dcterms:modified>
  <cp:revision>1</cp:revision>
  <dc:subject/>
  <dc:title/>
</cp:coreProperties>
</file>