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png" ContentType="image/pn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ACA-D886-4EE7-83A4-4D0BB83E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358-67BF-41DB-B9C0-9C4BAB4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DA9-059E-48E8-BD15-1F1F02B1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488-91FC-4278-AF05-A206BF86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711-1310-4EA9-AE98-1C75291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E1F-A331-4ACB-BE69-1BE2DC9A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F5D-4341-4A9E-895F-9EC7801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4D4-AC9B-4837-B421-B5A26B22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80A-5E72-45B1-9EEC-AF8FAFB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497-A1F0-497B-936A-5474595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07E-2D36-4FB6-9B8F-7E0C805F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A4C-583A-47DD-BF41-454C81B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DCF-CA0C-4197-802A-E9A6F8A21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121"/>
          <p:cNvSpPr txBox="1"/>
          <p:nvPr/>
        </p:nvSpPr>
        <p:spPr>
          <a:xfrm>
            <a:off x="1828800" y="1295280"/>
            <a:ext cx="5867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骆驼和羊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1267" descr="pic_170717"/>
          <p:cNvPicPr/>
          <p:nvPr/>
        </p:nvPicPr>
        <p:blipFill>
          <a:blip r:embed="rId1"/>
          <a:srcRect l="0" t="29544" r="10447" b="25235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~~~~~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画出骆驼怎么也钻不进园子里的句子。找出这句话中的动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骆驼为什么钻不进去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答：因为骆驼又高又大，门却又窄又矮，所以钻不进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怎么证明矮比高好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羊用大模大样地走进又窄又矮的门，去吃园子里的草，骆驼钻不进去，证明矮比高好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8675"/>
          <p:cNvSpPr/>
          <p:nvPr/>
        </p:nvSpPr>
        <p:spPr>
          <a:xfrm>
            <a:off x="5486400" y="5335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骆驼认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8676"/>
          <p:cNvSpPr/>
          <p:nvPr/>
        </p:nvSpPr>
        <p:spPr>
          <a:xfrm>
            <a:off x="762120" y="2666880"/>
            <a:ext cx="1006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骆驼不肯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自然段主要讲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答：第三自然段主要讲羊用大模大样地走进又窄又矮的门，去吃园子里的草，骆驼钻不进去，证明矮比高好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他俩找谁评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6002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他俩找老牛评理。老牛说：“你们俩都只看到自己的长处，看不到自己的短处，这是不对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23"/>
          <p:cNvSpPr/>
          <p:nvPr/>
        </p:nvSpPr>
        <p:spPr>
          <a:xfrm>
            <a:off x="4878360" y="6858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老牛是怎样评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24"/>
          <p:cNvSpPr/>
          <p:nvPr/>
        </p:nvSpPr>
        <p:spPr>
          <a:xfrm>
            <a:off x="1703520" y="4114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老牛说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25"/>
          <p:cNvSpPr/>
          <p:nvPr/>
        </p:nvSpPr>
        <p:spPr>
          <a:xfrm>
            <a:off x="685800" y="4952880"/>
            <a:ext cx="57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我觉得老牛说得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老牛说‘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这是不对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指什么地方不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答：老牛说‘这是不对的’指骆驼长得高，只看到（                ）长处，看不到自己的短处；羊长得矮，就只看到（               ）长处，看不到自己的短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1747"/>
          <p:cNvSpPr/>
          <p:nvPr/>
        </p:nvSpPr>
        <p:spPr>
          <a:xfrm>
            <a:off x="4191120" y="289548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长得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1748"/>
          <p:cNvSpPr/>
          <p:nvPr/>
        </p:nvSpPr>
        <p:spPr>
          <a:xfrm>
            <a:off x="4191120" y="411480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长得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522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自然段主要讲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答：第四自然段主要讲老牛说他俩的说法都不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4419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文主要讲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课文讲骆驼和羊都只看到自己的长处，看不到自己的短处，老牛说这是不对的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3795"/>
          <p:cNvSpPr/>
          <p:nvPr/>
        </p:nvSpPr>
        <p:spPr>
          <a:xfrm>
            <a:off x="0" y="685800"/>
            <a:ext cx="1257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们通过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明白了一个什么道理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3796"/>
          <p:cNvSpPr/>
          <p:nvPr/>
        </p:nvSpPr>
        <p:spPr>
          <a:xfrm>
            <a:off x="1288440" y="3581280"/>
            <a:ext cx="592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通过这篇课文的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习，我们明白了既要看到自己的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处，也要看到自己的短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5364"/>
          <p:cNvSpPr txBox="1"/>
          <p:nvPr/>
        </p:nvSpPr>
        <p:spPr>
          <a:xfrm>
            <a:off x="838080" y="1371600"/>
            <a:ext cx="502920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99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477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打一动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171"/>
          <p:cNvSpPr/>
          <p:nvPr/>
        </p:nvSpPr>
        <p:spPr>
          <a:xfrm>
            <a:off x="1812960" y="19270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172"/>
          <p:cNvSpPr/>
          <p:nvPr/>
        </p:nvSpPr>
        <p:spPr>
          <a:xfrm>
            <a:off x="2121120" y="213372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沙漠一只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船上两座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子高又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耐暑顶呱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7173"/>
          <p:cNvSpPr/>
          <p:nvPr/>
        </p:nvSpPr>
        <p:spPr>
          <a:xfrm>
            <a:off x="5518440" y="213372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纪并不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胡子一大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遇见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爱叫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形标注 7174"/>
          <p:cNvSpPr/>
          <p:nvPr/>
        </p:nvSpPr>
        <p:spPr>
          <a:xfrm rot="21448800">
            <a:off x="6781320" y="456840"/>
            <a:ext cx="1600200" cy="1143000"/>
          </a:xfrm>
          <a:prstGeom prst="wedgeEllipseCallout">
            <a:avLst>
              <a:gd name="adj1" fmla="val -48592"/>
              <a:gd name="adj2" fmla="val 68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175"/>
          <p:cNvSpPr/>
          <p:nvPr/>
        </p:nvSpPr>
        <p:spPr>
          <a:xfrm>
            <a:off x="7010280" y="762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猜一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176" descr="38234_c"/>
          <p:cNvPicPr/>
          <p:nvPr/>
        </p:nvPicPr>
        <p:blipFill>
          <a:blip r:embed="rId1"/>
          <a:stretch/>
        </p:blipFill>
        <p:spPr>
          <a:xfrm>
            <a:off x="990720" y="228600"/>
            <a:ext cx="1828800" cy="1374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177" descr="793533873"/>
          <p:cNvPicPr/>
          <p:nvPr/>
        </p:nvPicPr>
        <p:blipFill>
          <a:blip r:embed="rId2"/>
          <a:stretch/>
        </p:blipFill>
        <p:spPr>
          <a:xfrm>
            <a:off x="228600" y="1752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178" descr="05eff6ede87532dbb31cb117"/>
          <p:cNvPicPr/>
          <p:nvPr/>
        </p:nvPicPr>
        <p:blipFill>
          <a:blip r:embed="rId3"/>
          <a:stretch/>
        </p:blipFill>
        <p:spPr>
          <a:xfrm>
            <a:off x="0" y="3809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179" descr="793620375"/>
          <p:cNvPicPr/>
          <p:nvPr/>
        </p:nvPicPr>
        <p:blipFill>
          <a:blip r:embed="rId4"/>
          <a:stretch/>
        </p:blipFill>
        <p:spPr>
          <a:xfrm>
            <a:off x="1752480" y="4724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180" descr="1604085625117_thumbnail"/>
          <p:cNvPicPr/>
          <p:nvPr/>
        </p:nvPicPr>
        <p:blipFill>
          <a:blip r:embed="rId5"/>
          <a:stretch/>
        </p:blipFill>
        <p:spPr>
          <a:xfrm>
            <a:off x="3809880" y="4876920"/>
            <a:ext cx="2133720" cy="1565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7181" descr="200771692939747"/>
          <p:cNvPicPr/>
          <p:nvPr/>
        </p:nvPicPr>
        <p:blipFill>
          <a:blip r:embed="rId6"/>
          <a:stretch/>
        </p:blipFill>
        <p:spPr>
          <a:xfrm>
            <a:off x="7391520" y="22860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182" descr="DSC_5833"/>
          <p:cNvPicPr/>
          <p:nvPr/>
        </p:nvPicPr>
        <p:blipFill>
          <a:blip r:embed="rId7"/>
          <a:stretch/>
        </p:blipFill>
        <p:spPr>
          <a:xfrm>
            <a:off x="6248520" y="4724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7183"/>
          <p:cNvSpPr/>
          <p:nvPr/>
        </p:nvSpPr>
        <p:spPr>
          <a:xfrm>
            <a:off x="2088720" y="419112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( </a:t>
            </a:r>
            <a:r>
              <a:rPr b="1" lang="zh-CN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骆驼 </a:t>
            </a:r>
            <a:r>
              <a:rPr b="1" lang="en-US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84"/>
          <p:cNvSpPr/>
          <p:nvPr/>
        </p:nvSpPr>
        <p:spPr>
          <a:xfrm>
            <a:off x="5633280" y="419112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(  </a:t>
            </a:r>
            <a:r>
              <a:rPr b="1" lang="zh-CN" sz="2400" spc="-1" strike="noStrike">
                <a:solidFill>
                  <a:srgbClr val="ff3300"/>
                </a:solidFill>
                <a:latin typeface="华文仿宋"/>
                <a:ea typeface="华文仿宋"/>
              </a:rPr>
              <a:t>羊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角色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骆驼长得高，羊长得矮。骆驼说：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长得高好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羊说：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不对，长得矮才好呢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骆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说：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我可以做一件事情，证明高比矮 好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羊说：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我也可以做一件事情，证明矮比高好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21507"/>
          <p:cNvSpPr/>
          <p:nvPr/>
        </p:nvSpPr>
        <p:spPr>
          <a:xfrm>
            <a:off x="838080" y="1981080"/>
            <a:ext cx="63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骆驼和羊为什么争论起来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508"/>
          <p:cNvSpPr/>
          <p:nvPr/>
        </p:nvSpPr>
        <p:spPr>
          <a:xfrm>
            <a:off x="2114280" y="2971800"/>
            <a:ext cx="458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因为骆驼长得高 ，说高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羊长得矮，说矮好，所以骆驼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羊争论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808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自然段主要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第一自然段主要讲骆驼和羊都说自己长得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100" descr="W020070320354459751188"/>
          <p:cNvPicPr/>
          <p:nvPr/>
        </p:nvPicPr>
        <p:blipFill>
          <a:blip r:embed="rId1"/>
          <a:srcRect l="0" t="48965" r="0" b="2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用“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_______”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画出羊怎么也吃不到树叶的句子。找出这句话中的动词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2000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骆驼怎么证明高比矮好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441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答：骆驼用一抬头就吃到了伸出围墙外边的树叶，羊吃不到，证明高比矮好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4579"/>
          <p:cNvSpPr/>
          <p:nvPr/>
        </p:nvSpPr>
        <p:spPr>
          <a:xfrm>
            <a:off x="6326280" y="3352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认输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4580"/>
          <p:cNvSpPr/>
          <p:nvPr/>
        </p:nvSpPr>
        <p:spPr>
          <a:xfrm>
            <a:off x="2514600" y="5638680"/>
            <a:ext cx="35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羊不肯认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自然段主要讲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3885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答：第二自然段主要讲骆驼用一抬头就吃到了伸出围墙外边的树叶，羊吃不到，证明高比矮好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14:16Z</dcterms:created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6-12-11T06:31:24Z</dcterms:modified>
  <cp:revision>18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