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media/chimes.wav" ContentType="audio/x-wav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EC68-5185-4D77-BCED-0464B7D6E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C137-FCF7-4FDE-8A03-31B6B42F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29AF-E769-4E85-9C75-8B1F2E363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7C8F-AF0E-4AE2-8E2E-35164C845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14A2-196C-4F9C-90CF-FEACB6FAD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906B-8217-440F-860B-E0F5CF58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6512-BE66-41AC-A917-5BBEFE52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A635-66D5-4334-8D2A-9AC94EBE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8AAC-BF28-463C-A527-6BF20152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6CC6-903B-4B8C-B43A-DDE1CA1E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1C2C-6203-415E-8317-E2986702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95C0-FC72-43BA-B1B8-4389334F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EAAC-F469-487F-A28D-42370AD7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F873-E238-46D0-BEB8-BF534C78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7087-C9C9-46D1-B213-25A4E98E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91C83-BE54-45BC-AC97-7082E1EC2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A19F-E67B-4D0E-9598-0560B3BEE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D0BC1-6B08-42E3-AF2D-70AF3E75B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B6FA3-8A7E-48DC-8CC6-EDFF3CD7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E8E7C-EF61-4174-AB2E-6B5F7999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533C8-E0A4-475A-9FA9-4BB9934D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2097C-B38F-4CA9-A807-ACB8270C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2E5E-C520-41F7-BC19-EB31AE1A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9D195-D438-4CB3-86DF-51E2E30D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DFE71-15C5-4CBF-99B0-3DB8AF89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DC46D-9B02-4C6F-A61B-F7C944B2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F30E1-AFB6-444A-91CE-F853D90A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EDCDD-FCC8-4F86-8A47-796E716B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2B3B8-684B-417C-BA6B-2F9A66EC1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658E4-2F12-42B6-86FB-C1E9FE09E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F224B-DBB2-4830-9295-ED22BCFB2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BA3B9-BB6C-47E9-96B5-53D99F94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A3C35-E217-4CA8-B685-5A59AD57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FC5E-1DC1-41AD-853F-C7F0BD9A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2F540-2AFD-424D-984C-4CE81C01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564E4-AB4B-46F9-B43C-202D601B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36218-9157-4B86-B49D-FE1C85DF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09BFC-EABD-45B9-914C-45A633D8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2DFAC-C32F-44B3-A86E-770AEA2B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EB2EC-C5B9-47D3-8FF1-92AC5EBD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573C9-B24B-4C6C-B58A-A2846673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8039B-B2D6-4670-BB9D-EA66F4795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468FC-21D9-426B-9911-547F24ACF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C196-7158-482B-A306-43F7E714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B8B0-E650-4ACE-93B8-738290E6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1714-0ABD-496D-882F-AF0AB82F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12C4-E0B2-4ADF-98E7-F6FE358B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2C39-DD75-4F78-AF78-71F28C8F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71D6-AFE8-40F1-BAE6-11CBE4DEA7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D3E5-CE55-487C-93AD-B6947CF338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任意多边形 31745"/>
          <p:cNvSpPr/>
          <p:nvPr/>
        </p:nvSpPr>
        <p:spPr>
          <a:xfrm rot="18427200">
            <a:off x="7776720" y="-14400"/>
            <a:ext cx="1162080" cy="2082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E2AE-D54A-419D-B3F5-F1C491B04AC5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任意多边形 31751"/>
          <p:cNvSpPr/>
          <p:nvPr/>
        </p:nvSpPr>
        <p:spPr>
          <a:xfrm rot="18427200">
            <a:off x="7862760" y="20160"/>
            <a:ext cx="1165320" cy="20988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任意多边形 31752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31753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1" name="任意多边形 31754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任意多边形 31755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任意多边形 31756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任意多边形 31757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任意多边形 31758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任意多边形 31759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任意多边形 31760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任意多边形 31761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任意多边形 31762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组合 31763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" name="组合 31764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2" name="任意多边形 31765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任意多边形 31766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任意多边形 31767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任意多边形 31768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任意多边形 31769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任意多边形 31770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" name="组合 31771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9" name="任意多边形 31772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任意多边形 31773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任意多边形 31774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任意多边形 31775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任意多边形 31776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任意多边形 31777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任意多边形 31778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任意多边形 31779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7" name="组合 31780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8" name="任意多边形 31781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任意多边形 31782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31783"/>
          <p:cNvGrpSpPr/>
          <p:nvPr/>
        </p:nvGrpSpPr>
        <p:grpSpPr>
          <a:xfrm>
            <a:off x="7171560" y="-84600"/>
            <a:ext cx="2427480" cy="2247120"/>
            <a:chOff x="7171560" y="-84600"/>
            <a:chExt cx="2427480" cy="2247120"/>
          </a:xfrm>
        </p:grpSpPr>
        <p:grpSp>
          <p:nvGrpSpPr>
            <p:cNvPr id="121" name="组合 31784"/>
            <p:cNvGrpSpPr/>
            <p:nvPr/>
          </p:nvGrpSpPr>
          <p:grpSpPr>
            <a:xfrm>
              <a:off x="7171560" y="-84600"/>
              <a:ext cx="2427480" cy="2247120"/>
              <a:chOff x="7171560" y="-84600"/>
              <a:chExt cx="2427480" cy="2247120"/>
            </a:xfrm>
          </p:grpSpPr>
          <p:sp>
            <p:nvSpPr>
              <p:cNvPr id="122" name="任意多边形 31785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" name="组合 31786"/>
              <p:cNvGrpSpPr/>
              <p:nvPr/>
            </p:nvGrpSpPr>
            <p:grpSpPr>
              <a:xfrm>
                <a:off x="7171560" y="-84600"/>
                <a:ext cx="2427480" cy="2247120"/>
                <a:chOff x="7171560" y="-84600"/>
                <a:chExt cx="2427480" cy="2247120"/>
              </a:xfrm>
            </p:grpSpPr>
            <p:sp>
              <p:nvSpPr>
                <p:cNvPr id="124" name="任意多边形 31787"/>
                <p:cNvSpPr/>
                <p:nvPr/>
              </p:nvSpPr>
              <p:spPr>
                <a:xfrm rot="18427200">
                  <a:off x="7880400" y="112680"/>
                  <a:ext cx="242640" cy="198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任意多边形 31788"/>
                <p:cNvSpPr/>
                <p:nvPr/>
              </p:nvSpPr>
              <p:spPr>
                <a:xfrm rot="18427200">
                  <a:off x="8011440" y="525960"/>
                  <a:ext cx="42696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任意多边形 31789"/>
                <p:cNvSpPr/>
                <p:nvPr/>
              </p:nvSpPr>
              <p:spPr>
                <a:xfrm rot="18427200">
                  <a:off x="7709760" y="28764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任意多边形 31790"/>
                <p:cNvSpPr/>
                <p:nvPr/>
              </p:nvSpPr>
              <p:spPr>
                <a:xfrm rot="18427200">
                  <a:off x="7783200" y="-2736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任意多边形 31791"/>
                <p:cNvSpPr/>
                <p:nvPr/>
              </p:nvSpPr>
              <p:spPr>
                <a:xfrm rot="18427200">
                  <a:off x="8406360" y="142236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任意多边形 31792"/>
                <p:cNvSpPr/>
                <p:nvPr/>
              </p:nvSpPr>
              <p:spPr>
                <a:xfrm rot="18427200">
                  <a:off x="8336160" y="127836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任意多边形 31793"/>
                <p:cNvSpPr/>
                <p:nvPr/>
              </p:nvSpPr>
              <p:spPr>
                <a:xfrm rot="18427200">
                  <a:off x="7910640" y="333000"/>
                  <a:ext cx="287280" cy="233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任意多边形 31794"/>
                <p:cNvSpPr/>
                <p:nvPr/>
              </p:nvSpPr>
              <p:spPr>
                <a:xfrm rot="18427200">
                  <a:off x="7852680" y="223920"/>
                  <a:ext cx="28404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" name="直接连接符 31795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任意多边形 32769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组合 32775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1" name="任意多边形 32776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任意多边形 32777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任意多边形 32778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组合 32779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5" name="任意多边形 32780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任意多边形 32781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任意多边形 32782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任意多边形 32783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任意多边形 32784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0" name="组合 32785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1" name="任意多边形 32786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任意多边形 32787"/>
            <p:cNvSpPr/>
            <p:nvPr/>
          </p:nvSpPr>
          <p:spPr>
            <a:xfrm rot="7320000">
              <a:off x="7768080" y="4639320"/>
              <a:ext cx="99504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任意多边形 32788"/>
            <p:cNvSpPr/>
            <p:nvPr/>
          </p:nvSpPr>
          <p:spPr>
            <a:xfrm rot="7320000">
              <a:off x="7936560" y="4623840"/>
              <a:ext cx="660240" cy="42048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组合 32789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85" name="任意多边形 32790"/>
              <p:cNvSpPr/>
              <p:nvPr/>
            </p:nvSpPr>
            <p:spPr>
              <a:xfrm rot="7320000">
                <a:off x="7916760" y="5064120"/>
                <a:ext cx="9360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任意多边形 32791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任意多边形 32792"/>
              <p:cNvSpPr/>
              <p:nvPr/>
            </p:nvSpPr>
            <p:spPr>
              <a:xfrm rot="7320000">
                <a:off x="8039160" y="476100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任意多边形 32793"/>
              <p:cNvSpPr/>
              <p:nvPr/>
            </p:nvSpPr>
            <p:spPr>
              <a:xfrm rot="7320000">
                <a:off x="8514000" y="4561560"/>
                <a:ext cx="10008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任意多边形 32794"/>
              <p:cNvSpPr/>
              <p:nvPr/>
            </p:nvSpPr>
            <p:spPr>
              <a:xfrm rot="7320000">
                <a:off x="8153640" y="4761360"/>
                <a:ext cx="306360" cy="16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任意多边形 32795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任意多边形 32796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4171-DC26-4B9F-AFEA-65FEF98E4D79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7.png"/><Relationship Id="rId4" Type="http://schemas.openxmlformats.org/officeDocument/2006/relationships/image" Target="../media/image4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图片 2053" descr="狐狸与乌鸦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234" name="矩形 2050" descr=""/>
          <p:cNvPicPr/>
          <p:nvPr/>
        </p:nvPicPr>
        <p:blipFill>
          <a:blip r:embed="rId2"/>
          <a:stretch/>
        </p:blipFill>
        <p:spPr>
          <a:xfrm>
            <a:off x="3481560" y="2054160"/>
            <a:ext cx="5119560" cy="170028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2" descr="小学资源网logo"/>
          <p:cNvPicPr/>
          <p:nvPr/>
        </p:nvPicPr>
        <p:blipFill>
          <a:blip r:embed="rId3"/>
          <a:stretch/>
        </p:blipFill>
        <p:spPr>
          <a:xfrm>
            <a:off x="7467480" y="76320"/>
            <a:ext cx="159732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图片 37889" descr="狐狸与乌鸦"/>
          <p:cNvPicPr/>
          <p:nvPr/>
        </p:nvPicPr>
        <p:blipFill>
          <a:blip r:embed="rId1"/>
          <a:stretch/>
        </p:blipFill>
        <p:spPr>
          <a:xfrm>
            <a:off x="0" y="9360"/>
            <a:ext cx="4468680" cy="6858000"/>
          </a:xfrm>
          <a:prstGeom prst="rect">
            <a:avLst/>
          </a:prstGeom>
          <a:ln w="0">
            <a:noFill/>
          </a:ln>
        </p:spPr>
      </p:pic>
      <p:pic>
        <p:nvPicPr>
          <p:cNvPr id="268" name="图片 37890" descr="狐狸与乌鸦"/>
          <p:cNvPicPr/>
          <p:nvPr/>
        </p:nvPicPr>
        <p:blipFill>
          <a:blip r:embed="rId2"/>
          <a:stretch/>
        </p:blipFill>
        <p:spPr>
          <a:xfrm>
            <a:off x="-36360" y="-27000"/>
            <a:ext cx="4468680" cy="6858000"/>
          </a:xfrm>
          <a:prstGeom prst="rect">
            <a:avLst/>
          </a:prstGeom>
          <a:ln w="0">
            <a:noFill/>
          </a:ln>
        </p:spPr>
      </p:pic>
      <p:pic>
        <p:nvPicPr>
          <p:cNvPr id="269" name="图片 37892" descr="食物"/>
          <p:cNvPicPr/>
          <p:nvPr/>
        </p:nvPicPr>
        <p:blipFill>
          <a:blip r:embed="rId3"/>
          <a:srcRect l="19991" t="40054" r="10017" b="-9912"/>
          <a:stretch/>
        </p:blipFill>
        <p:spPr>
          <a:xfrm>
            <a:off x="2525760" y="414972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270" name="文本框 37893"/>
          <p:cNvSpPr/>
          <p:nvPr/>
        </p:nvSpPr>
        <p:spPr>
          <a:xfrm>
            <a:off x="3059280" y="1916280"/>
            <a:ext cx="583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乌鸦听了狐狸的话，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非常得意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就唱了起来。“哇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…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刚</a:t>
            </a: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一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口，肉</a:t>
            </a: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就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掉了下来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图片 37895" descr="狐狸与乌鸦"/>
          <p:cNvPicPr/>
          <p:nvPr/>
        </p:nvPicPr>
        <p:blipFill>
          <a:blip r:embed="rId4"/>
          <a:srcRect l="0" t="0" r="0" b="77779"/>
          <a:stretch/>
        </p:blipFill>
        <p:spPr>
          <a:xfrm>
            <a:off x="-36360" y="-27000"/>
            <a:ext cx="4468680" cy="1523880"/>
          </a:xfrm>
          <a:prstGeom prst="rect">
            <a:avLst/>
          </a:prstGeom>
          <a:ln w="0">
            <a:noFill/>
          </a:ln>
        </p:spPr>
      </p:pic>
      <p:pic>
        <p:nvPicPr>
          <p:cNvPr id="272" name="图片 37894" descr="食物"/>
          <p:cNvPicPr/>
          <p:nvPr/>
        </p:nvPicPr>
        <p:blipFill>
          <a:blip r:embed="rId5"/>
          <a:srcRect l="19991" t="40054" r="10017" b="-9912"/>
          <a:stretch/>
        </p:blipFill>
        <p:spPr>
          <a:xfrm>
            <a:off x="2627280" y="12682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图片 18435" descr="狐狸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矩形 18437"/>
          <p:cNvSpPr/>
          <p:nvPr/>
        </p:nvSpPr>
        <p:spPr>
          <a:xfrm>
            <a:off x="324000" y="981000"/>
            <a:ext cx="59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狐狸叼起肉，一溜烟跑掉了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18438"/>
          <p:cNvSpPr/>
          <p:nvPr/>
        </p:nvSpPr>
        <p:spPr>
          <a:xfrm>
            <a:off x="324000" y="981000"/>
            <a:ext cx="59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狐狸叼起肉，</a:t>
            </a: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一溜烟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跑掉了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2195640" y="3427200"/>
            <a:ext cx="6408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楷体_GB2312"/>
              </a:rPr>
              <a:t>爱听好话，容易上当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30723"/>
          <p:cNvSpPr/>
          <p:nvPr/>
        </p:nvSpPr>
        <p:spPr>
          <a:xfrm>
            <a:off x="539640" y="1484280"/>
            <a:ext cx="20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狐狸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30724"/>
          <p:cNvSpPr/>
          <p:nvPr/>
        </p:nvSpPr>
        <p:spPr>
          <a:xfrm>
            <a:off x="539640" y="350028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乌鸦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30725"/>
          <p:cNvSpPr/>
          <p:nvPr/>
        </p:nvSpPr>
        <p:spPr>
          <a:xfrm>
            <a:off x="2124000" y="1380960"/>
            <a:ext cx="554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甜言蜜语，狡猾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文本框 20481"/>
          <p:cNvSpPr/>
          <p:nvPr/>
        </p:nvSpPr>
        <p:spPr>
          <a:xfrm>
            <a:off x="914400" y="762120"/>
            <a:ext cx="73915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故事：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挥想象，以“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肉被骗走以后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为题，编一个小故事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矩形 24577"/>
          <p:cNvSpPr/>
          <p:nvPr/>
        </p:nvSpPr>
        <p:spPr>
          <a:xfrm>
            <a:off x="152280" y="609480"/>
            <a:ext cx="8839440" cy="19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乌鸦和狐狸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续篇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老乌鸦怀着十分沉重的心情向她的女儿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乌鸦叙述着当年它被老狐狸骗去一片肉的经过，要小乌鸦永远记住这件事。小乌鸦听了连连点头，心里暗暗地想：妈妈可真傻，老狐狸耍了这么一点点伎俩就上当受骗，我才不会呢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真是无巧不成书。一天，小乌鸦衔着一片肉，得意洋洋地站在树枝上。这时老狐狸 的儿子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狐狸正好路过树下。它抬头一看，只见小乌鸦口中衔着一片肉，馋得口水都快流出来了，心想：我何不用当年爸爸骗老乌鸦的一套办法来骗小乌鸦呢？于是，它又耍起当年老狐狸骗老乌鸦的那一套，可是，小乌鸦连理也不理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文本框 21505"/>
          <p:cNvSpPr/>
          <p:nvPr/>
        </p:nvSpPr>
        <p:spPr>
          <a:xfrm>
            <a:off x="324000" y="838080"/>
            <a:ext cx="82105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狐狸想：看来用爸爸当年那一套，对付小乌鸦是不行了，得另想办法。只见它眼珠一转，便破口大骂：“小乌鸦，你们是世界上最坏的东西，谁碰到你们谁就倒霉，谁听到你们的叫声谁就遭殃！”小乌鸦一听，勃然大怒，开口还击：“你们才是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……”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哪知道就在这一刹那，小乌鸦嘴里的肉掉了下来。小狐狸叼起那块肉，得意洋洋地走了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乌鸦呀小乌鸦，当年你的妈妈经不起夸，今天你为什么经不起骂呢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文本框 23553"/>
          <p:cNvSpPr/>
          <p:nvPr/>
        </p:nvSpPr>
        <p:spPr>
          <a:xfrm>
            <a:off x="1600200" y="1600200"/>
            <a:ext cx="685800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5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闪光的东西并都是金子，动听的语言并不都是好话。</a:t>
            </a:r>
            <a:r>
              <a:rPr b="1" lang="zh-CN" sz="5400" spc="-1" strike="noStrike">
                <a:solidFill>
                  <a:srgbClr val="0000cc"/>
                </a:solidFill>
                <a:latin typeface="华文楷体"/>
                <a:ea typeface="华文楷体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华文楷体"/>
                <a:ea typeface="华文楷体"/>
              </a:rPr>
              <a:t>         </a:t>
            </a:r>
            <a:r>
              <a:rPr b="1" lang="en-US" sz="4800" spc="-1" strike="noStrike">
                <a:solidFill>
                  <a:srgbClr val="0000cc"/>
                </a:solidFill>
                <a:latin typeface="华文楷体"/>
                <a:ea typeface="华文楷体"/>
              </a:rPr>
              <a:t>——</a:t>
            </a:r>
            <a:r>
              <a:rPr b="1" lang="zh-CN" sz="4800" spc="-1" strike="noStrike">
                <a:solidFill>
                  <a:srgbClr val="0000cc"/>
                </a:solidFill>
                <a:latin typeface="华文楷体"/>
                <a:ea typeface="华文楷体"/>
              </a:rPr>
              <a:t>莎士比亚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359856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0066ff"/>
                </a:solidFill>
                <a:uFillTx/>
                <a:latin typeface="Arial"/>
              </a:rPr>
              <a:t>生字闯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34819"/>
          <p:cNvSpPr/>
          <p:nvPr/>
        </p:nvSpPr>
        <p:spPr>
          <a:xfrm>
            <a:off x="1403280" y="1700280"/>
            <a:ext cx="6913800" cy="50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棵     叼     肉     珠     转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赔     脸     麻     差     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狐     狸     馋     漂     溜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34820"/>
          <p:cNvSpPr/>
          <p:nvPr/>
        </p:nvSpPr>
        <p:spPr>
          <a:xfrm>
            <a:off x="1403280" y="1268280"/>
            <a:ext cx="741672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kē  diāo </a:t>
            </a:r>
            <a:r>
              <a:rPr b="1" lang="en-US" sz="1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ròu  zhū zhuà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péi liǎn  má   chà ɡānɡ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hú   lí  chán piào  li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" dur="1" fill="hold"/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359856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0066ff"/>
                </a:solidFill>
                <a:uFillTx/>
                <a:latin typeface="Arial"/>
              </a:rPr>
              <a:t>词语闯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35842"/>
          <p:cNvSpPr/>
          <p:nvPr/>
        </p:nvSpPr>
        <p:spPr>
          <a:xfrm>
            <a:off x="612720" y="1406520"/>
            <a:ext cx="813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狐狸   乌鸦   树林   一棵大树   叼着  一片肉    馋得直流口水    眼珠一转  没有回答      赔着笑脸      摇摇尾巴  羽毛    漂亮   麻雀   嗓子    唱歌     得意    刚一开口      一溜烟    差多了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文本框 6148"/>
          <p:cNvSpPr/>
          <p:nvPr/>
        </p:nvSpPr>
        <p:spPr>
          <a:xfrm>
            <a:off x="4643280" y="1014480"/>
            <a:ext cx="424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狐狸在树林里找吃的。他来到一棵大树下，看见乌鸦正站在树枝上，嘴里叼着一片肉。狐狸馋得直流口水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6149"/>
          <p:cNvSpPr/>
          <p:nvPr/>
        </p:nvSpPr>
        <p:spPr>
          <a:xfrm>
            <a:off x="4643280" y="1009800"/>
            <a:ext cx="424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狐狸在树林里找吃的。他来到一棵大树下，看见乌鸦正站在树枝上，嘴里叼着一片肉。狐狸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馋得直流口水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图片 6151" descr="狐狸与乌鸦"/>
          <p:cNvPicPr/>
          <p:nvPr/>
        </p:nvPicPr>
        <p:blipFill>
          <a:blip r:embed="rId1"/>
          <a:stretch/>
        </p:blipFill>
        <p:spPr>
          <a:xfrm>
            <a:off x="-76320" y="0"/>
            <a:ext cx="4469040" cy="6858000"/>
          </a:xfrm>
          <a:prstGeom prst="rect">
            <a:avLst/>
          </a:prstGeom>
          <a:ln w="0">
            <a:noFill/>
          </a:ln>
        </p:spPr>
      </p:pic>
      <p:pic>
        <p:nvPicPr>
          <p:cNvPr id="244" name="图片 6152" descr="食物"/>
          <p:cNvPicPr/>
          <p:nvPr/>
        </p:nvPicPr>
        <p:blipFill>
          <a:blip r:embed="rId2"/>
          <a:stretch/>
        </p:blipFill>
        <p:spPr>
          <a:xfrm>
            <a:off x="2454120" y="990720"/>
            <a:ext cx="6699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文本框 25601"/>
          <p:cNvSpPr/>
          <p:nvPr/>
        </p:nvSpPr>
        <p:spPr>
          <a:xfrm>
            <a:off x="179280" y="115920"/>
            <a:ext cx="8820360" cy="49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学习方法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华文楷体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0000cc"/>
                </a:solidFill>
                <a:latin typeface="华文楷体"/>
                <a:ea typeface="华文楷体"/>
              </a:rPr>
              <a:t>、读一读：读课文</a:t>
            </a:r>
            <a:r>
              <a:rPr b="1" lang="en-US" sz="3600" spc="-1" strike="noStrike">
                <a:solidFill>
                  <a:srgbClr val="0000cc"/>
                </a:solidFill>
                <a:latin typeface="华文楷体"/>
                <a:ea typeface="华文楷体"/>
              </a:rPr>
              <a:t>2-5</a:t>
            </a:r>
            <a:r>
              <a:rPr b="1" lang="zh-CN" sz="3600" spc="-1" strike="noStrike">
                <a:solidFill>
                  <a:srgbClr val="0000cc"/>
                </a:solidFill>
                <a:latin typeface="华文楷体"/>
                <a:ea typeface="华文楷体"/>
              </a:rPr>
              <a:t>自然段；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华文楷体"/>
                <a:ea typeface="华文楷体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华文楷体"/>
                <a:ea typeface="华文楷体"/>
              </a:rPr>
              <a:t>、想一想：狐狸几次骗乌鸦？分别是哪些自然段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华文楷体"/>
                <a:ea typeface="华文楷体"/>
              </a:rPr>
              <a:t>3</a:t>
            </a:r>
            <a:r>
              <a:rPr b="1" lang="zh-CN" sz="3600" spc="-1" strike="noStrike">
                <a:solidFill>
                  <a:srgbClr val="0000cc"/>
                </a:solidFill>
                <a:latin typeface="华文楷体"/>
                <a:ea typeface="华文楷体"/>
              </a:rPr>
              <a:t>、划一划：用“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波浪线</a:t>
            </a:r>
            <a:r>
              <a:rPr b="1" lang="zh-CN" sz="3600" spc="-1" strike="noStrike">
                <a:solidFill>
                  <a:srgbClr val="0000cc"/>
                </a:solidFill>
                <a:latin typeface="华文楷体"/>
                <a:ea typeface="华文楷体"/>
              </a:rPr>
              <a:t> ”划出狐狸的有关语句， 用“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横线</a:t>
            </a:r>
            <a:r>
              <a:rPr b="1" lang="zh-CN" sz="3600" spc="-1" strike="noStrike">
                <a:solidFill>
                  <a:srgbClr val="0000cc"/>
                </a:solidFill>
                <a:latin typeface="华文楷体"/>
                <a:ea typeface="华文楷体"/>
              </a:rPr>
              <a:t>”划出乌鸦的有关语句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华文楷体"/>
                <a:ea typeface="华文楷体"/>
              </a:rPr>
              <a:t>4</a:t>
            </a:r>
            <a:r>
              <a:rPr b="1" lang="zh-CN" sz="3600" spc="-1" strike="noStrike">
                <a:solidFill>
                  <a:srgbClr val="0000cc"/>
                </a:solidFill>
                <a:latin typeface="华文楷体"/>
                <a:ea typeface="华文楷体"/>
              </a:rPr>
              <a:t>、议一议：狐狸怎样行骗及乌鸦的表现。（表情、动作、语言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图片 36866" descr="狐狸与乌鸦"/>
          <p:cNvPicPr/>
          <p:nvPr/>
        </p:nvPicPr>
        <p:blipFill>
          <a:blip r:embed="rId1"/>
          <a:stretch/>
        </p:blipFill>
        <p:spPr>
          <a:xfrm>
            <a:off x="-152280" y="9360"/>
            <a:ext cx="446868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图片 36867" descr="食物"/>
          <p:cNvPicPr/>
          <p:nvPr/>
        </p:nvPicPr>
        <p:blipFill>
          <a:blip r:embed="rId2"/>
          <a:stretch/>
        </p:blipFill>
        <p:spPr>
          <a:xfrm>
            <a:off x="2362320" y="1066680"/>
            <a:ext cx="685800" cy="5335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36869"/>
          <p:cNvSpPr/>
          <p:nvPr/>
        </p:nvSpPr>
        <p:spPr>
          <a:xfrm>
            <a:off x="6567480" y="263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36865"/>
          <p:cNvSpPr/>
          <p:nvPr/>
        </p:nvSpPr>
        <p:spPr>
          <a:xfrm>
            <a:off x="2771640" y="1844640"/>
            <a:ext cx="58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眼珠一转，对乌鸦说：“亲爱的乌鸦，您好吗？”乌鸦没有回答 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36891"/>
          <p:cNvSpPr/>
          <p:nvPr/>
        </p:nvSpPr>
        <p:spPr>
          <a:xfrm>
            <a:off x="2771640" y="1844640"/>
            <a:ext cx="58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眼珠一转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对乌鸦说：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亲爱的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乌鸦，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您好吗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”乌鸦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没有回答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图片 10242" descr="食物"/>
          <p:cNvPicPr/>
          <p:nvPr/>
        </p:nvPicPr>
        <p:blipFill>
          <a:blip r:embed="rId1"/>
          <a:stretch/>
        </p:blipFill>
        <p:spPr>
          <a:xfrm>
            <a:off x="1905120" y="838080"/>
            <a:ext cx="914400" cy="533520"/>
          </a:xfrm>
          <a:prstGeom prst="rect">
            <a:avLst/>
          </a:prstGeom>
          <a:ln w="0">
            <a:noFill/>
          </a:ln>
        </p:spPr>
      </p:pic>
      <p:pic>
        <p:nvPicPr>
          <p:cNvPr id="253" name="图片 10243" descr="狐狸与乌鸦"/>
          <p:cNvPicPr/>
          <p:nvPr/>
        </p:nvPicPr>
        <p:blipFill>
          <a:blip r:embed="rId2"/>
          <a:stretch/>
        </p:blipFill>
        <p:spPr>
          <a:xfrm>
            <a:off x="0" y="0"/>
            <a:ext cx="4468680" cy="6858000"/>
          </a:xfrm>
          <a:prstGeom prst="rect">
            <a:avLst/>
          </a:prstGeom>
          <a:ln w="0">
            <a:noFill/>
          </a:ln>
        </p:spPr>
      </p:pic>
      <p:pic>
        <p:nvPicPr>
          <p:cNvPr id="254" name="图片 10244" descr="食物"/>
          <p:cNvPicPr/>
          <p:nvPr/>
        </p:nvPicPr>
        <p:blipFill>
          <a:blip r:embed="rId3"/>
          <a:stretch/>
        </p:blipFill>
        <p:spPr>
          <a:xfrm>
            <a:off x="2514600" y="1143000"/>
            <a:ext cx="762120" cy="533520"/>
          </a:xfrm>
          <a:prstGeom prst="rect">
            <a:avLst/>
          </a:prstGeom>
          <a:ln w="0">
            <a:noFill/>
          </a:ln>
        </p:spPr>
      </p:pic>
      <p:sp>
        <p:nvSpPr>
          <p:cNvPr id="255" name="文本框 10241"/>
          <p:cNvSpPr/>
          <p:nvPr/>
        </p:nvSpPr>
        <p:spPr>
          <a:xfrm>
            <a:off x="2338560" y="1773360"/>
            <a:ext cx="648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狐狸赔着笑脸说：“亲爱的乌鸦，您的孩子好吗？”乌鸦看了狐狸一眼，还是没有回答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10259"/>
          <p:cNvSpPr/>
          <p:nvPr/>
        </p:nvSpPr>
        <p:spPr>
          <a:xfrm>
            <a:off x="2338560" y="1773360"/>
            <a:ext cx="648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狐狸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赔着笑脸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：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亲爱的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乌鸦，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您的孩子好吗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”乌鸦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看了狐狸一眼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还是没有回答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图片 11267" descr="狐狸与乌鸦"/>
          <p:cNvPicPr/>
          <p:nvPr/>
        </p:nvPicPr>
        <p:blipFill>
          <a:blip r:embed="rId1"/>
          <a:stretch/>
        </p:blipFill>
        <p:spPr>
          <a:xfrm>
            <a:off x="0" y="0"/>
            <a:ext cx="446868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图片 11266" descr="食物"/>
          <p:cNvPicPr/>
          <p:nvPr/>
        </p:nvPicPr>
        <p:blipFill>
          <a:blip r:embed="rId2"/>
          <a:stretch/>
        </p:blipFill>
        <p:spPr>
          <a:xfrm>
            <a:off x="2514600" y="1143000"/>
            <a:ext cx="838080" cy="533520"/>
          </a:xfrm>
          <a:prstGeom prst="rect">
            <a:avLst/>
          </a:prstGeom>
          <a:ln w="0">
            <a:noFill/>
          </a:ln>
        </p:spPr>
      </p:pic>
      <p:sp>
        <p:nvSpPr>
          <p:cNvPr id="259" name="矩形 11269"/>
          <p:cNvSpPr/>
          <p:nvPr/>
        </p:nvSpPr>
        <p:spPr>
          <a:xfrm>
            <a:off x="5021280" y="38703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11265"/>
          <p:cNvSpPr/>
          <p:nvPr/>
        </p:nvSpPr>
        <p:spPr>
          <a:xfrm>
            <a:off x="3132000" y="1628640"/>
            <a:ext cx="590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狐狸又摇摇尾巴说：“亲爱的乌鸦，您的羽毛真漂亮，麻雀比起您来，可就差多了。您的嗓子真好，谁都爱听您唱歌，您就唱几句吧！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11294"/>
          <p:cNvSpPr/>
          <p:nvPr/>
        </p:nvSpPr>
        <p:spPr>
          <a:xfrm>
            <a:off x="3132000" y="1628640"/>
            <a:ext cx="590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狐狸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又摇摇尾巴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：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亲爱的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乌鸦，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您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羽毛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真漂亮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麻雀比起您来，可就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差多了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您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嗓子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真好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谁都爱听您唱歌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您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唱几句吧！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图片 12290" descr="狐狸与乌鸦"/>
          <p:cNvPicPr/>
          <p:nvPr/>
        </p:nvPicPr>
        <p:blipFill>
          <a:blip r:embed="rId1"/>
          <a:stretch/>
        </p:blipFill>
        <p:spPr>
          <a:xfrm>
            <a:off x="0" y="9360"/>
            <a:ext cx="4468680" cy="6858000"/>
          </a:xfrm>
          <a:prstGeom prst="rect">
            <a:avLst/>
          </a:prstGeom>
          <a:ln w="0">
            <a:noFill/>
          </a:ln>
        </p:spPr>
      </p:pic>
      <p:pic>
        <p:nvPicPr>
          <p:cNvPr id="263" name="图片 12302" descr="狐狸与乌鸦"/>
          <p:cNvPicPr/>
          <p:nvPr/>
        </p:nvPicPr>
        <p:blipFill>
          <a:blip r:embed="rId2"/>
          <a:stretch/>
        </p:blipFill>
        <p:spPr>
          <a:xfrm>
            <a:off x="-36360" y="-27000"/>
            <a:ext cx="446868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文本框 12300"/>
          <p:cNvSpPr/>
          <p:nvPr/>
        </p:nvSpPr>
        <p:spPr>
          <a:xfrm>
            <a:off x="3059280" y="1916280"/>
            <a:ext cx="58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乌鸦听了狐狸的话，非常得意，就唱了起来。“哇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…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刚一开口，肉就掉了下来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12301"/>
          <p:cNvSpPr/>
          <p:nvPr/>
        </p:nvSpPr>
        <p:spPr>
          <a:xfrm>
            <a:off x="3059280" y="1916280"/>
            <a:ext cx="583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乌鸦听了狐狸的话，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非常得意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就唱了起来。“哇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…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刚</a:t>
            </a: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一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口，肉</a:t>
            </a: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就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掉了下来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12304" descr="食物"/>
          <p:cNvPicPr/>
          <p:nvPr/>
        </p:nvPicPr>
        <p:blipFill>
          <a:blip r:embed="rId3"/>
          <a:srcRect l="19991" t="40054" r="10017" b="-9912"/>
          <a:stretch/>
        </p:blipFill>
        <p:spPr>
          <a:xfrm>
            <a:off x="2627280" y="12682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07:30:30Z</dcterms:created>
  <dc:creator/>
  <dc:description/>
  <cp:keywords/>
  <dc:language>en-US</dc:language>
  <cp:lastModifiedBy>Administrator</cp:lastModifiedBy>
  <dcterms:modified xsi:type="dcterms:W3CDTF">2016-12-12T03:46:09Z</dcterms:modified>
  <cp:revision>3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