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BCD-D54C-4739-8D57-D5767A39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344-183C-492A-AF70-6A21D26D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11F76-FEE6-4520-833C-CAE55F22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DFCBC-6382-40D9-A31D-6E3C0D7F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1F19E-83BF-40B0-9ED2-CC37F0A3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01FFC-7A44-4246-961F-D460DADF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29485-7D2B-4841-89E0-338D4AF7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156B3-DFF6-4F01-81E3-3EB2638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E045B-D239-4706-8D35-D3C777A7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D79FE-3AEE-4186-87DC-73F09E7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59ECC-2C87-4158-B43B-A7805225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D4188-6E59-4985-B632-236050E9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03F-F240-46E4-9B6F-1B1F0CB6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3CDD7-BA6E-43C6-8D77-FB1FF857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BDD5B-DC34-4376-B560-AD6D6A50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378D5-24B3-4936-B237-5B8C8060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8CC32-93AF-4AD0-A9DC-5B87FBF9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9687B-6D38-423B-BA13-3BCDC8D1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53FA1-BF81-47AB-AC00-5F9738EE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F9FCA-4064-4912-8AA8-1CBDB7D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14CDA-CABC-4371-BE06-5703CE82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1B581-6F00-4F99-A039-5AAC924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AF1FD-7EEB-43A8-9230-68D1E66C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F4D-26A2-42F4-B13E-FD638A58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D4BF2-5195-4455-BEDF-8F190845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CF8EF-5E8F-4C24-B355-DA4076A3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B35C0-FF77-4981-B3D3-8DF5D24A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BDD61-5C10-4ABE-96F4-C944113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6D8C0-F051-4CD1-8DD0-2DBE8C9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D4D0F-8F50-43CC-93CD-C9EAAAF4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3D10-FFEC-431B-A058-98E946B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6947-C505-4979-B809-A4BE088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0CF23-79E9-4EF4-876F-CC9267F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055DD-D321-4D86-A757-E5FD4C38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381F-FF64-4394-B859-F9B444A4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0CB39-E01D-46AF-8650-9FD51CC1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EE4F5-8C66-48DA-885B-08965C0F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EEFFC-0344-4089-9021-A6501C7A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F5C64-5988-4F76-98FF-05A2ABD4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73B78-B128-46CA-BADE-0C335251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D82A9-A2C7-4A38-92AE-E20FCC58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A7B7B-15DA-49E4-B4B0-CD06C79D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FBC54-173E-480C-B0C9-7E79ADD7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F1DEA-D650-4198-AED0-E2478C49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400A1-5316-4399-A3D7-B95276A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0F19-3D82-43FC-9FC7-F8F9DC0D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D4682-8078-42EC-94F3-F7930EE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2C10A-31A6-45BB-ABFA-D8812DBF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1E25D-B487-4810-888A-4B071506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1F42D-1430-4F12-9402-6D59C5EE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5FA74-08EC-47A4-9C65-0DDE16EB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E8ED-A450-43EB-9FE4-E5BDA3A6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2F11-C627-4379-B55E-375D867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CFD-13EF-4A16-ADF1-A9EDA07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4A82-5710-4FCD-8E05-005CD2D6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12D8-3597-4FFE-9CD8-ED9A3BFD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818-F944-4673-95D2-10C72D1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D3A-E3FE-45FE-81F8-9021D164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2C35-D279-4B6B-B893-84E0D28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7641-33C7-4028-A4CA-1A8CD0D2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0F00-91F4-403B-8857-9F7388C5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3D40-069F-419A-A41F-A1146451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25EB-C204-436F-8B8B-AFC10AB1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00FFF-2370-49CB-B804-DF771F49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D2F7-E3DB-45E0-9059-34D47726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7C5D-4981-4474-8359-28469AD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E527-9029-4050-807D-114CE12A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74B-8B21-4A0B-851C-369D48F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C4B4-211F-4892-A92F-9AA1C0C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61A3-5CD6-4EAB-9B6C-68BBD2E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2DBF-84E5-4D05-B15F-6FDE1F6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1685-372A-43D3-98A5-A28D8C1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68B6-F647-468F-8789-C09BE16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92BC-BCBD-4FCC-BDD1-7FF0FE47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ADF56-8766-467D-B5AC-688716BF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E840-56C0-4E1B-B3FC-F627DFB5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F3AB-1878-4A40-A42F-6A3768EE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E26B-7D5B-4C67-86D8-C68A750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DAB-AEB8-4DB7-B96E-B976F96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3F025-84A5-4D55-AFCB-75648196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7E58-29C1-4460-829D-C8E215DF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A4C1-DB10-4D01-86A8-9874F346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3856-3456-4C02-8D28-554EB7EA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E73F-8D66-4122-92C1-1C5A4B0C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4336-4D6D-4D12-9544-B6EAC94E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D03B-3EB8-4A00-8294-0DED0097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5692-840A-4C11-8047-520899A3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D1DD7-A8EC-446D-8DAC-7CA4C446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F59C-6E40-4149-ABFE-12A30DC0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79D-F906-43CD-B9B1-757F37CF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1925-AB71-4EE0-AFD0-269919F8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E495-FBD7-42F9-A144-4562761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D4F0-CDBF-4E05-B0EE-472F3D64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65E1-A537-48DD-AC61-D1F12C41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5BA65-6DCA-476A-B61F-E364B950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856E-5E37-4304-89C2-F76133C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B123-0A31-490A-B05E-217694B3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CA1F-CBBC-449F-959A-A438862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B002C-00F8-4DC0-A428-E12DDF55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24774-94C7-437E-9172-1A37FA42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426-16FE-48BA-B36D-C5CCAE1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CD95-45A1-4695-9345-A1B17734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94FE-A01E-46B7-A981-FAEEA010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366D-3D6B-4BEF-87A0-3C9653F9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0888-124E-4B76-9600-4142DAB2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83F1D-C10B-4D41-A3D6-5BC1DB67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203AD-94CD-4BCD-94BE-9FA09420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AED7D-CC89-4FAD-A728-B5EFB0A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C41E-BFBB-4F38-8D02-667042AE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7458F-7A12-4087-BCC6-E406C67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67FE-D03A-4DE9-8428-4381088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6FD-622E-4AE5-81FD-7E690BB8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9B4E1-74E4-45CF-9D25-327284DA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F889-F836-455C-B251-DCE5F0D8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19E4A-E3C4-4605-926A-B5F4D033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6C364-97FB-4108-92E4-25D9423A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11C89-9DDC-443D-8D9B-60A93922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E8900-8E62-4013-93FA-D7EDC73A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5F4A-BA79-4AA2-8C32-86ECE89E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B55F7-8775-4AF7-BDEE-8F72C56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C4303-2C25-49E5-B74A-5A8AAF1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742FB-232C-4729-9CAD-181E459E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3E4-3387-4432-AA8C-26C33E21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F98E-1235-482E-95DB-D2CA871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4009-8CE7-44BB-8B5A-4B0A92F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CC50F-03B1-497B-B04C-06444D8C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49E9-6E21-4874-8AB1-3AD61621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63118-BB0C-4D84-8158-FD1413E5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4F7F7-6E8B-4B4B-9943-CAFB6D70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53EC-EE39-41B8-93F8-FC323196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C92E-62A9-4460-956C-64B2BBC5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CD797-ED7A-4479-9C29-B5C5CC3C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56E98-9FFE-4BD7-8A44-F88AF775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4E6-5528-4D56-BB20-BF35177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AE11-C1FA-4F09-8245-B6B32FDD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FA0C-7338-4C74-9732-58CB985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30C87-5E88-4787-8828-E6DCE8C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D8793-907E-4B0F-A63B-A0D2274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B455B-7724-4F5A-9826-82FD608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FD4AA-21CD-4152-BAA6-7C7D7ADB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E285-9CDE-4D3B-BA92-07D19ABB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E2FB6-4846-4573-88F0-9D2253B7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72311-3940-45A6-B7B2-E69506E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6A449-2A71-43B3-B358-00176181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1C40-307D-4A4D-8788-87FCA7336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B36-9A73-4CC4-9007-28EE9A539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BDD-5EF6-4D1D-965C-D415AF070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FB4F-5588-4738-B8BA-3C12BEED7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D28-44D8-4612-BC1B-23CB4BB8D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D377-788C-4EFF-8C5D-D9101C546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E5F6-36F9-4E11-B8BF-A58508467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BB0C-74FF-4F0D-9CE7-B2F81806B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3F1C-CB86-4BC2-B13F-3A290FF1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BC58-10E3-4E6A-86A9-81D7D3986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F65-ADD9-47E0-9FD3-B10055C38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4013-0106-4B5A-874D-4A45DF333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</a:rPr>
              <a:t>瓜 娃 娃 打 电 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173212006100951901"/>
          <p:cNvPicPr/>
          <p:nvPr/>
        </p:nvPicPr>
        <p:blipFill>
          <a:blip r:embed="rId1"/>
          <a:stretch/>
        </p:blipFill>
        <p:spPr>
          <a:xfrm>
            <a:off x="2338560" y="380880"/>
            <a:ext cx="4466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1"/>
          <p:cNvPicPr/>
          <p:nvPr/>
        </p:nvPicPr>
        <p:blipFill>
          <a:blip r:embed="rId1"/>
          <a:stretch/>
        </p:blipFill>
        <p:spPr>
          <a:xfrm>
            <a:off x="1220760" y="1395360"/>
            <a:ext cx="67039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2"/>
          <p:cNvPicPr/>
          <p:nvPr/>
        </p:nvPicPr>
        <p:blipFill>
          <a:blip r:embed="rId1"/>
          <a:stretch/>
        </p:blipFill>
        <p:spPr>
          <a:xfrm>
            <a:off x="977760" y="1219320"/>
            <a:ext cx="718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WordArt 2"/>
          <p:cNvSpPr txBox="1"/>
          <p:nvPr/>
        </p:nvSpPr>
        <p:spPr>
          <a:xfrm>
            <a:off x="2556000" y="1413000"/>
            <a:ext cx="396540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9760" y="549360"/>
            <a:ext cx="8904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cc"/>
                </a:solidFill>
                <a:latin typeface="Arial"/>
              </a:rPr>
              <a:t>教 学 目 标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6666ff"/>
                </a:solidFill>
                <a:latin typeface="宋体"/>
              </a:rPr>
              <a:t>能用自己喜欢的方式自主认识本课生字，能正确工整地书写课后的字，感受汉字的形体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6666ff"/>
                </a:solidFill>
                <a:latin typeface="宋体"/>
              </a:rPr>
              <a:t>通过正确、流利、有感情地朗读、背诵，感悟情境，积累文中写得生动、具体、形象的句子，体会瓜娃娃爱妈妈的美好情感，激发学生爱母亲、爱亲人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6666ff"/>
                </a:solidFill>
                <a:latin typeface="宋体"/>
              </a:rPr>
              <a:t>在交流中，体验合作的乐趣，增强竞争意识。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Arial"/>
              </a:rPr>
              <a:t>认 一 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翠绿     瓜秧     瓜架     招手    雨丝儿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贪玩      藤儿    甘甜     乳汁    瓜娃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操劳      谢谢      一个劲儿      日日夜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Arial"/>
              </a:rPr>
              <a:t>边读边思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9900"/>
                </a:solidFill>
                <a:latin typeface="Arial"/>
              </a:rPr>
              <a:t>当快乐的叶子正迎着风儿、雨丝儿快乐地生长时，叶子下面又发生了什么故事呢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5280" y="32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你知道瓜娃娃为什么要给根妈妈打电话了吗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阅读质疑"/>
          <p:cNvPicPr/>
          <p:nvPr/>
        </p:nvPicPr>
        <p:blipFill>
          <a:blip r:embed="rId1"/>
          <a:stretch/>
        </p:blipFill>
        <p:spPr>
          <a:xfrm>
            <a:off x="2916360" y="907920"/>
            <a:ext cx="3609720" cy="1685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小恐龙"/>
          <p:cNvPicPr/>
          <p:nvPr/>
        </p:nvPicPr>
        <p:blipFill>
          <a:blip r:embed="rId2"/>
          <a:stretch/>
        </p:blipFill>
        <p:spPr>
          <a:xfrm>
            <a:off x="395280" y="260280"/>
            <a:ext cx="18414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4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抓住重点词“操劳”进行理          解，根妈妈为瓜娃娃操劳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" descr="细读感悟"/>
          <p:cNvPicPr/>
          <p:nvPr/>
        </p:nvPicPr>
        <p:blipFill>
          <a:blip r:embed="rId1"/>
          <a:stretch/>
        </p:blipFill>
        <p:spPr>
          <a:xfrm>
            <a:off x="1979640" y="836640"/>
            <a:ext cx="3744720" cy="1584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小孩子"/>
          <p:cNvPicPr/>
          <p:nvPr/>
        </p:nvPicPr>
        <p:blipFill>
          <a:blip r:embed="rId2"/>
          <a:stretch/>
        </p:blipFill>
        <p:spPr>
          <a:xfrm>
            <a:off x="6948360" y="549360"/>
            <a:ext cx="1295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你觉得瓜娃娃可爱吗？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什么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整体感知"/>
          <p:cNvPicPr/>
          <p:nvPr/>
        </p:nvPicPr>
        <p:blipFill>
          <a:blip r:embed="rId1"/>
          <a:stretch/>
        </p:blipFill>
        <p:spPr>
          <a:xfrm>
            <a:off x="3059280" y="1052640"/>
            <a:ext cx="3600360" cy="16556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小男孩1"/>
          <p:cNvPicPr/>
          <p:nvPr/>
        </p:nvPicPr>
        <p:blipFill>
          <a:blip r:embed="rId2"/>
          <a:stretch/>
        </p:blipFill>
        <p:spPr>
          <a:xfrm>
            <a:off x="971640" y="260280"/>
            <a:ext cx="934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练 一 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加一加：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加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木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架     扌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召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招</a:t>
            </a:r>
            <a:br>
              <a:rPr sz="3600"/>
            </a:b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　　　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忄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肖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悄     舌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+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甘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=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</a:rPr>
              <a:t>甜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小女孩"/>
          <p:cNvPicPr/>
          <p:nvPr/>
        </p:nvPicPr>
        <p:blipFill>
          <a:blip r:embed="rId1"/>
          <a:stretch/>
        </p:blipFill>
        <p:spPr>
          <a:xfrm>
            <a:off x="6877080" y="404640"/>
            <a:ext cx="1967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39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6666ff"/>
                </a:solidFill>
                <a:latin typeface="Arial"/>
              </a:rPr>
              <a:t>读完文章我体会到瓜娃娃爱妈妈的美好情感，激发学生爱母亲、爱亲人的情感。小朋友体会到了吗</a:t>
            </a: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拓展学习"/>
          <p:cNvPicPr/>
          <p:nvPr/>
        </p:nvPicPr>
        <p:blipFill>
          <a:blip r:embed="rId1"/>
          <a:stretch/>
        </p:blipFill>
        <p:spPr>
          <a:xfrm>
            <a:off x="2556000" y="620640"/>
            <a:ext cx="38703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19T17:42:1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