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398-C1A3-4854-8847-6B078978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EF8-9ED1-4185-9E5E-3717848B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66E-E53B-4408-85F2-D3FE4017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118-E618-4A0D-ADD8-28B509A2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C6B-0790-4D9F-8260-486275CD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F65-C763-4721-ABD7-B3DA799B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CD8-6DEF-4FE3-9BF6-39E3A5DE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BBC-1EF1-4FD9-8B7A-5ECB9EE9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DD1-0285-43F0-88AD-93C22B17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BBB-D543-413A-AE73-2E209748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2D8-F60A-401E-BBBE-BF1B81F1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6EE-A93A-46BE-A171-D282367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6F72-4981-48A9-9B5D-A9B706F7B2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146" descr="r_1_06"/>
          <p:cNvPicPr/>
          <p:nvPr/>
        </p:nvPicPr>
        <p:blipFill>
          <a:blip r:embed="rId1"/>
          <a:stretch/>
        </p:blipFill>
        <p:spPr>
          <a:xfrm>
            <a:off x="990720" y="53352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147" descr="r_1_08"/>
          <p:cNvPicPr/>
          <p:nvPr/>
        </p:nvPicPr>
        <p:blipFill>
          <a:blip r:embed="rId2"/>
          <a:stretch/>
        </p:blipFill>
        <p:spPr>
          <a:xfrm>
            <a:off x="2209680" y="3049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148" descr="r_1_09"/>
          <p:cNvPicPr/>
          <p:nvPr/>
        </p:nvPicPr>
        <p:blipFill>
          <a:blip r:embed="rId3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149" descr="r_1_10"/>
          <p:cNvPicPr/>
          <p:nvPr/>
        </p:nvPicPr>
        <p:blipFill>
          <a:blip r:embed="rId4"/>
          <a:stretch/>
        </p:blipFill>
        <p:spPr>
          <a:xfrm>
            <a:off x="-99072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6150"/>
          <p:cNvSpPr/>
          <p:nvPr/>
        </p:nvSpPr>
        <p:spPr>
          <a:xfrm>
            <a:off x="2508120" y="575640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群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光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男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6152"/>
          <p:cNvSpPr/>
          <p:nvPr/>
        </p:nvSpPr>
        <p:spPr>
          <a:xfrm>
            <a:off x="5245560" y="5380200"/>
            <a:ext cx="9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6153"/>
          <p:cNvSpPr/>
          <p:nvPr/>
        </p:nvSpPr>
        <p:spPr>
          <a:xfrm>
            <a:off x="1332000" y="58053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154"/>
          <p:cNvSpPr/>
          <p:nvPr/>
        </p:nvSpPr>
        <p:spPr>
          <a:xfrm>
            <a:off x="3133080" y="53006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ú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132" descr="x1pGg9EMswqL-_GEyFkmGUAuMa8JEpXGvyukQnI2K57Op3Jw8ylExk0g4SgkT7Wc5cUQmDcSvDnUBFy4ST_IYebTXuFc56Be7soaYHGihtVrGSrAsMsBavkiv_KhVTO0x5QbZSc1Vodu28ZUrgcGiymDw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2672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130" descr="x1pGg9EMswqL-_GEyFkmGUAuMa8JEpXGvyukQnI2K57Op3Jw8ylExk0g4SgkT7Wc5cUQmDcSvDnUBFy4ST_IYebTXuFc56Be7soaYHGihtVrGSrAsMsBavkiv_KhVTO0x5QbZSc1Vodu28ZUrgcGiymDw"/>
          <p:cNvPicPr/>
          <p:nvPr/>
        </p:nvPicPr>
        <p:blipFill>
          <a:blip r:embed="rId2"/>
          <a:stretch/>
        </p:blipFill>
        <p:spPr>
          <a:xfrm>
            <a:off x="0" y="585720"/>
            <a:ext cx="9144000" cy="2266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5123"/>
          <p:cNvSpPr/>
          <p:nvPr/>
        </p:nvSpPr>
        <p:spPr>
          <a:xfrm>
            <a:off x="1655640" y="620640"/>
            <a:ext cx="7488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天，学校里又多了一个光头男孩。第三天，学校里出现了一群光头男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5128"/>
          <p:cNvSpPr/>
          <p:nvPr/>
        </p:nvSpPr>
        <p:spPr>
          <a:xfrm>
            <a:off x="971640" y="3860640"/>
            <a:ext cx="849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，学校里又多了一个光头男孩，大家议论纷纷。有的说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说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有的说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2292" descr="x1pGg9EMswqL-_GEyFkmGUAuMa8JEpXGvyukQnI2K57Op2ja8okTHSb1t7Q-pC9gs0hri3R5B-hk_uLBtcjCvo8A2FEnUVlUGKD0DszPxsEi-59zY5bVIhkHEBzii1De341pBVrRNYUz8LJRpRRA6Ggbg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325908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2290"/>
          <p:cNvSpPr/>
          <p:nvPr/>
        </p:nvSpPr>
        <p:spPr>
          <a:xfrm>
            <a:off x="792000" y="1700280"/>
            <a:ext cx="846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天清早，这一群光头男孩来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布莱恩家门口。他们大声叫着布莱恩的名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0481" descr="x1pGg9EMswqL-_GEyFkmGUAuMa8JEpXGvyukQnI2K57Op2ja8okTHSb1t7Q-pC9gs0hri3R5B-hk_uLBtcjCvo8A2FEnUVlUGKD0DszPxsEi-59zY5bVIhkHEBzii1De341pBVrRNYUz8LJRpRRA6Ggb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325908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20482"/>
          <p:cNvSpPr/>
          <p:nvPr/>
        </p:nvSpPr>
        <p:spPr>
          <a:xfrm>
            <a:off x="792000" y="542880"/>
            <a:ext cx="846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天清早，这一群光头男孩来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布莱恩家门口。他们大声叫着布莱恩的名字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布莱恩透过窗户看到这情景，激动地跑出屋子。这群光头男孩相拥在一起，每个人都笑得那么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20483"/>
          <p:cNvSpPr/>
          <p:nvPr/>
        </p:nvSpPr>
        <p:spPr>
          <a:xfrm>
            <a:off x="5105520" y="265284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20484"/>
          <p:cNvSpPr/>
          <p:nvPr/>
        </p:nvSpPr>
        <p:spPr>
          <a:xfrm>
            <a:off x="5562720" y="265284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0485"/>
          <p:cNvSpPr/>
          <p:nvPr/>
        </p:nvSpPr>
        <p:spPr>
          <a:xfrm>
            <a:off x="914400" y="3962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遇到过，或看到过激动的时候吗？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激动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0487"/>
          <p:cNvSpPr/>
          <p:nvPr/>
        </p:nvSpPr>
        <p:spPr>
          <a:xfrm>
            <a:off x="4331160" y="5300640"/>
            <a:ext cx="4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在什么情况下），（谁）激动得（怎么样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9220"/>
          <p:cNvSpPr/>
          <p:nvPr/>
        </p:nvSpPr>
        <p:spPr>
          <a:xfrm>
            <a:off x="1258920" y="249228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你是布莱恩的同学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会用什么方法表达对他的关心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195"/>
          <p:cNvSpPr/>
          <p:nvPr/>
        </p:nvSpPr>
        <p:spPr>
          <a:xfrm>
            <a:off x="826920" y="1916280"/>
            <a:ext cx="532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7"/>
          <p:cNvSpPr/>
          <p:nvPr/>
        </p:nvSpPr>
        <p:spPr>
          <a:xfrm>
            <a:off x="1258920" y="907920"/>
            <a:ext cx="7056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人都献（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i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à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出一点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世界将变得更加美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826920" y="2060640"/>
          <a:ext cx="7417080" cy="2465280"/>
        </p:xfrm>
        <a:graphic>
          <a:graphicData uri="http://schemas.openxmlformats.org/drawingml/2006/table">
            <a:tbl>
              <a:tblPr/>
              <a:tblGrid>
                <a:gridCol w="865440"/>
                <a:gridCol w="1150920"/>
                <a:gridCol w="1657440"/>
                <a:gridCol w="1223640"/>
                <a:gridCol w="1079640"/>
                <a:gridCol w="144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部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除部首外几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在字典第几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音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组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7415" descr="x1pGg9EMswqL-_GEyFkmGUAuMa8JEpXGvyukQnI2K57Op3zjocRcVq8GWCm6C5daA6ApLYI5dnv9LyXnfjD5pPGPPy72pjtkRRFEeYYClq6EO7CErRV3W0J2qE3iJ1IaOJ0xNY2sjmgYFob5Gi77auAqw"/>
          <p:cNvPicPr/>
          <p:nvPr/>
        </p:nvPicPr>
        <p:blipFill>
          <a:blip r:embed="rId1"/>
          <a:stretch/>
        </p:blipFill>
        <p:spPr>
          <a:xfrm>
            <a:off x="3132000" y="1268280"/>
            <a:ext cx="5543640" cy="3673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7413" descr="x1pGg9EMswqL-_GEyFkmGUAuMa8JEpXGvyukQnI2K57Op1gxeqOrV7vlL2BUA2icx5TvAl_vg1Mf4fT5Z159yzCX-Y4lwrt9Er0mAF6EIr8vWw9gqlLvtIlRBeCyls08Y4Gu7Whw0YqivsRTqyaQOkWweIwNDl981pz"/>
          <p:cNvPicPr/>
          <p:nvPr/>
        </p:nvPicPr>
        <p:blipFill>
          <a:blip r:embed="rId2"/>
          <a:stretch/>
        </p:blipFill>
        <p:spPr>
          <a:xfrm>
            <a:off x="3203640" y="1268280"/>
            <a:ext cx="5256000" cy="35290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7409" descr="r_1_10"/>
          <p:cNvPicPr/>
          <p:nvPr/>
        </p:nvPicPr>
        <p:blipFill>
          <a:blip r:embed="rId3"/>
          <a:stretch/>
        </p:blipFill>
        <p:spPr>
          <a:xfrm>
            <a:off x="-1765440" y="333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7411"/>
          <p:cNvSpPr/>
          <p:nvPr/>
        </p:nvSpPr>
        <p:spPr>
          <a:xfrm>
            <a:off x="3059280" y="1197000"/>
            <a:ext cx="5564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印第安那州的小镇上，有一个名叫布莱恩的少年不幸得了脑瘤。在接受化学治疗后，他那漂亮的金发全都掉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7417"/>
          <p:cNvSpPr/>
          <p:nvPr/>
        </p:nvSpPr>
        <p:spPr>
          <a:xfrm>
            <a:off x="1626480" y="51814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布莱恩为什么是个光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9280" y="220500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化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5365"/>
          <p:cNvSpPr/>
          <p:nvPr/>
        </p:nvSpPr>
        <p:spPr>
          <a:xfrm>
            <a:off x="1258920" y="458136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帮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窗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5366"/>
          <p:cNvSpPr/>
          <p:nvPr/>
        </p:nvSpPr>
        <p:spPr>
          <a:xfrm>
            <a:off x="539640" y="1773360"/>
            <a:ext cx="64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ji</a:t>
            </a: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ē              hu</a:t>
            </a:r>
            <a:r>
              <a:rPr b="1" lang="en-US" sz="3500" spc="-1" strike="noStrike">
                <a:solidFill>
                  <a:srgbClr val="0000ff"/>
                </a:solidFill>
                <a:latin typeface="宋体"/>
              </a:rPr>
              <a:t>à       pià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367"/>
          <p:cNvSpPr/>
          <p:nvPr/>
        </p:nvSpPr>
        <p:spPr>
          <a:xfrm>
            <a:off x="611280" y="4005360"/>
            <a:ext cx="64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āng</a:t>
            </a: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          chu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āng 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3314" descr="x1pGg9EMswqL-_GEyFkmGUAuMa8JEpXGvyukQnI2K57Op07lF24sHVMv72wo2RuFxk7x0NwksDbEfnNnSbaJuNXcaJqBdpLqKBzjD24OOJMWAzF1zj_e_-YvYyET85ZtXnYYW8ZAO2-zfQ6vy6bWYTP7rCvkbQaaP-5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3313"/>
          <p:cNvSpPr/>
          <p:nvPr/>
        </p:nvSpPr>
        <p:spPr>
          <a:xfrm>
            <a:off x="1332000" y="1844640"/>
            <a:ext cx="7127640" cy="2014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读第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莱恩的心情怎样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3077"/>
          <p:cNvSpPr/>
          <p:nvPr/>
        </p:nvSpPr>
        <p:spPr>
          <a:xfrm>
            <a:off x="914400" y="1066680"/>
            <a:ext cx="75452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印第安那州的小镇上，有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叫布莱恩的少年不幸得了脑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接受化学治疗后，他那漂亮的金发全都掉了。布莱恩难过极了，他整天躲在家里，连最好的朋友也不见。大家都很着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087"/>
          <p:cNvGrpSpPr/>
          <p:nvPr/>
        </p:nvGrpSpPr>
        <p:grpSpPr>
          <a:xfrm>
            <a:off x="4859280" y="3933720"/>
            <a:ext cx="506520" cy="71640"/>
            <a:chOff x="4859280" y="3933720"/>
            <a:chExt cx="506520" cy="71640"/>
          </a:xfrm>
        </p:grpSpPr>
        <p:sp>
          <p:nvSpPr>
            <p:cNvPr id="62" name="椭圆 3085"/>
            <p:cNvSpPr/>
            <p:nvPr/>
          </p:nvSpPr>
          <p:spPr>
            <a:xfrm>
              <a:off x="4859280" y="3933720"/>
              <a:ext cx="73080" cy="7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3086"/>
            <p:cNvSpPr/>
            <p:nvPr/>
          </p:nvSpPr>
          <p:spPr>
            <a:xfrm>
              <a:off x="5292720" y="3933720"/>
              <a:ext cx="73080" cy="7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088"/>
          <p:cNvGrpSpPr/>
          <p:nvPr/>
        </p:nvGrpSpPr>
        <p:grpSpPr>
          <a:xfrm>
            <a:off x="5715000" y="3962520"/>
            <a:ext cx="506520" cy="71280"/>
            <a:chOff x="5715000" y="3962520"/>
            <a:chExt cx="506520" cy="71280"/>
          </a:xfrm>
        </p:grpSpPr>
        <p:sp>
          <p:nvSpPr>
            <p:cNvPr id="65" name="椭圆 3089"/>
            <p:cNvSpPr/>
            <p:nvPr/>
          </p:nvSpPr>
          <p:spPr>
            <a:xfrm>
              <a:off x="5715000" y="3962520"/>
              <a:ext cx="730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3090"/>
            <p:cNvSpPr/>
            <p:nvPr/>
          </p:nvSpPr>
          <p:spPr>
            <a:xfrm>
              <a:off x="6148440" y="3962520"/>
              <a:ext cx="730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8433"/>
          <p:cNvSpPr/>
          <p:nvPr/>
        </p:nvSpPr>
        <p:spPr>
          <a:xfrm>
            <a:off x="838080" y="533520"/>
            <a:ext cx="75456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莱恩难过极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想： （                    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整天躲在家里，连最好的朋友也不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18434"/>
          <p:cNvGrpSpPr/>
          <p:nvPr/>
        </p:nvGrpSpPr>
        <p:grpSpPr>
          <a:xfrm>
            <a:off x="4038480" y="1219320"/>
            <a:ext cx="506520" cy="71280"/>
            <a:chOff x="4038480" y="1219320"/>
            <a:chExt cx="506520" cy="71280"/>
          </a:xfrm>
        </p:grpSpPr>
        <p:sp>
          <p:nvSpPr>
            <p:cNvPr id="69" name="椭圆 18435"/>
            <p:cNvSpPr/>
            <p:nvPr/>
          </p:nvSpPr>
          <p:spPr>
            <a:xfrm>
              <a:off x="4038480" y="1219320"/>
              <a:ext cx="730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8436"/>
            <p:cNvSpPr/>
            <p:nvPr/>
          </p:nvSpPr>
          <p:spPr>
            <a:xfrm>
              <a:off x="4471920" y="1219320"/>
              <a:ext cx="730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8437"/>
          <p:cNvGrpSpPr/>
          <p:nvPr/>
        </p:nvGrpSpPr>
        <p:grpSpPr>
          <a:xfrm>
            <a:off x="4894200" y="1247760"/>
            <a:ext cx="506520" cy="71280"/>
            <a:chOff x="4894200" y="1247760"/>
            <a:chExt cx="506520" cy="71280"/>
          </a:xfrm>
        </p:grpSpPr>
        <p:sp>
          <p:nvSpPr>
            <p:cNvPr id="72" name="椭圆 18438"/>
            <p:cNvSpPr/>
            <p:nvPr/>
          </p:nvSpPr>
          <p:spPr>
            <a:xfrm>
              <a:off x="4894200" y="1247760"/>
              <a:ext cx="730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8439"/>
            <p:cNvSpPr/>
            <p:nvPr/>
          </p:nvSpPr>
          <p:spPr>
            <a:xfrm>
              <a:off x="5327640" y="1247760"/>
              <a:ext cx="730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9457"/>
          <p:cNvSpPr/>
          <p:nvPr/>
        </p:nvSpPr>
        <p:spPr>
          <a:xfrm>
            <a:off x="914400" y="1066680"/>
            <a:ext cx="75452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印第安那州的小镇上，有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叫布莱恩的少年不幸得了脑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接受化学治疗后，他那漂亮的金发全都掉了。布莱恩难过极了，他整天躲在家里，连最好的朋友也不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都很着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9458"/>
          <p:cNvGrpSpPr/>
          <p:nvPr/>
        </p:nvGrpSpPr>
        <p:grpSpPr>
          <a:xfrm>
            <a:off x="4859280" y="3933720"/>
            <a:ext cx="506520" cy="71640"/>
            <a:chOff x="4859280" y="3933720"/>
            <a:chExt cx="506520" cy="71640"/>
          </a:xfrm>
        </p:grpSpPr>
        <p:sp>
          <p:nvSpPr>
            <p:cNvPr id="76" name="椭圆 19459"/>
            <p:cNvSpPr/>
            <p:nvPr/>
          </p:nvSpPr>
          <p:spPr>
            <a:xfrm>
              <a:off x="4859280" y="3933720"/>
              <a:ext cx="73080" cy="7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9460"/>
            <p:cNvSpPr/>
            <p:nvPr/>
          </p:nvSpPr>
          <p:spPr>
            <a:xfrm>
              <a:off x="5292720" y="3933720"/>
              <a:ext cx="73080" cy="7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9461"/>
          <p:cNvGrpSpPr/>
          <p:nvPr/>
        </p:nvGrpSpPr>
        <p:grpSpPr>
          <a:xfrm>
            <a:off x="5715000" y="3962520"/>
            <a:ext cx="506520" cy="71280"/>
            <a:chOff x="5715000" y="3962520"/>
            <a:chExt cx="506520" cy="71280"/>
          </a:xfrm>
        </p:grpSpPr>
        <p:sp>
          <p:nvSpPr>
            <p:cNvPr id="79" name="椭圆 19462"/>
            <p:cNvSpPr/>
            <p:nvPr/>
          </p:nvSpPr>
          <p:spPr>
            <a:xfrm>
              <a:off x="5715000" y="3962520"/>
              <a:ext cx="730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9463"/>
            <p:cNvSpPr/>
            <p:nvPr/>
          </p:nvSpPr>
          <p:spPr>
            <a:xfrm>
              <a:off x="6148440" y="3962520"/>
              <a:ext cx="730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直接连接符 19465"/>
          <p:cNvSpPr/>
          <p:nvPr/>
        </p:nvSpPr>
        <p:spPr>
          <a:xfrm>
            <a:off x="990720" y="5486400"/>
            <a:ext cx="28191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71" descr="x1pGg9EMswqL-_GEyFkmGUAuMa8JEpXGvyukQnI2K57Op07lF24sHVMv72wo2RuFxk7x0NwksDbEfnNnSbaJuNXcaJqBdpLqKBzjD24OOJMWAzF1zj_e_-YvYyET85ZtXnYYW8ZAO2-zfQ6vy6bWYTP7rCvkbQaaP-5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7170"/>
          <p:cNvSpPr/>
          <p:nvPr/>
        </p:nvSpPr>
        <p:spPr>
          <a:xfrm>
            <a:off x="539640" y="1484280"/>
            <a:ext cx="828036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读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用什么办法帮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布莱恩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106" descr="x1pGg9EMswqL-_GEyFkmGUAuMa8JEpXGvyukQnI2K57Op0ohdmaOUtf_IxgcjyofSc4KRzWWr47uGI3BoV7M1wxbIvUHcegsF6WZu3F8C7cwbcD7PA_aPvxl1IlNtflYzHYKl4gOBxZDmymmYvYRndF6Q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0211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4097"/>
          <p:cNvSpPr/>
          <p:nvPr/>
        </p:nvSpPr>
        <p:spPr>
          <a:xfrm>
            <a:off x="1371600" y="3886200"/>
            <a:ext cx="70866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不让布莱恩成为学校惟一的光头男孩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群男孩把自己的头发全剃光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099"/>
          <p:cNvSpPr/>
          <p:nvPr/>
        </p:nvSpPr>
        <p:spPr>
          <a:xfrm>
            <a:off x="1143000" y="685800"/>
            <a:ext cx="7238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，同班的一个男孩对自己的妈妈说： “我想把头发全剃光。这样，布莱恩就不会成为学校中惟一的光头男孩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4100"/>
          <p:cNvSpPr/>
          <p:nvPr/>
        </p:nvSpPr>
        <p:spPr>
          <a:xfrm>
            <a:off x="2666880" y="1981080"/>
            <a:ext cx="556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4101"/>
          <p:cNvSpPr/>
          <p:nvPr/>
        </p:nvSpPr>
        <p:spPr>
          <a:xfrm>
            <a:off x="1295280" y="2666880"/>
            <a:ext cx="7010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4102"/>
          <p:cNvSpPr/>
          <p:nvPr/>
        </p:nvSpPr>
        <p:spPr>
          <a:xfrm>
            <a:off x="1295280" y="32767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2:44:07Z</dcterms:created>
  <dc:creator/>
  <dc:description/>
  <cp:keywords/>
  <dc:language>en-US</dc:language>
  <cp:lastModifiedBy>Administrator</cp:lastModifiedBy>
  <dcterms:modified xsi:type="dcterms:W3CDTF">2016-12-12T02:58:51Z</dcterms:modified>
  <cp:revision>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