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15.jpeg" ContentType="image/jpeg"/>
  <Override PartName="/ppt/media/image38.png" ContentType="image/png"/>
  <Override PartName="/ppt/media/image8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4.jpeg" ContentType="image/jpeg"/>
  <Override PartName="/ppt/media/image33.png" ContentType="image/png"/>
  <Override PartName="/ppt/media/image40.gif" ContentType="image/gif"/>
  <Override PartName="/ppt/media/image37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0DE-EFD1-44FD-BBC0-ACC187D5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6A-E445-4B1C-A27A-6268DCB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7D022-D32E-4D3C-B61D-0D913D29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EFFA-D2E0-4FEF-A7B1-9758A4C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AB682-437A-4376-A9F4-9AC5AF2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DB9E6-4593-45AE-BDEA-6BC8E75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29D9-7C8A-440F-A6CE-25862F1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758B-31BC-4843-8D09-2981B57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51E04-0D7D-42A6-A666-C8CCC54E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22B6-AB0B-482F-86EA-4A67A489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B12E-BD24-4256-83EB-CCDDB014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DD7C5-2B55-4E27-B377-6CC1FBA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E10-5264-4FEF-ACFF-59850668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8462-017C-49B5-BF59-BD3F599A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EA60E-78EF-463D-9126-46C0CAD4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0C05A-DA5E-4031-85F2-9DFA1FF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C2FDD-10B6-466B-AB38-3B1C991A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BC748-05D3-4C51-8F53-C3DD13F2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9B006-08AC-4476-9D21-4333D74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9CF53-E9CB-4BFA-B7DF-DE2D1A0A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B8747-D6C9-43A4-8C46-17EEA99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D7F4C-1F63-4CB7-BFE3-32683FA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F27DE-C915-4D81-B680-2F29602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7CB-E8EA-4CC0-B72C-F1BA973A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AA605-01D6-4384-BA51-017378EC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315FE-03AD-4D86-A50C-089B782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3E1C-A95C-4271-B59E-D656492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7D136-774D-4F0C-8BF7-C66541DF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E881-4C6C-4CA7-B798-9FCC282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EFCAA-3449-4BF1-B547-DEFF43CE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DC34D-8C9A-42E4-A8FD-17BD182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F7E21-1FD9-4543-80B7-F9CF0AB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8C21-98C9-40B4-B0E1-DA159FB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DEAC1-FE8B-4BEF-B8C3-CD8312B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6FE-B537-485F-B41B-97CD81A5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1E2A-20C3-47AF-8F2E-AA4F19CC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37F1-7A02-41F4-A9E3-41048FE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8B390-F1B9-46ED-8345-74D7A4C1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76DFE-92AF-4080-8CF5-2448953F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DCB04-4347-4221-B9D6-6E8C7B0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2CB32-B96D-475C-B0E1-CAB8C4C3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CD76A-DC63-40DE-8A86-E52E9DC8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05266-26C6-4200-8272-6CEF2BF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66B58-90EF-4D34-8184-B2E9E2E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D131E-FD1E-478F-99B0-8845605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6E1-C2C5-4BC7-B290-E3551B7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698D5-A765-4D67-AFC7-14AD505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CDC9C-351E-4255-88C2-8EB5DDB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C8449-85CA-490D-A506-CE65D89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A5CEB-C283-4018-AC09-DDDD1B79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D1FCE-1B5D-4B43-B525-74BC5173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FFC42-8456-46EE-BF65-30077B7B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3D4A1-7F27-48E0-B108-073AF2D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9C487-27C5-4D91-B054-3BD4D658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9D54D-13B2-46E8-B257-E8DA8FE8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4B2A3-6DE9-4EE4-BE53-65B705B6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3D3-0ECC-4E46-ABBF-3DCE1E2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7EA50-F615-42DC-9DB3-5957FEF6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9B5BE-A3E2-4A9D-9193-FF94AB2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99412-C4B9-44E2-A81D-D170350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4C0FA-42A7-43C3-AC42-363DDAC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617F6-7764-4DD4-AE11-B5B5E98E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7B453-7CDD-4AEF-BCD7-426BB700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AC175-AAA4-4EA5-8F3F-AE0926F0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6F3DA-03AA-4EE9-B237-D23D8A97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2A407-3E08-4F4F-8183-4EF0942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49E95-7402-4630-A6AA-BCE3B12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0DF8-7555-4C37-A9AB-DDB7D38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2D6C4-536D-4E79-9332-85590482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9B4E6-04E2-418E-8923-975429A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886CA-4585-4889-9599-6621F8C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62EBB-04DD-416E-A9A3-C05557F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95C87-8695-4476-B827-370E36F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8FFE7-B339-4ACB-A462-FD1899A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250FF-0070-425C-8BA7-5713C7ED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CBA68-85BE-4FFD-AA30-815FC89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5B4FE-D495-440E-9352-D21B61DA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4ECCB-6EAA-47EF-A442-107D8E5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268-30F2-4C4D-9034-4CF2CBE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FFC7B-7D4A-4C0C-A9D6-DC1B73D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CC4E9-DFD4-4828-9964-98A7B7E3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59EBA-45EA-48A8-8BDE-2074494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39F9D-46AA-4F65-B1D9-59B5A0DC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48C33-D570-4112-A1E0-E1EAD64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46883-A128-4B78-A8D9-5D7809E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5E04F-BEDD-4D46-8F70-D09FACB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D44A5-555D-48ED-A39B-0C79B98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5E804-347F-4671-A98C-EA03183C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40502-FAF5-4E43-B4C7-418D01C5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1A9-9BFB-4E6F-BF83-723E1021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00AE8-394A-4AA2-931D-A8ABB983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9C48F-887E-4B35-8041-E87DD2B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9B6BA-70E6-4054-9371-2E96C34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7D0DE-2392-48CB-92CA-AE64F98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C5985-A51E-4687-BF81-81DDFD2A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73784-A30C-47A7-B137-0DC5806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36688-BAC2-40DD-836E-5AD97CEF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18395-FA2E-4989-B5C2-20E3CEF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1B732-4E4F-41D8-8CFD-0AAF64E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06A12-718E-4A9C-8EE9-B118382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FCC-65A5-4689-82CD-874A3B7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DC281-688B-4D0C-8606-47EC702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3D6C6-E946-4D8B-B2C9-3E52AE76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C3658-DC7F-4808-BC7E-7936C264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09920-4D46-4670-961D-5E8DD962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8C303-5811-47C2-9D05-7218684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03EBD-3C87-4C80-8D0C-2DA8E5A9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227C4-17DD-43E8-AB16-3594912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8FAF6-77D7-4E62-A70C-1B2D892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CAF53-CB12-4086-9D30-499E282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C1286-C510-4AE0-A162-45C8C3B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89B-6334-4C78-8442-3EE17A4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23AE-4F47-4AE2-AB27-74229511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8A85A-B358-4974-8A03-31E0A55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D04D6-7B8E-4845-9299-4B94967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C9CCF-E07C-4A0E-977C-7591D1A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357FE-9AF9-4DAB-98B4-0E19715D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EBD31-3988-4F4A-8C5F-A7BF117C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B0540-1D52-43FF-AFF6-DC349F1E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3E567-58EE-4A05-A179-B97B2056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0ECFC-BFDE-4499-A4F3-2E070DC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F676F-50B5-468E-9EAA-BE73EA7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C8231-670C-4B94-9802-B80536F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DC3-705A-43D0-AF89-39E700F4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356D1-100E-499C-9B19-F03275D6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2938F-4771-45C8-B24B-27AF082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DD9FF-05C0-47EA-9591-6FFD449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6D2B7-5CD1-469B-A4A3-4556850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384C3-B47D-4AB6-B530-499D40E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09974-15A0-467B-B7AB-470A24C7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40A57-0F9B-41FC-81BE-01EFDD4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67B15-0AEF-49C0-8237-FFA683D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2D9DE-A5BA-424B-895F-CEAD15B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4F90B-ADB2-4F53-9ABF-4711DDD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4BEC-680C-4309-B3E9-A8DB7FB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27CF5-8157-4446-A1B9-01E769A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95180-58A3-4519-9346-5DFEB04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7B76B-5D9C-47F9-ADBE-BF16E9E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65D6D-3E2E-4978-B38D-463AC40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947EA-8082-439E-A8ED-5A145845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205DB-0914-4F89-9FAD-874B2E9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DAA3A-E17F-4F6C-8356-A890E5A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6E7D3-FEA7-48C0-9B03-E4810171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EB446-0B88-49B8-96B1-58FC3B4F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BEB7E-C0FE-4DA6-8FF1-A4BB1EEB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7FA-8470-4605-8915-5D54E18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0F65A-A571-44F2-BB59-E8E68E4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957F4-23CA-43BC-89E0-B8E4381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6504A-382F-4C00-B054-128E8AE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A3FA8-74F5-49E0-BD8C-B571F67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CB20D-1A8D-4FF2-A1C6-DEB3285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309E2-C55E-4BE8-9CDF-D1975A5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D7638-8E17-473A-BBD6-66CE17B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D9ABD-1CCE-4B89-B58C-8BBB3F7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F2F15-833A-43B2-A6C8-F86786B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4129D-9CB1-4E45-9DC6-C219486D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9CE2-2C7B-4672-88D5-7AA014E4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5096E-1907-46A7-9520-40B844C7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B99EE-53D2-4F4F-8D09-BD27AB6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87B19-0BC1-4DB9-80C7-411B53B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B0C30-003C-4AAC-912F-8119FE1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CDC7B-EF08-4298-AD60-C2EB9E7D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EF46B-B327-466B-BFFB-C5102BE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50049-2333-4A4A-8AD0-3AE1BC6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C5DA2-63D5-447C-AFF9-84EAF27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7A10B-CB56-4F81-AB44-3750954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313D4-6A83-4F18-9593-5611D8A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D565-0C0B-4AF0-A0CE-437702CB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7BAB7-233A-4B98-9060-2BF666A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0F8C1-0285-4E27-B9D8-46DD66F3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4391C-23E4-4438-B5A3-88A7B3EA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8D9DB-BC48-4044-A629-623A03F3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239FC5-6052-44E5-A077-37D6ED5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C3A6A-DC77-401F-9E84-F05D9EA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0C4D5B-7BD7-4E03-8406-555E6CA1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20950-0C21-4DFB-B630-95027DD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D8475F-6534-4721-AF6C-0155E0D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71B6A-56BE-4883-860E-85F76EC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5A7B-52BC-47C3-8D1D-6438563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20A23-4207-44CF-9F69-F955796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94244-6905-4176-AF80-517D063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269371-DC18-433F-8C0E-40D517F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3CB967-EC81-4183-90B9-A81B5430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52D1C2-2AE8-4A71-8F3C-25B3A2F6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2B1EC0-8743-4C63-B01C-8248DD95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37ED0-A30F-4DAB-A28C-27AC1227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C2661-E51A-4BAB-870D-161261E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0473CC-03C0-4BCE-8D0C-92785E8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8DBB3-BE12-4196-95C2-9DABC402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9C4B-A7D9-4D59-A9B8-2BAE7B15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681FBE-276D-4E4D-95CA-C160565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D230E-6CD0-436E-B500-9A243D9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2AA28-28D0-4A3D-9B08-109378D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8603C-4CBF-46D3-89D8-3CBD201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C9280-6BA8-4591-90DF-B8BFAC1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9AEE5E-6A54-4E88-BC9F-3BA352C5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91F53-6D1F-46D3-946A-19266BB4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BD5A68-BCC8-4F14-85AE-5ACA8E0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98522-F48E-4DEB-AF63-E8B4DD3E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88D62F-670D-4258-830F-4979AAEB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5A49-B1F1-46A9-BFA8-4CC26B9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A6607B-B37D-4CDE-902E-ACA5EF2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EB73F-7E6C-4A43-A785-CA2C8E72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23CBBE-C205-4DD9-9679-5EC48D6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F167A-E17C-4C03-B76B-46C4743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1F1F4C-A888-4048-8456-45C921C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01BC57-47F9-4650-8929-2D517DE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398A0-E4AC-43F9-9A1F-CE3F6D5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0E9FD0-6D98-4940-9069-5DA5F9F5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C299F-76F5-4EF7-841D-921D55A3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129BAC-8C31-4612-8386-7B774E01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90CC-BE4E-484F-8ECD-6D28F81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C000EC-EF84-4461-8363-55F41F7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5A0D92-E743-44A9-8439-B3535449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CD1E6F-747B-4A3F-983E-65D8259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6EE2A9-8474-428B-8384-DF12D705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5DAEFD-44FF-4E96-9294-54A302A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05F0F4-851E-4104-A1A0-BAE5F3E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50A80-0353-4314-95ED-0180E7FC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56BECA-F7B0-4D22-9071-8D779F0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C7F260-55B8-45B5-9F54-F104126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CC7108-9DE2-4FD3-901B-A019262E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EBC-95BE-42FD-9B9F-F59DD81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1813-4788-4D87-A3AD-9813CC0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4F9C99-4E34-4A8B-912E-856DADF8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E98C-1650-479B-AF12-8C6637B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EE9A-963F-4764-A0D3-2FEC557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E855-10BE-4AAD-B9B7-0B949E0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3169-22DD-4987-B573-33EA46B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645B-8A76-49C7-B32C-60327909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8CDC-64BE-48D3-B533-8DC1A929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478A-6111-496D-8539-5732BCA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045A-F3F1-4290-8E3D-14FED789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1A35-583B-444A-8409-026512D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19E-0745-441C-BBE4-547BB2D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E1DC-0FA9-4FFF-8E3A-6EE688A5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79FE-5EBC-4A95-8C3E-08EC28AC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8056-9742-458D-8838-E163F90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43A5-CAFF-4F85-95F9-711635F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F7B5-E807-467A-A262-E6DA742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FEAF-3954-4594-B5FF-294A752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5D47-4452-4476-8645-53E8BACF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9214-EBCB-4356-983F-76C7461F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3361-DB99-4879-9D0E-3472759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5DB3-3B3D-4C2C-8009-5B08C43C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AF9-2766-4D1D-B659-422772D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D48F-B75A-4F37-98D3-D137E43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D6AE-4294-4536-825E-8089DE8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927E-759B-4245-A86B-267147C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33D7-2D22-42A1-95D8-2D77D29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0F51-35E1-41AD-BDC9-D938138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82B1-258E-4C42-B799-548ED4F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CE0C-385B-4685-9347-D1D0026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C12B-873A-47E9-8D34-EF5C3CF1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5D39-A795-4DB1-9334-F8CDEC2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3ACF-D860-4946-837A-6EAA6B92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4FE-FFDB-4EF9-826B-151D1F1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430E-74A9-4EC2-A8E5-EB923A42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AD363-F542-444B-952D-063E98CD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02F5-A8B4-4F42-BE55-C5806E35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3FD2-FDE1-4FB6-9FF6-5A2B826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1736-A3CE-461F-8B06-2319370E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5426-ECE9-4626-AB0A-27FE0C2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CE9D-5BF4-4963-8A87-CE6E44FB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153F-D999-4AD7-9A91-4EF17BA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49482-34AA-4A0D-9EB8-6CC36C6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754B-6C7F-400F-B608-C51195F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0C1-3127-4607-B6BE-D68E720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94F6-3D59-49FC-868E-153E1AB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B275-9819-47DB-B424-DAC296B3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8147-919B-4CBF-A258-897D72C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E80B-1734-4D8C-B755-F8032823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E7414-AB66-47AD-92ED-B5B5EE8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10BE-5BB7-4DDC-B6FE-0A4BDBF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70E21-48F6-4F9A-BBCD-2A6CC5E0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9BC9-1FA1-4D3D-AC00-94A4A01B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7F5E-4450-4E7A-BCEA-BF6D3A50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3896-D518-420C-A73B-17675810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79C-92D3-4A81-9DBE-7B502ED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F672-1CEA-4139-A20C-130FB94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9608-1DF2-4B24-8751-A9A2C71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1D82-2B4C-4429-B895-AE460DC6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9B737-5E8F-4D22-B6D9-871EDBF9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5177-0DEF-4402-B7D9-319E930D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314E-6224-428C-A2E7-A9EFE59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42B8-8FD4-4F70-A87F-5826CAA8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DDA2-4537-4D7B-8E0B-CE4D1860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F449-CD3A-4519-8E3B-9BFAAD3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64F2-0FA6-4E97-B2EB-D094C920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47F-22D4-4942-86BB-E6C0E98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FD094-6841-43F7-BCCF-1B34307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39C3-E966-4CC7-B513-F62B165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48BDF-8598-45A8-B4F9-CDA9885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93B9-A85D-405B-9BAB-DF9C4A2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9446-5169-4FE6-B6D8-6ABAA1C5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C70E-2290-46C6-892E-F66294E8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209A-501E-4247-8165-4064D0D1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E702C-6938-473F-A269-AE189D88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9EFE8-E0AE-42F4-9552-9B9C7F6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BB54-DFA7-463C-8236-84B948B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338C-F7A3-4D05-B5AC-0A78FDEF24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4B4-C4CB-402A-B09F-AD60AAC8ED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4EAD-CBED-48D6-9FBD-CF7985AB4D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2274-E698-40F8-BC27-3FC270C8CE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E293-6404-44A1-A765-F49682F36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D6EA-A1E9-4A99-AC0E-F10C5B117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C18-3BD8-4EC1-9B4C-C7C3F6EC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B71F-4548-4169-A1AD-4F8DB96D1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37D-2767-4E06-A030-89C1B65B4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88D-526D-4FD4-AE9B-BCC119085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1360-760E-4D62-A06C-08FEB14E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958-E2DB-4A6D-B2A7-6C6655773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6C38-3B14-41B7-8421-6A6133298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B15-354D-4A96-9DBA-9F4B05CFB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F37-8A49-4CB4-BAD7-B91860B5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16D-B7BB-4B41-8127-BFB3E2B9D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E470-633D-4267-A98D-9717A30A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5084-FFF1-427B-BD36-3859E5A2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4850-D01A-4CC6-BEE1-E06B0B50C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1C96-2D7A-482C-B45C-D35076F3FC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4CEC-AA14-46C3-BFA8-641A96541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3744-F0B0-43E3-A353-44355A1ED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4A1-585A-4DA6-970F-B9C7378CFD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39D-BA5F-4939-9C97-DAE483811D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5F46-7583-490C-A754-C8344E0ED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6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jpe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" Target="slide6.xml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文本框 5122"/>
          <p:cNvSpPr/>
          <p:nvPr/>
        </p:nvSpPr>
        <p:spPr>
          <a:xfrm>
            <a:off x="539640" y="260280"/>
            <a:ext cx="38880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猜谜语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体细长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兄弟成双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会吃菜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会喝汤。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打一生活用品。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26" name="图片 5123" descr="筷子图6jpg"/>
          <p:cNvPicPr/>
          <p:nvPr/>
        </p:nvPicPr>
        <p:blipFill>
          <a:blip r:embed="rId1"/>
          <a:stretch/>
        </p:blipFill>
        <p:spPr>
          <a:xfrm>
            <a:off x="4788000" y="620640"/>
            <a:ext cx="374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4337" descr="d136"/>
          <p:cNvPicPr/>
          <p:nvPr/>
        </p:nvPicPr>
        <p:blipFill>
          <a:blip r:embed="rId1"/>
          <a:stretch/>
        </p:blipFill>
        <p:spPr>
          <a:xfrm>
            <a:off x="0" y="0"/>
            <a:ext cx="9144000" cy="6620040"/>
          </a:xfrm>
          <a:prstGeom prst="rect">
            <a:avLst/>
          </a:prstGeom>
          <a:ln w="0">
            <a:noFill/>
          </a:ln>
        </p:spPr>
      </p:pic>
      <p:pic>
        <p:nvPicPr>
          <p:cNvPr id="1057" name="矩形 14338" descr=""/>
          <p:cNvPicPr/>
          <p:nvPr/>
        </p:nvPicPr>
        <p:blipFill>
          <a:blip r:embed="rId2"/>
          <a:stretch/>
        </p:blipFill>
        <p:spPr>
          <a:xfrm>
            <a:off x="2475000" y="176040"/>
            <a:ext cx="2975040" cy="1317960"/>
          </a:xfrm>
          <a:prstGeom prst="rect">
            <a:avLst/>
          </a:prstGeom>
          <a:ln w="0">
            <a:noFill/>
          </a:ln>
        </p:spPr>
      </p:pic>
      <p:sp>
        <p:nvSpPr>
          <p:cNvPr id="1058" name="文本框 14339"/>
          <p:cNvSpPr/>
          <p:nvPr/>
        </p:nvSpPr>
        <p:spPr>
          <a:xfrm>
            <a:off x="1476360" y="2133720"/>
            <a:ext cx="766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（               ），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所以叫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快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9" name="文本框 14340"/>
          <p:cNvSpPr/>
          <p:nvPr/>
        </p:nvSpPr>
        <p:spPr>
          <a:xfrm>
            <a:off x="684360" y="1602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内容关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15361" descr="d136"/>
          <p:cNvPicPr/>
          <p:nvPr/>
        </p:nvPicPr>
        <p:blipFill>
          <a:blip r:embed="rId1"/>
          <a:stretch/>
        </p:blipFill>
        <p:spPr>
          <a:xfrm>
            <a:off x="34920" y="-45720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061" name="文本框 15362"/>
          <p:cNvSpPr/>
          <p:nvPr/>
        </p:nvSpPr>
        <p:spPr>
          <a:xfrm>
            <a:off x="952560" y="1701720"/>
            <a:ext cx="772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谁）                       （什么）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就发明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怎么样）          （什么）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文本框 16385"/>
          <p:cNvSpPr/>
          <p:nvPr/>
        </p:nvSpPr>
        <p:spPr>
          <a:xfrm>
            <a:off x="250920" y="40464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筷子的事传到皇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áng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帝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ì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儿，皇帝也学着用筷子吃饭。不过皇帝嫌竹筷太土气，让人做了玉石筷、象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筷、还有金筷、银筷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63" name="Picture 11" descr=""/>
          <p:cNvPicPr/>
          <p:nvPr/>
        </p:nvPicPr>
        <p:blipFill>
          <a:blip r:embed="rId1"/>
          <a:stretch/>
        </p:blipFill>
        <p:spPr>
          <a:xfrm>
            <a:off x="5796000" y="5302080"/>
            <a:ext cx="237636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7409" descr="286"/>
          <p:cNvPicPr/>
          <p:nvPr/>
        </p:nvPicPr>
        <p:blipFill>
          <a:blip r:embed="rId1"/>
          <a:stretch/>
        </p:blipFill>
        <p:spPr>
          <a:xfrm>
            <a:off x="5003640" y="41925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17410" descr="2009020415491020"/>
          <p:cNvPicPr/>
          <p:nvPr/>
        </p:nvPicPr>
        <p:blipFill>
          <a:blip r:embed="rId2"/>
          <a:stretch/>
        </p:blipFill>
        <p:spPr>
          <a:xfrm>
            <a:off x="4932360" y="0"/>
            <a:ext cx="3597120" cy="269712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17411" descr="20084239181937365"/>
          <p:cNvPicPr/>
          <p:nvPr/>
        </p:nvPicPr>
        <p:blipFill>
          <a:blip r:embed="rId3"/>
          <a:stretch/>
        </p:blipFill>
        <p:spPr>
          <a:xfrm>
            <a:off x="0" y="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17412" descr="1da41ba607f06288d0435806"/>
          <p:cNvPicPr/>
          <p:nvPr/>
        </p:nvPicPr>
        <p:blipFill>
          <a:blip r:embed="rId4"/>
          <a:stretch/>
        </p:blipFill>
        <p:spPr>
          <a:xfrm>
            <a:off x="0" y="3941640"/>
            <a:ext cx="4530600" cy="2916360"/>
          </a:xfrm>
          <a:prstGeom prst="rect">
            <a:avLst/>
          </a:prstGeom>
          <a:ln w="0">
            <a:noFill/>
          </a:ln>
        </p:spPr>
      </p:pic>
      <p:sp>
        <p:nvSpPr>
          <p:cNvPr id="1068" name="文本框 17413"/>
          <p:cNvSpPr/>
          <p:nvPr/>
        </p:nvSpPr>
        <p:spPr>
          <a:xfrm>
            <a:off x="2843280" y="1844640"/>
            <a:ext cx="40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石筷</a:t>
            </a:r>
            <a:endParaRPr b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9" name="文本框 17414"/>
          <p:cNvSpPr/>
          <p:nvPr/>
        </p:nvSpPr>
        <p:spPr>
          <a:xfrm>
            <a:off x="6877080" y="2708280"/>
            <a:ext cx="22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牙筷</a:t>
            </a:r>
            <a:endParaRPr b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0" name="文本框 17415"/>
          <p:cNvSpPr/>
          <p:nvPr/>
        </p:nvSpPr>
        <p:spPr>
          <a:xfrm>
            <a:off x="395280" y="3213000"/>
            <a:ext cx="216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筷</a:t>
            </a:r>
            <a:endParaRPr b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1" name="文本框 17416"/>
          <p:cNvSpPr/>
          <p:nvPr/>
        </p:nvSpPr>
        <p:spPr>
          <a:xfrm>
            <a:off x="4788000" y="3357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筷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4" descr="b_38"/>
          <p:cNvPicPr/>
          <p:nvPr/>
        </p:nvPicPr>
        <p:blipFill>
          <a:blip r:embed="rId1"/>
          <a:stretch/>
        </p:blipFill>
        <p:spPr>
          <a:xfrm>
            <a:off x="0" y="0"/>
            <a:ext cx="9982080" cy="7486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326FD2AC7014253273FB7DDC46C90B26_500"/>
          <p:cNvPicPr/>
          <p:nvPr/>
        </p:nvPicPr>
        <p:blipFill>
          <a:blip r:embed="rId2"/>
          <a:stretch/>
        </p:blipFill>
        <p:spPr>
          <a:xfrm>
            <a:off x="6804000" y="2276640"/>
            <a:ext cx="1908360" cy="14396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6" descr="1128825490"/>
          <p:cNvPicPr/>
          <p:nvPr/>
        </p:nvPicPr>
        <p:blipFill>
          <a:blip r:embed="rId3"/>
          <a:stretch/>
        </p:blipFill>
        <p:spPr>
          <a:xfrm>
            <a:off x="7740720" y="4076640"/>
            <a:ext cx="1152360" cy="21956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7" descr="11749734902"/>
          <p:cNvPicPr/>
          <p:nvPr/>
        </p:nvPicPr>
        <p:blipFill>
          <a:blip r:embed="rId4"/>
          <a:stretch/>
        </p:blipFill>
        <p:spPr>
          <a:xfrm>
            <a:off x="2843280" y="404640"/>
            <a:ext cx="187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8" descr="2005101116293290872"/>
          <p:cNvPicPr/>
          <p:nvPr/>
        </p:nvPicPr>
        <p:blipFill>
          <a:blip r:embed="rId5"/>
          <a:stretch/>
        </p:blipFill>
        <p:spPr>
          <a:xfrm>
            <a:off x="5867280" y="486900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200607071022062297619885"/>
          <p:cNvPicPr/>
          <p:nvPr/>
        </p:nvPicPr>
        <p:blipFill>
          <a:blip r:embed="rId6"/>
          <a:stretch/>
        </p:blipFill>
        <p:spPr>
          <a:xfrm>
            <a:off x="2484360" y="4797360"/>
            <a:ext cx="1513080" cy="1122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0" descr="40158"/>
          <p:cNvPicPr/>
          <p:nvPr/>
        </p:nvPicPr>
        <p:blipFill>
          <a:blip r:embed="rId7"/>
          <a:stretch/>
        </p:blipFill>
        <p:spPr>
          <a:xfrm>
            <a:off x="6948360" y="476280"/>
            <a:ext cx="162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1" descr=""/>
          <p:cNvPicPr/>
          <p:nvPr/>
        </p:nvPicPr>
        <p:blipFill>
          <a:blip r:embed="rId8"/>
          <a:stretch/>
        </p:blipFill>
        <p:spPr>
          <a:xfrm>
            <a:off x="539640" y="404640"/>
            <a:ext cx="1944720" cy="1152720"/>
          </a:xfrm>
          <a:prstGeom prst="rect">
            <a:avLst/>
          </a:prstGeom>
          <a:ln w="0">
            <a:noFill/>
          </a:ln>
        </p:spPr>
      </p:pic>
      <p:sp>
        <p:nvSpPr>
          <p:cNvPr id="1082" name="Text Box 12"/>
          <p:cNvSpPr/>
          <p:nvPr/>
        </p:nvSpPr>
        <p:spPr>
          <a:xfrm>
            <a:off x="550080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包头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735264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不锈钢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334008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牛骨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1220760" y="17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竹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799200" y="6165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镊子式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7" name="Text Box 17"/>
          <p:cNvSpPr/>
          <p:nvPr/>
        </p:nvSpPr>
        <p:spPr>
          <a:xfrm>
            <a:off x="2631240" y="6165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装着酱油的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2373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礼品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54840" y="400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五彩密胺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0" name="Text Box 20"/>
          <p:cNvSpPr/>
          <p:nvPr/>
        </p:nvSpPr>
        <p:spPr>
          <a:xfrm>
            <a:off x="5623560" y="4076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儿童智力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1" name="Picture 21" descr="200652522423061283"/>
          <p:cNvPicPr/>
          <p:nvPr/>
        </p:nvPicPr>
        <p:blipFill>
          <a:blip r:embed="rId9"/>
          <a:stretch/>
        </p:blipFill>
        <p:spPr>
          <a:xfrm>
            <a:off x="5003640" y="404640"/>
            <a:ext cx="1727280" cy="108144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22"/>
          <p:cNvSpPr/>
          <p:nvPr/>
        </p:nvSpPr>
        <p:spPr>
          <a:xfrm>
            <a:off x="7331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夹子式的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3" name="Text Box 23"/>
          <p:cNvSpPr/>
          <p:nvPr/>
        </p:nvSpPr>
        <p:spPr>
          <a:xfrm>
            <a:off x="4635720" y="623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旅行筷子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4" name="Picture 24" descr=""/>
          <p:cNvPicPr/>
          <p:nvPr/>
        </p:nvPicPr>
        <p:blipFill>
          <a:blip r:embed="rId10"/>
          <a:stretch/>
        </p:blipFill>
        <p:spPr>
          <a:xfrm>
            <a:off x="2124000" y="2349360"/>
            <a:ext cx="857160" cy="1511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5" descr=""/>
          <p:cNvPicPr/>
          <p:nvPr/>
        </p:nvPicPr>
        <p:blipFill>
          <a:blip r:embed="rId11"/>
          <a:stretch/>
        </p:blipFill>
        <p:spPr>
          <a:xfrm>
            <a:off x="539640" y="2349360"/>
            <a:ext cx="1100160" cy="15512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6" descr=""/>
          <p:cNvPicPr/>
          <p:nvPr/>
        </p:nvPicPr>
        <p:blipFill>
          <a:blip r:embed="rId12"/>
          <a:stretch/>
        </p:blipFill>
        <p:spPr>
          <a:xfrm>
            <a:off x="395280" y="4797360"/>
            <a:ext cx="1728720" cy="1084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7" descr=""/>
          <p:cNvPicPr/>
          <p:nvPr/>
        </p:nvPicPr>
        <p:blipFill>
          <a:blip r:embed="rId13"/>
          <a:stretch/>
        </p:blipFill>
        <p:spPr>
          <a:xfrm>
            <a:off x="4356000" y="4292640"/>
            <a:ext cx="1224000" cy="1766880"/>
          </a:xfrm>
          <a:prstGeom prst="rect">
            <a:avLst/>
          </a:prstGeom>
          <a:ln w="0">
            <a:noFill/>
          </a:ln>
        </p:spPr>
      </p:pic>
      <p:sp>
        <p:nvSpPr>
          <p:cNvPr id="1098" name="Text Box 28"/>
          <p:cNvSpPr/>
          <p:nvPr/>
        </p:nvSpPr>
        <p:spPr>
          <a:xfrm>
            <a:off x="7948800" y="623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礼品木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9" name="Text Box 29"/>
          <p:cNvSpPr/>
          <p:nvPr/>
        </p:nvSpPr>
        <p:spPr>
          <a:xfrm>
            <a:off x="2300400" y="407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漆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00" name="Picture 30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330200" cy="15112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31"/>
          <p:cNvSpPr/>
          <p:nvPr/>
        </p:nvSpPr>
        <p:spPr>
          <a:xfrm>
            <a:off x="4005720" y="4076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次性木筷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02" name="Picture 32" descr=""/>
          <p:cNvPicPr/>
          <p:nvPr/>
        </p:nvPicPr>
        <p:blipFill>
          <a:blip r:embed="rId15"/>
          <a:stretch/>
        </p:blipFill>
        <p:spPr>
          <a:xfrm>
            <a:off x="5435640" y="2349360"/>
            <a:ext cx="11365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1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2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3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3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3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4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5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5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6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6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7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8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7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9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9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1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1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11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11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12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12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13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3013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14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14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文本框 19457"/>
          <p:cNvSpPr/>
          <p:nvPr/>
        </p:nvSpPr>
        <p:spPr>
          <a:xfrm>
            <a:off x="250920" y="765000"/>
            <a:ext cx="8424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，全世界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中，就有一个人使用筷子。他们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在东方国家。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西方人也想学习用筷子吃饭呢！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4" name="文本框 19458"/>
          <p:cNvSpPr/>
          <p:nvPr/>
        </p:nvSpPr>
        <p:spPr>
          <a:xfrm>
            <a:off x="1262160" y="5464080"/>
            <a:ext cx="7270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ff"/>
                </a:solidFill>
                <a:latin typeface="Times New Roman"/>
              </a:rPr>
              <a:t>他们生活在东方国家。</a:t>
            </a:r>
            <a:endParaRPr b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05" name="墨迹 19459" descr=""/>
          <p:cNvPicPr/>
          <p:nvPr/>
        </p:nvPicPr>
        <p:blipFill>
          <a:blip r:embed="rId1"/>
          <a:stretch/>
        </p:blipFill>
        <p:spPr>
          <a:xfrm>
            <a:off x="1114560" y="749160"/>
            <a:ext cx="6716520" cy="4411800"/>
          </a:xfrm>
          <a:prstGeom prst="rect">
            <a:avLst/>
          </a:prstGeom>
          <a:ln w="0">
            <a:noFill/>
          </a:ln>
        </p:spPr>
      </p:pic>
      <p:pic>
        <p:nvPicPr>
          <p:cNvPr id="1106" name="墨迹 19460" descr=""/>
          <p:cNvPicPr/>
          <p:nvPr/>
        </p:nvPicPr>
        <p:blipFill>
          <a:blip r:embed="rId2"/>
          <a:stretch/>
        </p:blipFill>
        <p:spPr>
          <a:xfrm>
            <a:off x="5695920" y="3606840"/>
            <a:ext cx="90360" cy="903240"/>
          </a:xfrm>
          <a:prstGeom prst="rect">
            <a:avLst/>
          </a:prstGeom>
          <a:ln w="0">
            <a:noFill/>
          </a:ln>
        </p:spPr>
      </p:pic>
      <p:pic>
        <p:nvPicPr>
          <p:cNvPr id="1107" name="墨迹 19461" descr=""/>
          <p:cNvPicPr/>
          <p:nvPr/>
        </p:nvPicPr>
        <p:blipFill>
          <a:blip r:embed="rId3"/>
          <a:stretch/>
        </p:blipFill>
        <p:spPr>
          <a:xfrm>
            <a:off x="8142120" y="3616200"/>
            <a:ext cx="1177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0481" descr="d136"/>
          <p:cNvPicPr/>
          <p:nvPr/>
        </p:nvPicPr>
        <p:blipFill>
          <a:blip r:embed="rId1"/>
          <a:stretch/>
        </p:blipFill>
        <p:spPr>
          <a:xfrm>
            <a:off x="0" y="0"/>
            <a:ext cx="9144000" cy="66200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0482" descr="MP00640_"/>
          <p:cNvPicPr/>
          <p:nvPr/>
        </p:nvPicPr>
        <p:blipFill>
          <a:blip r:embed="rId2"/>
          <a:stretch/>
        </p:blipFill>
        <p:spPr>
          <a:xfrm>
            <a:off x="2895480" y="1981080"/>
            <a:ext cx="3483000" cy="3468960"/>
          </a:xfrm>
          <a:prstGeom prst="rect">
            <a:avLst/>
          </a:prstGeom>
          <a:ln w="0">
            <a:noFill/>
          </a:ln>
        </p:spPr>
      </p:pic>
      <p:pic>
        <p:nvPicPr>
          <p:cNvPr id="1110" name="矩形 20483" descr=""/>
          <p:cNvPicPr/>
          <p:nvPr/>
        </p:nvPicPr>
        <p:blipFill>
          <a:blip r:embed="rId3"/>
          <a:stretch/>
        </p:blipFill>
        <p:spPr>
          <a:xfrm>
            <a:off x="1663560" y="-6480"/>
            <a:ext cx="4408560" cy="1646280"/>
          </a:xfrm>
          <a:prstGeom prst="rect">
            <a:avLst/>
          </a:prstGeom>
          <a:ln w="0">
            <a:noFill/>
          </a:ln>
        </p:spPr>
      </p:pic>
      <p:sp>
        <p:nvSpPr>
          <p:cNvPr id="1111" name="矩形 20484"/>
          <p:cNvSpPr/>
          <p:nvPr/>
        </p:nvSpPr>
        <p:spPr>
          <a:xfrm>
            <a:off x="1295280" y="2349360"/>
            <a:ext cx="78487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d5367"/>
                </a:solidFill>
                <a:latin typeface="Arial"/>
              </a:rPr>
              <a:t>日本                                   马来西亚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53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5367"/>
                </a:solidFill>
                <a:latin typeface="Arial"/>
              </a:rPr>
              <a:t>越南                                     印尼                             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53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5367"/>
                </a:solidFill>
                <a:latin typeface="Arial"/>
              </a:rPr>
              <a:t>新加坡                                  朝鲜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53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2" name="矩形 20485"/>
          <p:cNvSpPr/>
          <p:nvPr/>
        </p:nvSpPr>
        <p:spPr>
          <a:xfrm>
            <a:off x="971640" y="1341360"/>
            <a:ext cx="244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中国 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3" name="动作按钮: 自定义 20486">
            <a:hlinkClick r:id="rId4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21505" descr="d136"/>
          <p:cNvPicPr/>
          <p:nvPr/>
        </p:nvPicPr>
        <p:blipFill>
          <a:blip r:embed="rId1"/>
          <a:stretch/>
        </p:blipFill>
        <p:spPr>
          <a:xfrm>
            <a:off x="0" y="0"/>
            <a:ext cx="9144000" cy="6620040"/>
          </a:xfrm>
          <a:prstGeom prst="rect">
            <a:avLst/>
          </a:prstGeom>
          <a:ln w="0">
            <a:noFill/>
          </a:ln>
        </p:spPr>
      </p:pic>
      <p:sp>
        <p:nvSpPr>
          <p:cNvPr id="1115" name="动作按钮: 自定义 21506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6" name="文本框 21507"/>
          <p:cNvSpPr/>
          <p:nvPr/>
        </p:nvSpPr>
        <p:spPr>
          <a:xfrm>
            <a:off x="2484360" y="1628640"/>
            <a:ext cx="49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我是小小设计师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17" name="矩形 21508" descr=""/>
          <p:cNvPicPr/>
          <p:nvPr/>
        </p:nvPicPr>
        <p:blipFill>
          <a:blip r:embed="rId3"/>
          <a:stretch/>
        </p:blipFill>
        <p:spPr>
          <a:xfrm>
            <a:off x="1792440" y="3193920"/>
            <a:ext cx="52606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101"/>
          <p:cNvPicPr/>
          <p:nvPr/>
        </p:nvPicPr>
        <p:blipFill>
          <a:blip r:embed="rId1"/>
          <a:stretch/>
        </p:blipFill>
        <p:spPr>
          <a:xfrm>
            <a:off x="2362320" y="0"/>
            <a:ext cx="3897360" cy="2685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102"/>
          <p:cNvPicPr/>
          <p:nvPr/>
        </p:nvPicPr>
        <p:blipFill>
          <a:blip r:embed="rId2"/>
          <a:stretch/>
        </p:blipFill>
        <p:spPr>
          <a:xfrm>
            <a:off x="324000" y="299736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103"/>
          <p:cNvPicPr/>
          <p:nvPr/>
        </p:nvPicPr>
        <p:blipFill>
          <a:blip r:embed="rId3"/>
          <a:stretch/>
        </p:blipFill>
        <p:spPr>
          <a:xfrm>
            <a:off x="3348000" y="306864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121" name="WordArt 5" descr=""/>
          <p:cNvPicPr/>
          <p:nvPr/>
        </p:nvPicPr>
        <p:blipFill>
          <a:blip r:embed="rId4"/>
          <a:stretch/>
        </p:blipFill>
        <p:spPr>
          <a:xfrm>
            <a:off x="249120" y="328680"/>
            <a:ext cx="1152720" cy="2427120"/>
          </a:xfrm>
          <a:prstGeom prst="rect">
            <a:avLst/>
          </a:prstGeom>
          <a:ln w="0">
            <a:noFill/>
          </a:ln>
        </p:spPr>
      </p:pic>
      <p:sp>
        <p:nvSpPr>
          <p:cNvPr id="1122" name="Text Box 6"/>
          <p:cNvSpPr/>
          <p:nvPr/>
        </p:nvSpPr>
        <p:spPr>
          <a:xfrm>
            <a:off x="7380360" y="907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编一个伞的传说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23" name="墨迹 22534" descr=""/>
          <p:cNvPicPr/>
          <p:nvPr/>
        </p:nvPicPr>
        <p:blipFill>
          <a:blip r:embed="rId5"/>
          <a:stretch/>
        </p:blipFill>
        <p:spPr>
          <a:xfrm>
            <a:off x="1706400" y="679320"/>
            <a:ext cx="34920" cy="34920"/>
          </a:xfrm>
          <a:prstGeom prst="rect">
            <a:avLst/>
          </a:prstGeom>
          <a:ln w="0">
            <a:noFill/>
          </a:ln>
        </p:spPr>
      </p:pic>
      <p:pic>
        <p:nvPicPr>
          <p:cNvPr id="1124" name="墨迹 22535" descr=""/>
          <p:cNvPicPr/>
          <p:nvPr/>
        </p:nvPicPr>
        <p:blipFill>
          <a:blip r:embed="rId6"/>
          <a:stretch/>
        </p:blipFill>
        <p:spPr>
          <a:xfrm>
            <a:off x="1830240" y="561960"/>
            <a:ext cx="6192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文本框 23554"/>
          <p:cNvSpPr/>
          <p:nvPr/>
        </p:nvSpPr>
        <p:spPr>
          <a:xfrm>
            <a:off x="1258920" y="98100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选词填空：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俩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两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哥（   ）手拉着手来到公园，看见（    ）条小鱼在水中游来游去。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6" name="动作按钮: 自定义 23555">
            <a:hlinkClick r:id="rId1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7" name="文本框 23556"/>
          <p:cNvSpPr/>
          <p:nvPr/>
        </p:nvSpPr>
        <p:spPr>
          <a:xfrm>
            <a:off x="330660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俩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8" name="文本框 23557"/>
          <p:cNvSpPr/>
          <p:nvPr/>
        </p:nvSpPr>
        <p:spPr>
          <a:xfrm>
            <a:off x="3954600" y="278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两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文本框 6145"/>
          <p:cNvSpPr/>
          <p:nvPr/>
        </p:nvSpPr>
        <p:spPr>
          <a:xfrm>
            <a:off x="374760" y="7556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传说在三千年前，中国人发明了“筷子”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8" name="直接连接符 6146"/>
          <p:cNvSpPr/>
          <p:nvPr/>
        </p:nvSpPr>
        <p:spPr>
          <a:xfrm>
            <a:off x="2743200" y="990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9" name="文本框 6147"/>
          <p:cNvSpPr/>
          <p:nvPr/>
        </p:nvSpPr>
        <p:spPr>
          <a:xfrm>
            <a:off x="468360" y="3357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三千年前，中国人发明了“筷子”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2"/>
          <p:cNvSpPr/>
          <p:nvPr/>
        </p:nvSpPr>
        <p:spPr>
          <a:xfrm>
            <a:off x="914400" y="838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      俩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990720" y="1905120"/>
            <a:ext cx="660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小羊爬上了山顶。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（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起去看电影。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31" name="Picture 6" descr="铃铛"/>
          <p:cNvPicPr/>
          <p:nvPr/>
        </p:nvPicPr>
        <p:blipFill>
          <a:blip r:embed="rId1"/>
          <a:stretch/>
        </p:blipFill>
        <p:spPr>
          <a:xfrm>
            <a:off x="7451640" y="54936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7" descr="花1"/>
          <p:cNvPicPr/>
          <p:nvPr/>
        </p:nvPicPr>
        <p:blipFill>
          <a:blip r:embed="rId2"/>
          <a:stretch/>
        </p:blipFill>
        <p:spPr>
          <a:xfrm>
            <a:off x="533520" y="56386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9"/>
          <p:cNvSpPr/>
          <p:nvPr/>
        </p:nvSpPr>
        <p:spPr>
          <a:xfrm>
            <a:off x="1295280" y="213372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两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4" name="Text Box 10"/>
          <p:cNvSpPr/>
          <p:nvPr/>
        </p:nvSpPr>
        <p:spPr>
          <a:xfrm>
            <a:off x="1979640" y="314172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俩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35" name="Picture 11" descr="水母"/>
          <p:cNvPicPr/>
          <p:nvPr/>
        </p:nvPicPr>
        <p:blipFill>
          <a:blip r:embed="rId3"/>
          <a:stretch/>
        </p:blipFill>
        <p:spPr>
          <a:xfrm>
            <a:off x="822960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1186920" y="981000"/>
            <a:ext cx="6410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                         </a:t>
            </a:r>
            <a:r>
              <a:rPr b="1" lang="zh-CN" sz="4800" spc="-1" strike="noStrike">
                <a:solidFill>
                  <a:srgbClr val="00cc66"/>
                </a:solidFill>
                <a:latin typeface="Arial"/>
              </a:rPr>
              <a:t>鱼    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（  ）船上堆满了（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打（  ）归来，（   ）民们个个喜笑颜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3" descr="6"/>
          <p:cNvPicPr/>
          <p:nvPr/>
        </p:nvPicPr>
        <p:blipFill>
          <a:blip r:embed="rId1"/>
          <a:stretch/>
        </p:blipFill>
        <p:spPr>
          <a:xfrm>
            <a:off x="7524720" y="5445000"/>
            <a:ext cx="1041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8" name=""/>
          <p:cNvGraphicFramePr/>
          <p:nvPr/>
        </p:nvGraphicFramePr>
        <p:xfrm>
          <a:off x="826920" y="1773360"/>
          <a:ext cx="7561440" cy="278928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2232000"/>
                <a:gridCol w="3384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  <a:ea typeface="楷体_GB2312"/>
                        </a:rPr>
                        <a:t>字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  <a:ea typeface="楷体_GB2312"/>
                        </a:rPr>
                        <a:t>部首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  <a:ea typeface="楷体_GB2312"/>
                        </a:rPr>
                        <a:t>去部首几笔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  <a:ea typeface="楷体_GB2312"/>
                        </a:rPr>
                        <a:t>在字典上第几页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赛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嘴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事</a:t>
                      </a: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Text Box 50"/>
          <p:cNvSpPr/>
          <p:nvPr/>
        </p:nvSpPr>
        <p:spPr>
          <a:xfrm>
            <a:off x="900000" y="69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查一查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文本框 27649"/>
          <p:cNvSpPr/>
          <p:nvPr/>
        </p:nvSpPr>
        <p:spPr>
          <a:xfrm>
            <a:off x="304920" y="3808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  抓人   抓紧   抓药 抓手  抓走   抓破脸   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1" name="文本框 27650"/>
          <p:cNvSpPr/>
          <p:nvPr/>
        </p:nvSpPr>
        <p:spPr>
          <a:xfrm>
            <a:off x="0" y="243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小朋友，你知道有哪些筷子？   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2" name="文本框 27651"/>
          <p:cNvSpPr/>
          <p:nvPr/>
        </p:nvSpPr>
        <p:spPr>
          <a:xfrm>
            <a:off x="0" y="3962520"/>
            <a:ext cx="922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牙筷  玉石筷  金筷  银筷铜筷     木筷   竹筷   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文本框 7169"/>
          <p:cNvSpPr/>
          <p:nvPr/>
        </p:nvSpPr>
        <p:spPr>
          <a:xfrm>
            <a:off x="374760" y="75564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8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传说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三千年前，中国人发明了“筷子”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1" name="直接连接符 7170"/>
          <p:cNvSpPr/>
          <p:nvPr/>
        </p:nvSpPr>
        <p:spPr>
          <a:xfrm>
            <a:off x="2743200" y="990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文本框 7171"/>
          <p:cNvSpPr/>
          <p:nvPr/>
        </p:nvSpPr>
        <p:spPr>
          <a:xfrm>
            <a:off x="468360" y="3357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三千年前，中国人发明了“筷子”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8193" descr="d136"/>
          <p:cNvPicPr/>
          <p:nvPr/>
        </p:nvPicPr>
        <p:blipFill>
          <a:blip r:embed="rId1"/>
          <a:stretch/>
        </p:blipFill>
        <p:spPr>
          <a:xfrm>
            <a:off x="108000" y="117360"/>
            <a:ext cx="9144000" cy="6620040"/>
          </a:xfrm>
          <a:prstGeom prst="rect">
            <a:avLst/>
          </a:prstGeom>
          <a:ln w="0">
            <a:noFill/>
          </a:ln>
        </p:spPr>
      </p:pic>
      <p:sp>
        <p:nvSpPr>
          <p:cNvPr id="1034" name="文本框 8194"/>
          <p:cNvSpPr/>
          <p:nvPr/>
        </p:nvSpPr>
        <p:spPr>
          <a:xfrm>
            <a:off x="324000" y="981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以前，人们吃东西都用手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en-US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zhuā)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传说在三千年前，中国人发明了“筷子”。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5" name="直接连接符 8195"/>
          <p:cNvSpPr/>
          <p:nvPr/>
        </p:nvSpPr>
        <p:spPr>
          <a:xfrm>
            <a:off x="2743200" y="990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6" name="文本框 8196"/>
          <p:cNvSpPr/>
          <p:nvPr/>
        </p:nvSpPr>
        <p:spPr>
          <a:xfrm>
            <a:off x="1965240" y="636480"/>
            <a:ext cx="577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文本框 9217"/>
          <p:cNvSpPr/>
          <p:nvPr/>
        </p:nvSpPr>
        <p:spPr>
          <a:xfrm>
            <a:off x="665280" y="490680"/>
            <a:ext cx="765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38" name="图片 9218" descr="d136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20040"/>
          </a:xfrm>
          <a:prstGeom prst="rect">
            <a:avLst/>
          </a:prstGeom>
          <a:ln w="0">
            <a:noFill/>
          </a:ln>
        </p:spPr>
      </p:pic>
      <p:sp>
        <p:nvSpPr>
          <p:cNvPr id="1039" name="文本框 9219"/>
          <p:cNvSpPr/>
          <p:nvPr/>
        </p:nvSpPr>
        <p:spPr>
          <a:xfrm>
            <a:off x="1189080" y="782640"/>
            <a:ext cx="756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几个词说一句话吗？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千年前、传说、中国人、发明、 筷子</a:t>
            </a:r>
            <a:endParaRPr b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0241"/>
          <p:cNvSpPr/>
          <p:nvPr/>
        </p:nvSpPr>
        <p:spPr>
          <a:xfrm>
            <a:off x="457200" y="2286000"/>
            <a:ext cx="83059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3 </a:t>
            </a:r>
            <a:r>
              <a:rPr b="1" lang="zh-CN" sz="9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筷子的传说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 Box 4"/>
          <p:cNvSpPr/>
          <p:nvPr/>
        </p:nvSpPr>
        <p:spPr>
          <a:xfrm>
            <a:off x="1116000" y="981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传说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2" name="Text Box 5"/>
          <p:cNvSpPr/>
          <p:nvPr/>
        </p:nvSpPr>
        <p:spPr>
          <a:xfrm>
            <a:off x="900000" y="3860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3" name="Text Box 6"/>
          <p:cNvSpPr/>
          <p:nvPr/>
        </p:nvSpPr>
        <p:spPr>
          <a:xfrm>
            <a:off x="4788000" y="3141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传说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4716360" y="4653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新传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Line 8"/>
          <p:cNvSpPr/>
          <p:nvPr/>
        </p:nvSpPr>
        <p:spPr>
          <a:xfrm flipH="1">
            <a:off x="1763280" y="3500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1763640" y="4437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2843280" y="3141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843280" y="4653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文本框 12289"/>
          <p:cNvSpPr/>
          <p:nvPr/>
        </p:nvSpPr>
        <p:spPr>
          <a:xfrm>
            <a:off x="0" y="-23760"/>
            <a:ext cx="91440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两个渔夫在船上吃饭。饭很烫，他俩比赛看谁吃得快。一个渔夫</a:t>
            </a:r>
            <a:r>
              <a:rPr b="1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顺手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河岸上</a:t>
            </a:r>
            <a:r>
              <a:rPr b="1" lang="zh-CN" sz="5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折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两</a:t>
            </a:r>
            <a:r>
              <a:rPr b="1" lang="zh-CN" sz="5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枝，</a:t>
            </a:r>
            <a:r>
              <a:rPr b="1" lang="zh-CN" sz="45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一面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碗里拨动，</a:t>
            </a:r>
            <a:r>
              <a:rPr b="1" lang="zh-CN" sz="45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一面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嘴里送饭，结果他得</a:t>
            </a:r>
            <a:r>
              <a:rPr b="1" lang="zh-CN" sz="5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胜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另一个渔夫说：“你吃得好快呀！”于是他们把这两根树枝起名叫“快子”</a:t>
            </a:r>
            <a:endParaRPr b="1" lang="en-US" sz="4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0" name="文本框 12290"/>
          <p:cNvSpPr/>
          <p:nvPr/>
        </p:nvSpPr>
        <p:spPr>
          <a:xfrm>
            <a:off x="0" y="522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有人用竹子做成“快子”，就把它叫做“筷子”。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1" name="任意多边形 12291">
            <a:hlinkClick r:id="rId1" action="ppaction://hlinksldjump"/>
          </p:cNvPr>
          <p:cNvSpPr/>
          <p:nvPr/>
        </p:nvSpPr>
        <p:spPr>
          <a:xfrm>
            <a:off x="8381880" y="6095880"/>
            <a:ext cx="381240" cy="38124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2" name="笑脸 12292">
            <a:hlinkClick r:id="rId2" action="ppaction://hlinksldjump"/>
          </p:cNvPr>
          <p:cNvSpPr/>
          <p:nvPr/>
        </p:nvSpPr>
        <p:spPr>
          <a:xfrm>
            <a:off x="8532720" y="4581360"/>
            <a:ext cx="457200" cy="6098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文本框 13313"/>
          <p:cNvSpPr/>
          <p:nvPr/>
        </p:nvSpPr>
        <p:spPr>
          <a:xfrm>
            <a:off x="1828800" y="533520"/>
            <a:ext cx="59436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yú     tàng     liǎ   </a:t>
            </a:r>
            <a:endParaRPr b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   烫   俩</a:t>
            </a:r>
            <a:endParaRPr b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矩形 13314"/>
          <p:cNvSpPr/>
          <p:nvPr/>
        </p:nvSpPr>
        <p:spPr>
          <a:xfrm>
            <a:off x="1602000" y="2971800"/>
            <a:ext cx="628884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shùn    zhé   wǎn</a:t>
            </a:r>
            <a:endParaRPr b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    折  碗</a:t>
            </a:r>
            <a:endParaRPr b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5" name="任意多边形 13315">
            <a:hlinkClick r:id="rId1" action="ppaction://hlinksldjump"/>
          </p:cNvPr>
          <p:cNvSpPr/>
          <p:nvPr/>
        </p:nvSpPr>
        <p:spPr>
          <a:xfrm>
            <a:off x="8305920" y="6095880"/>
            <a:ext cx="380880" cy="45720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23:24:46Z</dcterms:created>
  <dc:creator/>
  <dc:description/>
  <cp:keywords/>
  <dc:language>en-US</dc:language>
  <cp:lastModifiedBy>Administrator</cp:lastModifiedBy>
  <dcterms:modified xsi:type="dcterms:W3CDTF">2016-12-12T02:02:36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