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C99-5095-4079-990E-8EA52565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FA2E-B74D-4A4A-B724-BC7565ED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582-AF04-465B-99F4-FD92A285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90B-3E28-4DB7-A596-E6455972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A49-4EE2-4616-AE9C-801954CD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307-DA26-4A62-A4A5-8B740FB9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B278-145C-4AB0-950F-11783D9E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9E7-318E-4750-959B-B971CF8B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E2F-8E71-4FFA-A389-F0560C47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434-7CDD-4C60-B0EF-91F74BB9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19F-C824-4E37-AB1E-485646A6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16D-6A63-44BA-81D2-E20189E3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3E1E-3754-431A-BEE8-6D900195B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官方logo副本"/>
          <p:cNvPicPr/>
          <p:nvPr/>
        </p:nvPicPr>
        <p:blipFill>
          <a:blip r:embed="rId3"/>
          <a:stretch/>
        </p:blipFill>
        <p:spPr>
          <a:xfrm>
            <a:off x="179280" y="587700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官方logo副本"/>
          <p:cNvPicPr/>
          <p:nvPr/>
        </p:nvPicPr>
        <p:blipFill>
          <a:blip r:embed="rId4"/>
          <a:stretch/>
        </p:blipFill>
        <p:spPr>
          <a:xfrm>
            <a:off x="179280" y="587700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官方logo副本"/>
          <p:cNvPicPr/>
          <p:nvPr/>
        </p:nvPicPr>
        <p:blipFill>
          <a:blip r:embed="rId5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1090440" y="2500200"/>
            <a:ext cx="7910640" cy="104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7229"/>
                </a:solidFill>
                <a:latin typeface="楷体_GB2312"/>
                <a:ea typeface="楷体_GB2312"/>
              </a:rPr>
              <a:t>说说你知道哪些车的名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583160" y="573876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卡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4" descr="卡车.jpg"/>
          <p:cNvPicPr/>
          <p:nvPr/>
        </p:nvPicPr>
        <p:blipFill>
          <a:blip r:embed="rId2"/>
          <a:srcRect l="0" t="5736" r="2151" b="0"/>
          <a:stretch/>
        </p:blipFill>
        <p:spPr>
          <a:xfrm>
            <a:off x="1187280" y="476280"/>
            <a:ext cx="70009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295880" y="56610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马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5" descr="马车.jpg"/>
          <p:cNvPicPr/>
          <p:nvPr/>
        </p:nvPicPr>
        <p:blipFill>
          <a:blip r:embed="rId2"/>
          <a:srcRect l="0" t="0" r="357" b="2857"/>
          <a:stretch/>
        </p:blipFill>
        <p:spPr>
          <a:xfrm>
            <a:off x="1285920" y="642960"/>
            <a:ext cx="66438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463280" y="544500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拖拉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4" descr="拖拉机.jpg"/>
          <p:cNvPicPr/>
          <p:nvPr/>
        </p:nvPicPr>
        <p:blipFill>
          <a:blip r:embed="rId2"/>
          <a:stretch/>
        </p:blipFill>
        <p:spPr>
          <a:xfrm>
            <a:off x="2214720" y="1214280"/>
            <a:ext cx="50101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593600" y="551664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摩托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摩托车02.jpg"/>
          <p:cNvPicPr/>
          <p:nvPr/>
        </p:nvPicPr>
        <p:blipFill>
          <a:blip r:embed="rId2"/>
          <a:stretch/>
        </p:blipFill>
        <p:spPr>
          <a:xfrm>
            <a:off x="1785960" y="500040"/>
            <a:ext cx="516096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4119480" y="836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交通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069"/>
          <p:cNvPicPr/>
          <p:nvPr/>
        </p:nvPicPr>
        <p:blipFill>
          <a:blip r:embed="rId2"/>
          <a:stretch/>
        </p:blipFill>
        <p:spPr>
          <a:xfrm>
            <a:off x="1692360" y="1916280"/>
            <a:ext cx="1185840" cy="2630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547640" y="4797360"/>
            <a:ext cx="1656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87229"/>
                </a:solidFill>
                <a:latin typeface="Times New Roman"/>
                <a:ea typeface="楷体_GB2312"/>
              </a:rPr>
              <a:t>红绿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人行横道线"/>
          <p:cNvPicPr/>
          <p:nvPr/>
        </p:nvPicPr>
        <p:blipFill>
          <a:blip r:embed="rId3"/>
          <a:stretch/>
        </p:blipFill>
        <p:spPr>
          <a:xfrm>
            <a:off x="6494400" y="2076480"/>
            <a:ext cx="2325600" cy="232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站牌 "/>
          <p:cNvPicPr/>
          <p:nvPr/>
        </p:nvPicPr>
        <p:blipFill>
          <a:blip r:embed="rId4"/>
          <a:stretch/>
        </p:blipFill>
        <p:spPr>
          <a:xfrm>
            <a:off x="3614760" y="2149560"/>
            <a:ext cx="2325600" cy="2325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6516720" y="4869000"/>
            <a:ext cx="24019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87229"/>
                </a:solidFill>
                <a:latin typeface="Times New Roman"/>
                <a:ea typeface="楷体_GB2312"/>
              </a:rPr>
              <a:t>人行横道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140360" y="4830840"/>
            <a:ext cx="12236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87229"/>
                </a:solidFill>
                <a:latin typeface="Times New Roman"/>
                <a:ea typeface="楷体_GB2312"/>
              </a:rPr>
              <a:t>站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767120" y="5950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说说这些交通标识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649440" y="1477800"/>
            <a:ext cx="8675640" cy="475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汽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车  火车  电车  自行车  三轮车  马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公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共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汽车   救护车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消防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车   洒水车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无轨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电车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卡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车   小轿车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拖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拉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交通警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察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司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机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售票员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行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人  乘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车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轮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   车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辆 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  车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45520" y="47628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72800" y="1197000"/>
            <a:ext cx="8227440" cy="44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gòng </a:t>
            </a:r>
            <a:r>
              <a:rPr b="0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qì     wú     gu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ǐ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 li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ng   x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共  汽  无   轨   辆   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k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ǎ    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 tu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ō  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 lún    xi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o  f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ng    ji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卡   拖   轮  消  防   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t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ō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ng  j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ǐ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ng   s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ī  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shòu  pi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o  yu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n   d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通  警    司  售  票   员  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3675240" y="126828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按照车辆的用途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15360" y="2637000"/>
            <a:ext cx="901980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消防车（      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救护车（      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出租车（      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洒水车（      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124000" y="3968640"/>
            <a:ext cx="6048360" cy="1260360"/>
            <a:chOff x="2124000" y="3968640"/>
            <a:chExt cx="6048360" cy="1260360"/>
          </a:xfrm>
        </p:grpSpPr>
        <p:grpSp>
          <p:nvGrpSpPr>
            <p:cNvPr id="81" name=""/>
            <p:cNvGrpSpPr/>
            <p:nvPr/>
          </p:nvGrpSpPr>
          <p:grpSpPr>
            <a:xfrm>
              <a:off x="3348000" y="4005000"/>
              <a:ext cx="1224000" cy="1224000"/>
              <a:chOff x="3348000" y="4005000"/>
              <a:chExt cx="1224000" cy="1224000"/>
            </a:xfrm>
          </p:grpSpPr>
          <p:sp>
            <p:nvSpPr>
              <p:cNvPr id="82" name="Rectangle 9"/>
              <p:cNvSpPr/>
              <p:nvPr/>
            </p:nvSpPr>
            <p:spPr>
              <a:xfrm>
                <a:off x="3348000" y="40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0"/>
              <p:cNvSpPr/>
              <p:nvPr/>
            </p:nvSpPr>
            <p:spPr>
              <a:xfrm flipH="1">
                <a:off x="3348000" y="46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1"/>
              <p:cNvSpPr/>
              <p:nvPr/>
            </p:nvSpPr>
            <p:spPr>
              <a:xfrm>
                <a:off x="3960360" y="40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2124000" y="4005000"/>
              <a:ext cx="1224000" cy="1224000"/>
              <a:chOff x="2124000" y="4005000"/>
              <a:chExt cx="1224000" cy="1224000"/>
            </a:xfrm>
          </p:grpSpPr>
          <p:sp>
            <p:nvSpPr>
              <p:cNvPr id="86" name="Rectangle 13"/>
              <p:cNvSpPr/>
              <p:nvPr/>
            </p:nvSpPr>
            <p:spPr>
              <a:xfrm>
                <a:off x="2124000" y="40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4"/>
              <p:cNvSpPr/>
              <p:nvPr/>
            </p:nvSpPr>
            <p:spPr>
              <a:xfrm flipH="1">
                <a:off x="2124000" y="46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5"/>
              <p:cNvSpPr/>
              <p:nvPr/>
            </p:nvSpPr>
            <p:spPr>
              <a:xfrm>
                <a:off x="2736360" y="40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572000" y="4005000"/>
              <a:ext cx="1224000" cy="1224000"/>
              <a:chOff x="4572000" y="4005000"/>
              <a:chExt cx="1224000" cy="1224000"/>
            </a:xfrm>
          </p:grpSpPr>
          <p:sp>
            <p:nvSpPr>
              <p:cNvPr id="90" name="Rectangle 17"/>
              <p:cNvSpPr/>
              <p:nvPr/>
            </p:nvSpPr>
            <p:spPr>
              <a:xfrm>
                <a:off x="4572000" y="40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8"/>
              <p:cNvSpPr/>
              <p:nvPr/>
            </p:nvSpPr>
            <p:spPr>
              <a:xfrm flipH="1">
                <a:off x="4572000" y="46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9"/>
              <p:cNvSpPr/>
              <p:nvPr/>
            </p:nvSpPr>
            <p:spPr>
              <a:xfrm>
                <a:off x="5184360" y="40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5796000" y="4005000"/>
              <a:ext cx="1224000" cy="1224000"/>
              <a:chOff x="5796000" y="4005000"/>
              <a:chExt cx="1224000" cy="1224000"/>
            </a:xfrm>
          </p:grpSpPr>
          <p:sp>
            <p:nvSpPr>
              <p:cNvPr id="94" name="Rectangle 21"/>
              <p:cNvSpPr/>
              <p:nvPr/>
            </p:nvSpPr>
            <p:spPr>
              <a:xfrm>
                <a:off x="5796000" y="40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22"/>
              <p:cNvSpPr/>
              <p:nvPr/>
            </p:nvSpPr>
            <p:spPr>
              <a:xfrm flipH="1">
                <a:off x="5796000" y="46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23"/>
              <p:cNvSpPr/>
              <p:nvPr/>
            </p:nvSpPr>
            <p:spPr>
              <a:xfrm>
                <a:off x="6408360" y="40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948360" y="4005000"/>
              <a:ext cx="1224000" cy="1224000"/>
              <a:chOff x="6948360" y="4005000"/>
              <a:chExt cx="1224000" cy="1224000"/>
            </a:xfrm>
          </p:grpSpPr>
          <p:sp>
            <p:nvSpPr>
              <p:cNvPr id="98" name="Rectangle 25"/>
              <p:cNvSpPr/>
              <p:nvPr/>
            </p:nvSpPr>
            <p:spPr>
              <a:xfrm>
                <a:off x="6948360" y="40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6"/>
              <p:cNvSpPr/>
              <p:nvPr/>
            </p:nvSpPr>
            <p:spPr>
              <a:xfrm flipH="1">
                <a:off x="6948360" y="46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7"/>
              <p:cNvSpPr/>
              <p:nvPr/>
            </p:nvSpPr>
            <p:spPr>
              <a:xfrm>
                <a:off x="7560720" y="40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 Box 32"/>
            <p:cNvSpPr/>
            <p:nvPr/>
          </p:nvSpPr>
          <p:spPr>
            <a:xfrm>
              <a:off x="2195280" y="3968640"/>
              <a:ext cx="597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卡马轮交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40"/>
          <p:cNvSpPr/>
          <p:nvPr/>
        </p:nvSpPr>
        <p:spPr>
          <a:xfrm>
            <a:off x="4406760" y="1052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会写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627280" y="2133720"/>
            <a:ext cx="4897440" cy="1295280"/>
            <a:chOff x="2627280" y="2133720"/>
            <a:chExt cx="4897440" cy="1295280"/>
          </a:xfrm>
        </p:grpSpPr>
        <p:grpSp>
          <p:nvGrpSpPr>
            <p:cNvPr id="104" name=""/>
            <p:cNvGrpSpPr/>
            <p:nvPr/>
          </p:nvGrpSpPr>
          <p:grpSpPr>
            <a:xfrm>
              <a:off x="6300720" y="2205000"/>
              <a:ext cx="1224000" cy="1224000"/>
              <a:chOff x="6300720" y="2205000"/>
              <a:chExt cx="1224000" cy="1224000"/>
            </a:xfrm>
          </p:grpSpPr>
          <p:sp>
            <p:nvSpPr>
              <p:cNvPr id="105" name="Rectangle 76"/>
              <p:cNvSpPr/>
              <p:nvPr/>
            </p:nvSpPr>
            <p:spPr>
              <a:xfrm>
                <a:off x="6300720" y="22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77"/>
              <p:cNvSpPr/>
              <p:nvPr/>
            </p:nvSpPr>
            <p:spPr>
              <a:xfrm flipH="1">
                <a:off x="6300720" y="28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78"/>
              <p:cNvSpPr/>
              <p:nvPr/>
            </p:nvSpPr>
            <p:spPr>
              <a:xfrm>
                <a:off x="6913080" y="22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851280" y="2205000"/>
              <a:ext cx="1224000" cy="1224000"/>
              <a:chOff x="3851280" y="2205000"/>
              <a:chExt cx="1224000" cy="1224000"/>
            </a:xfrm>
          </p:grpSpPr>
          <p:sp>
            <p:nvSpPr>
              <p:cNvPr id="109" name="Rectangle 42"/>
              <p:cNvSpPr/>
              <p:nvPr/>
            </p:nvSpPr>
            <p:spPr>
              <a:xfrm>
                <a:off x="3851280" y="22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43"/>
              <p:cNvSpPr/>
              <p:nvPr/>
            </p:nvSpPr>
            <p:spPr>
              <a:xfrm flipH="1">
                <a:off x="3851280" y="28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4"/>
              <p:cNvSpPr/>
              <p:nvPr/>
            </p:nvSpPr>
            <p:spPr>
              <a:xfrm>
                <a:off x="4463640" y="22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627280" y="2205000"/>
              <a:ext cx="1224000" cy="1224000"/>
              <a:chOff x="2627280" y="2205000"/>
              <a:chExt cx="1224000" cy="1224000"/>
            </a:xfrm>
          </p:grpSpPr>
          <p:sp>
            <p:nvSpPr>
              <p:cNvPr id="113" name="Rectangle 46"/>
              <p:cNvSpPr/>
              <p:nvPr/>
            </p:nvSpPr>
            <p:spPr>
              <a:xfrm>
                <a:off x="2627280" y="22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47"/>
              <p:cNvSpPr/>
              <p:nvPr/>
            </p:nvSpPr>
            <p:spPr>
              <a:xfrm flipH="1">
                <a:off x="2627280" y="28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8"/>
              <p:cNvSpPr/>
              <p:nvPr/>
            </p:nvSpPr>
            <p:spPr>
              <a:xfrm>
                <a:off x="3239640" y="22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075280" y="2205000"/>
              <a:ext cx="1224000" cy="1224000"/>
              <a:chOff x="5075280" y="2205000"/>
              <a:chExt cx="1224000" cy="1224000"/>
            </a:xfrm>
          </p:grpSpPr>
          <p:sp>
            <p:nvSpPr>
              <p:cNvPr id="117" name="Rectangle 50"/>
              <p:cNvSpPr/>
              <p:nvPr/>
            </p:nvSpPr>
            <p:spPr>
              <a:xfrm>
                <a:off x="5075280" y="22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51"/>
              <p:cNvSpPr/>
              <p:nvPr/>
            </p:nvSpPr>
            <p:spPr>
              <a:xfrm flipH="1">
                <a:off x="5075280" y="28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52"/>
              <p:cNvSpPr/>
              <p:nvPr/>
            </p:nvSpPr>
            <p:spPr>
              <a:xfrm>
                <a:off x="5687640" y="22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53"/>
            <p:cNvSpPr/>
            <p:nvPr/>
          </p:nvSpPr>
          <p:spPr>
            <a:xfrm>
              <a:off x="2698560" y="2133720"/>
              <a:ext cx="475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共汽无行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186840"/>
            <a:ext cx="2098440" cy="49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拓展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DIANCHE.MPG" descr=""/>
          <p:cNvPicPr/>
          <p:nvPr/>
        </p:nvPicPr>
        <p:blipFill>
          <a:blip r:embed="rId2"/>
          <a:stretch/>
        </p:blipFill>
        <p:spPr>
          <a:xfrm>
            <a:off x="1714680" y="787320"/>
            <a:ext cx="5976720" cy="48895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4421160" y="5857920"/>
            <a:ext cx="79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电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4360" y="2206800"/>
            <a:ext cx="6553080" cy="180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车的世界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"/>
          <p:cNvSpPr/>
          <p:nvPr/>
        </p:nvSpPr>
        <p:spPr>
          <a:xfrm>
            <a:off x="4349880" y="5857920"/>
            <a:ext cx="79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火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内容占位符 7" descr="火车.jpg"/>
          <p:cNvPicPr/>
          <p:nvPr/>
        </p:nvPicPr>
        <p:blipFill>
          <a:blip r:embed="rId2"/>
          <a:stretch/>
        </p:blipFill>
        <p:spPr>
          <a:xfrm>
            <a:off x="1571760" y="10000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4102920" y="5643720"/>
            <a:ext cx="1095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卡丁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内容占位符 7" descr="卡丁车.jpg"/>
          <p:cNvPicPr/>
          <p:nvPr/>
        </p:nvPicPr>
        <p:blipFill>
          <a:blip r:embed="rId2"/>
          <a:stretch/>
        </p:blipFill>
        <p:spPr>
          <a:xfrm>
            <a:off x="1357200" y="1071720"/>
            <a:ext cx="64296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046160" y="2070000"/>
            <a:ext cx="64087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看各种车辆的图片，说说这些车辆叫什么名字，各有什么用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054320" y="557208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公共汽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4" descr="公共汽车.jpg"/>
          <p:cNvPicPr/>
          <p:nvPr/>
        </p:nvPicPr>
        <p:blipFill>
          <a:blip r:embed="rId2"/>
          <a:srcRect l="0" t="0" r="1398" b="10311"/>
          <a:stretch/>
        </p:blipFill>
        <p:spPr>
          <a:xfrm>
            <a:off x="1143000" y="1214280"/>
            <a:ext cx="6715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4452120" y="550080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小轿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4" descr="小汽车.jpg"/>
          <p:cNvPicPr/>
          <p:nvPr/>
        </p:nvPicPr>
        <p:blipFill>
          <a:blip r:embed="rId2"/>
          <a:stretch/>
        </p:blipFill>
        <p:spPr>
          <a:xfrm>
            <a:off x="1857240" y="857160"/>
            <a:ext cx="607248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4478400" y="5516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无轨电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5" descr="无轨电车.jpg"/>
          <p:cNvPicPr/>
          <p:nvPr/>
        </p:nvPicPr>
        <p:blipFill>
          <a:blip r:embed="rId2"/>
          <a:stretch/>
        </p:blipFill>
        <p:spPr>
          <a:xfrm>
            <a:off x="857160" y="571680"/>
            <a:ext cx="703584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4166640" y="542916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救护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ttp://file.youboy.com/a/42/0/35/4/1235064.jpg"/>
          <p:cNvPicPr/>
          <p:nvPr/>
        </p:nvPicPr>
        <p:blipFill>
          <a:blip r:embed="rId2"/>
          <a:srcRect l="0" t="10642" r="1757" b="0"/>
          <a:stretch/>
        </p:blipFill>
        <p:spPr>
          <a:xfrm>
            <a:off x="1285920" y="1071720"/>
            <a:ext cx="6973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160160" y="531972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洒水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b735762e6c605202349bf795"/>
          <p:cNvPicPr/>
          <p:nvPr/>
        </p:nvPicPr>
        <p:blipFill>
          <a:blip r:embed="rId2"/>
          <a:stretch/>
        </p:blipFill>
        <p:spPr>
          <a:xfrm>
            <a:off x="1500120" y="1214280"/>
            <a:ext cx="6583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392000" y="537372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自行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4" descr="自行车.jpg"/>
          <p:cNvPicPr/>
          <p:nvPr/>
        </p:nvPicPr>
        <p:blipFill>
          <a:blip r:embed="rId2"/>
          <a:srcRect l="0" t="0" r="703" b="4222"/>
          <a:stretch/>
        </p:blipFill>
        <p:spPr>
          <a:xfrm>
            <a:off x="785880" y="500040"/>
            <a:ext cx="6715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8:01:39Z</dcterms:created>
  <dc:creator/>
  <dc:description/>
  <dc:language>en-US</dc:language>
  <cp:lastModifiedBy/>
  <dcterms:modified xsi:type="dcterms:W3CDTF">2014-03-27T00:23:1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