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BCB-B0FB-4793-8EA4-D58AB11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8F5-FADC-406E-82E5-35F781A0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60F-B5B1-43B8-9DC0-B1F73D17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E27-0032-46E0-8A58-D0FE5E4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5075-BBFC-475B-9D39-DACC8ABF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E312-3D09-416B-A6EA-5D486B5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1768-3602-4700-A398-50349DF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0137-60DB-44C8-854E-3FEA717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EFFA-6099-4C02-9723-A0B661F9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76A6-9877-4382-865A-98EE6A4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FD21-E23A-4D5A-BCE0-99ECE89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F83-0B0F-48ED-84E1-E733C4F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50BF-0AA1-4B0C-A1BB-F0E6BD20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3C41-B6DD-422B-BCBE-4DCAAEB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1CF-2613-4D4F-BDC4-2B234D6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352E-ED1D-4D2F-A211-B56B8C76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A3F-BBB2-4041-AEC1-E7EC7927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F526-9D81-44C8-B9D4-F9E1EC2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8688-D22B-4F2F-A097-E7175BB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E406-B29D-462F-A702-5C2AE4B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9986-D113-4000-BB11-9B34F2D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D1D5-2A30-4352-BE14-16ABCB0A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26A-A200-482A-81E5-410A082B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37A0-6711-4393-90FD-F1C98E9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BD07-40F1-4ED4-BAD0-19C6C98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77C9-F794-4085-8FC8-8EDEF42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EC5B-CF23-4EE5-B679-B7B2E6B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E484-46FF-43AA-85DB-94CDF64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A889-4569-4448-80AE-EE249825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6CCE-67FD-472C-80BE-05EDF587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8C6-BF64-4837-BFA6-9CCA06C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C32-69D8-4389-94CB-7427818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375-590D-4C82-AA02-B7B4512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0FC-6850-497E-B0AB-A7CB590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0E4-5753-48F4-A04B-C0F681D5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528-B24E-41E6-82ED-FA018CD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6A5-70D1-4348-B39B-991F94243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27160" y="666720"/>
            <a:ext cx="8686440" cy="6191280"/>
            <a:chOff x="-227160" y="666720"/>
            <a:chExt cx="86864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6880" y="666720"/>
              <a:ext cx="777240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9680" y="3733920"/>
              <a:ext cx="124884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7160" y="4916520"/>
              <a:ext cx="378216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FE6-286E-4253-96C2-F81D1848A3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1E5D-5452-4BE4-9646-C0ACA0A4E8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31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大家都快乐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12" descr="E:\北师大版\一年级下册\16 快乐\大家都快乐\媒体素材\图形图像类\丢手绢.jpg"/>
          <p:cNvPicPr/>
          <p:nvPr/>
        </p:nvPicPr>
        <p:blipFill>
          <a:blip r:embed="rId2"/>
          <a:stretch/>
        </p:blipFill>
        <p:spPr>
          <a:xfrm>
            <a:off x="1692360" y="1413000"/>
            <a:ext cx="590544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57280" y="1214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个人玩，挺快乐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357280" y="2222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个人玩，真快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4560" y="330192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个人玩，很快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284560" y="4238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许多人玩，更快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444920" y="157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34480" y="373392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434480" y="272556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430880" y="4670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-30240" y="-25560"/>
            <a:ext cx="9139320" cy="688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3713040" cy="79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一想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66680" y="12207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2666880" y="1724040"/>
            <a:ext cx="60199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，什么是快乐？你们生活的快乐吗？在什么时候你感到快乐呢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9" descr="E:\北师大版\共用插图\丁丁4.jpg"/>
          <p:cNvPicPr/>
          <p:nvPr/>
        </p:nvPicPr>
        <p:blipFill>
          <a:blip r:embed="rId2"/>
          <a:stretch/>
        </p:blipFill>
        <p:spPr>
          <a:xfrm>
            <a:off x="380880" y="4038480"/>
            <a:ext cx="2027520" cy="2210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4520" y="204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 见 ！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 悄 悄    独 自   折 纸   踢 毽 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广 播    象 棋    乒 乓 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众 多   掰 开   丢 失   比 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6320" y="20574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ì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q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ǎ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o q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ǎ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327672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ú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 z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9528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ē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 z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781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ī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 j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 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21932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g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ǎ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27672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x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33412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ī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q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914400" y="5043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ng d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2971800" y="5043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i 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800600" y="50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d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 s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6705720" y="5043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ǐ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 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练一练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还  广  些  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众    跳    丢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357120" y="857160"/>
            <a:ext cx="525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人玩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静悄悄地，独自一个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好折纸船、纸马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可以踢毽子、听广播……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28760" y="40719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个人玩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些事儿，要两个人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象棋、打乒乓、讲故事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悄悄话儿一起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214960" y="1857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个人玩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人成众玩法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跳皮筋，掰手腕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家家，学唱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214960" y="41432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许多人玩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丢手绢，赛拔河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人想出新玩法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都快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357280" y="5716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大家都快乐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你读懂了吗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0720"/>
            <a:ext cx="777240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诗中写了玩可以几个人玩？玩什么？感受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905120" y="1295280"/>
            <a:ext cx="601956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个人玩，挺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好折纸船、纸马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还可以踢毽子、听广播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个人玩，真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下象棋、打乒乓、讲故事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2" descr="内_3"/>
          <p:cNvPicPr/>
          <p:nvPr/>
        </p:nvPicPr>
        <p:blipFill>
          <a:blip r:embed="rId2"/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7"/>
          <p:cNvSpPr/>
          <p:nvPr/>
        </p:nvSpPr>
        <p:spPr>
          <a:xfrm>
            <a:off x="1000080" y="642960"/>
            <a:ext cx="6048360" cy="25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个人玩，</a:t>
            </a:r>
            <a:r>
              <a:rPr b="1" lang="zh-CN" sz="48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好折纸船、纸马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还可以踢毽子、听广播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928800" y="3714840"/>
            <a:ext cx="7127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一个人玩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静悄悄地，独自一个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正好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还可以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……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28800" y="642960"/>
            <a:ext cx="5903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个人玩，</a:t>
            </a:r>
            <a:r>
              <a:rPr b="1" lang="zh-CN" sz="48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下象棋、打乒乓、讲故事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28800" y="378612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两个人玩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些事儿，要两个人做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悄悄话儿一起说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857160" y="571680"/>
            <a:ext cx="457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个人玩，</a:t>
            </a:r>
            <a:r>
              <a:rPr b="1" lang="zh-CN" sz="48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人成众玩法多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皮筋，掰手腕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家家，学唱歌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57160" y="3500280"/>
            <a:ext cx="532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三个人玩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三人成众玩法多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143000" y="571680"/>
            <a:ext cx="457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许多人玩，</a:t>
            </a: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丢手绢，赛拔河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人想出新玩法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大家都快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43000" y="364320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许多人玩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快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人人想出新玩法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大家都快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45:56Z</dcterms:created>
  <dc:creator/>
  <dc:description/>
  <dc:language>en-US</dc:language>
  <cp:lastModifiedBy/>
  <dcterms:modified xsi:type="dcterms:W3CDTF">2014-03-28T16:09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