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  <p:custShowLst>
    <p:custShow name="自定义放映1" id="0">
      <p:sldLst>
        <p:sld r:id="rId6"/>
        <p:sld r:id="rId7"/>
        <p:sld r:id="rId10"/>
        <p:sld r:id="rId11"/>
        <p:sld r:id="rId14"/>
        <p:sld r:id="rId15"/>
        <p:sld r:id="rId12"/>
        <p:sld r:id="rId13"/>
        <p:sld r:id="rId16"/>
        <p:sld r:id="rId17"/>
        <p:sld r:id="rId18"/>
        <p:sld r:id="rId20"/>
        <p:sld r:id="rId19"/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6754-B896-458C-AEBF-02D1E90E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903C-C6B2-49F2-A9DD-D9D9A10B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CE76-749C-47AD-96F0-5AF6BFB6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AC9C-8824-47DD-A7B1-E7CFF836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1809-7C22-4187-84C5-B65F9249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E9B7-0197-4062-B407-E93D0A18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FBC8-8657-453C-86B1-C0A67EFE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74D2-1FC3-4F9D-BBE6-A16831C8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40D7-547D-4A1C-9DD0-E167B2EE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A101-AF85-4BA3-A2F4-15A5F324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A47D-0C22-45F5-9802-C06B2C22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B827-A8FF-4285-B33B-3284449F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DA57-0946-4614-94EC-608B4125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5EC7-126F-46B8-B169-28775430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E909-0376-42C6-A121-A1EEF12B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881D-82FB-4DAF-BF73-54638300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2BA7-4108-4F2E-9F9E-E71E5D0B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F55EA-D2DD-44EF-A9BE-BE5C2C52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2BFCC-C0E6-4935-A925-1F408D4F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0DAB9-3560-422C-B4E2-ECDDE88A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AAC5C-55E9-442E-B74A-C2541614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1598D-0852-4D6E-813C-A7A1CFE6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9B69-291B-4C3B-AA5C-672610A9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D499F-5F97-4B15-9548-6672B21B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C4046-8EB9-445B-BA80-F3B09798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AF315-FA34-49FF-BA23-15C9209E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27093-272C-4308-A4F7-32E3A76C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839BA-F7A6-4ADF-9F78-29DC0657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F75AE-5632-4FD3-8219-77FCF49E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1D9E4-CB8F-47DD-9763-405E7AF3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EF98C-6E1B-46E6-9DDE-9160C7851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B70A5-805B-4B0D-82B5-1CB5566D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3EDEA-398C-4626-94D8-3A7780AB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A817-3EFC-43F6-89A2-470B937B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AFD63-E0AA-4FB5-8667-5422F052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5DA76-7D7B-4563-AEC1-43DFB96B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7D360-B631-4B41-B7B0-C31F4D58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566EA-1AA8-4F0B-9091-E705C298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E7C1B-A3AB-47C2-A410-5EE7D838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F5A1F-9041-48CE-9DAF-204EAA59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6765C-A479-476D-9E52-E948B0FA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E4471-1B3B-4DBC-BA1C-BA9E6F75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F0368-F95E-456F-AF4D-D49BE267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B584-6A41-4080-8394-404C9829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B2AE-46A6-4FB6-A102-07913B31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C56F-3CB4-4BDC-B56E-BA6B7FEC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25F5-598D-4E3E-B475-74944C4F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F547-159E-4A71-852A-3874CF3A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6"/>
          <p:cNvSpPr/>
          <p:nvPr/>
        </p:nvSpPr>
        <p:spPr>
          <a:xfrm>
            <a:off x="-7920" y="-6480"/>
            <a:ext cx="9161280" cy="104004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任意多边形 7"/>
          <p:cNvSpPr/>
          <p:nvPr/>
        </p:nvSpPr>
        <p:spPr>
          <a:xfrm>
            <a:off x="4381560" y="-6480"/>
            <a:ext cx="4762440" cy="63684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DA69-832C-4421-9080-F7F48B6E620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7640" y="203040"/>
              <a:ext cx="9161280" cy="648000"/>
              <a:chOff x="-17640" y="203040"/>
              <a:chExt cx="9161280" cy="648000"/>
            </a:xfrm>
          </p:grpSpPr>
          <p:pic>
            <p:nvPicPr>
              <p:cNvPr id="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03040"/>
                <a:ext cx="91382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1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1800" y="248040"/>
                <a:ext cx="91638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728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任意多边形 6"/>
          <p:cNvSpPr/>
          <p:nvPr/>
        </p:nvSpPr>
        <p:spPr>
          <a:xfrm>
            <a:off x="-7920" y="-6480"/>
            <a:ext cx="9161280" cy="104004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任意多边形 7"/>
          <p:cNvSpPr/>
          <p:nvPr/>
        </p:nvSpPr>
        <p:spPr>
          <a:xfrm>
            <a:off x="4381560" y="-6480"/>
            <a:ext cx="4762440" cy="63684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53" name=""/>
            <p:cNvGrpSpPr/>
            <p:nvPr/>
          </p:nvGrpSpPr>
          <p:grpSpPr>
            <a:xfrm>
              <a:off x="-17640" y="203040"/>
              <a:ext cx="9161280" cy="648000"/>
              <a:chOff x="-17640" y="203040"/>
              <a:chExt cx="9161280" cy="648000"/>
            </a:xfrm>
          </p:grpSpPr>
          <p:pic>
            <p:nvPicPr>
              <p:cNvPr id="5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03040"/>
                <a:ext cx="91382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5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1800" y="248040"/>
                <a:ext cx="91638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728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0A07-304E-4D78-B61E-2E0120C231F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任意多边形 6"/>
          <p:cNvSpPr/>
          <p:nvPr/>
        </p:nvSpPr>
        <p:spPr>
          <a:xfrm>
            <a:off x="-7920" y="-6480"/>
            <a:ext cx="9161280" cy="104004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任意多边形 7"/>
          <p:cNvSpPr/>
          <p:nvPr/>
        </p:nvSpPr>
        <p:spPr>
          <a:xfrm>
            <a:off x="4381560" y="-6480"/>
            <a:ext cx="4762440" cy="63684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103" name=""/>
            <p:cNvGrpSpPr/>
            <p:nvPr/>
          </p:nvGrpSpPr>
          <p:grpSpPr>
            <a:xfrm>
              <a:off x="-17640" y="203040"/>
              <a:ext cx="9161280" cy="648000"/>
              <a:chOff x="-17640" y="203040"/>
              <a:chExt cx="9161280" cy="648000"/>
            </a:xfrm>
          </p:grpSpPr>
          <p:pic>
            <p:nvPicPr>
              <p:cNvPr id="10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03040"/>
                <a:ext cx="91382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10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1800" y="248040"/>
                <a:ext cx="91638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728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49AE-053A-43FF-9A2F-FEBA111BF49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单圆角矩形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任意多边形 15"/>
          <p:cNvSpPr/>
          <p:nvPr/>
        </p:nvSpPr>
        <p:spPr>
          <a:xfrm flipV="1">
            <a:off x="-7560" y="5815440"/>
            <a:ext cx="916128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任意多边形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26E7-3124-44C4-B2B4-E647F57A820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133720" y="685800"/>
            <a:ext cx="419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猜谜语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152360" y="2809800"/>
            <a:ext cx="7812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一朵美丽花，吹着小喇叭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长在藤蔓上，顺藤往上爬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4" descr="C:\Program Files\Common Files\Microsoft Shared\Clipart\cagcat50\DD01352_.wmf"/>
          <p:cNvPicPr/>
          <p:nvPr/>
        </p:nvPicPr>
        <p:blipFill>
          <a:blip r:embed="rId2"/>
          <a:stretch/>
        </p:blipFill>
        <p:spPr>
          <a:xfrm>
            <a:off x="0" y="304920"/>
            <a:ext cx="182880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D:\我的图片\flower_arts_02.jpg"/>
          <p:cNvPicPr/>
          <p:nvPr/>
        </p:nvPicPr>
        <p:blipFill>
          <a:blip r:embed="rId2"/>
          <a:srcRect l="0" t="0" r="2344" b="2082"/>
          <a:stretch/>
        </p:blipFill>
        <p:spPr>
          <a:xfrm>
            <a:off x="-379440" y="-284040"/>
            <a:ext cx="9523440" cy="71611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3"/>
          <p:cNvSpPr/>
          <p:nvPr/>
        </p:nvSpPr>
        <p:spPr>
          <a:xfrm>
            <a:off x="228600" y="838080"/>
            <a:ext cx="555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丁丁你真是一个孝顺奶奶的好孩子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928800" y="20718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丁丁醒来，记着牵牛花的话，就找来一根竹竿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428760" y="949320"/>
            <a:ext cx="842940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一天晚上，丁丁梦见牵牛花对他说：“给我一根竿子，或者一条绳子吧！我可以爬到上面去开花，满足你的愿望。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3"/>
          <p:cNvSpPr/>
          <p:nvPr/>
        </p:nvSpPr>
        <p:spPr>
          <a:xfrm>
            <a:off x="428760" y="1501920"/>
            <a:ext cx="860724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牵牛花攀着竹竿往上爬，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一路上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吹着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快活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的小喇叭。奶奶看着青翠的绿叶和美丽的牵牛花，心里十分高兴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7" descr="D:\我的图片\CAQB8HYF.jpg"/>
          <p:cNvPicPr/>
          <p:nvPr/>
        </p:nvPicPr>
        <p:blipFill>
          <a:blip r:embed="rId2"/>
          <a:srcRect l="0" t="0" r="0" b="937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WordArt 8"/>
          <p:cNvSpPr txBox="1"/>
          <p:nvPr/>
        </p:nvSpPr>
        <p:spPr>
          <a:xfrm>
            <a:off x="838080" y="380880"/>
            <a:ext cx="33530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cap="rnd" w="936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800000"/>
                </a:solidFill>
                <a:latin typeface="隶书"/>
              </a:rPr>
              <a:t>想一想？</a:t>
            </a:r>
            <a:endParaRPr b="0" lang="en-US" sz="2400" spc="-1" strike="noStrike">
              <a:ln cap="rnd" w="936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800000"/>
              </a:solidFill>
              <a:latin typeface="隶书"/>
              <a:ea typeface="隶书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228600" y="2057400"/>
            <a:ext cx="8763120" cy="916920"/>
          </a:xfrm>
          <a:prstGeom prst="rect">
            <a:avLst/>
          </a:prstGeom>
          <a:solidFill>
            <a:srgbClr val="85dfd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丁丁面对着这么美丽的牵牛花，会说些什么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609480" y="1981080"/>
            <a:ext cx="785196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丁丁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很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想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谢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牵牛花，因为它帮自己实现了愿望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500040" y="1785960"/>
            <a:ext cx="88963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你的愿望是什么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你会怎样实现你的愿望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 rot="5400000">
            <a:off x="3102840" y="2856600"/>
            <a:ext cx="2619360" cy="1268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再见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D:\北师大教材第一册\课件\丁丁和牵牛花\牵牛花07.jpg"/>
          <p:cNvPicPr/>
          <p:nvPr/>
        </p:nvPicPr>
        <p:blipFill>
          <a:blip r:embed="rId2"/>
          <a:stretch/>
        </p:blipFill>
        <p:spPr>
          <a:xfrm>
            <a:off x="-46080" y="0"/>
            <a:ext cx="9190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D:\北师大教材第一册\课件\丁丁和牵牛花\牵牛花01.jpg"/>
          <p:cNvPicPr/>
          <p:nvPr/>
        </p:nvPicPr>
        <p:blipFill>
          <a:blip r:embed="rId2"/>
          <a:srcRect l="0" t="0" r="0" b="8370"/>
          <a:stretch/>
        </p:blipFill>
        <p:spPr>
          <a:xfrm>
            <a:off x="-34920" y="-25560"/>
            <a:ext cx="921708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" descr="D:\北师大教材第一册\课件\丁丁和牵牛花\牵牛花03.jpg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928800" y="185724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隶书"/>
              </a:rPr>
              <a:t>丁丁和牵牛花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1003320" y="928800"/>
            <a:ext cx="1003320" cy="396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ff"/>
                </a:solidFill>
                <a:latin typeface="Times New Roman"/>
              </a:rPr>
              <a:t>阳 久 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2575080" y="928800"/>
            <a:ext cx="1003320" cy="3962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ff"/>
                </a:solidFill>
                <a:latin typeface="Times New Roman"/>
              </a:rPr>
              <a:t>给 足 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932280" y="928800"/>
            <a:ext cx="1003320" cy="3962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ff"/>
                </a:solidFill>
                <a:latin typeface="Times New Roman"/>
              </a:rPr>
              <a:t>路 吹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5432400" y="1000080"/>
            <a:ext cx="1003320" cy="3962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盼 晚 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6718320" y="928800"/>
            <a:ext cx="1003320" cy="3962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竿 或 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1714680" y="4929120"/>
            <a:ext cx="571500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绳 往 感 谢 实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3"/>
          <p:cNvSpPr/>
          <p:nvPr/>
        </p:nvSpPr>
        <p:spPr>
          <a:xfrm>
            <a:off x="785880" y="1714680"/>
            <a:ext cx="7500960" cy="1739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他向同学要了几颗牵牛花的</a:t>
            </a:r>
            <a:r>
              <a:rPr b="0" lang="zh-CN" sz="5400" spc="-1" strike="noStrike">
                <a:solidFill>
                  <a:srgbClr val="ff0000"/>
                </a:solidFill>
                <a:latin typeface="宋体"/>
              </a:rPr>
              <a:t>种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子，</a:t>
            </a:r>
            <a:r>
              <a:rPr b="0" lang="zh-CN" sz="5400" spc="-1" strike="noStrike">
                <a:solidFill>
                  <a:srgbClr val="ff0000"/>
                </a:solidFill>
                <a:latin typeface="宋体"/>
              </a:rPr>
              <a:t>种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在阳台的花盆里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3"/>
          <p:cNvSpPr/>
          <p:nvPr/>
        </p:nvSpPr>
        <p:spPr>
          <a:xfrm>
            <a:off x="1447920" y="20574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685800" y="1828800"/>
            <a:ext cx="788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不久，牵牛花长出了幼芽，丁丁</a:t>
            </a:r>
            <a:r>
              <a:rPr b="0" lang="zh-CN" sz="5400" spc="-1" strike="noStrike">
                <a:solidFill>
                  <a:srgbClr val="ff0000"/>
                </a:solidFill>
                <a:latin typeface="宋体"/>
              </a:rPr>
              <a:t>盼望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牵牛花</a:t>
            </a:r>
            <a:r>
              <a:rPr b="0" lang="zh-CN" sz="5400" spc="-1" strike="noStrike">
                <a:solidFill>
                  <a:srgbClr val="ff0000"/>
                </a:solidFill>
                <a:latin typeface="宋体"/>
              </a:rPr>
              <a:t>快快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长大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642960" y="3357720"/>
            <a:ext cx="828684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奶奶上了年纪，不能下楼了。丁丁想让奶奶在屋里也能看见鲜花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D:\北师大教材第一册\课件\丁丁和牵牛花\牵牛花01.jpg"/>
          <p:cNvPicPr/>
          <p:nvPr/>
        </p:nvPicPr>
        <p:blipFill>
          <a:blip r:embed="rId2"/>
          <a:srcRect l="0" t="0" r="0" b="8244"/>
          <a:stretch/>
        </p:blipFill>
        <p:spPr>
          <a:xfrm>
            <a:off x="2500200" y="1214280"/>
            <a:ext cx="4143600" cy="1489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07:56:25Z</dcterms:created>
  <dc:creator/>
  <dc:description/>
  <dc:language>en-US</dc:language>
  <cp:lastModifiedBy/>
  <dcterms:modified xsi:type="dcterms:W3CDTF">2014-03-28T01:46:1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