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DDAE-D174-466D-8C12-C17D8E703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252C-AA2F-4EFD-B6E1-5ADFBA2A3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B53C-BB00-4F33-A639-90323F1E7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15CD-AD2F-48AA-B89E-E0A617175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553DF-7292-437A-A1AC-89F2A2BE7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A9E57-2DBE-421E-AF96-2B90B2314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0FCF3-554A-43A0-B979-51096B782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8D02E-DFE8-4E6E-89AC-F1FA1D81C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06A12-3CEA-423E-A3CD-53EAB30D9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8AD35-CC15-4810-896D-0EC1CFC92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19940-6B31-483E-B71B-DF231F41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D095-5B50-4333-94FE-FEA4218C8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760CB-F227-4778-9826-E8C2CB94A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D085F-65D8-4D59-9A8A-0464666B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F77AE-F874-4B07-9CE0-CA3F5AB6E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EF67B-7F41-40D8-81EB-151AB02A4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D48D6-3E78-442C-B0D5-96BAB9FA9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FF4A2-6220-4FD8-8F85-2B0E960C9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84228-5829-4E87-848A-20E744EFF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39372-2B90-4025-BE64-376C59E76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D0EAA-06CE-47F1-B8A5-8FEDA53BE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D21C6-139F-48EC-AD1D-CF0C2729F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F943-8745-4877-A195-BFBD040C7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28601-4D25-47F3-83E6-7C0AA6127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23A4A-60A5-40ED-A914-E653CD38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86A25-2052-4070-9929-8CE507D68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D88AF-EBC5-4501-A208-A1C5F328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3A6BB-A9D4-4E92-BAC6-EF26F5E25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BF876-6558-42A6-9306-FFE07EAC5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68F64-C3F1-47E7-AD63-B1E235186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FE4FB-0452-4003-9355-BD4D76D5E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D2305-98A2-4D3C-BF25-90890E4F9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F6DE2-37E8-416A-8E21-BB0B8D862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AA2C-F704-4169-92CF-EB1BD6469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4460B-BE43-4473-BDFC-F3462C98F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3E05D-8E9C-4D81-AF8F-2784CC904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1F036-0162-47D0-B354-67E3383AC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CF3F6-43EE-4DE5-8314-6CE96ED4D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57E06-E540-4911-8374-310E0813F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CD848-2796-422F-96F1-8D64D4B7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37616-6149-49D1-9E9E-DED5B2514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5DD93-0650-4E80-8154-EAD9FAC00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9D3AC-413C-4FFB-A398-E73432D8C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CECB7-3A4A-43EB-98AE-3ED78BC7A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64E7-CF69-4817-B3AA-39DADF79B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FA4B9-C7B0-467A-98A8-7648DEA17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51DEB-3255-43A1-BD85-7C633D6A0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F318B7-D0B1-4EC6-A9E6-DF2689920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6EED42-BCFE-4680-957A-44696404A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215689-C38B-490D-A172-AFB25AE61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43CEA3-4CA1-4968-9EDA-4E0C570D7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D03C97-5455-4CA3-B431-3C157EDF8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ECDEF-0C95-44D3-9208-DCE6A1DD5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79DFB-BE24-4157-BF91-0708CF499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DE8B6-6AD1-4C8A-A72F-62870A1EC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CD99-9D69-4367-89DC-1527F4DDE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F3FB6-02D3-4FAE-9C45-62216E646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0473D7-B349-423D-93AE-2F1CB5F00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05EC74-367A-4494-A237-B900E853E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69BE6F-5CBF-46A0-9946-73C9E5EA2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28C343-51A4-4259-AC92-A6A475A8C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E90E8F-CDA5-4711-9A42-D086642DB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1E224D-F562-42B5-8030-CD46E3DBB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DCD9D2-6E81-413E-9B80-BB02BCDF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632A49-7A89-4992-8F32-B9DB119C8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BAB6B2-75DA-477E-B199-CE1E14FD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A652-827A-46CB-83B2-9EEBEBBB4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F2381F-1A64-4B4C-A731-EC7671819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E52EE-C78B-4848-9CBE-ADF5175ED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1303A9-618C-4E48-A5C9-27BEDE669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C738-B146-402E-9A65-BAB4851D9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6686-7A02-4231-8522-9BCE8E8F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9e5dc"/>
              </a:solidFill>
              <a:latin typeface="Arial"/>
            </a:endParaRPr>
          </a:p>
        </p:txBody>
      </p:sp>
      <p:sp>
        <p:nvSpPr>
          <p:cNvPr id="1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9e5dc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SzPct val="85000"/>
              <a:buFont typeface="Wingdings 2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SzPct val="85000"/>
              <a:buFont typeface="Wingdings 2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9e5d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9e5d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Franklin Gothic Book"/>
                <a:ea typeface="幼圆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39BD8-F04D-4156-AF75-3603D90C1C8B}" type="slidenum">
              <a:rPr b="0" lang="zh-CN" sz="1400" spc="-1" strike="noStrike">
                <a:solidFill>
                  <a:srgbClr val="ffffff"/>
                </a:solidFill>
                <a:latin typeface="Franklin Gothic Book"/>
                <a:ea typeface="幼圆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9e5dc"/>
              </a:solidFill>
              <a:latin typeface="Arial"/>
            </a:endParaRPr>
          </a:p>
        </p:txBody>
      </p:sp>
      <p:sp>
        <p:nvSpPr>
          <p:cNvPr id="44" name="圆角矩形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9e5dc"/>
              </a:solidFill>
              <a:latin typeface="Arial"/>
            </a:endParaRPr>
          </a:p>
        </p:txBody>
      </p:sp>
      <p:sp>
        <p:nvSpPr>
          <p:cNvPr id="45" name="矩形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9e5dc"/>
              </a:solidFill>
              <a:latin typeface="Arial"/>
            </a:endParaRPr>
          </a:p>
        </p:txBody>
      </p:sp>
      <p:sp>
        <p:nvSpPr>
          <p:cNvPr id="46" name="矩形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9e5dc"/>
              </a:solidFill>
              <a:latin typeface="Arial"/>
            </a:endParaRPr>
          </a:p>
        </p:txBody>
      </p:sp>
      <p:sp>
        <p:nvSpPr>
          <p:cNvPr id="47" name="矩形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9e5dc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SzPct val="85000"/>
              <a:buFont typeface="Wingdings 2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SzPct val="85000"/>
              <a:buFont typeface="Wingdings 2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9e5dc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9e5dc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Franklin Gothic Book"/>
                <a:ea typeface="幼圆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A864E-D423-4458-A9A2-208D6A5B612B}" type="slidenum">
              <a:rPr b="0" lang="zh-CN" sz="1400" spc="-1" strike="noStrike">
                <a:solidFill>
                  <a:srgbClr val="ffffff"/>
                </a:solidFill>
                <a:latin typeface="Franklin Gothic Book"/>
                <a:ea typeface="幼圆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9e5dc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圆角矩形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360" cy="64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e9e5dc"/>
                </a:solidFill>
                <a:latin typeface="Arial"/>
              </a:endParaRPr>
            </a:p>
          </p:txBody>
        </p:sp>
      </p:grpSp>
      <p:sp>
        <p:nvSpPr>
          <p:cNvPr id="93" name="矩形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9e5dc"/>
              </a:solidFill>
              <a:latin typeface="Arial"/>
            </a:endParaRPr>
          </a:p>
        </p:txBody>
      </p:sp>
      <p:sp>
        <p:nvSpPr>
          <p:cNvPr id="94" name="矩形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9e5dc"/>
              </a:solidFill>
              <a:latin typeface="Arial"/>
            </a:endParaRPr>
          </a:p>
        </p:txBody>
      </p:sp>
      <p:sp>
        <p:nvSpPr>
          <p:cNvPr id="95" name="矩形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9e5dc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SzPct val="85000"/>
              <a:buFont typeface="Wingdings 2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SzPct val="85000"/>
              <a:buFont typeface="Wingdings 2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9e5dc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9e5dc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Franklin Gothic Book"/>
                <a:ea typeface="幼圆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B75AF-9371-46C6-A61B-FA37FACA4889}" type="slidenum">
              <a:rPr b="0" lang="zh-CN" sz="1400" spc="-1" strike="noStrike">
                <a:solidFill>
                  <a:srgbClr val="ffffff"/>
                </a:solidFill>
                <a:latin typeface="Franklin Gothic Book"/>
                <a:ea typeface="幼圆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9e5dc"/>
              </a:solidFill>
              <a:latin typeface="Arial"/>
            </a:endParaRPr>
          </a:p>
        </p:txBody>
      </p:sp>
      <p:sp>
        <p:nvSpPr>
          <p:cNvPr id="138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9e5dc"/>
              </a:solidFill>
              <a:latin typeface="Arial"/>
            </a:endParaRPr>
          </a:p>
        </p:txBody>
      </p:sp>
      <p:sp>
        <p:nvSpPr>
          <p:cNvPr id="139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9e5dc"/>
              </a:solidFill>
              <a:latin typeface="Arial"/>
            </a:endParaRPr>
          </a:p>
        </p:txBody>
      </p:sp>
      <p:sp>
        <p:nvSpPr>
          <p:cNvPr id="140" name="圆角矩形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9e5dc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SzPct val="85000"/>
              <a:buFont typeface="Wingdings 2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SzPct val="85000"/>
              <a:buFont typeface="Wingdings 2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9e5dc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9e5dc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Franklin Gothic Book"/>
                <a:ea typeface="幼圆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1284E-280F-40B4-843B-76CE787C6E07}" type="slidenum">
              <a:rPr b="0" lang="zh-CN" sz="1400" spc="-1" strike="noStrike">
                <a:solidFill>
                  <a:srgbClr val="ffffff"/>
                </a:solidFill>
                <a:latin typeface="Franklin Gothic Book"/>
                <a:ea typeface="幼圆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9e5dc"/>
              </a:solidFill>
              <a:latin typeface="Arial"/>
            </a:endParaRPr>
          </a:p>
        </p:txBody>
      </p:sp>
      <p:sp>
        <p:nvSpPr>
          <p:cNvPr id="183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9e5dc"/>
              </a:solidFill>
              <a:latin typeface="Arial"/>
            </a:endParaRPr>
          </a:p>
        </p:txBody>
      </p:sp>
      <p:sp>
        <p:nvSpPr>
          <p:cNvPr id="184" name="矩形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9e5dc"/>
              </a:solidFill>
              <a:latin typeface="Arial"/>
            </a:endParaRPr>
          </a:p>
        </p:txBody>
      </p:sp>
      <p:sp>
        <p:nvSpPr>
          <p:cNvPr id="185" name="矩形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9e5dc"/>
              </a:solidFill>
              <a:latin typeface="Arial"/>
            </a:endParaRPr>
          </a:p>
        </p:txBody>
      </p:sp>
      <p:sp>
        <p:nvSpPr>
          <p:cNvPr id="186" name="矩形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9e5dc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SzPct val="85000"/>
              <a:buFont typeface="Wingdings 2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SzPct val="85000"/>
              <a:buFont typeface="Wingdings 2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9e5dc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9e5dc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Franklin Gothic Book"/>
                <a:ea typeface="幼圆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48810-33C0-49D5-A494-9C79BE0FD780}" type="slidenum">
              <a:rPr b="0" lang="zh-CN" sz="1400" spc="-1" strike="noStrike">
                <a:solidFill>
                  <a:srgbClr val="ffffff"/>
                </a:solidFill>
                <a:latin typeface="Franklin Gothic Book"/>
                <a:ea typeface="幼圆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9e5dc"/>
              </a:solidFill>
              <a:latin typeface="Arial"/>
            </a:endParaRPr>
          </a:p>
        </p:txBody>
      </p:sp>
      <p:sp>
        <p:nvSpPr>
          <p:cNvPr id="229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9e5dc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SzPct val="85000"/>
              <a:buFont typeface="Wingdings 2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SzPct val="85000"/>
              <a:buFont typeface="Wingdings 2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9e5dc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9e5dc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6832080" y="6315480"/>
            <a:ext cx="134712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Franklin Gothic Book"/>
                <a:ea typeface="幼圆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2D41B-962F-4087-95AA-9ADDD1C0C0A2}" type="slidenum">
              <a:rPr b="0" lang="zh-CN" sz="1400" spc="-1" strike="noStrike">
                <a:solidFill>
                  <a:srgbClr val="ffffff"/>
                </a:solidFill>
                <a:latin typeface="Franklin Gothic Book"/>
                <a:ea typeface="幼圆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85880" y="164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宋体"/>
                <a:ea typeface="宋体"/>
              </a:rPr>
              <a:t>冬冬读课文</a:t>
            </a:r>
            <a:endParaRPr b="0" lang="en-US" sz="72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图片 5" descr="思考.jpg"/>
          <p:cNvPicPr/>
          <p:nvPr/>
        </p:nvPicPr>
        <p:blipFill>
          <a:blip r:embed="rId2"/>
          <a:srcRect l="0" t="0" r="1753" b="7258"/>
          <a:stretch/>
        </p:blipFill>
        <p:spPr>
          <a:xfrm>
            <a:off x="3000240" y="3240000"/>
            <a:ext cx="2714760" cy="319896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29840" y="1285560"/>
            <a:ext cx="8713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4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、如果你是冬冬的朋友，你会怎么做呢？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宋体"/>
                <a:ea typeface="宋体"/>
              </a:rPr>
              <a:t>读句子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9840" y="1714680"/>
            <a:ext cx="978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  <a:ea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  <a:ea typeface="宋体"/>
              </a:rPr>
              <a:t>、冬冬脸红了，再也读不下去了。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  <a:ea typeface="宋体"/>
              </a:rPr>
              <a:t>　　　　　　　　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  <a:ea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  <a:ea typeface="宋体"/>
              </a:rPr>
              <a:t>、丁丁又说：“老师，让冬冬再读一遍，好吗？”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  <a:ea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  <a:ea typeface="宋体"/>
              </a:rPr>
              <a:t>、冬冬鼓起勇气又读了一遍。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宋体"/>
                <a:ea typeface="宋体"/>
              </a:rPr>
              <a:t>选字填空</a:t>
            </a:r>
            <a:br>
              <a:rPr sz="3600"/>
            </a:b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Perpetua"/>
                <a:ea typeface="宋体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  <a:ea typeface="宋体"/>
              </a:rPr>
              <a:t>　　</a:t>
            </a:r>
            <a:r>
              <a:rPr b="1" lang="zh-CN" sz="3200" spc="-1" strike="noStrike">
                <a:solidFill>
                  <a:srgbClr val="d34817"/>
                </a:solidFill>
                <a:latin typeface="Perpetua"/>
                <a:ea typeface="宋体"/>
              </a:rPr>
              <a:t>再　　　　也　　　　又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Perpetua"/>
                <a:ea typeface="宋体"/>
              </a:rPr>
              <a:t>１、第一次没唱好，我（</a:t>
            </a:r>
            <a:r>
              <a:rPr b="0" lang="en-US" sz="3200" spc="-1" strike="noStrike">
                <a:solidFill>
                  <a:srgbClr val="d34817"/>
                </a:solidFill>
                <a:latin typeface="Perpetua"/>
                <a:ea typeface="宋体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Perpetua"/>
                <a:ea typeface="宋体"/>
              </a:rPr>
              <a:t>）唱了一遍。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Perpetua"/>
                <a:ea typeface="宋体"/>
              </a:rPr>
              <a:t>２、妈妈，让我（　 ）看一会儿电视吧。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Perpetua"/>
                <a:ea typeface="宋体"/>
              </a:rPr>
              <a:t>３、丁丁能把字写好，我（　 ）能写好。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5508720" y="306864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9e5dc"/>
              </a:solidFill>
              <a:latin typeface="Arial"/>
            </a:endParaRPr>
          </a:p>
        </p:txBody>
      </p:sp>
      <p:sp>
        <p:nvSpPr>
          <p:cNvPr id="316" name="Text Box 7"/>
          <p:cNvSpPr/>
          <p:nvPr/>
        </p:nvSpPr>
        <p:spPr>
          <a:xfrm>
            <a:off x="5788080" y="2500200"/>
            <a:ext cx="79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34817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d34817"/>
                </a:solidFill>
                <a:latin typeface="Arial"/>
              </a:rPr>
              <a:t>又   </a:t>
            </a:r>
            <a:endParaRPr b="1" lang="en-US" sz="3600" spc="-1" strike="noStrike">
              <a:solidFill>
                <a:srgbClr val="e9e5dc"/>
              </a:solidFill>
              <a:latin typeface="Arial"/>
            </a:endParaRPr>
          </a:p>
        </p:txBody>
      </p:sp>
      <p:sp>
        <p:nvSpPr>
          <p:cNvPr id="317" name="Text Box 9"/>
          <p:cNvSpPr/>
          <p:nvPr/>
        </p:nvSpPr>
        <p:spPr>
          <a:xfrm>
            <a:off x="4286160" y="4073400"/>
            <a:ext cx="78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34817"/>
                </a:solidFill>
                <a:latin typeface="Arial"/>
              </a:rPr>
              <a:t>再</a:t>
            </a:r>
            <a:endParaRPr b="1" lang="en-US" sz="3600" spc="-1" strike="noStrike">
              <a:solidFill>
                <a:srgbClr val="e9e5dc"/>
              </a:solidFill>
              <a:latin typeface="Arial"/>
            </a:endParaRPr>
          </a:p>
        </p:txBody>
      </p:sp>
      <p:sp>
        <p:nvSpPr>
          <p:cNvPr id="318" name="Text Box 10"/>
          <p:cNvSpPr/>
          <p:nvPr/>
        </p:nvSpPr>
        <p:spPr>
          <a:xfrm>
            <a:off x="5857920" y="521640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34817"/>
                </a:solidFill>
                <a:latin typeface="Arial"/>
              </a:rPr>
              <a:t>也</a:t>
            </a:r>
            <a:endParaRPr b="1" lang="en-US" sz="3600" spc="-1" strike="noStrike">
              <a:solidFill>
                <a:srgbClr val="e9e5dc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宋体"/>
                <a:ea typeface="宋体"/>
              </a:rPr>
              <a:t>练一练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宋体"/>
                <a:ea typeface="宋体"/>
              </a:rPr>
              <a:t>课  文  师</a:t>
            </a:r>
            <a:endParaRPr b="0" lang="en-US" sz="6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宋体"/>
                <a:ea typeface="宋体"/>
              </a:rPr>
              <a:t>请  同  笑  这</a:t>
            </a:r>
            <a:endParaRPr b="0" lang="en-US" sz="6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宋体"/>
                <a:ea typeface="宋体"/>
              </a:rPr>
              <a:t>作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714320" y="571680"/>
            <a:ext cx="450036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  <a:ea typeface="宋体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  <a:ea typeface="宋体"/>
              </a:rPr>
              <a:t>、做一张朋友卡片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214280" y="1714680"/>
          <a:ext cx="6929280" cy="3929040"/>
        </p:xfrm>
        <a:graphic>
          <a:graphicData uri="http://schemas.openxmlformats.org/drawingml/2006/table">
            <a:tbl>
              <a:tblPr/>
              <a:tblGrid>
                <a:gridCol w="1666800"/>
                <a:gridCol w="1665360"/>
                <a:gridCol w="1833480"/>
                <a:gridCol w="1763640"/>
              </a:tblGrid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姓名</a:t>
                      </a:r>
                      <a:endParaRPr b="1" lang="en-US" sz="2800" spc="-1" strike="noStrike">
                        <a:solidFill>
                          <a:srgbClr val="e9e5d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生日</a:t>
                      </a:r>
                      <a:endParaRPr b="1" lang="en-US" sz="2800" spc="-1" strike="noStrike">
                        <a:solidFill>
                          <a:srgbClr val="e9e5d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优点</a:t>
                      </a:r>
                      <a:endParaRPr b="1" lang="en-US" sz="2800" spc="-1" strike="noStrike">
                        <a:solidFill>
                          <a:srgbClr val="e9e5d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电话</a:t>
                      </a:r>
                      <a:endParaRPr b="1" lang="en-US" sz="2800" spc="-1" strike="noStrike">
                        <a:solidFill>
                          <a:srgbClr val="e9e5d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e9e5d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e9e5d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e9e5d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e9e5d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e9e5d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e9e5d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e9e5d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e9e5d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e9e5d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e9e5d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e9e5d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e9e5d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e9e5d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e9e5d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e9e5d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e9e5d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3"/>
          <p:cNvSpPr/>
          <p:nvPr/>
        </p:nvSpPr>
        <p:spPr>
          <a:xfrm>
            <a:off x="2000160" y="1071720"/>
            <a:ext cx="5500800" cy="6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  <a:ea typeface="宋体"/>
              </a:rPr>
              <a:t>、说说你和朋友之间的故事</a:t>
            </a:r>
            <a:endParaRPr b="1" lang="en-US" sz="3200" spc="-1" strike="noStrike">
              <a:solidFill>
                <a:srgbClr val="e9e5dc"/>
              </a:solidFill>
              <a:latin typeface="Arial"/>
            </a:endParaRPr>
          </a:p>
        </p:txBody>
      </p:sp>
      <p:pic>
        <p:nvPicPr>
          <p:cNvPr id="325" name="图片 5" descr="三个好朋友.jpg"/>
          <p:cNvPicPr/>
          <p:nvPr/>
        </p:nvPicPr>
        <p:blipFill>
          <a:blip r:embed="rId1"/>
          <a:stretch/>
        </p:blipFill>
        <p:spPr>
          <a:xfrm>
            <a:off x="1571760" y="1714680"/>
            <a:ext cx="6858000" cy="514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4"/>
          <p:cNvSpPr/>
          <p:nvPr/>
        </p:nvSpPr>
        <p:spPr>
          <a:xfrm>
            <a:off x="428760" y="928800"/>
            <a:ext cx="828648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冬冬胆子很小。有一次，老师请她读课文。她害怕出错，越读声音越小。</a:t>
            </a:r>
            <a:endParaRPr b="1" lang="en-US" sz="4400" spc="-1" strike="noStrike">
              <a:solidFill>
                <a:srgbClr val="e9e5dc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9e5dc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有几个同学笑起来。冬冬脸红了，再也读不下去了。</a:t>
            </a:r>
            <a:endParaRPr b="1" lang="en-US" sz="4400" spc="-1" strike="noStrike">
              <a:solidFill>
                <a:srgbClr val="e9e5dc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1" lang="en-US" sz="3200" spc="-1" strike="noStrike">
              <a:solidFill>
                <a:srgbClr val="e9e5dc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4"/>
          <p:cNvSpPr/>
          <p:nvPr/>
        </p:nvSpPr>
        <p:spPr>
          <a:xfrm>
            <a:off x="785880" y="1071720"/>
            <a:ext cx="7643880" cy="21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　  </a:t>
            </a:r>
            <a:endParaRPr b="1" lang="en-US" sz="4400" spc="-1" strike="noStrike">
              <a:solidFill>
                <a:srgbClr val="e9e5dc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这时，丁丁站起来说：“我觉得冬冬的声音很好听，我喜欢听她读课文。”教室里没有人再笑了。</a:t>
            </a:r>
            <a:endParaRPr b="1" lang="en-US" sz="4400" spc="-1" strike="noStrike">
              <a:solidFill>
                <a:srgbClr val="e9e5dc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1" lang="en-US" sz="3200" spc="-1" strike="noStrike">
              <a:solidFill>
                <a:srgbClr val="e9e5dc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4"/>
          <p:cNvSpPr/>
          <p:nvPr/>
        </p:nvSpPr>
        <p:spPr>
          <a:xfrm>
            <a:off x="714240" y="857160"/>
            <a:ext cx="7500960" cy="15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　  </a:t>
            </a:r>
            <a:endParaRPr b="1" lang="en-US" sz="4400" spc="-1" strike="noStrike">
              <a:solidFill>
                <a:srgbClr val="e9e5dc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丁丁又说：“老师，让冬冬再读一遍，好吗？”老师点点头。冬冬鼓起勇气又读了一遍。这一回她的声音又好听又响亮，大家都为她鼓起掌来。</a:t>
            </a:r>
            <a:endParaRPr b="1" lang="en-US" sz="4400" spc="-1" strike="noStrike">
              <a:solidFill>
                <a:srgbClr val="e9e5dc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Line 3"/>
          <p:cNvSpPr/>
          <p:nvPr/>
        </p:nvSpPr>
        <p:spPr>
          <a:xfrm>
            <a:off x="1449360" y="5877000"/>
            <a:ext cx="936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e9e5dc"/>
              </a:solidFill>
              <a:latin typeface="Arial"/>
            </a:endParaRPr>
          </a:p>
        </p:txBody>
      </p:sp>
      <p:sp>
        <p:nvSpPr>
          <p:cNvPr id="276" name="Line 4"/>
          <p:cNvSpPr/>
          <p:nvPr/>
        </p:nvSpPr>
        <p:spPr>
          <a:xfrm flipV="1">
            <a:off x="2386080" y="5373720"/>
            <a:ext cx="0" cy="503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e9e5dc"/>
              </a:solidFill>
              <a:latin typeface="Arial"/>
            </a:endParaRPr>
          </a:p>
        </p:txBody>
      </p:sp>
      <p:sp>
        <p:nvSpPr>
          <p:cNvPr id="277" name="Line 5"/>
          <p:cNvSpPr/>
          <p:nvPr/>
        </p:nvSpPr>
        <p:spPr>
          <a:xfrm>
            <a:off x="2386080" y="5373720"/>
            <a:ext cx="720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e9e5dc"/>
              </a:solidFill>
              <a:latin typeface="Arial"/>
            </a:endParaRPr>
          </a:p>
        </p:txBody>
      </p:sp>
      <p:sp>
        <p:nvSpPr>
          <p:cNvPr id="278" name="Line 6"/>
          <p:cNvSpPr/>
          <p:nvPr/>
        </p:nvSpPr>
        <p:spPr>
          <a:xfrm flipV="1">
            <a:off x="3106800" y="4797000"/>
            <a:ext cx="0" cy="57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e9e5dc"/>
              </a:solidFill>
              <a:latin typeface="Arial"/>
            </a:endParaRPr>
          </a:p>
        </p:txBody>
      </p:sp>
      <p:sp>
        <p:nvSpPr>
          <p:cNvPr id="279" name="Line 7"/>
          <p:cNvSpPr/>
          <p:nvPr/>
        </p:nvSpPr>
        <p:spPr>
          <a:xfrm>
            <a:off x="3106800" y="4797360"/>
            <a:ext cx="7905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e9e5dc"/>
              </a:solidFill>
              <a:latin typeface="Arial"/>
            </a:endParaRPr>
          </a:p>
        </p:txBody>
      </p:sp>
      <p:sp>
        <p:nvSpPr>
          <p:cNvPr id="280" name="Line 8"/>
          <p:cNvSpPr/>
          <p:nvPr/>
        </p:nvSpPr>
        <p:spPr>
          <a:xfrm flipV="1">
            <a:off x="3897360" y="4220640"/>
            <a:ext cx="0" cy="576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e9e5dc"/>
              </a:solidFill>
              <a:latin typeface="Arial"/>
            </a:endParaRPr>
          </a:p>
        </p:txBody>
      </p:sp>
      <p:sp>
        <p:nvSpPr>
          <p:cNvPr id="281" name="Line 9"/>
          <p:cNvSpPr/>
          <p:nvPr/>
        </p:nvSpPr>
        <p:spPr>
          <a:xfrm>
            <a:off x="3897360" y="4221000"/>
            <a:ext cx="865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e9e5dc"/>
              </a:solidFill>
              <a:latin typeface="Arial"/>
            </a:endParaRPr>
          </a:p>
        </p:txBody>
      </p:sp>
      <p:sp>
        <p:nvSpPr>
          <p:cNvPr id="282" name="Line 10"/>
          <p:cNvSpPr/>
          <p:nvPr/>
        </p:nvSpPr>
        <p:spPr>
          <a:xfrm>
            <a:off x="4762440" y="3645000"/>
            <a:ext cx="0" cy="5745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e9e5dc"/>
              </a:solidFill>
              <a:latin typeface="Arial"/>
            </a:endParaRPr>
          </a:p>
        </p:txBody>
      </p:sp>
      <p:sp>
        <p:nvSpPr>
          <p:cNvPr id="283" name="Line 11"/>
          <p:cNvSpPr/>
          <p:nvPr/>
        </p:nvSpPr>
        <p:spPr>
          <a:xfrm>
            <a:off x="4762440" y="3645000"/>
            <a:ext cx="79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e9e5dc"/>
              </a:solidFill>
              <a:latin typeface="Arial"/>
            </a:endParaRPr>
          </a:p>
        </p:txBody>
      </p:sp>
      <p:sp>
        <p:nvSpPr>
          <p:cNvPr id="284" name="Line 12"/>
          <p:cNvSpPr/>
          <p:nvPr/>
        </p:nvSpPr>
        <p:spPr>
          <a:xfrm flipV="1">
            <a:off x="5554800" y="2997000"/>
            <a:ext cx="0" cy="647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e9e5dc"/>
              </a:solidFill>
              <a:latin typeface="Arial"/>
            </a:endParaRPr>
          </a:p>
        </p:txBody>
      </p:sp>
      <p:sp>
        <p:nvSpPr>
          <p:cNvPr id="285" name="Line 13"/>
          <p:cNvSpPr/>
          <p:nvPr/>
        </p:nvSpPr>
        <p:spPr>
          <a:xfrm>
            <a:off x="5554800" y="2997360"/>
            <a:ext cx="8636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e9e5dc"/>
              </a:solidFill>
              <a:latin typeface="Arial"/>
            </a:endParaRPr>
          </a:p>
        </p:txBody>
      </p:sp>
      <p:sp>
        <p:nvSpPr>
          <p:cNvPr id="286" name="Line 14"/>
          <p:cNvSpPr/>
          <p:nvPr/>
        </p:nvSpPr>
        <p:spPr>
          <a:xfrm flipV="1">
            <a:off x="6418440" y="2565360"/>
            <a:ext cx="0" cy="43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e9e5dc"/>
              </a:solidFill>
              <a:latin typeface="Arial"/>
            </a:endParaRPr>
          </a:p>
        </p:txBody>
      </p:sp>
      <p:sp>
        <p:nvSpPr>
          <p:cNvPr id="287" name="Line 15"/>
          <p:cNvSpPr/>
          <p:nvPr/>
        </p:nvSpPr>
        <p:spPr>
          <a:xfrm>
            <a:off x="6418440" y="2565360"/>
            <a:ext cx="12236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e9e5dc"/>
              </a:solidFill>
              <a:latin typeface="Arial"/>
            </a:endParaRPr>
          </a:p>
        </p:txBody>
      </p:sp>
      <p:sp>
        <p:nvSpPr>
          <p:cNvPr id="288" name="Line 16"/>
          <p:cNvSpPr/>
          <p:nvPr/>
        </p:nvSpPr>
        <p:spPr>
          <a:xfrm>
            <a:off x="7000920" y="1785960"/>
            <a:ext cx="0" cy="86508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e9e5dc"/>
              </a:solidFill>
              <a:latin typeface="Arial"/>
            </a:endParaRPr>
          </a:p>
        </p:txBody>
      </p:sp>
      <p:sp>
        <p:nvSpPr>
          <p:cNvPr id="289" name="AutoShape 17"/>
          <p:cNvSpPr/>
          <p:nvPr/>
        </p:nvSpPr>
        <p:spPr>
          <a:xfrm>
            <a:off x="7000920" y="928800"/>
            <a:ext cx="1066680" cy="1006200"/>
          </a:xfrm>
          <a:custGeom>
            <a:avLst/>
            <a:gdLst>
              <a:gd name="textAreaLeft" fmla="*/ 0 w 1066680"/>
              <a:gd name="textAreaRight" fmla="*/ 1067040 w 1066680"/>
              <a:gd name="textAreaTop" fmla="*/ 261720 h 1006200"/>
              <a:gd name="textAreaBottom" fmla="*/ 744480 h 100620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f80e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9e5dc"/>
              </a:solidFill>
              <a:latin typeface="Arial"/>
            </a:endParaRPr>
          </a:p>
        </p:txBody>
      </p:sp>
      <p:sp>
        <p:nvSpPr>
          <p:cNvPr id="290" name="AutoShape 18"/>
          <p:cNvSpPr/>
          <p:nvPr/>
        </p:nvSpPr>
        <p:spPr>
          <a:xfrm>
            <a:off x="746280" y="5300640"/>
            <a:ext cx="396720" cy="504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80e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9e5dc"/>
              </a:solidFill>
              <a:latin typeface="Arial"/>
            </a:endParaRPr>
          </a:p>
        </p:txBody>
      </p:sp>
      <p:sp>
        <p:nvSpPr>
          <p:cNvPr id="291" name="Text Box 19"/>
          <p:cNvSpPr/>
          <p:nvPr/>
        </p:nvSpPr>
        <p:spPr>
          <a:xfrm>
            <a:off x="1665360" y="5157720"/>
            <a:ext cx="6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课</a:t>
            </a:r>
            <a:endParaRPr b="1" lang="en-US" sz="3600" spc="-1" strike="noStrike">
              <a:solidFill>
                <a:srgbClr val="e9e5dc"/>
              </a:solidFill>
              <a:latin typeface="Arial"/>
            </a:endParaRPr>
          </a:p>
        </p:txBody>
      </p:sp>
      <p:sp>
        <p:nvSpPr>
          <p:cNvPr id="292" name="Text Box 20"/>
          <p:cNvSpPr/>
          <p:nvPr/>
        </p:nvSpPr>
        <p:spPr>
          <a:xfrm>
            <a:off x="2411280" y="4797360"/>
            <a:ext cx="5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文</a:t>
            </a:r>
            <a:endParaRPr b="1" lang="en-US" sz="3600" spc="-1" strike="noStrike">
              <a:solidFill>
                <a:srgbClr val="e9e5dc"/>
              </a:solidFill>
              <a:latin typeface="Arial"/>
            </a:endParaRPr>
          </a:p>
        </p:txBody>
      </p:sp>
      <p:sp>
        <p:nvSpPr>
          <p:cNvPr id="293" name="Text Box 21"/>
          <p:cNvSpPr/>
          <p:nvPr/>
        </p:nvSpPr>
        <p:spPr>
          <a:xfrm>
            <a:off x="3249720" y="4076640"/>
            <a:ext cx="76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师</a:t>
            </a:r>
            <a:endParaRPr b="1" lang="en-US" sz="3600" spc="-1" strike="noStrike">
              <a:solidFill>
                <a:srgbClr val="e9e5dc"/>
              </a:solidFill>
              <a:latin typeface="Arial"/>
            </a:endParaRPr>
          </a:p>
        </p:txBody>
      </p:sp>
      <p:sp>
        <p:nvSpPr>
          <p:cNvPr id="294" name="Text Box 22"/>
          <p:cNvSpPr/>
          <p:nvPr/>
        </p:nvSpPr>
        <p:spPr>
          <a:xfrm>
            <a:off x="3924360" y="3645000"/>
            <a:ext cx="83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请</a:t>
            </a:r>
            <a:endParaRPr b="1" lang="en-US" sz="3600" spc="-1" strike="noStrike">
              <a:solidFill>
                <a:srgbClr val="e9e5dc"/>
              </a:solidFill>
              <a:latin typeface="Arial"/>
            </a:endParaRPr>
          </a:p>
        </p:txBody>
      </p:sp>
      <p:sp>
        <p:nvSpPr>
          <p:cNvPr id="295" name="Text Box 23"/>
          <p:cNvSpPr/>
          <p:nvPr/>
        </p:nvSpPr>
        <p:spPr>
          <a:xfrm>
            <a:off x="4955400" y="2924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同</a:t>
            </a:r>
            <a:endParaRPr b="1" lang="en-US" sz="3600" spc="-1" strike="noStrike">
              <a:solidFill>
                <a:srgbClr val="e9e5dc"/>
              </a:solidFill>
              <a:latin typeface="Arial"/>
            </a:endParaRPr>
          </a:p>
        </p:txBody>
      </p:sp>
      <p:sp>
        <p:nvSpPr>
          <p:cNvPr id="296" name="Text Box 24"/>
          <p:cNvSpPr/>
          <p:nvPr/>
        </p:nvSpPr>
        <p:spPr>
          <a:xfrm>
            <a:off x="5818320" y="22766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笑</a:t>
            </a:r>
            <a:endParaRPr b="1" lang="en-US" sz="3600" spc="-1" strike="noStrike">
              <a:solidFill>
                <a:srgbClr val="e9e5dc"/>
              </a:solidFill>
              <a:latin typeface="Arial"/>
            </a:endParaRPr>
          </a:p>
        </p:txBody>
      </p:sp>
      <p:sp>
        <p:nvSpPr>
          <p:cNvPr id="297" name="AutoShape 25"/>
          <p:cNvSpPr/>
          <p:nvPr/>
        </p:nvSpPr>
        <p:spPr>
          <a:xfrm>
            <a:off x="442800" y="609480"/>
            <a:ext cx="2376720" cy="1297080"/>
          </a:xfrm>
          <a:prstGeom prst="wedgeEllipseCallout">
            <a:avLst>
              <a:gd name="adj1" fmla="val -38041"/>
              <a:gd name="adj2" fmla="val 69949"/>
            </a:avLst>
          </a:prstGeom>
          <a:gradFill rotWithShape="0">
            <a:gsLst>
              <a:gs pos="0">
                <a:srgbClr val="ffffff"/>
              </a:gs>
              <a:gs pos="100000">
                <a:srgbClr val="8ff5f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9e5dc"/>
              </a:solidFill>
              <a:latin typeface="Arial"/>
            </a:endParaRPr>
          </a:p>
        </p:txBody>
      </p:sp>
      <p:sp>
        <p:nvSpPr>
          <p:cNvPr id="298" name="Text Box 26"/>
          <p:cNvSpPr/>
          <p:nvPr/>
        </p:nvSpPr>
        <p:spPr>
          <a:xfrm>
            <a:off x="609480" y="898560"/>
            <a:ext cx="20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80e24"/>
                </a:solidFill>
                <a:latin typeface="Arial"/>
              </a:rPr>
              <a:t>夺红旗</a:t>
            </a:r>
            <a:endParaRPr b="1" lang="en-US" sz="4000" spc="-1" strike="noStrike">
              <a:solidFill>
                <a:srgbClr val="e9e5dc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285840" y="499680"/>
            <a:ext cx="8348400" cy="54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宋体"/>
                <a:ea typeface="宋体"/>
              </a:rPr>
              <a:t>读下面的句子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70c0"/>
                </a:solidFill>
                <a:latin typeface="宋体"/>
                <a:ea typeface="宋体"/>
              </a:rPr>
              <a:t>        </a:t>
            </a:r>
            <a:endParaRPr b="0" lang="en-US" sz="54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宋体"/>
                <a:ea typeface="宋体"/>
              </a:rPr>
              <a:t>、教室里没有人再笑了。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endParaRPr b="0" lang="en-US" sz="54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宋体"/>
                <a:ea typeface="宋体"/>
              </a:rPr>
              <a:t>、我教妹妹画画。</a:t>
            </a:r>
            <a:endParaRPr b="0" lang="en-US" sz="4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1714680" y="157176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Arial"/>
              </a:rPr>
              <a:t>jiào</a:t>
            </a:r>
            <a:endParaRPr b="1" lang="en-US" sz="3600" spc="-1" strike="noStrike">
              <a:solidFill>
                <a:srgbClr val="e9e5dc"/>
              </a:solidFill>
              <a:latin typeface="Arial"/>
            </a:endParaRPr>
          </a:p>
        </p:txBody>
      </p:sp>
      <p:sp>
        <p:nvSpPr>
          <p:cNvPr id="301" name="Text Box 13"/>
          <p:cNvSpPr/>
          <p:nvPr/>
        </p:nvSpPr>
        <p:spPr>
          <a:xfrm>
            <a:off x="2643120" y="3214800"/>
            <a:ext cx="15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Arial"/>
              </a:rPr>
              <a:t>jiāo</a:t>
            </a:r>
            <a:endParaRPr b="1" lang="en-US" sz="3200" spc="-1" strike="noStrike">
              <a:solidFill>
                <a:srgbClr val="e9e5dc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13840" y="1285560"/>
            <a:ext cx="8713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、当冬冬读课文的时候为什么有几个同学笑了？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642600" y="3571920"/>
            <a:ext cx="828684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答：因为老师让冬冬读课文的时候，她害怕读错，越读声音越小。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4" name="TextBox 3"/>
          <p:cNvSpPr/>
          <p:nvPr/>
        </p:nvSpPr>
        <p:spPr>
          <a:xfrm>
            <a:off x="357120" y="500040"/>
            <a:ext cx="27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宋体"/>
                <a:ea typeface="宋体"/>
              </a:rPr>
              <a:t>思考题</a:t>
            </a:r>
            <a:endParaRPr b="1" lang="en-US" sz="3200" spc="-1" strike="noStrike">
              <a:solidFill>
                <a:srgbClr val="e9e5d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29840" y="1356840"/>
            <a:ext cx="8713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、丁丁是怎么做的呢？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642600" y="3571920"/>
            <a:ext cx="828684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答：丁丁站起来说：“我觉得冬冬的声音很好听，我喜欢听她读课     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文。”并且让老师再让冬冬读一遍。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29840" y="1285560"/>
            <a:ext cx="8713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、这次冬冬读的怎么样呢？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42600" y="3571920"/>
            <a:ext cx="828684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答：这一回，冬冬的声音又好听又响亮，大家都为她鼓起掌来。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8T07:59:41Z</dcterms:created>
  <dc:creator/>
  <dc:description/>
  <dc:language>en-US</dc:language>
  <cp:lastModifiedBy/>
  <dcterms:modified xsi:type="dcterms:W3CDTF">2014-03-27T01:31:46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