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6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chimes.wav" ContentType="audio/x-wav"/>
  <Override PartName="/ppt/media/image16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3D6-23C3-48AD-9704-A8D9C8F6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E79-B526-475B-AD55-5467AC2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B72-42A0-4341-B5DB-149BCCFA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0D8-19C9-4519-A4EA-AC994550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461-052C-463F-AE89-B9E2C5A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B76-ECD4-44C2-AD2B-0B4110AC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6EA-6EC9-41A0-9C14-9427B138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4C7-8B2D-4126-8552-703BD6C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706-05AA-4BAC-BEA2-E7C553B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83D-A420-4BA5-B3F1-A775F6E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6EA-FD63-4BD8-AC9F-776027F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0B6-EFE4-4532-BDBF-B965CB1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B0FF-AC13-445D-96C7-C30D3262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39640" y="5493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快乐的小公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小公鸡独立图片3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7270920" y="4071960"/>
            <a:ext cx="1873080" cy="163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68360" y="6922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小公鸡每天早早起床，和爸爸一起为人们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报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它成了一只快乐的小公鸡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公鸡爸爸图片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40000" y="4292640"/>
            <a:ext cx="2305080" cy="192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小公鸡独立图片3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877080" y="4797360"/>
            <a:ext cx="187308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531960" y="1143000"/>
            <a:ext cx="2291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333399"/>
                </a:solidFill>
                <a:latin typeface="Arial"/>
                <a:ea typeface="楷体_GB2312"/>
              </a:rPr>
              <a:t>土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341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655640" cy="32133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3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387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032200" cy="1333800"/>
          </a:xfrm>
          <a:prstGeom prst="rect">
            <a:avLst/>
          </a:prstGeom>
          <a:ln w="0">
            <a:noFill/>
          </a:ln>
        </p:spPr>
      </p:pic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35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238752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1650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098880" cy="24638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26798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2641320"/>
          </a:xfrm>
          <a:prstGeom prst="rect">
            <a:avLst/>
          </a:prstGeom>
          <a:ln w="0">
            <a:noFill/>
          </a:ln>
        </p:spPr>
      </p:pic>
      <p:pic>
        <p:nvPicPr>
          <p:cNvPr id="86" name="Object 3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29080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28800" y="292752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帮助别人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你就会得到快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000080" y="1214280"/>
            <a:ext cx="32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收获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公鸡爸爸图片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40000" y="4292640"/>
            <a:ext cx="2305080" cy="192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小公鸡独立图片3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877080" y="4797360"/>
            <a:ext cx="1873080" cy="163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984400" y="2163600"/>
            <a:ext cx="3049560" cy="10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11280" y="1268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公鸡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整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没有事情做，心里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苦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雨"/>
          <p:cNvPicPr/>
          <p:nvPr/>
        </p:nvPicPr>
        <p:blipFill>
          <a:blip r:embed="rId1"/>
          <a:stretch/>
        </p:blipFill>
        <p:spPr>
          <a:xfrm>
            <a:off x="3635280" y="4075200"/>
            <a:ext cx="1873440" cy="184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027840" y="3417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6143760" y="20718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468360" y="2997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怎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才能快乐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9640" y="1125000"/>
            <a:ext cx="7210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认一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 苦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恼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怎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帮助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庄稼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害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虫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丛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蜜蜂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报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牛伯伯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00240" y="4165560"/>
            <a:ext cx="6299280" cy="269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独立图小公鸡"/>
          <p:cNvPicPr/>
          <p:nvPr/>
        </p:nvPicPr>
        <p:blipFill>
          <a:blip r:embed="rId2">
            <a:lum contrast="24000"/>
          </a:blip>
          <a:stretch/>
        </p:blipFill>
        <p:spPr>
          <a:xfrm rot="376200">
            <a:off x="0" y="4581000"/>
            <a:ext cx="2124000" cy="1841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3"/>
          <p:cNvSpPr/>
          <p:nvPr/>
        </p:nvSpPr>
        <p:spPr>
          <a:xfrm>
            <a:off x="250920" y="1268280"/>
            <a:ext cx="3960720" cy="2305080"/>
          </a:xfrm>
          <a:prstGeom prst="wedgeRoundRectCallout">
            <a:avLst>
              <a:gd name="adj1" fmla="val -8476"/>
              <a:gd name="adj2" fmla="val 98347"/>
              <a:gd name="adj3" fmla="val 16667"/>
            </a:avLst>
          </a:prstGeom>
          <a:solidFill>
            <a:srgbClr val="ffff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跑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田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里问老牛：“老牛爷爷，怎样才能快乐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716360" y="1197000"/>
            <a:ext cx="4032360" cy="2303280"/>
          </a:xfrm>
          <a:prstGeom prst="wedgeRoundRectCallout">
            <a:avLst>
              <a:gd name="adj1" fmla="val -71259"/>
              <a:gd name="adj2" fmla="val 80944"/>
              <a:gd name="adj3" fmla="val 16667"/>
            </a:avLst>
          </a:prstGeom>
          <a:solidFill>
            <a:srgbClr val="ffff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老牛说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帮助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耕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田地，就快乐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未标题-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250920" y="981000"/>
            <a:ext cx="3960720" cy="2303640"/>
          </a:xfrm>
          <a:prstGeom prst="wedgeRoundRectCallout">
            <a:avLst>
              <a:gd name="adj1" fmla="val 38777"/>
              <a:gd name="adj2" fmla="val 85217"/>
              <a:gd name="adj3" fmla="val 16667"/>
            </a:avLst>
          </a:prstGeom>
          <a:solidFill>
            <a:srgbClr val="adf1f1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跑到池塘边问青蛙：“青蛙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哥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怎样才能快乐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859280" y="1052640"/>
            <a:ext cx="3889440" cy="2447640"/>
          </a:xfrm>
          <a:prstGeom prst="wedgeRoundRectCallout">
            <a:avLst>
              <a:gd name="adj1" fmla="val -6532"/>
              <a:gd name="adj2" fmla="val 87092"/>
              <a:gd name="adj3" fmla="val 16667"/>
            </a:avLst>
          </a:prstGeom>
          <a:solidFill>
            <a:srgbClr val="adf1f1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青蛙说：“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庄稼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捉害虫，就快乐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8"/>
          <p:cNvSpPr/>
          <p:nvPr/>
        </p:nvSpPr>
        <p:spPr>
          <a:xfrm>
            <a:off x="6191280" y="3645000"/>
            <a:ext cx="2952720" cy="2160360"/>
          </a:xfrm>
          <a:prstGeom prst="wedgeRoundRectCallout">
            <a:avLst>
              <a:gd name="adj1" fmla="val -50268"/>
              <a:gd name="adj2" fmla="val 33467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E22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独立图小公鸡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987640" y="5157720"/>
            <a:ext cx="1657440" cy="143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小蜜蜂独立图片1"/>
          <p:cNvPicPr/>
          <p:nvPr/>
        </p:nvPicPr>
        <p:blipFill>
          <a:blip r:embed="rId4"/>
          <a:stretch/>
        </p:blipFill>
        <p:spPr>
          <a:xfrm rot="666600">
            <a:off x="7667280" y="4724280"/>
            <a:ext cx="1017720" cy="10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小蜜蜂独立图片2"/>
          <p:cNvPicPr/>
          <p:nvPr/>
        </p:nvPicPr>
        <p:blipFill>
          <a:blip r:embed="rId5"/>
          <a:stretch/>
        </p:blipFill>
        <p:spPr>
          <a:xfrm>
            <a:off x="5580000" y="4221000"/>
            <a:ext cx="130968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小蜜蜂独立图片1"/>
          <p:cNvPicPr/>
          <p:nvPr/>
        </p:nvPicPr>
        <p:blipFill>
          <a:blip r:embed="rId6"/>
          <a:stretch/>
        </p:blipFill>
        <p:spPr>
          <a:xfrm rot="21198000">
            <a:off x="6659640" y="4220640"/>
            <a:ext cx="1017360" cy="10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小蜜蜂独立图片1"/>
          <p:cNvPicPr/>
          <p:nvPr/>
        </p:nvPicPr>
        <p:blipFill>
          <a:blip r:embed="rId7"/>
          <a:stretch/>
        </p:blipFill>
        <p:spPr>
          <a:xfrm rot="1135200">
            <a:off x="8125920" y="5771880"/>
            <a:ext cx="1017720" cy="1085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3"/>
          <p:cNvSpPr/>
          <p:nvPr/>
        </p:nvSpPr>
        <p:spPr>
          <a:xfrm>
            <a:off x="4788000" y="1268280"/>
            <a:ext cx="4032000" cy="2448000"/>
          </a:xfrm>
          <a:prstGeom prst="wedgeRoundRectCallout">
            <a:avLst>
              <a:gd name="adj1" fmla="val -25356"/>
              <a:gd name="adj2" fmla="val 93384"/>
              <a:gd name="adj3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蜜蜂说：“飞来飞去给花儿传播花粉，就快乐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468360" y="1268280"/>
            <a:ext cx="3598920" cy="2303640"/>
          </a:xfrm>
          <a:prstGeom prst="wedgeRoundRectCallout">
            <a:avLst>
              <a:gd name="adj1" fmla="val 60143"/>
              <a:gd name="adj2" fmla="val 121125"/>
              <a:gd name="adj3" fmla="val 1666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他跑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花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中问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蜜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：“蜜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姐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怎样才能快乐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500040" y="714240"/>
            <a:ext cx="81025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跑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田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里问老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老牛爷爷，怎样才能快乐呢？”老牛说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帮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耕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田地，就快乐了。”他跑到池塘边问青蛙：“青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哥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怎样才能快乐呢？”青蛙说：“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庄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捉害虫，就快乐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跑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花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蜜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“蜜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姐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怎样才能快乐呢？”蜜蜂说：“飞来飞去给花儿传播花粉，就快乐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1816200" y="401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071720" y="185580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公鸡回到家里问爸爸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，做什么事情最快乐？为什么老牛爷爷、青蛙哥哥、蜜蜂姐姐说得不一样呢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公鸡爸爸图片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40000" y="4292640"/>
            <a:ext cx="2305080" cy="192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小公鸡独立图片3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6877080" y="4797360"/>
            <a:ext cx="1873080" cy="16369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/>
          <p:cNvSpPr/>
          <p:nvPr/>
        </p:nvSpPr>
        <p:spPr>
          <a:xfrm>
            <a:off x="214200" y="1714680"/>
            <a:ext cx="8715600" cy="1857240"/>
          </a:xfrm>
          <a:prstGeom prst="wedgeRoundRectCallout">
            <a:avLst>
              <a:gd name="adj1" fmla="val -861"/>
              <a:gd name="adj2" fmla="val 67050"/>
              <a:gd name="adj3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爸爸笑着说：“帮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别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你就会得到快乐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44:44Z</dcterms:created>
  <dc:creator/>
  <dc:description/>
  <dc:language>en-US</dc:language>
  <cp:lastModifiedBy/>
  <dcterms:modified xsi:type="dcterms:W3CDTF">2014-03-28T16:37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