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5E7-C15D-46DA-BE2B-55741EFA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556-A766-4696-9F3C-8022362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ED384-D667-4BB1-8E05-012FF515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ECA8A-7136-49CD-8E95-DF2DBE91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1620D-2C53-4092-BF11-40140FC8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0985F-2245-4A73-A107-0DF7BBA9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F75C5-48A5-4165-930B-2C5486E4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6AD6C-51A0-4992-89B8-FF88E8CA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9D50B-E398-4871-BD5E-C7E48C8F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A5ADC-703A-4439-8ED9-B9665EB7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3C4A5-9CB3-4120-9537-76E852A6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30200-1464-4EF1-B6EF-7E2B22DD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A6F-259B-414A-B5F2-5FC17BEC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79DCA-B43A-4B2A-9143-4F52FE58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1AEEC-1675-4613-90CD-146511E6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ADAB3-1E48-42C9-B512-3CC67036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A6AE5-6891-42DC-9C7E-C966C061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BE8D3-EA34-46DD-B309-7BABB264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62397-4A8D-4A0A-B4D7-973C89A7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7484F-8630-495A-8005-4BF7B39E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333CA-81E1-4E0B-BFA0-B8454FDF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67484-E696-4BDF-A174-0D5FE2A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6580A-A099-4C33-A502-D8997D49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4CF-3E4D-444B-A933-D64C5FCD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B7C94-03F3-4E27-B3BB-BD04FCE4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A22CF-6B0B-4D20-ADAB-C3E0936B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2989E-0A4F-42ED-B617-CE99ED66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68EEC-18EF-4A59-A041-8DBD50EC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E4423-A6FF-4D58-B456-6795A9A3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9C88C-6D0B-445B-8BFF-018395BF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D173A-30D0-4FD3-8B16-BE2BA999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BD54A-9C17-4E45-8C4A-F1170D04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5141E-8C45-473B-AA7C-7C100F77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4A808-6C56-4611-A0C2-D694B4A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4A87-E6D5-4691-96EB-540D102C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5D531-BFF3-4402-ADA2-7B04086C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D887E-6EBC-45BF-BCB7-4A3F678D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536CC-F893-49A1-ADF1-8BFD4CAD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9922F-BA42-45F8-97D3-040118F2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78C28-C21C-48B8-8D05-20EF2C99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B9C27-5266-4E5D-886F-C6B51512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08B2C-9676-4B69-8AFA-F0D56EE0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0DB71-BE2D-4979-A621-DF226C18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A485C-B6AA-438C-B2AE-8758CBD1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1780F-8159-4064-A1CF-E89F29B5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98DE-B5F7-4CEB-89F7-C6531362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7BB39-6A9D-4E62-817C-45A4FC7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20BE5-62A3-49A3-9FA0-AE84FEDA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7ECDE-E77B-4B5B-ACE1-A5009CE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3A569-627E-4F57-A252-A4FC72E7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5C362-E920-40EE-8A1E-7FC81EF7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988B-15A5-404E-B848-13F33881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6EBA-B8B1-4E18-BA76-255D88D5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076E-24D9-48F1-9507-4A6FC92D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4785-BEF4-4D0A-AE20-D911CDB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0D1E-5130-4B7B-BB3F-873770B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F02-2305-4B15-B582-D027191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570E-A9F5-4A52-84CB-D60C1ED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F08F-CD13-49B6-886A-03FCE9FD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02A3-D0A3-45FC-8DFE-9D2B0754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FF1F-EAD3-434E-BEBB-CEA8E228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3DAF-A527-4091-8B81-F92557E6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6E1A-C79D-4A62-971F-6248E3B5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67FC-E48D-4ECF-A1D2-EAA18DB4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DD27-2F97-4439-8545-268CE9A7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0085-69A6-4EB2-A1AA-E69ED3CE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1988-09DF-45AA-8955-62955B6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88D-00B7-4672-AF88-9773AE31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06D5-AFBA-49AB-8258-FCDF7CC1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552C-07AE-41C6-A030-0CC59BA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415E-E049-492B-B8C7-9403D21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F3A1-EB07-43FB-918A-F2A1C35B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4575-5A9A-4797-8F7C-AD4200AC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D707-0B2B-45CD-9230-933B167E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9FCB-FAC2-4330-9B27-2F8BFFF1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5F5AD-27C7-433C-9A12-784D34F8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97DD-E019-426F-B799-566360B3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A8E67-49AD-4353-9110-B698A34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207-EF59-4D11-BCE2-319D4039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D408-8407-45A7-AE6A-BC287AEE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53B9D-E96D-4FC4-9333-C4AEF6DB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7EF6-7BFB-4798-A988-7BD052E0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04BD-FC70-4F34-9659-CF3B5C62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FC1E-FD50-489C-8DB1-4A402378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18B5-BD66-443F-8EDF-2F5DB84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84E6-7987-4FAB-A477-7B40F0E6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E3E9-029C-4A83-8847-17C4A470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23ED-4C3C-4D13-B653-5CAF5157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F2D1C-768A-4989-83AB-13F3BBB9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8B1-AD8E-4867-937C-84B2EEE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B7262-6495-4C69-9FA9-E1C036DD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3E0D8-B257-4752-BDF3-558CCCE6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2936-6D10-4D62-B3FA-CA570393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72BE0-1A42-44C8-BBBA-E778853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DFFA-35B1-401B-84BA-B7976C4F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26A4-B715-4E6C-9281-B05BEC27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8C053-246B-4B61-9DBB-77298068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6DAB-0274-465D-BE03-FC6A314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FC974-CEE5-48DF-BFFE-96A31352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BF0B-0288-4F9E-9474-673B1CF2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F5A-F248-42A5-9394-264AB614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22A6-C3D9-46D6-B381-D9FF34CB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85C68-3717-4570-8D26-83B3A36E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863B-9DB4-4BA6-A734-A07C0C6B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9051E-E57B-4AA0-9C12-40887E52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121B4-D234-44BC-955B-3BCD62A6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BF97B-45D8-4613-8E6A-AF135E85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C7AE-D446-4F13-9C0B-56E0C478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1A316-6C9D-499E-82AA-C9F3487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FA480-9C78-47EA-B34A-17B8046E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089C-6AA5-4E0E-9FA5-3417864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731-4FC9-4112-B346-E63C285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E3B7-C504-4710-9FDC-8A37F499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9A6AA-95FA-4606-8CF8-4A72115A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8C6D-CE70-4F14-AD10-C794D5AC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35389-829A-4E6F-A26B-3489E3B9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4BC3-DAEC-4AE2-B95A-8C4EA76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4366-B53E-4397-A31B-918959B8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26EF4-0E38-4BF8-89CE-4F6BE08F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0DA88-9D06-4A94-9583-4677B9E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76893-B823-43F0-8994-7181E00C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499B6-9A72-4E73-AB55-193E0EAC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2FC-6CC8-4ACF-ACAC-1EF79CB5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2217-F0C3-4059-A125-043A3669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871EF-5666-4B9A-929D-3E1B386B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6BD0-9DEE-46E7-9597-BD2871D7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68D3E-1E2F-41AD-A2CA-C9BA9D96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F13FA-5DC0-4C48-A0BE-4A28BAAB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9BD80-E165-4B1F-9243-1C3CACF1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CCE46-FB67-4B58-8F60-A7135C93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E9A7A-0748-4017-A0CB-EDFDCB86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D7DD0-B45C-4734-A2A1-00689C68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9B83F-3E61-4A77-B222-7C016005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9FA-4657-4F6F-80FA-D55B4F2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1E2D0-48A2-4601-B23D-46A9AA30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AC848-B3DF-4BE3-9877-AC652B9C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9548C-AAE3-41CA-8811-F1F7279B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DAF70-9A74-46B6-9FD3-6ED53C35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3ACDC-EE4C-4468-9D9F-A92678AD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7DFC-3A08-49D3-BE5B-F71C342E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F3E04-91DE-4718-BDD6-E9BCD76F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A1FB9-0611-4D45-9E84-216483A3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C9E88-7F4C-4FE4-A89B-B3DF12D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0588E-F0D3-49AD-87FD-872BC5E2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E5F3-7A52-4F86-B961-0AC80FCE0896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接连接符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椭圆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椭圆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6E5F-A8B1-4B96-9818-C683675E5EBB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4D44-A703-48BD-8371-50C311BA6FE3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F07A-31EF-4B22-BFB2-D90A73C7C114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F3D7-1EF3-4D03-9059-50E4E7BF65E7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94BB-44B3-4325-80F2-4B8A89C822CB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D89F-2408-4C26-978B-73546C069C05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67B-4DF0-408D-825C-812672FF633C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直接连接符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713B-7349-462B-888B-F05A9CABEFCA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825B-67B7-4A0A-A19A-E366E19C837E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E27B-5706-4A0A-BF67-33AC6BCC3C76}" type="slidenum"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CD9C-5EC8-434F-88BB-1A44FD20E2AB}" type="slidenum">
              <a:rPr b="0" lang="zh-CN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6" descr="看星星.jpg"/>
          <p:cNvPicPr/>
          <p:nvPr/>
        </p:nvPicPr>
        <p:blipFill>
          <a:blip r:embed="rId1"/>
          <a:srcRect l="0" t="0" r="0" b="6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WordArt 3"/>
          <p:cNvSpPr txBox="1"/>
          <p:nvPr/>
        </p:nvSpPr>
        <p:spPr>
          <a:xfrm>
            <a:off x="468360" y="274680"/>
            <a:ext cx="8218440" cy="286704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问银河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13840" y="1785600"/>
            <a:ext cx="9541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银河，银河，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请你告诉我：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你离我们有多远，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为什么大家都叫你“河”？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57120" y="18572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银河，银河，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请你告诉我：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你那里有没有长着胡子的小虾？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有没有穿着硬壳衣服的田螺？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长着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________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的小虾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穿着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________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的田螺</a:t>
            </a:r>
            <a:br>
              <a:rPr sz="6600"/>
            </a:b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3674520" y="1943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胡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3279240" y="2997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硬壳衣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468360" y="4292640"/>
            <a:ext cx="7991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1000080" y="1999800"/>
            <a:ext cx="8748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_______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银河银河，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你那里有没有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_____ 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571320" y="1642680"/>
            <a:ext cx="9901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银河，银河，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请你告诉我：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你那里有没有春夏秋冬？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有没有日出日落？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574200" y="1571400"/>
            <a:ext cx="964404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银河，银河，</a:t>
            </a:r>
            <a:endParaRPr b="0" lang="en-US" sz="4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请你告诉我：</a:t>
            </a:r>
            <a:endParaRPr b="0" lang="en-US" sz="4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你什么时候向我们发出邀请，</a:t>
            </a:r>
            <a:endParaRPr b="0" lang="en-US" sz="4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让我们乘着飞船到你那里做客？</a:t>
            </a:r>
            <a:endParaRPr b="0" lang="en-US" sz="4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914400" y="17859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银河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银河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请你告诉我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__________________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__________________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999720" y="2286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银河，银河，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你</a:t>
            </a: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能不能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告诉我？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142920" y="142848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银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河     春</a:t>
            </a: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夏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秋冬       </a:t>
            </a: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离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开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小</a:t>
            </a: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虾      乘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着     日出日</a:t>
            </a: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落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时</a:t>
            </a: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候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邀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请      </a:t>
            </a: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硬壳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85880" y="178560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银    夏   离    虾   乘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硬壳  落   候    邀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闪    远   没    那  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胡    客   能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417840" y="2881440"/>
            <a:ext cx="225756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216000" y="29286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你那里有没有长着胡子的小虾？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有没有穿着硬壳衣服的田螺？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宋体"/>
                <a:ea typeface="宋体"/>
              </a:rPr>
              <a:t>          </a:t>
            </a:r>
            <a:r>
              <a:rPr b="1" lang="zh-CN" sz="4800" spc="-1" strike="noStrike">
                <a:solidFill>
                  <a:srgbClr val="ff3399"/>
                </a:solidFill>
                <a:latin typeface="宋体"/>
                <a:ea typeface="宋体"/>
              </a:rPr>
              <a:t>硬 壳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99680" y="3643200"/>
            <a:ext cx="8032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d16349"/>
                </a:solidFill>
                <a:latin typeface="Georgia"/>
              </a:rPr>
              <a:t>     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785880" y="34290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时候    邀请</a:t>
            </a:r>
            <a:br>
              <a:rPr sz="4800"/>
            </a:b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乘着飞船       做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5"/>
          <p:cNvSpPr/>
          <p:nvPr/>
        </p:nvSpPr>
        <p:spPr>
          <a:xfrm>
            <a:off x="358920" y="501480"/>
            <a:ext cx="87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你什么时候向我们发出邀请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让我们乘着飞船到你那里做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夏日的夜空，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有条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的银河。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2571840" y="2357280"/>
            <a:ext cx="21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闪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7:52:28Z</dcterms:created>
  <dc:creator/>
  <dc:description/>
  <dc:language>en-US</dc:language>
  <cp:lastModifiedBy/>
  <dcterms:modified xsi:type="dcterms:W3CDTF">2014-03-28T03:04:0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