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0AD-D578-450F-AD22-5EBE963D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B90-05EE-4993-810C-7706C559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00A56-AE21-4026-854A-D2341971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5A381-55BB-4EF8-8047-428D82CA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D9B15-2CC9-4984-93D5-AAED2050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D6843-3959-4DB2-AAE3-9EDEBF0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74EF3-06B6-4D62-952E-FF1F4B1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88AE2-55B7-4E7A-B564-F7CA1AD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43825-3F35-4590-B01F-3B824DF0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56A5-85D7-45A4-835D-4389CBB3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60456-5FA7-4D53-A662-1993DF7E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5516B-0740-4414-8B85-86E17295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731-6EBF-423F-A53A-11BF833B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DBF4F-D8CD-4CBC-B06F-2365741A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3BE97-FBDB-4E9E-B2DE-34C1DCE8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ADD50-BF46-40C7-A02E-7958D249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750AD-5EE7-4212-BD94-D6AF0DEB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A80C6-6E7D-429A-B803-1184EA9E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A6CC3-C53D-48AF-BA4A-7D9D143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8053C-ED72-409D-8091-8668518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D279B-F76D-4BA0-AAEB-4D88374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1CFAF-6234-438A-97B1-3644720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651DD-46C7-4980-9479-20F61FBC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F4D-5A0A-4CCD-B3DC-5193C606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64BBD-B82E-4396-8C3A-3DF1DE83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35FF47-8747-484E-BE01-D4317FD0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54B04A-E3D2-4C60-B0A5-F2149074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B75ECC-2DF5-4384-A09F-4389A1FB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6A727C-165E-45C2-BA55-DB60064A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8C5AE2-2FB6-4E8B-A918-554D6BCA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8158DA-399E-4611-8723-9FB55514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FBC5A9-F190-43BC-9C96-2B42261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5CB8CC-5131-4950-8936-C28D912A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EF7525-2CEA-433F-839A-1A5B0EB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7DF9-DE0B-4DE2-B42F-57A495B4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D41A78-FEA0-4EB9-AF01-5D5B24F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9C1CF1-6DCB-464B-851C-B60EBCFA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9A07AC-4E1A-473C-AD6A-692A4BD6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E6E34-A220-4023-AF3C-6F6670F0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F58D1-EA68-437A-9F8B-E066856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6C587-67AB-4676-9B34-C75F0F37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F8B38-D381-4433-A730-02FFDC8C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DD36E-9B94-4360-9619-919C10F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3E2BF-8026-48F4-B7D3-B598C8C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FD9A3-333E-4583-86D5-C9DCFDA3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1F92-A780-41E4-A8EF-F07C90D9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F542C-4539-4E74-86CB-8145384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A0C69-E102-4F55-A7FC-E1EB862D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A383D-93E6-4BCE-8757-67F04EB6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5CFD5-31D1-4E07-87DE-D3563A0A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F2BBD-2418-42E2-A3CF-0859C432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6A40F-8C33-48CA-B4E7-1E58530C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2024A-BF42-4165-8451-EC90A1E7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99270-7BB4-47ED-A8E7-769578E4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B6F22-F5C4-46E3-A8AB-A5D55274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282BB-7656-404E-B9C7-C13F87D6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4520-88DF-4247-BEC7-ECE6A099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DAE47-C1F5-4EDD-B39B-FE59752D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C4B59-790F-4993-82A0-9F7B396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17658-FF3B-457B-80A6-D554BF7F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3AC05-2D39-4542-8FEF-6454D094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025A0-6267-4730-9DF2-9294B7B9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B3675-7CAC-4E66-BDCE-17E26C1E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76455-121B-4FE1-A929-A6F771C7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0A5603-54A7-47D1-A38E-CB1E0871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2881D6-806F-4677-B5A9-B94682D2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2F2FF4-58FA-4FD5-85EE-2020034E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1071-3268-455B-BE8D-C3F472DB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A604C1-F931-4702-8D50-150AB01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A19D90-C48B-40A5-9E73-9CC284F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8F4ABB-EB0F-43E0-B4D9-744E4AE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F7311B-AA62-4F6E-BA78-A44E2BF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C50BDB-B9F5-4482-98CB-D63A3B8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2E3829-A219-42CE-A60C-2ECD482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6BDBB7-0D28-49D1-B39D-2CB81886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84DD4B-D457-4DD8-AB8E-680779F0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37EFCF-87A3-4FE4-8F80-3425CEEC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C61C-85B7-499F-9ACF-B7BEB7C0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3DF2-79B4-4C24-9590-0A6285DA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87AF-98ED-4724-98C3-4AD9722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55E-3096-4D23-BC00-0567B5A8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2934-2927-412B-8B26-DA87C00E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E12B-8ABD-4E9A-9A90-6D17E6BD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044F-6A24-4D9E-B112-3085D29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1ED7-ED82-45CB-A25A-D0518E6B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20C0-218F-4B66-B82B-456FADE1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493E-BE3B-49DE-8C01-6121AB07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6B2A-F0BB-47A8-B359-BD1E9A5E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4345-0CCD-481D-A5C6-4F833B3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CB3F-E8F7-4D84-8780-F13EE51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177B-0B1F-4A4B-97D7-A98A551F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77F-BE5B-410A-8E80-BDADF28D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CFD4-05DB-4EC6-8F8C-FEC414D4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5739-DF2F-4C0A-B706-C0DC7CA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B890-DAB5-4ABC-8306-E6CD6F7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62CC-B3DF-4392-886D-43941030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D960-F42B-4B62-8EB2-D1B9E3D0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0C99-B7AE-4A23-877C-4901F998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E3D0-3828-4B33-AEB8-734171B2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6A51-30A1-4B90-A59D-DE448D92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C99AE-F630-4634-90C7-FF680B0A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05DD-17E8-4DB7-A906-196FF50C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465-1D9D-4E36-9314-06D3A734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1882-766E-428D-9E90-446B98F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7358-A011-43FA-95EA-F3C1D1CD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F1FD-FFDA-433B-A049-7B8C6FAD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B137-390D-481C-9062-44867D2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6A0A-EC84-4EAD-8A83-94580E6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B13C-B137-4C95-8217-54ACC857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E88D1-3BB9-4675-AB6D-C939F72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70564-A922-41A5-B105-D3312A00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5631-418B-4335-8738-D6D5B187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B230-8F00-451E-A4ED-1FD20904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288-7E26-4012-98B1-C4641A76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A0B7-6516-4ADA-8E68-34FB430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ADD3-C652-4023-ABFB-8BF7B564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532EF-F315-497E-8E10-ED7539BA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5FCE-A140-4835-BFC7-06ACB6AD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034C-038C-40B1-ACC2-88D79D9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E9D24-849A-4DF7-A797-4219A44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5F620-D4ED-4199-A61F-EDD8B84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2523-8402-4658-99F1-9A478E6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7379-09D1-4E29-A6DA-B81CF053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1058-9F8A-4589-AEE7-2D38FE30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291-44A3-4AEC-BAD4-47DB1DC7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1F27-85F4-4EEE-A8CA-CC2E6A85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EA95-E193-458B-8005-184453BD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1CAA-67DE-4AD9-91BE-3BD59025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B864-A1B0-443B-B4CC-11C98CC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1527-9AFC-4211-9043-FA9A863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418D-337D-48D1-8BCC-D9A04DC8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A2F1-11DD-48DF-A03C-84A325D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1849-C2B1-4380-B1BD-028A735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A99C6-91BC-40F8-B79A-BEDA322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523F-3D2E-4D2C-B674-C56D4AA8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445-C6FB-48A6-9C39-5DE67D57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3A97-3CC6-4AB2-9C93-0E602115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05C6-80BB-44B9-8925-61C76822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4C559-0E6E-42F0-A834-71E6EDF1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CE3E-B9C0-4DDC-8731-AA863819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3FBDC-494A-4F0A-BA08-3DFC3EFF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6239-9D36-4272-855B-75A72A5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D5DB4-6C05-4862-8F0F-8200B77F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F406D-653C-439F-9412-7B34F72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0F6C8-22D4-4F0E-86E8-8317E892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DA14-52B6-4271-A10F-E8B2FF7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939-2A1A-4575-9E8D-888AA4E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9444-1AF0-4725-8009-E44391C2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CB714-21E3-4EBD-9104-67A3F73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B5FF8-1A6E-4956-8F56-BC711F5E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CEF13-8A38-4E5A-97F9-2133D4BD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22D23-B7BE-4AF4-BDB2-E22B7EB4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68E3-C214-4D91-A232-3FA7C219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2E344-EB87-442D-8EB7-3D7187A4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4B83-9DB5-4A30-B5F9-A1E65183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0AFC1-38F1-4176-B504-5ADF564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CA91A-02B0-4752-AEE6-E6870F1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B6A-8B85-4078-88BD-831F185B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C8B32-911A-457D-BAB3-51F9F575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B3FD8-C832-4253-AEF7-9138B5A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BCC3B-67E7-4892-BF91-560EBA4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9112E-631B-433F-B57A-7CF6C88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A95FA-9BC5-4679-A0C1-A1AC946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F9BFB-19B6-4CCF-92E1-19A9DFD8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FD0E6-940E-4CBF-99F4-14346B77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7A0A1-5DC0-4743-8305-143733F7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5692C-7FB0-4AC8-B9EF-3DB8F8D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F718-607B-48D8-B6D6-7B2AE3B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D200-46EB-4F7F-9911-67A719D56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矩形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矩形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5204-C56D-49E5-A2B4-C3072AC24B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矩形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矩形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直接连接符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椭圆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椭圆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395D-17AE-4F73-AFAD-99AC6412E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直接连接符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矩形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矩形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矩形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矩形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矩形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椭圆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椭圆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矩形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6C6A-522E-436E-B043-C8DB16B7C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9E4-B77A-4BA7-B41A-16887552C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矩形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矩形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矩形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直接连接符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椭圆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椭圆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D239-2AE8-4473-ABD5-D8210E21C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B836-12B9-4E97-A094-0AACB0FBC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BAD-E52B-4954-8A4A-E0786F739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矩形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矩形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直接连接符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矩形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椭圆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椭圆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494C-76E9-4DF9-AF8F-9785E21EA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C29-57FF-4A87-A3DE-9514DE84C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矩形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矩形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矩形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矩形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直接连接符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椭圆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椭圆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5E7F-8B28-4F8B-B4DD-FAD428622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直接连接符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F358-5DA9-4B09-B28D-B2DF66685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直接连接符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矩形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矩形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矩形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矩形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矩形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直接连接符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矩形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椭圆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椭圆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F0ED-CD8A-4798-B580-040A84191E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SzPct val="8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7AB-830C-4822-A46F-90B404531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5"/>
          <p:cNvSpPr/>
          <p:nvPr/>
        </p:nvSpPr>
        <p:spPr>
          <a:xfrm>
            <a:off x="1928880" y="71424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想飞的乌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图片 6" descr="小乌龟2.jpg"/>
          <p:cNvPicPr/>
          <p:nvPr/>
        </p:nvPicPr>
        <p:blipFill>
          <a:blip r:embed="rId1"/>
          <a:stretch/>
        </p:blipFill>
        <p:spPr>
          <a:xfrm>
            <a:off x="2071800" y="2143080"/>
            <a:ext cx="4786200" cy="3722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3"/>
          <p:cNvSpPr/>
          <p:nvPr/>
        </p:nvSpPr>
        <p:spPr>
          <a:xfrm>
            <a:off x="1905120" y="1752480"/>
            <a:ext cx="541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方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3"/>
          <p:cNvSpPr/>
          <p:nvPr/>
        </p:nvSpPr>
        <p:spPr>
          <a:xfrm>
            <a:off x="1905120" y="1752480"/>
            <a:ext cx="541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哪儿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838080" y="83808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乌龟问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447920" y="283356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们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4952880" y="83808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很美丽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5410080" y="2819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地方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352680" y="466236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哪儿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447920" y="6094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问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1752480" y="2681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5638680" y="60948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很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5410080" y="26668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地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3581280" y="44956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哪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3" descr="C:\Documents and Settings\wangliping\桌面\Doc1.files\image001.jpg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533520" y="70956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鸟想出了一个办法。他们让乌龟叼着一根棍子，两只小鸟叼着棍子的两端。于是，小鸟带着乌龟飞起来了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乌龟很高兴，他喜欢飞的感觉。小鸟越飞越高，白云在乌龟身边飘着，风儿从他耳边吹过。下面是绿色的田野，蓝色的小河，地上的房子都变得很小很小。乌龟开心极了，忍不住喊起来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太美了！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”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3"/>
          <p:cNvSpPr/>
          <p:nvPr/>
        </p:nvSpPr>
        <p:spPr>
          <a:xfrm>
            <a:off x="1981080" y="1523880"/>
            <a:ext cx="5639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兴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3"/>
          <p:cNvSpPr/>
          <p:nvPr/>
        </p:nvSpPr>
        <p:spPr>
          <a:xfrm>
            <a:off x="1981080" y="1523880"/>
            <a:ext cx="5639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耳边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3"/>
          <p:cNvSpPr/>
          <p:nvPr/>
        </p:nvSpPr>
        <p:spPr>
          <a:xfrm>
            <a:off x="1981080" y="1523880"/>
            <a:ext cx="5639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开心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762120" y="1523880"/>
            <a:ext cx="7848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喊起来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3124080" y="8380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猜谜语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3048120" y="2346480"/>
            <a:ext cx="3124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身穿硬壳袍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缩头又缩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水里四脚划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岸上慢慢爬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1219320" y="12952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兴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219320" y="35812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开心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5029200" y="12952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耳边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4724280" y="351936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喊起来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47920" y="12193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让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3809880" y="12193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兴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6095880" y="12193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耳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2438280" y="35956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开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4876920" y="35956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喊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3" descr="C:\Documents and Settings\wangliping\桌面\Doc2.files\image001.png"/>
          <p:cNvPicPr/>
          <p:nvPr/>
        </p:nvPicPr>
        <p:blipFill>
          <a:blip r:embed="rId2"/>
          <a:srcRect l="2498" t="0" r="3336" b="87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838080" y="153504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乌龟从天上掉下来了！他重重地掉在地上，光滑的壳上摔出了好多裂纹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此以后，乌龟的壳就成了现在的样子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3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2"/>
          <p:cNvSpPr/>
          <p:nvPr/>
        </p:nvSpPr>
        <p:spPr>
          <a:xfrm>
            <a:off x="685800" y="15238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重重地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3"/>
          <p:cNvSpPr/>
          <p:nvPr/>
        </p:nvSpPr>
        <p:spPr>
          <a:xfrm>
            <a:off x="685800" y="15238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掉下来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3"/>
          <p:cNvSpPr/>
          <p:nvPr/>
        </p:nvSpPr>
        <p:spPr>
          <a:xfrm>
            <a:off x="685800" y="15238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以后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6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7"/>
          <p:cNvSpPr/>
          <p:nvPr/>
        </p:nvSpPr>
        <p:spPr>
          <a:xfrm>
            <a:off x="685800" y="15238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在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2209680" y="129528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重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5486400" y="129528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掉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2209680" y="37782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以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5486400" y="37782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F:\北师大\14 梦想\想飞的乌龟\媒体素材\课件类\《想飞的乌龟》插图5.jpg"/>
          <p:cNvPicPr/>
          <p:nvPr/>
        </p:nvPicPr>
        <p:blipFill>
          <a:blip r:embed="rId2"/>
          <a:srcRect l="2497" t="13908" r="3333" b="10169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3"/>
          <p:cNvSpPr/>
          <p:nvPr/>
        </p:nvSpPr>
        <p:spPr>
          <a:xfrm>
            <a:off x="2666880" y="5073480"/>
            <a:ext cx="411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   写   字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3" descr="F:\北师大\14 梦想\想飞的乌龟\媒体素材\图形图像类\鳄龟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4"/>
          <p:cNvSpPr/>
          <p:nvPr/>
        </p:nvSpPr>
        <p:spPr>
          <a:xfrm>
            <a:off x="11430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鳄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4" name="Picture 5" descr="F:\北师大\14 梦想\想飞的乌龟\媒体素材\图形图像类\黄额盒龟2.jpg"/>
          <p:cNvPicPr/>
          <p:nvPr/>
        </p:nvPicPr>
        <p:blipFill>
          <a:blip r:embed="rId3"/>
          <a:stretch/>
        </p:blipFill>
        <p:spPr>
          <a:xfrm>
            <a:off x="4572000" y="-6480"/>
            <a:ext cx="4572000" cy="34354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6"/>
          <p:cNvSpPr/>
          <p:nvPr/>
        </p:nvSpPr>
        <p:spPr>
          <a:xfrm>
            <a:off x="6172200" y="2666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黄额盒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6" name="Picture 7" descr="F:\北师大\14 梦想\想飞的乌龟\媒体素材\图形图像类\黄缘盒龟.jpg"/>
          <p:cNvPicPr/>
          <p:nvPr/>
        </p:nvPicPr>
        <p:blipFill>
          <a:blip r:embed="rId4"/>
          <a:stretch/>
        </p:blipFill>
        <p:spPr>
          <a:xfrm>
            <a:off x="4572000" y="3430440"/>
            <a:ext cx="4572000" cy="342756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8"/>
          <p:cNvSpPr/>
          <p:nvPr/>
        </p:nvSpPr>
        <p:spPr>
          <a:xfrm>
            <a:off x="7086600" y="6095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黄缘盒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8" name="Picture 11" descr="F:\北师大\14 梦想\想飞的乌龟\媒体素材\图形图像类\美国泥龟.jpg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12"/>
          <p:cNvSpPr/>
          <p:nvPr/>
        </p:nvSpPr>
        <p:spPr>
          <a:xfrm>
            <a:off x="1066680" y="6172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美国泥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 rot="5400000">
            <a:off x="3174840" y="2641680"/>
            <a:ext cx="3121200" cy="1628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762120" y="1523880"/>
            <a:ext cx="79246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  走  你  们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  方  前  以  后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F:\北师大\14 梦想\想飞的乌龟\媒体素材\图形图像类\卡尔斯巴香龟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3"/>
          <p:cNvSpPr/>
          <p:nvPr/>
        </p:nvSpPr>
        <p:spPr>
          <a:xfrm>
            <a:off x="4038480" y="317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卡尔斯巴香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4" descr="F:\北师大\14 梦想\想飞的乌龟\媒体素材\图形图像类\丽香龟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5"/>
          <p:cNvSpPr/>
          <p:nvPr/>
        </p:nvSpPr>
        <p:spPr>
          <a:xfrm>
            <a:off x="7772400" y="6172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丽香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Picture 6" descr="F:\北师大\14 梦想\想飞的乌龟\媒体素材\图形图像类\锦龟.jpg"/>
          <p:cNvPicPr/>
          <p:nvPr/>
        </p:nvPicPr>
        <p:blipFill>
          <a:blip r:embed="rId4"/>
          <a:stretch/>
        </p:blipFill>
        <p:spPr>
          <a:xfrm>
            <a:off x="0" y="3421080"/>
            <a:ext cx="4572000" cy="343692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7"/>
          <p:cNvSpPr/>
          <p:nvPr/>
        </p:nvSpPr>
        <p:spPr>
          <a:xfrm>
            <a:off x="4038480" y="358128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锦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6" name="Picture 8" descr="F:\北师大\14 梦想\想飞的乌龟\媒体素材\图形图像类\十字龟.jpg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108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9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十字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5" descr="C:\Documents and Settings\wangliping\桌面\Doc2.files\image001.jpg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3"/>
          <p:cNvSpPr/>
          <p:nvPr/>
        </p:nvSpPr>
        <p:spPr>
          <a:xfrm>
            <a:off x="1828800" y="13716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飞的乌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304920" y="304920"/>
            <a:ext cx="86104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前，有一只乌龟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天，乌龟听见一群小鸟在喊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走吧！我们快走吧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乌龟问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们要去哪儿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鸟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要去一个很美丽的地方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乌龟问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能和你们一起去吗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鸟说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你不会飞啊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乌龟很伤心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3"/>
          <p:cNvSpPr/>
          <p:nvPr/>
        </p:nvSpPr>
        <p:spPr>
          <a:xfrm>
            <a:off x="1219320" y="18288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乌龟问</a:t>
            </a:r>
            <a:endParaRPr b="0" lang="en-US" sz="1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3"/>
          <p:cNvSpPr/>
          <p:nvPr/>
        </p:nvSpPr>
        <p:spPr>
          <a:xfrm>
            <a:off x="1905120" y="1600200"/>
            <a:ext cx="5333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们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3" descr="F:\素材库\黑模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4"/>
          <p:cNvSpPr/>
          <p:nvPr/>
        </p:nvSpPr>
        <p:spPr>
          <a:xfrm>
            <a:off x="1295280" y="1752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很美丽</a:t>
            </a:r>
            <a:endParaRPr b="0" lang="en-US" sz="1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55:07Z</dcterms:created>
  <dc:creator/>
  <dc:description/>
  <dc:language>en-US</dc:language>
  <cp:lastModifiedBy/>
  <dcterms:modified xsi:type="dcterms:W3CDTF">2014-03-28T02:06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