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3D9D-8AE3-44AF-90D8-31C8DA737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621C-7326-47C4-BCD5-49C8D06B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E384-9121-4819-BDA9-2C32DAA8F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E84A-B111-4910-84AF-EE01C5FBD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0248-A463-4614-9BE8-60B95A6C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6360-DDD0-49C5-B14D-78C5122F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4D22-D60D-4F89-8BDF-6750D2C7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43AB-8953-45BD-A3D2-AF619BC8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09A5-B34F-4975-B800-9EEBE8D8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FD47-C9EB-452B-B574-648AE109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92D5-EBC1-4F2C-BB14-723CCBF6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5D4B-DAD1-4D3A-8B7F-433378E9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B5AC-5101-494C-AB6B-7B5FEED02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004822151428499"/>
          <p:cNvPicPr/>
          <p:nvPr/>
        </p:nvPicPr>
        <p:blipFill>
          <a:blip r:embed="rId2">
            <a:lum bright="24000"/>
          </a:blip>
          <a:srcRect l="0" t="0" r="0" b="609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2771640" y="2347920"/>
            <a:ext cx="45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cc33"/>
                </a:solidFill>
                <a:latin typeface="Arial"/>
                <a:ea typeface="楷体_GB2312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小山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200406221715066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学校门前，有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一条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小河，河水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清澈见底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有时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能看到小鱼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游来游去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332000" y="17733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u=310327245,3581532330&amp;gp=0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6877080" y="1268280"/>
            <a:ext cx="1297080" cy="1270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u=1588893110,1407759546&amp;gp=1"/>
          <p:cNvPicPr/>
          <p:nvPr/>
        </p:nvPicPr>
        <p:blipFill>
          <a:blip r:embed="rId3">
            <a:lum bright="30000"/>
          </a:blip>
          <a:stretch/>
        </p:blipFill>
        <p:spPr>
          <a:xfrm>
            <a:off x="2627280" y="1484280"/>
            <a:ext cx="1584360" cy="1225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u=1999253754,1426967669&amp;gp=0"/>
          <p:cNvPicPr/>
          <p:nvPr/>
        </p:nvPicPr>
        <p:blipFill>
          <a:blip r:embed="rId4">
            <a:lum bright="42000"/>
          </a:blip>
          <a:stretch/>
        </p:blipFill>
        <p:spPr>
          <a:xfrm>
            <a:off x="755640" y="1557360"/>
            <a:ext cx="1008000" cy="941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5">
            <a:lum bright="42000"/>
          </a:blip>
          <a:stretch/>
        </p:blipFill>
        <p:spPr>
          <a:xfrm>
            <a:off x="4572000" y="1557360"/>
            <a:ext cx="1800360" cy="843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u=3715485429,1713557071&amp;gp=0"/>
          <p:cNvPicPr/>
          <p:nvPr/>
        </p:nvPicPr>
        <p:blipFill>
          <a:blip r:embed="rId6">
            <a:lum bright="42000"/>
          </a:blip>
          <a:stretch/>
        </p:blipFill>
        <p:spPr>
          <a:xfrm>
            <a:off x="684360" y="4508640"/>
            <a:ext cx="952200" cy="714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u=3715485429,1713557071&amp;gp=0"/>
          <p:cNvPicPr/>
          <p:nvPr/>
        </p:nvPicPr>
        <p:blipFill>
          <a:blip r:embed="rId7">
            <a:lum bright="42000"/>
          </a:blip>
          <a:stretch/>
        </p:blipFill>
        <p:spPr>
          <a:xfrm>
            <a:off x="2843280" y="450864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u=3715485429,1713557071&amp;gp=0"/>
          <p:cNvPicPr/>
          <p:nvPr/>
        </p:nvPicPr>
        <p:blipFill>
          <a:blip r:embed="rId8">
            <a:lum bright="42000"/>
          </a:blip>
          <a:stretch/>
        </p:blipFill>
        <p:spPr>
          <a:xfrm>
            <a:off x="4932360" y="450864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u=3715485429,1713557071&amp;gp=0"/>
          <p:cNvPicPr/>
          <p:nvPr/>
        </p:nvPicPr>
        <p:blipFill>
          <a:blip r:embed="rId9">
            <a:lum bright="42000"/>
          </a:blip>
          <a:stretch/>
        </p:blipFill>
        <p:spPr>
          <a:xfrm>
            <a:off x="7236000" y="4508640"/>
            <a:ext cx="952200" cy="7142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1"/>
          <p:cNvSpPr/>
          <p:nvPr/>
        </p:nvSpPr>
        <p:spPr>
          <a:xfrm>
            <a:off x="0" y="4292640"/>
            <a:ext cx="23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新房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2340000" y="429264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小山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4716360" y="429264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小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6588000" y="4292640"/>
            <a:ext cx="233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果树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324000" y="134136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一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2411280" y="1413000"/>
            <a:ext cx="18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一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4500720" y="134136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一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6659640" y="141300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一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85185E-006 L 0.46476 0.27801 E">
                                      <p:cBhvr>
                                        <p:cTn id="72" dur="1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96296E-006 L 0.46076 0.28842 E">
                                      <p:cBhvr>
                                        <p:cTn id="74" dur="1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96296E-006 L 0.45677 0.25717 E">
                                      <p:cBhvr>
                                        <p:cTn id="79" dur="1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48148E-006 L 0.46059 0.26319 E">
                                      <p:cBhvr>
                                        <p:cTn id="81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07407E-006 L -0.46858 0.27453 E">
                                      <p:cBhvr>
                                        <p:cTn id="86" dur="1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85185E-006 L -0.46476 0.28426 E">
                                      <p:cBhvr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037E-006 L -0.45677 0.28541 E">
                                      <p:cBhvr>
                                        <p:cTn id="93" dur="1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85185E-006 L -0.46857 0.27361 E">
                                      <p:cBhvr>
                                        <p:cTn id="95" dur="1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23b2c"/>
                </a:solidFill>
                <a:latin typeface="Arial"/>
              </a:rPr>
              <a:t>我会说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144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句：山坡上有一片果树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一条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一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抬眼望去，新修的山间公路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弯弯曲曲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，伸向远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332000" y="17733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23b2c"/>
                </a:solidFill>
                <a:latin typeface="Arial"/>
              </a:rPr>
              <a:t>分一分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144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（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家门前有一条小路，弯弯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曲曲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音乐课上我们学了很多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曲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826920" y="184464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qū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，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q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877080" y="285264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6300720" y="429264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我爱我的小山村，我爱我的家乡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332000" y="177336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2003102917331253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539640" y="2205000"/>
            <a:ext cx="3529080" cy="35686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539640" y="4005360"/>
            <a:ext cx="3529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2340000" y="2205000"/>
            <a:ext cx="0" cy="360036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356000" y="2205000"/>
            <a:ext cx="3551400" cy="35276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4356000" y="4005360"/>
            <a:ext cx="3551400" cy="14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9"/>
          <p:cNvSpPr/>
          <p:nvPr/>
        </p:nvSpPr>
        <p:spPr>
          <a:xfrm>
            <a:off x="6156360" y="2205000"/>
            <a:ext cx="0" cy="35276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658800" y="1822320"/>
            <a:ext cx="331164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0" spc="-1" strike="noStrike">
                <a:solidFill>
                  <a:srgbClr val="000000"/>
                </a:solidFill>
                <a:latin typeface="Arial"/>
                <a:ea typeface="楷体_GB2312"/>
              </a:rPr>
              <a:t>家</a:t>
            </a:r>
            <a:endParaRPr b="0" lang="en-US" sz="2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4440240" y="1832040"/>
            <a:ext cx="331164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0" spc="-1" strike="noStrike">
                <a:solidFill>
                  <a:srgbClr val="000000"/>
                </a:solidFill>
                <a:latin typeface="Arial"/>
                <a:ea typeface="楷体_GB2312"/>
              </a:rPr>
              <a:t>看</a:t>
            </a:r>
            <a:endParaRPr b="0" lang="en-US" sz="2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468360" y="62064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23b2c"/>
                </a:solidFill>
                <a:latin typeface="Arial"/>
              </a:rPr>
              <a:t>写一写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217433_1254718205onot"/>
          <p:cNvPicPr/>
          <p:nvPr/>
        </p:nvPicPr>
        <p:blipFill>
          <a:blip r:embed="rId2"/>
          <a:srcRect l="0" t="-2685" r="-380" b="0"/>
          <a:stretch/>
        </p:blipFill>
        <p:spPr>
          <a:xfrm>
            <a:off x="0" y="-60480"/>
            <a:ext cx="9144000" cy="69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20081227017209108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d63d4b2f6137de031f3089db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7"/>
          <p:cNvSpPr/>
          <p:nvPr/>
        </p:nvSpPr>
        <p:spPr>
          <a:xfrm>
            <a:off x="468360" y="1989000"/>
            <a:ext cx="2808360" cy="927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清澈见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23b2c"/>
                </a:solidFill>
                <a:latin typeface="Arial"/>
              </a:rPr>
              <a:t>读一读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片 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粉红 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山脚 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漂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学校 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有时 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远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新房子  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清澈见底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游来游去 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弯弯曲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山间公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20081227017209108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tabtyu1"/>
          <p:cNvPicPr/>
          <p:nvPr/>
        </p:nvPicPr>
        <p:blipFill>
          <a:blip r:embed="rId3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7"/>
          <p:cNvSpPr/>
          <p:nvPr/>
        </p:nvSpPr>
        <p:spPr>
          <a:xfrm>
            <a:off x="684360" y="4941720"/>
            <a:ext cx="2808000" cy="927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游来游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4028741_091034045403_2"/>
          <p:cNvPicPr/>
          <p:nvPr/>
        </p:nvPicPr>
        <p:blipFill>
          <a:blip r:embed="rId2"/>
          <a:stretch/>
        </p:blipFill>
        <p:spPr>
          <a:xfrm>
            <a:off x="0" y="0"/>
            <a:ext cx="9109080" cy="65246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6560" y="5300280"/>
            <a:ext cx="2808360" cy="92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弯弯曲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273480" y="2092320"/>
            <a:ext cx="2774880" cy="24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再见！</a:t>
            </a:r>
            <a:endParaRPr b="0" lang="en-US" sz="1800" spc="-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23b2c"/>
                </a:solidFill>
                <a:latin typeface="Arial"/>
              </a:rPr>
              <a:t>学一学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2924280"/>
            <a:ext cx="91440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片 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粉 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脚 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漂    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房 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校 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清  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底 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曲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时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间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我家    在小山村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山坡上有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一片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果树林，开满了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粉红的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桃花、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雪白的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梨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332000" y="1844640"/>
            <a:ext cx="57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059280" y="1557360"/>
            <a:ext cx="93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23b2c"/>
                </a:solidFill>
                <a:latin typeface="Arial"/>
              </a:rPr>
              <a:t>学一学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2924280"/>
            <a:ext cx="91440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亻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692360" y="292428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多与人有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39640" y="4653000"/>
            <a:ext cx="842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他、们、你、位、什、休、伯、亿、仆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1266911550540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u=1588893110,1407759546&amp;gp=1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2627280" y="1700280"/>
            <a:ext cx="1584360" cy="1225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u=1999253754,1426967669&amp;gp=0"/>
          <p:cNvPicPr/>
          <p:nvPr/>
        </p:nvPicPr>
        <p:blipFill>
          <a:blip r:embed="rId3">
            <a:lum bright="42000"/>
          </a:blip>
          <a:stretch/>
        </p:blipFill>
        <p:spPr>
          <a:xfrm>
            <a:off x="684360" y="1773360"/>
            <a:ext cx="1008000" cy="941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4">
            <a:lum bright="42000"/>
          </a:blip>
          <a:stretch/>
        </p:blipFill>
        <p:spPr>
          <a:xfrm>
            <a:off x="4284720" y="1700280"/>
            <a:ext cx="2160360" cy="1011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u=3715485429,1713557071&amp;gp=0"/>
          <p:cNvPicPr/>
          <p:nvPr/>
        </p:nvPicPr>
        <p:blipFill>
          <a:blip r:embed="rId5">
            <a:lum bright="42000"/>
          </a:blip>
          <a:stretch/>
        </p:blipFill>
        <p:spPr>
          <a:xfrm>
            <a:off x="324000" y="4581360"/>
            <a:ext cx="1439640" cy="1079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u=3715485429,1713557071&amp;gp=0"/>
          <p:cNvPicPr/>
          <p:nvPr/>
        </p:nvPicPr>
        <p:blipFill>
          <a:blip r:embed="rId6">
            <a:lum bright="42000"/>
          </a:blip>
          <a:stretch/>
        </p:blipFill>
        <p:spPr>
          <a:xfrm>
            <a:off x="2411280" y="4508640"/>
            <a:ext cx="1513080" cy="1135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u=3715485429,1713557071&amp;gp=0"/>
          <p:cNvPicPr/>
          <p:nvPr/>
        </p:nvPicPr>
        <p:blipFill>
          <a:blip r:embed="rId7">
            <a:lum bright="42000"/>
          </a:blip>
          <a:stretch/>
        </p:blipFill>
        <p:spPr>
          <a:xfrm>
            <a:off x="4788000" y="4437000"/>
            <a:ext cx="1584360" cy="11890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9"/>
          <p:cNvSpPr/>
          <p:nvPr/>
        </p:nvSpPr>
        <p:spPr>
          <a:xfrm>
            <a:off x="250920" y="4508640"/>
            <a:ext cx="18000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梨花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2268360" y="4581360"/>
            <a:ext cx="18003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桃花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0" y="1700280"/>
            <a:ext cx="27352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粉红的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1979640" y="1700280"/>
            <a:ext cx="32400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清澈的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3" descr="u=3715485429,1713557071&amp;gp=0"/>
          <p:cNvPicPr/>
          <p:nvPr/>
        </p:nvPicPr>
        <p:blipFill>
          <a:blip r:embed="rId8">
            <a:lum bright="42000"/>
          </a:blip>
          <a:stretch/>
        </p:blipFill>
        <p:spPr>
          <a:xfrm>
            <a:off x="7093080" y="4437000"/>
            <a:ext cx="1655640" cy="12416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4"/>
          <p:cNvSpPr/>
          <p:nvPr/>
        </p:nvSpPr>
        <p:spPr>
          <a:xfrm>
            <a:off x="4356000" y="1700280"/>
            <a:ext cx="28814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雪白的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4716360" y="4508640"/>
            <a:ext cx="21607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小河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6" descr="u=310327245,3581532330&amp;gp=0"/>
          <p:cNvPicPr/>
          <p:nvPr/>
        </p:nvPicPr>
        <p:blipFill>
          <a:blip r:embed="rId9">
            <a:lum bright="24000"/>
          </a:blip>
          <a:stretch/>
        </p:blipFill>
        <p:spPr>
          <a:xfrm>
            <a:off x="7093080" y="1341360"/>
            <a:ext cx="1439640" cy="14112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7"/>
          <p:cNvSpPr/>
          <p:nvPr/>
        </p:nvSpPr>
        <p:spPr>
          <a:xfrm>
            <a:off x="7093080" y="4581360"/>
            <a:ext cx="16556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公路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8"/>
          <p:cNvSpPr/>
          <p:nvPr/>
        </p:nvSpPr>
        <p:spPr>
          <a:xfrm>
            <a:off x="6659640" y="1700280"/>
            <a:ext cx="24843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弯曲的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33333E-006 L 0.23629 0.23588 E">
                                      <p:cBhvr>
                                        <p:cTn id="29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7.40741E-007 L 0.23246 0.25787 E">
                                      <p:cBhvr>
                                        <p:cTn id="31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22222E-006 L -0.44097 0.24143 E">
                                      <p:cBhvr>
                                        <p:cTn id="36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7.40741E-007 L -0.48819 0.25787 E">
                                      <p:cBhvr>
                                        <p:cTn id="38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48148E-006 L 0.22847 0.23634 E">
                                      <p:cBhvr>
                                        <p:cTn id="43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7.40741E-007 L 0.21666 0.25787 E">
                                      <p:cBhvr>
                                        <p:cTn id="45" dur="1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7037E-007 L -0.00781 0.25417 E">
                                      <p:cBhvr>
                                        <p:cTn id="50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7.40741E-007 L -0.01753 0.23681 E">
                                      <p:cBhvr>
                                        <p:cTn id="52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会说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粉红的（ ）雪白的（ ）清澈的（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弯曲的（ ）漂亮的（ ）奇妙的（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山脚下有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一座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漂亮的新房子，那是我们的学校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332000" y="17733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1T04:29:06Z</dcterms:created>
  <dc:creator/>
  <dc:description/>
  <dc:language>en-US</dc:language>
  <cp:lastModifiedBy/>
  <dcterms:modified xsi:type="dcterms:W3CDTF">2014-04-21T02:09:21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