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CB47-7C9B-4E8D-A8B2-1E0CE8CD4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7799-0EB7-40DA-860B-3BFFF8962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2007-CBD0-4227-B732-9D3BEE14C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27B8-EB6B-4E91-B89B-E953C5810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65CB-99F8-43D2-AF08-F49AB17F2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2C0E-503D-4420-A8DA-C0DF073BF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2268-F70C-4811-BFC6-3BBDF3534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015D-E9B9-463F-A265-B889A26E9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C6F-5BF3-4349-BCB0-388BF3BA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808-4EC6-43B2-8AEF-E06B39F8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BDF-1F6E-4637-9097-1B5A0B86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725-778C-4760-9C79-5EA44F00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291-01D4-4CB1-98E8-3A40902C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434-763B-4FDB-B6E1-51AC5853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AA0-4901-4601-BABF-277F671C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180-13DB-4EC1-94C1-C39FA0DD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F49-0C72-4A3F-8C7F-BD5CAC9B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04B-3B7B-4212-90C3-C989A921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EB3-C465-43BC-A0D2-046CB10F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F11-62CF-40D8-9D99-8799F0B7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A232-0F65-42D9-A1C0-4F675D0C5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图片1"/>
          <p:cNvPicPr/>
          <p:nvPr/>
        </p:nvPicPr>
        <p:blipFill>
          <a:blip r:embed="rId2"/>
          <a:stretch/>
        </p:blipFill>
        <p:spPr>
          <a:xfrm>
            <a:off x="1979640" y="-1108080"/>
            <a:ext cx="7704000" cy="919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-2213640"/>
            <a:ext cx="6870960" cy="79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72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81080" y="2637000"/>
            <a:ext cx="20541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176720" y="2763720"/>
            <a:ext cx="230328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140360" y="2997360"/>
            <a:ext cx="158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616720" y="2925720"/>
            <a:ext cx="1584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229440" y="1700280"/>
            <a:ext cx="3095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512720" y="3068640"/>
            <a:ext cx="1584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 flipH="1">
            <a:off x="1763640" y="3213000"/>
            <a:ext cx="612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>
            <a:hlinkClick r:id="rId1" action="ppaction://hlinksldjump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0" y="1890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007e"/>
                </a:solidFill>
                <a:latin typeface="Arial"/>
              </a:rPr>
              <a:t>识字方法：加一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7607880" y="2637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207360" y="2708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3645360" y="2708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2423160" y="2708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1341720" y="2708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5015520" y="2637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6310800" y="2637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3708360" y="69228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3811680" y="1413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042920" y="32846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告 </a:t>
            </a:r>
            <a:r>
              <a:rPr b="0" lang="en-US" sz="8800" spc="-1" strike="noStrike">
                <a:solidFill>
                  <a:srgbClr val="000000"/>
                </a:solidFill>
                <a:latin typeface="宋体"/>
              </a:rPr>
              <a:t>+ 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非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754280" y="260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007e"/>
                </a:solidFill>
                <a:latin typeface="Arial"/>
              </a:rPr>
              <a:t>识字方法：加一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1430280" y="260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007e"/>
                </a:solidFill>
                <a:latin typeface="Arial"/>
              </a:rPr>
              <a:t>识字方法：加一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956400" y="836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187280" y="3141720"/>
            <a:ext cx="72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氵</a:t>
            </a:r>
            <a:r>
              <a:rPr b="1" lang="en-US" sz="8800" spc="-1" strike="noStrike">
                <a:solidFill>
                  <a:srgbClr val="000000"/>
                </a:solidFill>
                <a:latin typeface="宋体"/>
              </a:rPr>
              <a:t>+ 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肖 </a:t>
            </a:r>
            <a:r>
              <a:rPr b="1" lang="en-US" sz="8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哦，是这样，我明白了。”小鸭子嘎嘎地叫着向伙伴们跑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0110304031957165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35280" y="105228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扬子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378900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小鸡一样，靠吞石块来帮助磨碎骨头和甲壳之类的硬东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f677b1c3dc733533b319a88e"/>
          <p:cNvPicPr/>
          <p:nvPr/>
        </p:nvPicPr>
        <p:blipFill>
          <a:blip r:embed="rId1"/>
          <a:stretch/>
        </p:blipFill>
        <p:spPr>
          <a:xfrm>
            <a:off x="0" y="0"/>
            <a:ext cx="4643280" cy="3213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5508720" y="7344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á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7526160" y="691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80360" y="1988640"/>
            <a:ext cx="1008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27640" y="3645000"/>
            <a:ext cx="2089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u8bFow==_gciHiJ9E25R8"/>
          <p:cNvPicPr/>
          <p:nvPr/>
        </p:nvPicPr>
        <p:blipFill>
          <a:blip r:embed="rId1"/>
          <a:stretch/>
        </p:blipFill>
        <p:spPr>
          <a:xfrm>
            <a:off x="0" y="0"/>
            <a:ext cx="4500720" cy="3589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300001140785130277835652128_950"/>
          <p:cNvPicPr/>
          <p:nvPr/>
        </p:nvPicPr>
        <p:blipFill>
          <a:blip r:embed="rId2"/>
          <a:stretch/>
        </p:blipFill>
        <p:spPr>
          <a:xfrm>
            <a:off x="4535640" y="0"/>
            <a:ext cx="4608360" cy="3573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 flipH="1">
            <a:off x="754920" y="3500280"/>
            <a:ext cx="16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258920" y="54997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四个胃室，吃下食物后，食物还能返回口中再嚼，进行充分消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未标题-3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2087640" y="944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你每天能吃饱饭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158920" y="218592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那你为什么还吃石子儿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10"/>
          <p:cNvPicPr/>
          <p:nvPr/>
        </p:nvPicPr>
        <p:blipFill>
          <a:blip r:embed="rId2"/>
          <a:stretch/>
        </p:blipFill>
        <p:spPr>
          <a:xfrm>
            <a:off x="2158920" y="4836960"/>
            <a:ext cx="2263680" cy="22640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1979640" y="1592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吃得饱饱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511280" y="270504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鸡没有牙，是把米粒整个吞下去。我们靠这些石子儿把米粒磨碎，帮助消化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3"/>
          <a:stretch/>
        </p:blipFill>
        <p:spPr>
          <a:xfrm>
            <a:off x="5184720" y="483696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2087640" y="42577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哦，是这样，我明白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3"/>
          <p:cNvPicPr/>
          <p:nvPr/>
        </p:nvPicPr>
        <p:blipFill>
          <a:blip r:embed="rId1"/>
          <a:srcRect l="6047" t="3792" r="0" b="0"/>
          <a:stretch/>
        </p:blipFill>
        <p:spPr>
          <a:xfrm>
            <a:off x="4356000" y="1773360"/>
            <a:ext cx="4788000" cy="5084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539640" y="191628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20. 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小鸭子的问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219640" y="378936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未标题-2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70040" y="4300560"/>
            <a:ext cx="1008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11280" y="1052640"/>
            <a:ext cx="75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鸭子胖胖，走起路来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摇摇晃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。他来到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院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里，看见小鸡又在吃石子儿，就关心的问：“你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天能吃饱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饭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吗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1193130162501_conew1"/>
          <p:cNvPicPr/>
          <p:nvPr/>
        </p:nvPicPr>
        <p:blipFill>
          <a:blip r:embed="rId2"/>
          <a:stretch/>
        </p:blipFill>
        <p:spPr>
          <a:xfrm>
            <a:off x="2484360" y="3716280"/>
            <a:ext cx="43927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未标题-2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1670040" y="4300560"/>
            <a:ext cx="1008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2916360" y="191628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宋体"/>
              </a:rPr>
              <a:t>摇摇晃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900000" y="3645000"/>
            <a:ext cx="781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意思：左右摇摆，不稳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37 0.00324 L -0.21163 0.00324 E">
                                      <p:cBhvr>
                                        <p:cTn id="1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未标题-2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2421000" y="3122640"/>
            <a:ext cx="706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295280" y="3122640"/>
            <a:ext cx="7066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2627280" y="1341360"/>
            <a:ext cx="3886920" cy="3599640"/>
            <a:chOff x="2627280" y="1341360"/>
            <a:chExt cx="3886920" cy="3599640"/>
          </a:xfrm>
        </p:grpSpPr>
        <p:sp>
          <p:nvSpPr>
            <p:cNvPr id="66" name="Line 6"/>
            <p:cNvSpPr/>
            <p:nvPr/>
          </p:nvSpPr>
          <p:spPr>
            <a:xfrm>
              <a:off x="2627280" y="1341360"/>
              <a:ext cx="3882240" cy="3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"/>
            <p:cNvSpPr/>
            <p:nvPr/>
          </p:nvSpPr>
          <p:spPr>
            <a:xfrm>
              <a:off x="2627280" y="4936680"/>
              <a:ext cx="38822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8"/>
            <p:cNvSpPr/>
            <p:nvPr/>
          </p:nvSpPr>
          <p:spPr>
            <a:xfrm>
              <a:off x="2627280" y="3213720"/>
              <a:ext cx="3882240" cy="3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2627280" y="1341360"/>
              <a:ext cx="3600" cy="359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0"/>
            <p:cNvSpPr/>
            <p:nvPr/>
          </p:nvSpPr>
          <p:spPr>
            <a:xfrm>
              <a:off x="6509520" y="1341360"/>
              <a:ext cx="4680" cy="359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4490280" y="1341360"/>
              <a:ext cx="3600" cy="359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20"/>
          <p:cNvSpPr txBox="1"/>
          <p:nvPr/>
        </p:nvSpPr>
        <p:spPr>
          <a:xfrm>
            <a:off x="3276720" y="1844640"/>
            <a:ext cx="25905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楷体_GB2312"/>
              </a:rPr>
              <a:t>院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楷体_GB2312"/>
              <a:ea typeface="楷体_GB2312"/>
            </a:endParaRPr>
          </a:p>
        </p:txBody>
      </p:sp>
      <p:sp>
        <p:nvSpPr>
          <p:cNvPr id="73" name="Freeform 26"/>
          <p:cNvSpPr/>
          <p:nvPr/>
        </p:nvSpPr>
        <p:spPr>
          <a:xfrm>
            <a:off x="3276720" y="2133720"/>
            <a:ext cx="218880" cy="23320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7"/>
          <p:cNvSpPr/>
          <p:nvPr/>
        </p:nvSpPr>
        <p:spPr>
          <a:xfrm>
            <a:off x="3348000" y="1989000"/>
            <a:ext cx="711360" cy="132264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8"/>
          <p:cNvSpPr/>
          <p:nvPr/>
        </p:nvSpPr>
        <p:spPr>
          <a:xfrm>
            <a:off x="4067280" y="2349360"/>
            <a:ext cx="264960" cy="6289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9"/>
          <p:cNvSpPr/>
          <p:nvPr/>
        </p:nvSpPr>
        <p:spPr>
          <a:xfrm>
            <a:off x="4500720" y="1844640"/>
            <a:ext cx="388800" cy="3715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0"/>
          <p:cNvSpPr/>
          <p:nvPr/>
        </p:nvSpPr>
        <p:spPr>
          <a:xfrm>
            <a:off x="4284720" y="2205000"/>
            <a:ext cx="1359000" cy="51444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1"/>
          <p:cNvSpPr/>
          <p:nvPr/>
        </p:nvSpPr>
        <p:spPr>
          <a:xfrm>
            <a:off x="4356000" y="2781360"/>
            <a:ext cx="750960" cy="2476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2"/>
          <p:cNvSpPr/>
          <p:nvPr/>
        </p:nvSpPr>
        <p:spPr>
          <a:xfrm>
            <a:off x="4067280" y="3141720"/>
            <a:ext cx="1319040" cy="360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>
            <a:off x="3708360" y="3429000"/>
            <a:ext cx="827280" cy="103824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4"/>
          <p:cNvSpPr/>
          <p:nvPr/>
        </p:nvSpPr>
        <p:spPr>
          <a:xfrm>
            <a:off x="4788000" y="3284640"/>
            <a:ext cx="1073160" cy="11905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未标题-2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2421000" y="3122640"/>
            <a:ext cx="706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295280" y="3122640"/>
            <a:ext cx="7066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5"/>
          <p:cNvGrpSpPr/>
          <p:nvPr/>
        </p:nvGrpSpPr>
        <p:grpSpPr>
          <a:xfrm>
            <a:off x="2411280" y="1341360"/>
            <a:ext cx="3886920" cy="3599640"/>
            <a:chOff x="2411280" y="1341360"/>
            <a:chExt cx="3886920" cy="3599640"/>
          </a:xfrm>
        </p:grpSpPr>
        <p:sp>
          <p:nvSpPr>
            <p:cNvPr id="86" name="Line 36"/>
            <p:cNvSpPr/>
            <p:nvPr/>
          </p:nvSpPr>
          <p:spPr>
            <a:xfrm>
              <a:off x="2411280" y="1341360"/>
              <a:ext cx="3882240" cy="3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7"/>
            <p:cNvSpPr/>
            <p:nvPr/>
          </p:nvSpPr>
          <p:spPr>
            <a:xfrm>
              <a:off x="2411280" y="4936680"/>
              <a:ext cx="38822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8"/>
            <p:cNvSpPr/>
            <p:nvPr/>
          </p:nvSpPr>
          <p:spPr>
            <a:xfrm>
              <a:off x="2411280" y="3213720"/>
              <a:ext cx="3882240" cy="3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9"/>
            <p:cNvSpPr/>
            <p:nvPr/>
          </p:nvSpPr>
          <p:spPr>
            <a:xfrm>
              <a:off x="2411280" y="1341360"/>
              <a:ext cx="3600" cy="359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0"/>
            <p:cNvSpPr/>
            <p:nvPr/>
          </p:nvSpPr>
          <p:spPr>
            <a:xfrm>
              <a:off x="6293520" y="1341360"/>
              <a:ext cx="4680" cy="359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1"/>
            <p:cNvSpPr/>
            <p:nvPr/>
          </p:nvSpPr>
          <p:spPr>
            <a:xfrm>
              <a:off x="4274280" y="1341360"/>
              <a:ext cx="3600" cy="359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WordArt 80"/>
          <p:cNvSpPr txBox="1"/>
          <p:nvPr/>
        </p:nvSpPr>
        <p:spPr>
          <a:xfrm>
            <a:off x="2771640" y="1700280"/>
            <a:ext cx="3024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楷体_GB2312"/>
              </a:rPr>
              <a:t>每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楷体_GB2312"/>
              <a:ea typeface="楷体_GB2312"/>
            </a:endParaRPr>
          </a:p>
        </p:txBody>
      </p:sp>
      <p:sp>
        <p:nvSpPr>
          <p:cNvPr id="93" name="Freeform 86"/>
          <p:cNvSpPr/>
          <p:nvPr/>
        </p:nvSpPr>
        <p:spPr>
          <a:xfrm>
            <a:off x="3276720" y="1700280"/>
            <a:ext cx="960480" cy="9316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87"/>
          <p:cNvSpPr/>
          <p:nvPr/>
        </p:nvSpPr>
        <p:spPr>
          <a:xfrm>
            <a:off x="3924360" y="1916280"/>
            <a:ext cx="1255680" cy="2934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8"/>
          <p:cNvSpPr/>
          <p:nvPr/>
        </p:nvSpPr>
        <p:spPr>
          <a:xfrm>
            <a:off x="2771640" y="2997360"/>
            <a:ext cx="3006720" cy="3697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89"/>
          <p:cNvSpPr/>
          <p:nvPr/>
        </p:nvSpPr>
        <p:spPr>
          <a:xfrm>
            <a:off x="4140360" y="2708280"/>
            <a:ext cx="287280" cy="3427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90"/>
          <p:cNvSpPr/>
          <p:nvPr/>
        </p:nvSpPr>
        <p:spPr>
          <a:xfrm>
            <a:off x="4140360" y="3284640"/>
            <a:ext cx="199800" cy="32364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91"/>
          <p:cNvSpPr/>
          <p:nvPr/>
        </p:nvSpPr>
        <p:spPr>
          <a:xfrm>
            <a:off x="3851280" y="2421000"/>
            <a:ext cx="1227240" cy="21304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2"/>
          <p:cNvSpPr/>
          <p:nvPr/>
        </p:nvSpPr>
        <p:spPr>
          <a:xfrm>
            <a:off x="3276720" y="2421000"/>
            <a:ext cx="213984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924360" y="1557360"/>
            <a:ext cx="143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763640" y="371628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口 人， 真 漂 亮，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戴 顶 竹 帽 在 头 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423800" y="260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1007e"/>
                </a:solidFill>
                <a:latin typeface="Arial"/>
              </a:rPr>
              <a:t>识字方法：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4172040" y="1125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79280" y="18900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007e"/>
                </a:solidFill>
                <a:latin typeface="Arial"/>
              </a:rPr>
              <a:t>识字方法：加一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685880" y="3500280"/>
            <a:ext cx="549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忄</a:t>
            </a:r>
            <a:r>
              <a:rPr b="0" lang="en-US" sz="8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圣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未标题-3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755640" y="1341360"/>
            <a:ext cx="769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鸡说：“我们鸡没有牙，是把米粒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吞下去。我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石子儿把米粒磨碎，帮助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化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1193130162501_conew1"/>
          <p:cNvPicPr/>
          <p:nvPr/>
        </p:nvPicPr>
        <p:blipFill>
          <a:blip r:embed="rId2"/>
          <a:stretch/>
        </p:blipFill>
        <p:spPr>
          <a:xfrm>
            <a:off x="2268360" y="3500280"/>
            <a:ext cx="41040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3:44:32Z</dcterms:created>
  <dc:creator>User</dc:creator>
  <dc:description/>
  <dc:language>en-US</dc:language>
  <cp:lastModifiedBy>微软用户</cp:lastModifiedBy>
  <dcterms:modified xsi:type="dcterms:W3CDTF">2012-11-20T01:39:10Z</dcterms:modified>
  <cp:revision>158</cp:revision>
  <dc:subject/>
  <dc:title>幻灯片 1</dc:title>
</cp:coreProperties>
</file>