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E50-4E25-4941-9976-5DFD587C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908-B0EC-4F98-88EE-425BD4F1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185-2E25-4229-AE3C-AC03C699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AE9-838B-4FDA-BF2D-840F9651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A2DAE-07D2-4D69-90F8-941663AF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D6102-DB1D-4B51-A22D-49E440BF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FA98A-0185-436C-9FF9-4E64D3F7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9B0E0-3307-40A4-AC4C-6B143C61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82DFE-E71F-4EF3-A809-D6A90805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E4B37-6D4F-49F4-A76A-776CC4F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62F2F-E5C0-4787-86B3-6F31088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CE1-6E8F-4EEA-B977-49A23303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F2937-2754-46E1-A136-02EBF4E0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81A1B-3840-4493-BEDD-30F8DB9B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0CE5D-E8E0-4D44-B703-1C4478A4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ADF27-24DE-4512-BB77-0614B2ED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FF965-8EAF-4BD4-9594-F15DCCF3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35F2-8187-46F6-8A80-425387F2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7681F-7BFC-49FC-A99F-2D5A4869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0DAD-2A15-4504-870A-83A9B2CF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A945-2667-4209-9535-604D93AF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CB37-645F-4E58-8D80-C17FFD17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AD9B-1ED4-451B-99D2-99BDA530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53B9-018C-450D-88A0-2E3C566E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2E2A-0E0F-4A9F-9C7F-A40D65B2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8E33-5320-47B9-90D5-36B3DD1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479FD-9C82-4E7A-AAF9-848186C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D2B3-B3F0-4A5B-90C3-1CC67C5D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25E3B-E3E9-4DEF-B75E-9D8818FE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732B-02FE-4E0F-A6B1-697D5F21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7A3E-D7C8-4D89-A93F-E2D07707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7911D-D335-40B6-840D-AAB3B627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0BD9-8FDE-4DE3-980F-02F1163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C12-C97D-4C17-8994-0DD5A5D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BB36-C040-4EC5-BC6D-444C3C17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6E25-4D97-49DC-870B-B4F9113C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53D1-DB5E-4F75-BC60-0EE48D0A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4B1A-71A1-4876-A769-0A70B459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AF80-5F02-470F-BF34-3A6E378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D6CEE-56FE-4642-BD43-E3ED4B4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9294-A194-4E5D-81FD-2520550E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260E9-E1D8-4FCC-AAFF-FF88B1DF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E359C-C498-4E2F-AA71-CEC4DE09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BC23-8D2E-4DCC-A4DE-FB1FCAD4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D7F-7E7B-44D9-9C8A-CE2989B9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91E4-8EFF-4805-8FFE-EE761665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5E894-DFD3-4E33-A53D-8FD8A84A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EC08B-2E87-47C5-B66C-3FEA2C5B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54C4D-9CAA-4FE1-8029-2DEDDC62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4440F-D1BE-4647-A7B8-F76508D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C281-D86D-444F-AB88-477E6C9F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BAC00-78D6-4826-BF0A-6FEA871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A772-89EC-4435-914D-49B7E598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A5A9-8261-41B3-8B1F-1A37A6F4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17637-1CE7-4F47-9848-D6EF6BF3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FFF-6D6A-42D4-9AD7-EA77801B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1D13-3AB5-4970-BF85-661D726C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6E5-8756-4826-BA42-20F15400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1F0-080E-4922-95A9-F76C167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ECC-5659-43CE-8D3B-72C1BE24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A7A4-8AEF-49C6-A812-EC29004F4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CF75-34C0-402E-A53B-014957D4F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36F9-3520-45E4-AA25-0EB1BA295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Freeform 4"/>
              <p:cNvSpPr/>
              <p:nvPr/>
            </p:nvSpPr>
            <p:spPr>
              <a:xfrm>
                <a:off x="2743200" y="4197600"/>
                <a:ext cx="4575240" cy="265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"/>
              <p:cNvSpPr/>
              <p:nvPr/>
            </p:nvSpPr>
            <p:spPr>
              <a:xfrm>
                <a:off x="6620040" y="4240440"/>
                <a:ext cx="1998360" cy="12873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7145280" y="3678480"/>
                <a:ext cx="1981080" cy="85536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7967-EEAA-4E96-B23A-4C4A7F87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F221-996F-4953-B8F4-0281B83CB3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资料03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24" name="WordArt 5"/>
          <p:cNvSpPr txBox="1"/>
          <p:nvPr/>
        </p:nvSpPr>
        <p:spPr>
          <a:xfrm>
            <a:off x="2482920" y="2962440"/>
            <a:ext cx="417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25560">
                  <a:solidFill>
                    <a:srgbClr val="ff66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幼圆"/>
              </a:rPr>
              <a:t>小鱼的梦</a:t>
            </a:r>
            <a:endParaRPr b="1" lang="en-US" sz="1800" spc="1" strike="noStrike">
              <a:ln cap="rnd" w="25560">
                <a:solidFill>
                  <a:srgbClr val="ff66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0" y="914400"/>
            <a:ext cx="891540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上星星落下来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它盖床珍珠被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2" descr="OOOPIC_haha001_20091006276d2cfd3400b96d"/>
          <p:cNvPicPr/>
          <p:nvPr/>
        </p:nvPicPr>
        <p:blipFill>
          <a:blip r:embed="rId1"/>
          <a:stretch/>
        </p:blipFill>
        <p:spPr>
          <a:xfrm>
            <a:off x="3429000" y="3733920"/>
            <a:ext cx="2743200" cy="26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86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0" y="3884760"/>
            <a:ext cx="9144000" cy="2973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609560" cy="18572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5"/>
          <p:cNvSpPr/>
          <p:nvPr/>
        </p:nvSpPr>
        <p:spPr>
          <a:xfrm>
            <a:off x="1905120" y="16765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2971800" y="380880"/>
            <a:ext cx="304920" cy="38124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3505320" y="1752480"/>
            <a:ext cx="304560" cy="38124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2590920" y="2209680"/>
            <a:ext cx="304560" cy="38124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>
            <a:off x="5638680" y="9907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0"/>
          <p:cNvSpPr/>
          <p:nvPr/>
        </p:nvSpPr>
        <p:spPr>
          <a:xfrm>
            <a:off x="5486400" y="23623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2"/>
          <p:cNvSpPr/>
          <p:nvPr/>
        </p:nvSpPr>
        <p:spPr>
          <a:xfrm>
            <a:off x="6934320" y="182880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3"/>
          <p:cNvSpPr/>
          <p:nvPr/>
        </p:nvSpPr>
        <p:spPr>
          <a:xfrm>
            <a:off x="4495680" y="380880"/>
            <a:ext cx="304920" cy="38124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4"/>
          <p:cNvSpPr/>
          <p:nvPr/>
        </p:nvSpPr>
        <p:spPr>
          <a:xfrm>
            <a:off x="838080" y="29718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5"/>
          <p:cNvSpPr/>
          <p:nvPr/>
        </p:nvSpPr>
        <p:spPr>
          <a:xfrm>
            <a:off x="4724280" y="16765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6"/>
          <p:cNvSpPr/>
          <p:nvPr/>
        </p:nvSpPr>
        <p:spPr>
          <a:xfrm>
            <a:off x="7924680" y="29718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7"/>
          <p:cNvSpPr/>
          <p:nvPr/>
        </p:nvSpPr>
        <p:spPr>
          <a:xfrm>
            <a:off x="6248520" y="2666880"/>
            <a:ext cx="304560" cy="38124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8"/>
          <p:cNvSpPr/>
          <p:nvPr/>
        </p:nvSpPr>
        <p:spPr>
          <a:xfrm>
            <a:off x="8077320" y="7621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9"/>
          <p:cNvSpPr/>
          <p:nvPr/>
        </p:nvSpPr>
        <p:spPr>
          <a:xfrm>
            <a:off x="838080" y="44197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0"/>
          <p:cNvSpPr/>
          <p:nvPr/>
        </p:nvSpPr>
        <p:spPr>
          <a:xfrm>
            <a:off x="1905120" y="525780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1"/>
          <p:cNvSpPr/>
          <p:nvPr/>
        </p:nvSpPr>
        <p:spPr>
          <a:xfrm>
            <a:off x="2971800" y="6324480"/>
            <a:ext cx="304920" cy="38124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2"/>
          <p:cNvSpPr/>
          <p:nvPr/>
        </p:nvSpPr>
        <p:spPr>
          <a:xfrm>
            <a:off x="2514600" y="50292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3"/>
          <p:cNvSpPr/>
          <p:nvPr/>
        </p:nvSpPr>
        <p:spPr>
          <a:xfrm>
            <a:off x="3505320" y="53341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4"/>
          <p:cNvSpPr/>
          <p:nvPr/>
        </p:nvSpPr>
        <p:spPr>
          <a:xfrm>
            <a:off x="4724280" y="5486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5"/>
          <p:cNvSpPr/>
          <p:nvPr/>
        </p:nvSpPr>
        <p:spPr>
          <a:xfrm>
            <a:off x="4495680" y="6324480"/>
            <a:ext cx="304920" cy="38124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6"/>
          <p:cNvSpPr/>
          <p:nvPr/>
        </p:nvSpPr>
        <p:spPr>
          <a:xfrm>
            <a:off x="5486400" y="48769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7"/>
          <p:cNvSpPr/>
          <p:nvPr/>
        </p:nvSpPr>
        <p:spPr>
          <a:xfrm>
            <a:off x="5638680" y="60199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8"/>
          <p:cNvSpPr/>
          <p:nvPr/>
        </p:nvSpPr>
        <p:spPr>
          <a:xfrm>
            <a:off x="6248520" y="4648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9"/>
          <p:cNvSpPr/>
          <p:nvPr/>
        </p:nvSpPr>
        <p:spPr>
          <a:xfrm>
            <a:off x="7010280" y="53341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30"/>
          <p:cNvSpPr/>
          <p:nvPr/>
        </p:nvSpPr>
        <p:spPr>
          <a:xfrm>
            <a:off x="7924680" y="45720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1"/>
          <p:cNvSpPr/>
          <p:nvPr/>
        </p:nvSpPr>
        <p:spPr>
          <a:xfrm>
            <a:off x="8305920" y="62485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2" descr=""/>
          <p:cNvPicPr/>
          <p:nvPr/>
        </p:nvPicPr>
        <p:blipFill>
          <a:blip r:embed="rId4"/>
          <a:stretch/>
        </p:blipFill>
        <p:spPr>
          <a:xfrm>
            <a:off x="5867280" y="5486400"/>
            <a:ext cx="1295640" cy="7272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3"/>
          <p:cNvSpPr/>
          <p:nvPr/>
        </p:nvSpPr>
        <p:spPr>
          <a:xfrm>
            <a:off x="304920" y="26668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天上星星落下来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为它盖床珍珠被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4"/>
          <p:cNvSpPr/>
          <p:nvPr/>
        </p:nvSpPr>
        <p:spPr>
          <a:xfrm>
            <a:off x="1600200" y="2590920"/>
            <a:ext cx="5943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mph" presetID="3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6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0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6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30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7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7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8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8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0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0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0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1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1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3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2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3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3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3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4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5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-303120" y="3276720"/>
            <a:ext cx="914220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儿唱起催眠曲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波浪又把摇篮推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7772400" y="457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 flipH="1">
            <a:off x="6552360" y="457200"/>
            <a:ext cx="304920" cy="30492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8381880" y="1828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1295280" y="21337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3809880" y="457200"/>
            <a:ext cx="152640" cy="228600"/>
          </a:xfrm>
          <a:custGeom>
            <a:avLst/>
            <a:gdLst>
              <a:gd name="textAreaLeft" fmla="*/ 63000 w 152640"/>
              <a:gd name="textAreaRight" fmla="*/ 89640 w 1526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3505320" y="14479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9"/>
          <p:cNvSpPr/>
          <p:nvPr/>
        </p:nvSpPr>
        <p:spPr>
          <a:xfrm>
            <a:off x="609480" y="457200"/>
            <a:ext cx="45720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605" y="2083"/>
                  <a:pt x="11610" y="5080"/>
                  <a:pt x="11610" y="10800"/>
                </a:cubicBezTo>
                <a:cubicBezTo>
                  <a:pt x="11610" y="16520"/>
                  <a:pt x="16605" y="1951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Arial"/>
                <a:ea typeface="楷体_GB2312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kuang016"/>
          <p:cNvPicPr/>
          <p:nvPr/>
        </p:nvPicPr>
        <p:blipFill>
          <a:blip r:embed="rId1"/>
          <a:stretch/>
        </p:blipFill>
        <p:spPr>
          <a:xfrm>
            <a:off x="6264360" y="1774800"/>
            <a:ext cx="2879640" cy="50832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4"/>
          <p:cNvSpPr/>
          <p:nvPr/>
        </p:nvSpPr>
        <p:spPr>
          <a:xfrm>
            <a:off x="304920" y="2133720"/>
            <a:ext cx="8076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-498240" y="1828800"/>
            <a:ext cx="830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楷体_GB2312"/>
              </a:rPr>
              <a:t>小鱼做了个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甜甜的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楷体_GB2312"/>
              </a:rPr>
              <a:t>梦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摆摆尾巴咂咂嘴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资料03"/>
          <p:cNvPicPr/>
          <p:nvPr/>
        </p:nvPicPr>
        <p:blipFill>
          <a:blip r:embed="rId1"/>
          <a:stretch/>
        </p:blipFill>
        <p:spPr>
          <a:xfrm>
            <a:off x="0" y="0"/>
            <a:ext cx="9144000" cy="4573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030610a"/>
          <p:cNvPicPr/>
          <p:nvPr/>
        </p:nvPicPr>
        <p:blipFill>
          <a:blip r:embed="rId2"/>
          <a:stretch/>
        </p:blipFill>
        <p:spPr>
          <a:xfrm>
            <a:off x="3200400" y="2971800"/>
            <a:ext cx="1944720" cy="149688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380880" y="51814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梦见了（                         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p2008921111629812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2057400" y="1523880"/>
            <a:ext cx="6095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   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把小鱼梦见的场景写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p2008115055357320"/>
          <p:cNvPicPr/>
          <p:nvPr/>
        </p:nvPicPr>
        <p:blipFill>
          <a:blip r:embed="rId1"/>
          <a:srcRect l="0" t="0" r="-808" b="0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5"/>
          <p:cNvSpPr/>
          <p:nvPr/>
        </p:nvSpPr>
        <p:spPr>
          <a:xfrm>
            <a:off x="3048120" y="2895480"/>
            <a:ext cx="472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</a:rPr>
              <a:t>再见！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2009042317525425"/>
          <p:cNvPicPr/>
          <p:nvPr/>
        </p:nvPicPr>
        <p:blipFill>
          <a:blip r:embed="rId1"/>
          <a:stretch/>
        </p:blipFill>
        <p:spPr>
          <a:xfrm>
            <a:off x="-36360" y="15840"/>
            <a:ext cx="9180360" cy="6842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762120" y="25146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珍珠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762120" y="10666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咂咂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62120" y="3962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催眠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609480" y="563868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 摇 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1752480" y="1981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752480" y="533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1600200" y="3429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q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33520" y="49528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uī yáo 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3657600" y="9907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星 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3733920" y="2438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3657600" y="39625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波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657600" y="55627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池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34290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u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58128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ō l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809880" y="5029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3276720" y="457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īng 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6019920" y="9907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5867280" y="457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6019920" y="2438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摆摆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5715000" y="1828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ǎ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6095880" y="39625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甜甜的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5257800" y="3429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6"/>
          <p:cNvSpPr/>
          <p:nvPr/>
        </p:nvSpPr>
        <p:spPr>
          <a:xfrm>
            <a:off x="762120" y="6858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珍珠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657600" y="6858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催眠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477120" y="6858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摇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743040" y="2057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咂咂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3809880" y="20574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星 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6705720" y="20574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怀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914400" y="3429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池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733920" y="34290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波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29400" y="3429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1600200" y="50292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摆摆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5257800" y="5029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甜甜的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7" descr="20071127192927745_2"/>
          <p:cNvPicPr/>
          <p:nvPr/>
        </p:nvPicPr>
        <p:blipFill>
          <a:blip r:embed="rId1"/>
          <a:stretch/>
        </p:blipFill>
        <p:spPr>
          <a:xfrm>
            <a:off x="1600200" y="4724280"/>
            <a:ext cx="2209680" cy="1295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9" descr="20071127192927745_2"/>
          <p:cNvPicPr/>
          <p:nvPr/>
        </p:nvPicPr>
        <p:blipFill>
          <a:blip r:embed="rId2"/>
          <a:stretch/>
        </p:blipFill>
        <p:spPr>
          <a:xfrm>
            <a:off x="5259240" y="4740120"/>
            <a:ext cx="2133720" cy="129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0" descr="2097207_103613041_2"/>
          <p:cNvPicPr/>
          <p:nvPr/>
        </p:nvPicPr>
        <p:blipFill>
          <a:blip r:embed="rId3"/>
          <a:stretch/>
        </p:blipFill>
        <p:spPr>
          <a:xfrm>
            <a:off x="838080" y="457200"/>
            <a:ext cx="1567080" cy="1282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1" descr="2097207_103613041_2"/>
          <p:cNvPicPr/>
          <p:nvPr/>
        </p:nvPicPr>
        <p:blipFill>
          <a:blip r:embed="rId4"/>
          <a:stretch/>
        </p:blipFill>
        <p:spPr>
          <a:xfrm>
            <a:off x="6629400" y="380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2" descr="2097207_103613041_2"/>
          <p:cNvPicPr/>
          <p:nvPr/>
        </p:nvPicPr>
        <p:blipFill>
          <a:blip r:embed="rId5"/>
          <a:srcRect l="0" t="0" r="-2113" b="0"/>
          <a:stretch/>
        </p:blipFill>
        <p:spPr>
          <a:xfrm>
            <a:off x="3733920" y="38088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3" descr="2008611952109_2"/>
          <p:cNvPicPr/>
          <p:nvPr/>
        </p:nvPicPr>
        <p:blipFill>
          <a:blip r:embed="rId6"/>
          <a:stretch/>
        </p:blipFill>
        <p:spPr>
          <a:xfrm>
            <a:off x="838080" y="16765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4" descr="2008611952109_2"/>
          <p:cNvPicPr/>
          <p:nvPr/>
        </p:nvPicPr>
        <p:blipFill>
          <a:blip r:embed="rId7"/>
          <a:stretch/>
        </p:blipFill>
        <p:spPr>
          <a:xfrm>
            <a:off x="6629400" y="17524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5" descr="2008611952109_2"/>
          <p:cNvPicPr/>
          <p:nvPr/>
        </p:nvPicPr>
        <p:blipFill>
          <a:blip r:embed="rId8"/>
          <a:stretch/>
        </p:blipFill>
        <p:spPr>
          <a:xfrm>
            <a:off x="3657600" y="172260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9" descr="20071028211113709_2"/>
          <p:cNvPicPr/>
          <p:nvPr/>
        </p:nvPicPr>
        <p:blipFill>
          <a:blip r:embed="rId9"/>
          <a:srcRect l="0" t="0" r="-1083" b="0"/>
          <a:stretch/>
        </p:blipFill>
        <p:spPr>
          <a:xfrm>
            <a:off x="914400" y="3276720"/>
            <a:ext cx="144792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0" descr="20071028211113709_2"/>
          <p:cNvPicPr/>
          <p:nvPr/>
        </p:nvPicPr>
        <p:blipFill>
          <a:blip r:embed="rId10"/>
          <a:stretch/>
        </p:blipFill>
        <p:spPr>
          <a:xfrm>
            <a:off x="6629400" y="335268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1" descr="20071028211113709_2"/>
          <p:cNvPicPr/>
          <p:nvPr/>
        </p:nvPicPr>
        <p:blipFill>
          <a:blip r:embed="rId11"/>
          <a:stretch/>
        </p:blipFill>
        <p:spPr>
          <a:xfrm>
            <a:off x="3809880" y="3276720"/>
            <a:ext cx="1295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666880" y="609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819520" y="1295280"/>
            <a:ext cx="281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 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kuang016"/>
          <p:cNvPicPr/>
          <p:nvPr/>
        </p:nvPicPr>
        <p:blipFill>
          <a:blip r:embed="rId1"/>
          <a:stretch/>
        </p:blipFill>
        <p:spPr>
          <a:xfrm>
            <a:off x="6264360" y="1774800"/>
            <a:ext cx="2879640" cy="50832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609480" y="3048120"/>
            <a:ext cx="769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字都有（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，   意思多与（</a:t>
            </a:r>
            <a:r>
              <a:rPr b="1" lang="zh-CN" sz="4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）有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114800" y="38098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9" descr=""/>
          <p:cNvPicPr/>
          <p:nvPr/>
        </p:nvPicPr>
        <p:blipFill>
          <a:blip r:embed="rId2"/>
          <a:stretch/>
        </p:blipFill>
        <p:spPr>
          <a:xfrm>
            <a:off x="6019920" y="3048120"/>
            <a:ext cx="23796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2666880" y="609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kuang016"/>
          <p:cNvPicPr/>
          <p:nvPr/>
        </p:nvPicPr>
        <p:blipFill>
          <a:blip r:embed="rId1"/>
          <a:stretch/>
        </p:blipFill>
        <p:spPr>
          <a:xfrm>
            <a:off x="6264360" y="1774800"/>
            <a:ext cx="2879640" cy="50832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7"/>
          <p:cNvSpPr/>
          <p:nvPr/>
        </p:nvSpPr>
        <p:spPr>
          <a:xfrm>
            <a:off x="2590920" y="76212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 flipH="1">
            <a:off x="2057400" y="1905120"/>
            <a:ext cx="137160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3733920" y="19051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4114800" y="1905120"/>
            <a:ext cx="121932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1447920" y="3352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181320" y="3314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4896000" y="32958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0" y="4419720"/>
            <a:ext cx="769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字都有（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，   意思多与（</a:t>
            </a:r>
            <a:r>
              <a:rPr b="1" lang="zh-CN" sz="4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）有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6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333360" cy="7621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7"/>
          <p:cNvSpPr/>
          <p:nvPr/>
        </p:nvSpPr>
        <p:spPr>
          <a:xfrm>
            <a:off x="2819520" y="5257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手的动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2666880" y="609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600200" y="228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kuang016"/>
          <p:cNvPicPr/>
          <p:nvPr/>
        </p:nvPicPr>
        <p:blipFill>
          <a:blip r:embed="rId1"/>
          <a:stretch/>
        </p:blipFill>
        <p:spPr>
          <a:xfrm>
            <a:off x="6264360" y="1774800"/>
            <a:ext cx="2879640" cy="508320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789120" y="1371600"/>
            <a:ext cx="5551200" cy="2075040"/>
            <a:chOff x="789120" y="1371600"/>
            <a:chExt cx="5551200" cy="2075040"/>
          </a:xfrm>
        </p:grpSpPr>
        <p:sp>
          <p:nvSpPr>
            <p:cNvPr id="292" name="Line 6"/>
            <p:cNvSpPr/>
            <p:nvPr/>
          </p:nvSpPr>
          <p:spPr>
            <a:xfrm flipV="1">
              <a:off x="1463760" y="182880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"/>
            <p:cNvSpPr/>
            <p:nvPr/>
          </p:nvSpPr>
          <p:spPr>
            <a:xfrm>
              <a:off x="1463760" y="251460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2429280" y="137160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ū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2429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0"/>
            <p:cNvSpPr/>
            <p:nvPr/>
          </p:nvSpPr>
          <p:spPr>
            <a:xfrm>
              <a:off x="3139920" y="2743200"/>
              <a:ext cx="320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(     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3139920" y="1447920"/>
              <a:ext cx="320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(         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149560" y="2743200"/>
              <a:ext cx="4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789120" y="1447920"/>
              <a:ext cx="4179600" cy="1200240"/>
              <a:chOff x="789120" y="1447920"/>
              <a:chExt cx="4179600" cy="1200240"/>
            </a:xfrm>
          </p:grpSpPr>
          <p:sp>
            <p:nvSpPr>
              <p:cNvPr id="300" name="Text Box 14"/>
              <p:cNvSpPr/>
              <p:nvPr/>
            </p:nvSpPr>
            <p:spPr>
              <a:xfrm>
                <a:off x="789120" y="194472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Arial"/>
                  </a:rPr>
                  <a:t>曲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15"/>
              <p:cNvSpPr/>
              <p:nvPr/>
            </p:nvSpPr>
            <p:spPr>
              <a:xfrm>
                <a:off x="2149560" y="1447920"/>
                <a:ext cx="533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16"/>
              <p:cNvSpPr/>
              <p:nvPr/>
            </p:nvSpPr>
            <p:spPr>
              <a:xfrm>
                <a:off x="3368520" y="1447920"/>
                <a:ext cx="1600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Text Box 19"/>
          <p:cNvSpPr/>
          <p:nvPr/>
        </p:nvSpPr>
        <p:spPr>
          <a:xfrm>
            <a:off x="5334120" y="2743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音乐有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5334120" y="15238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不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914400"/>
            <a:ext cx="80010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儿唱起催眠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曲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波浪又把摇篮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80880" y="380988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山间公路弯弯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曲曲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，伸向远方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6095880" y="380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6172200" y="3276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6934320" y="3276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5"/>
          <p:cNvSpPr/>
          <p:nvPr/>
        </p:nvSpPr>
        <p:spPr>
          <a:xfrm>
            <a:off x="609480" y="2057400"/>
            <a:ext cx="73152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资料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3786120" y="2362320"/>
            <a:ext cx="101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小鱼玩了一天水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池塘妈妈怀里睡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kuang016"/>
          <p:cNvPicPr/>
          <p:nvPr/>
        </p:nvPicPr>
        <p:blipFill>
          <a:blip r:embed="rId2"/>
          <a:stretch/>
        </p:blipFill>
        <p:spPr>
          <a:xfrm>
            <a:off x="5715000" y="1295280"/>
            <a:ext cx="287964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923760" cy="1790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3822840" y="927000"/>
            <a:ext cx="1523880" cy="1838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"/>
          <p:cNvPicPr/>
          <p:nvPr/>
        </p:nvPicPr>
        <p:blipFill>
          <a:blip r:embed="rId3"/>
          <a:stretch/>
        </p:blipFill>
        <p:spPr>
          <a:xfrm>
            <a:off x="1676520" y="3505320"/>
            <a:ext cx="2019240" cy="1981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4"/>
          <a:stretch/>
        </p:blipFill>
        <p:spPr>
          <a:xfrm>
            <a:off x="5562720" y="3581280"/>
            <a:ext cx="1123920" cy="1762200"/>
          </a:xfrm>
          <a:prstGeom prst="rect">
            <a:avLst/>
          </a:prstGeom>
          <a:ln w="0">
            <a:noFill/>
          </a:ln>
        </p:spPr>
      </p:pic>
      <p:sp>
        <p:nvSpPr>
          <p:cNvPr id="318" name="Line 6"/>
          <p:cNvSpPr/>
          <p:nvPr/>
        </p:nvSpPr>
        <p:spPr>
          <a:xfrm>
            <a:off x="3657600" y="4343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06:00:48Z</dcterms:created>
  <dc:creator/>
  <dc:description/>
  <dc:language>en-US</dc:language>
  <cp:lastModifiedBy/>
  <dcterms:modified xsi:type="dcterms:W3CDTF">2014-04-22T01:26:2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