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A019-BA9B-43F5-BFAC-022486305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D8CB-4982-41DC-BDAB-38B9CB075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5517-7C56-4B46-893A-483C65469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7964-505B-4656-BEA4-111D9758B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54A95-8B80-4AC7-8E43-A41E38DD2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0C837-3CD2-4B4C-9E8C-DE0D1B3ED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E7EE7-2E99-4A0B-BD0B-7AFCD7347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A98A8-762D-4C3D-815B-489E1A50F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C0B08-18B9-4A7A-B0D0-7E9C47989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AE96A-4364-4F72-B700-5D8DB1095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458D5-1F2A-40FA-828F-127E9223B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7EB4-B388-45D4-8E55-8993E1784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F968D-DAB3-4CE0-BE99-BF9ECB6C8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0C3BC-106D-47C6-8E52-AFEF26D46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9BF19-F784-40F6-9824-7F3839F27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FF6A7-8388-4735-8378-E5811C14E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D7632-CCB9-4548-B881-B4A5477AD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91FD-DF8E-4786-AE48-3CEFA91CF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EE2D-8E12-40F3-85F8-125CC70AD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C9B7-DCBA-4F40-A127-40CF6A6DC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5141-5BD8-4459-B4EA-1DD738691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6570-9743-4047-A60F-DAE485BD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0B6B-FE47-418C-AFF8-672A6B1B2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E5C2-E14D-4EF9-AE4B-A6CDD5ACD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www.t74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2338D-2A61-46EA-B76C-D3CD92ACBDC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封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www.t74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74F2D-815A-49E6-9D20-AF618F63AC62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5640" y="23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33"/>
                </a:solidFill>
                <a:latin typeface="Arial"/>
                <a:ea typeface="楷体_GB2312"/>
              </a:rPr>
              <a:t>一粒种子</a:t>
            </a:r>
            <a:endParaRPr b="0" lang="en-US" sz="7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暖和"/>
          <p:cNvPicPr/>
          <p:nvPr/>
        </p:nvPicPr>
        <p:blipFill>
          <a:blip r:embed="rId2"/>
          <a:stretch/>
        </p:blipFill>
        <p:spPr>
          <a:xfrm>
            <a:off x="237960" y="1800360"/>
            <a:ext cx="4343400" cy="3257280"/>
          </a:xfrm>
          <a:prstGeom prst="rect">
            <a:avLst/>
          </a:prstGeom>
          <a:ln w="0">
            <a:noFill/>
          </a:ln>
        </p:spPr>
      </p:pic>
      <p:sp>
        <p:nvSpPr>
          <p:cNvPr id="127" name="AutoShape 11"/>
          <p:cNvSpPr/>
          <p:nvPr/>
        </p:nvSpPr>
        <p:spPr>
          <a:xfrm>
            <a:off x="4267080" y="1981080"/>
            <a:ext cx="4876920" cy="3200400"/>
          </a:xfrm>
          <a:prstGeom prst="cloudCallout">
            <a:avLst>
              <a:gd name="adj1" fmla="val -76662"/>
              <a:gd name="adj2" fmla="val 17708"/>
            </a:avLst>
          </a:prstGeom>
          <a:solidFill>
            <a:srgbClr val="333399">
              <a:alpha val="5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1965600" y="190080"/>
            <a:ext cx="7770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应该怎样读？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4685400" y="32004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6796800" y="2666880"/>
            <a:ext cx="149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  <a:ea typeface="楷体_GB2312"/>
              </a:rPr>
              <a:t>(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  <a:ea typeface="楷体_GB2312"/>
              </a:rPr>
              <a:t>和平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  <a:ea typeface="楷体_GB2312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6796800" y="3733920"/>
            <a:ext cx="149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  <a:ea typeface="楷体_GB2312"/>
              </a:rPr>
              <a:t>(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  <a:ea typeface="楷体_GB2312"/>
              </a:rPr>
              <a:t>暖和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  <a:ea typeface="楷体_GB2312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5732280" y="2666880"/>
            <a:ext cx="84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zypyyb"/>
                <a:ea typeface="zypyyb"/>
              </a:rPr>
              <a:t>h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5544360" y="3733920"/>
            <a:ext cx="121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zypyyb"/>
                <a:ea typeface="zypyyb"/>
              </a:rPr>
              <a:t>hu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AutoShape 10"/>
          <p:cNvSpPr/>
          <p:nvPr/>
        </p:nvSpPr>
        <p:spPr>
          <a:xfrm>
            <a:off x="5334120" y="2743200"/>
            <a:ext cx="228600" cy="1752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2528640" y="534528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们的家很暖和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《一粒种子》插图2"/>
          <p:cNvPicPr/>
          <p:nvPr/>
        </p:nvPicPr>
        <p:blipFill>
          <a:blip r:embed="rId2"/>
          <a:stretch/>
        </p:blipFill>
        <p:spPr>
          <a:xfrm>
            <a:off x="1042920" y="1109520"/>
            <a:ext cx="7353360" cy="501984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226692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请你思考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976400" y="6097320"/>
            <a:ext cx="5486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种子是怎样看到外边世界的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小种子发芽得到了哪些好朋友的帮助呢？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064040" y="2457000"/>
            <a:ext cx="497376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幼圆"/>
                <a:ea typeface="幼圆"/>
              </a:rPr>
              <a:t>    </a:t>
            </a:r>
            <a:r>
              <a:rPr b="1" lang="en-US" sz="3200" spc="-1" strike="noStrike">
                <a:solidFill>
                  <a:srgbClr val="ff0000"/>
                </a:solidFill>
                <a:latin typeface="幼圆"/>
                <a:ea typeface="幼圆"/>
              </a:rPr>
              <a:t>答：种子发芽得到了太阳的帮助，太阳带给他温暖。 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幼圆"/>
                <a:ea typeface="幼圆"/>
              </a:rPr>
              <a:t>　　种子发芽得到了泥土的帮助。 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幼圆"/>
                <a:ea typeface="幼圆"/>
              </a:rPr>
              <a:t>　　种子发芽得到了雨水的帮助，雨露滋润着小种子。 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幼圆"/>
                <a:ea typeface="幼圆"/>
              </a:rPr>
              <a:t>　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2"/>
          <a:stretch/>
        </p:blipFill>
        <p:spPr>
          <a:xfrm>
            <a:off x="179280" y="2852640"/>
            <a:ext cx="3505320" cy="2589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997440" y="1054080"/>
            <a:ext cx="4680000" cy="52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幼圆"/>
                <a:ea typeface="幼圆"/>
              </a:rPr>
              <a:t>    </a:t>
            </a:r>
            <a:r>
              <a:rPr b="1" lang="en-US" sz="3200" spc="-1" strike="noStrike">
                <a:solidFill>
                  <a:srgbClr val="ff0000"/>
                </a:solidFill>
                <a:latin typeface="幼圆"/>
                <a:ea typeface="幼圆"/>
              </a:rPr>
              <a:t>种子发芽得到了蚯蚓的帮助，蚯蚓给他松土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幼圆"/>
                <a:ea typeface="幼圆"/>
              </a:rPr>
              <a:t>    </a:t>
            </a:r>
            <a:r>
              <a:rPr b="1" lang="en-US" sz="3200" spc="-1" strike="noStrike">
                <a:solidFill>
                  <a:srgbClr val="ff0000"/>
                </a:solidFill>
                <a:latin typeface="幼圆"/>
                <a:ea typeface="幼圆"/>
              </a:rPr>
              <a:t>种子发芽得到了春风、泉水、小鸟的帮助，他们在外面唱歌，种子听见外面很热闹，就发芽了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幼圆"/>
                <a:ea typeface="幼圆"/>
              </a:rPr>
              <a:t>    </a:t>
            </a:r>
            <a:r>
              <a:rPr b="1" lang="en-US" sz="3200" spc="-1" strike="noStrike">
                <a:solidFill>
                  <a:srgbClr val="ff0000"/>
                </a:solidFill>
                <a:latin typeface="幼圆"/>
                <a:ea typeface="幼圆"/>
              </a:rPr>
              <a:t>种子发芽还得到了自己的帮助，每一次他都是自己挺一挺。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2"/>
          <a:stretch/>
        </p:blipFill>
        <p:spPr>
          <a:xfrm>
            <a:off x="225360" y="1509840"/>
            <a:ext cx="3438720" cy="4425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3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6" dur="2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9" dur="2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标题 1"/>
          <p:cNvSpPr/>
          <p:nvPr/>
        </p:nvSpPr>
        <p:spPr>
          <a:xfrm>
            <a:off x="755640" y="2852640"/>
            <a:ext cx="777708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幼圆"/>
                <a:ea typeface="幼圆"/>
              </a:rPr>
              <a:t>答：种子发芽需要合适的温度，土壤，水，空气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Box 3"/>
          <p:cNvSpPr/>
          <p:nvPr/>
        </p:nvSpPr>
        <p:spPr>
          <a:xfrm>
            <a:off x="611280" y="765000"/>
            <a:ext cx="80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种子发芽需要哪些条件？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课后拓展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种子看到的外面的世界是什么样的呢？用你自己的话说一说，或者用彩笔画下来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t74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76"/>
          <p:cNvPicPr/>
          <p:nvPr/>
        </p:nvPicPr>
        <p:blipFill>
          <a:blip r:embed="rId2"/>
          <a:stretch/>
        </p:blipFill>
        <p:spPr>
          <a:xfrm>
            <a:off x="876240" y="469800"/>
            <a:ext cx="7386840" cy="59104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2539440" y="5665680"/>
            <a:ext cx="456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你能看到什么？听到什么？闻到什么？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一粒种子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7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t74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Picture 4" descr="种子萌发"/>
          <p:cNvPicPr/>
          <p:nvPr/>
        </p:nvPicPr>
        <p:blipFill>
          <a:blip r:embed="rId2"/>
          <a:stretch/>
        </p:blipFill>
        <p:spPr>
          <a:xfrm>
            <a:off x="1488960" y="2122560"/>
            <a:ext cx="6166080" cy="435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Arial"/>
              </a:rPr>
              <a:t>一粒种子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614520" y="1600200"/>
            <a:ext cx="79167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粒种子睡在泥土里。他醒过来，觉得很暖和，就把身子挺一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有点渴，喝了一口水，觉得很舒服，又把身子挺一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春风轻轻地吹着，种子问蚯蚓：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外面是什么声音？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蚯蚓说：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那是春风。春风在叫我们到外边去呢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外面什么样儿？也这么黑吗？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t74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395280" y="836640"/>
            <a:ext cx="79167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，外面亮得很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蚯蚓一边往外钻，一边说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先把土松一松，你好钻出去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子听了很高兴，又把身子挺一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春风在唱歌，泉水在唱歌，小鸟在唱歌，小朋友也在唱歌。种子听见外面很热闹，连忙说：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啊，我要赶快出去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子又把身子挺一挺，眼前忽然一亮，他高声喊道：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啊，好一个光明的世界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5"/>
          <p:cNvSpPr/>
          <p:nvPr/>
        </p:nvSpPr>
        <p:spPr>
          <a:xfrm>
            <a:off x="792720" y="3627360"/>
            <a:ext cx="515880" cy="7642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渴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2205720" y="3627360"/>
            <a:ext cx="515880" cy="7642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喝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3618720" y="3627360"/>
            <a:ext cx="515880" cy="7642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5031360" y="3627360"/>
            <a:ext cx="515880" cy="7642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音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6444360" y="3627360"/>
            <a:ext cx="515880" cy="7642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赶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7857360" y="3627360"/>
            <a:ext cx="515880" cy="7642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光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693360" y="2637000"/>
            <a:ext cx="79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zypyyb"/>
                <a:ea typeface="zypyyb"/>
              </a:rPr>
              <a:t>kě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12"/>
          <p:cNvSpPr/>
          <p:nvPr/>
        </p:nvSpPr>
        <p:spPr>
          <a:xfrm>
            <a:off x="2041200" y="2637000"/>
            <a:ext cx="84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zypyyb"/>
                <a:ea typeface="zypyyb"/>
              </a:rPr>
              <a:t>hē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13"/>
          <p:cNvSpPr/>
          <p:nvPr/>
        </p:nvSpPr>
        <p:spPr>
          <a:xfrm>
            <a:off x="2956680" y="2637000"/>
            <a:ext cx="18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zypyyb"/>
                <a:ea typeface="zypyyb"/>
              </a:rPr>
              <a:t>shē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 Box 14"/>
          <p:cNvSpPr/>
          <p:nvPr/>
        </p:nvSpPr>
        <p:spPr>
          <a:xfrm>
            <a:off x="4773240" y="2637000"/>
            <a:ext cx="95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zypyyb"/>
                <a:ea typeface="zypyyb"/>
              </a:rPr>
              <a:t>yī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15"/>
          <p:cNvSpPr/>
          <p:nvPr/>
        </p:nvSpPr>
        <p:spPr>
          <a:xfrm>
            <a:off x="6106680" y="2637000"/>
            <a:ext cx="118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zypyyb"/>
                <a:ea typeface="zypyyb"/>
              </a:rPr>
              <a:t>gǎ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16"/>
          <p:cNvSpPr/>
          <p:nvPr/>
        </p:nvSpPr>
        <p:spPr>
          <a:xfrm>
            <a:off x="7205760" y="2637000"/>
            <a:ext cx="187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zypyyb"/>
                <a:ea typeface="zypyyb"/>
              </a:rPr>
              <a:t>guā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读一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500"/>
                            </p:stCondLst>
                            <p:childTnLst>
                              <p:par>
                                <p:cTn id="5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0"/>
                            </p:stCondLst>
                            <p:childTnLst>
                              <p:par>
                                <p:cTn id="6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6500"/>
                            </p:stCondLst>
                            <p:childTnLst>
                              <p:par>
                                <p:cTn id="6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页脚占位符 3"/>
          <p:cNvSpPr/>
          <p:nvPr/>
        </p:nvSpPr>
        <p:spPr>
          <a:xfrm>
            <a:off x="1398600" y="6586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t74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Box 3"/>
          <p:cNvSpPr/>
          <p:nvPr/>
        </p:nvSpPr>
        <p:spPr>
          <a:xfrm>
            <a:off x="2124000" y="1197000"/>
            <a:ext cx="193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Box 4"/>
          <p:cNvSpPr/>
          <p:nvPr/>
        </p:nvSpPr>
        <p:spPr>
          <a:xfrm>
            <a:off x="2125800" y="1913040"/>
            <a:ext cx="216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粒   （一粒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Box 5"/>
          <p:cNvSpPr/>
          <p:nvPr/>
        </p:nvSpPr>
        <p:spPr>
          <a:xfrm>
            <a:off x="4933800" y="1252440"/>
            <a:ext cx="21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zhǒ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4933800" y="1913040"/>
            <a:ext cx="21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种   （种子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Box 7"/>
          <p:cNvSpPr/>
          <p:nvPr/>
        </p:nvSpPr>
        <p:spPr>
          <a:xfrm>
            <a:off x="2141640" y="2903400"/>
            <a:ext cx="178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hē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Box 8"/>
          <p:cNvSpPr/>
          <p:nvPr/>
        </p:nvSpPr>
        <p:spPr>
          <a:xfrm>
            <a:off x="2125800" y="3616200"/>
            <a:ext cx="209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声   （声音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Box 9"/>
          <p:cNvSpPr/>
          <p:nvPr/>
        </p:nvSpPr>
        <p:spPr>
          <a:xfrm>
            <a:off x="5041800" y="2941560"/>
            <a:ext cx="185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yī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Box 11"/>
          <p:cNvSpPr/>
          <p:nvPr/>
        </p:nvSpPr>
        <p:spPr>
          <a:xfrm>
            <a:off x="2197080" y="4633920"/>
            <a:ext cx="15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hu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Box 12"/>
          <p:cNvSpPr/>
          <p:nvPr/>
        </p:nvSpPr>
        <p:spPr>
          <a:xfrm>
            <a:off x="2225520" y="5378400"/>
            <a:ext cx="244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说   （说话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060880" y="4626000"/>
            <a:ext cx="193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ǎ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Box 14"/>
          <p:cNvSpPr/>
          <p:nvPr/>
        </p:nvSpPr>
        <p:spPr>
          <a:xfrm>
            <a:off x="5149800" y="5378400"/>
            <a:ext cx="209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赶   （赶紧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Box 10"/>
          <p:cNvSpPr/>
          <p:nvPr/>
        </p:nvSpPr>
        <p:spPr>
          <a:xfrm>
            <a:off x="5041800" y="3521160"/>
            <a:ext cx="25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音   （音乐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440" y="188640"/>
            <a:ext cx="236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想一想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1042920" y="1892160"/>
            <a:ext cx="5257800" cy="579600"/>
          </a:xfrm>
          <a:prstGeom prst="rect">
            <a:avLst/>
          </a:prstGeom>
          <a:solidFill>
            <a:srgbClr val="00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“</a:t>
            </a:r>
            <a:r>
              <a:rPr b="0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渴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为什么是三点水旁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1074600" y="2738520"/>
            <a:ext cx="4648320" cy="579240"/>
          </a:xfrm>
          <a:prstGeom prst="rect">
            <a:avLst/>
          </a:prstGeom>
          <a:solidFill>
            <a:srgbClr val="00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“</a:t>
            </a:r>
            <a:r>
              <a:rPr b="0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喝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为什么是口字旁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611280" y="4724280"/>
            <a:ext cx="8208720" cy="119124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口诀：</a:t>
            </a:r>
            <a:r>
              <a:rPr b="0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有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口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”</a:t>
            </a:r>
            <a:r>
              <a:rPr b="0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就要喝，有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水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”</a:t>
            </a:r>
            <a:r>
              <a:rPr b="0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0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还是渴。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口渴  我要喝水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4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t74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Picture 7" descr="猫喝水"/>
          <p:cNvPicPr/>
          <p:nvPr/>
        </p:nvPicPr>
        <p:blipFill>
          <a:blip r:embed="rId2"/>
          <a:stretch/>
        </p:blipFill>
        <p:spPr>
          <a:xfrm>
            <a:off x="1763640" y="1763640"/>
            <a:ext cx="5994360" cy="4496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1T01:46:22Z</dcterms:created>
  <dc:creator/>
  <dc:description/>
  <dc:language>en-US</dc:language>
  <cp:lastModifiedBy/>
  <dcterms:modified xsi:type="dcterms:W3CDTF">2014-04-22T00:50:08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