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321-1D36-43E2-99DD-E2EFE36C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2B3-B6CE-4084-89C1-863904AE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787-1691-4D58-A8C4-0255A095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1FF2-3FE8-4833-8A00-493BDC0F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45F-74B1-4FFE-B5D7-0920BDA0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792-BDD6-49EB-BDC3-9FDAC51D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D4D-B2D1-4CB1-8A71-FF1376E2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89A-9CBE-4EE1-AE05-51629448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2F5-B47D-493E-82B9-55E08057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A63-18A8-44DA-944F-275C06BE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89F-E621-4162-A948-6440C922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B1A-2C2A-4B10-AF8D-BA94B4CB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1F8E-3383-404B-8037-2A81641BA1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17" descr=""/>
          <p:cNvPicPr/>
          <p:nvPr/>
        </p:nvPicPr>
        <p:blipFill>
          <a:blip r:embed="rId2"/>
          <a:stretch/>
        </p:blipFill>
        <p:spPr>
          <a:xfrm>
            <a:off x="2120760" y="3797280"/>
            <a:ext cx="51278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3758356_102600395057_2"/>
          <p:cNvPicPr/>
          <p:nvPr/>
        </p:nvPicPr>
        <p:blipFill>
          <a:blip r:embed="rId2"/>
          <a:srcRect l="0" t="0" r="0" b="4651"/>
          <a:stretch/>
        </p:blipFill>
        <p:spPr>
          <a:xfrm>
            <a:off x="1752480" y="0"/>
            <a:ext cx="5453280" cy="62485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066680" y="0"/>
            <a:ext cx="1981080" cy="2196720"/>
            <a:chOff x="1066680" y="0"/>
            <a:chExt cx="1981080" cy="2196720"/>
          </a:xfrm>
        </p:grpSpPr>
        <p:pic>
          <p:nvPicPr>
            <p:cNvPr id="78" name="Picture 4" descr="u=2123962890,1867605589&amp;fm=51&amp;gp=0"/>
            <p:cNvPicPr/>
            <p:nvPr/>
          </p:nvPicPr>
          <p:blipFill>
            <a:blip r:embed="rId3"/>
            <a:stretch/>
          </p:blipFill>
          <p:spPr>
            <a:xfrm>
              <a:off x="1066680" y="0"/>
              <a:ext cx="19810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1"/>
            <p:cNvSpPr/>
            <p:nvPr/>
          </p:nvSpPr>
          <p:spPr>
            <a:xfrm>
              <a:off x="1523880" y="1371600"/>
              <a:ext cx="693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28600" y="2057400"/>
            <a:ext cx="1981080" cy="2212200"/>
            <a:chOff x="228600" y="2057400"/>
            <a:chExt cx="1981080" cy="2212200"/>
          </a:xfrm>
        </p:grpSpPr>
        <p:pic>
          <p:nvPicPr>
            <p:cNvPr id="81" name="Picture 7" descr="u=2123962890,1867605589&amp;fm=51&amp;gp=0"/>
            <p:cNvPicPr/>
            <p:nvPr/>
          </p:nvPicPr>
          <p:blipFill>
            <a:blip r:embed="rId4"/>
            <a:stretch/>
          </p:blipFill>
          <p:spPr>
            <a:xfrm>
              <a:off x="228600" y="2057400"/>
              <a:ext cx="19810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3"/>
            <p:cNvSpPr/>
            <p:nvPr/>
          </p:nvSpPr>
          <p:spPr>
            <a:xfrm>
              <a:off x="902520" y="335268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0" y="4191120"/>
            <a:ext cx="1981080" cy="2288520"/>
            <a:chOff x="0" y="4191120"/>
            <a:chExt cx="1981080" cy="2288520"/>
          </a:xfrm>
        </p:grpSpPr>
        <p:pic>
          <p:nvPicPr>
            <p:cNvPr id="84" name="Picture 6" descr="u=2123962890,1867605589&amp;fm=51&amp;gp=0"/>
            <p:cNvPicPr/>
            <p:nvPr/>
          </p:nvPicPr>
          <p:blipFill>
            <a:blip r:embed="rId5"/>
            <a:stretch/>
          </p:blipFill>
          <p:spPr>
            <a:xfrm>
              <a:off x="0" y="4191120"/>
              <a:ext cx="19810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5"/>
            <p:cNvSpPr/>
            <p:nvPr/>
          </p:nvSpPr>
          <p:spPr>
            <a:xfrm>
              <a:off x="673920" y="55627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沙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48520" y="0"/>
            <a:ext cx="1981080" cy="2212200"/>
            <a:chOff x="6248520" y="0"/>
            <a:chExt cx="1981080" cy="2212200"/>
          </a:xfrm>
        </p:grpSpPr>
        <p:pic>
          <p:nvPicPr>
            <p:cNvPr id="87" name="Picture 9" descr="u=2123962890,1867605589&amp;fm=51&amp;gp=0"/>
            <p:cNvPicPr/>
            <p:nvPr/>
          </p:nvPicPr>
          <p:blipFill>
            <a:blip r:embed="rId6"/>
            <a:stretch/>
          </p:blipFill>
          <p:spPr>
            <a:xfrm>
              <a:off x="6248520" y="0"/>
              <a:ext cx="19810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7"/>
            <p:cNvSpPr/>
            <p:nvPr/>
          </p:nvSpPr>
          <p:spPr>
            <a:xfrm>
              <a:off x="6846120" y="129528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檐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162920" y="4343400"/>
            <a:ext cx="1981080" cy="2288520"/>
            <a:chOff x="7162920" y="4343400"/>
            <a:chExt cx="1981080" cy="2288520"/>
          </a:xfrm>
        </p:grpSpPr>
        <p:pic>
          <p:nvPicPr>
            <p:cNvPr id="90" name="Picture 10" descr="u=2123962890,1867605589&amp;fm=51&amp;gp=0"/>
            <p:cNvPicPr/>
            <p:nvPr/>
          </p:nvPicPr>
          <p:blipFill>
            <a:blip r:embed="rId7"/>
            <a:stretch/>
          </p:blipFill>
          <p:spPr>
            <a:xfrm>
              <a:off x="7162920" y="4343400"/>
              <a:ext cx="19810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7760520" y="571500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010280" y="2133720"/>
            <a:ext cx="1981080" cy="2212200"/>
            <a:chOff x="7010280" y="2133720"/>
            <a:chExt cx="1981080" cy="2212200"/>
          </a:xfrm>
        </p:grpSpPr>
        <p:pic>
          <p:nvPicPr>
            <p:cNvPr id="93" name="Picture 8" descr="u=2123962890,1867605589&amp;fm=51&amp;gp=0"/>
            <p:cNvPicPr/>
            <p:nvPr/>
          </p:nvPicPr>
          <p:blipFill>
            <a:blip r:embed="rId8"/>
            <a:stretch/>
          </p:blipFill>
          <p:spPr>
            <a:xfrm>
              <a:off x="7010280" y="2133720"/>
              <a:ext cx="19810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9"/>
            <p:cNvSpPr/>
            <p:nvPr/>
          </p:nvSpPr>
          <p:spPr>
            <a:xfrm>
              <a:off x="7531560" y="342900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珠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5" dur="61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6" dur="615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7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8" dur="615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9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" dur="61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7" dur="615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9" dur="615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0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7" dur="123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8" dur="123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0" dur="123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图片2"/>
          <p:cNvPicPr/>
          <p:nvPr/>
        </p:nvPicPr>
        <p:blipFill>
          <a:blip r:embed="rId2"/>
          <a:srcRect l="0" t="10583" r="1783" b="10031"/>
          <a:stretch/>
        </p:blipFill>
        <p:spPr>
          <a:xfrm>
            <a:off x="533520" y="685800"/>
            <a:ext cx="4749840" cy="2590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2034918_225855045699_2"/>
          <p:cNvPicPr/>
          <p:nvPr/>
        </p:nvPicPr>
        <p:blipFill>
          <a:blip r:embed="rId3"/>
          <a:srcRect l="1694" t="0" r="0" b="5980"/>
          <a:stretch/>
        </p:blipFill>
        <p:spPr>
          <a:xfrm>
            <a:off x="3962520" y="3581280"/>
            <a:ext cx="45385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213291_223545775040_2"/>
          <p:cNvPicPr/>
          <p:nvPr/>
        </p:nvPicPr>
        <p:blipFill>
          <a:blip r:embed="rId2"/>
          <a:srcRect l="1893" t="0" r="0" b="4413"/>
          <a:stretch/>
        </p:blipFill>
        <p:spPr>
          <a:xfrm>
            <a:off x="380880" y="838080"/>
            <a:ext cx="4038840" cy="49532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" descr="铃铛2.jpg"/>
          <p:cNvPicPr/>
          <p:nvPr/>
        </p:nvPicPr>
        <p:blipFill>
          <a:blip r:embed="rId3"/>
          <a:srcRect l="0" t="5554" r="0" b="0"/>
          <a:stretch/>
        </p:blipFill>
        <p:spPr>
          <a:xfrm>
            <a:off x="4724280" y="3276720"/>
            <a:ext cx="41911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201003312001075531-1043853"/>
          <p:cNvPicPr/>
          <p:nvPr/>
        </p:nvPicPr>
        <p:blipFill>
          <a:blip r:embed="rId2"/>
          <a:srcRect l="0" t="0" r="0" b="14487"/>
          <a:stretch/>
        </p:blipFill>
        <p:spPr>
          <a:xfrm>
            <a:off x="1219320" y="2590920"/>
            <a:ext cx="6424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57120" y="321120"/>
            <a:ext cx="8358120" cy="625896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雨沙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小雨小雨沙沙沙，沙沙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种子种子在说话，在说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哎呀呀雨水真甜，哎哟哟我要发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小雨小雨沙沙沙，沙沙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种子种子在说话，在说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哎呀呀我要出土，哎哟哟我要长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5800" y="1676520"/>
            <a:ext cx="746748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我能背：把这首好听的诗歌背诵给家人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我能画：用彩笔画出自己心目中的春雨美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6"/>
          <p:cNvSpPr txBox="1"/>
          <p:nvPr/>
        </p:nvSpPr>
        <p:spPr>
          <a:xfrm>
            <a:off x="1371600" y="4114800"/>
            <a:ext cx="662940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你觉得雨声像什么？</a:t>
            </a:r>
            <a:endParaRPr b="0" lang="en-US" sz="1800" spc="-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2590920" y="487692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00cc"/>
                </a:solidFill>
                <a:latin typeface="Arial"/>
                <a:ea typeface="黑体"/>
              </a:rPr>
              <a:t>铃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36232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666880" y="43434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líng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5812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951360" y="4419000"/>
            <a:ext cx="13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dā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0" descr="铃铛.jpg"/>
          <p:cNvPicPr/>
          <p:nvPr/>
        </p:nvPicPr>
        <p:blipFill>
          <a:blip r:embed="rId2"/>
          <a:stretch/>
        </p:blipFill>
        <p:spPr>
          <a:xfrm>
            <a:off x="2057400" y="2286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199320" y="457200"/>
            <a:ext cx="310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沙沙响，沙沙响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春雨洒在房檐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房檐上，挂水珠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好像串串小铃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丁零当啷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丁零当啷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它在招呼小燕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快快回来盖新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66"/>
          <p:cNvPicPr/>
          <p:nvPr/>
        </p:nvPicPr>
        <p:blipFill>
          <a:blip r:embed="rId2"/>
          <a:srcRect l="0" t="0" r="0" b="444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191120" y="29718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997800" y="1884240"/>
            <a:ext cx="19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Arial"/>
              </a:rPr>
              <a:t>shā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66"/>
          <p:cNvPicPr/>
          <p:nvPr/>
        </p:nvPicPr>
        <p:blipFill>
          <a:blip r:embed="rId2"/>
          <a:srcRect l="0" t="0" r="0" b="444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360320" y="2895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039920" y="1806480"/>
            <a:ext cx="210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Arial"/>
              </a:rPr>
              <a:t>yán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66"/>
          <p:cNvPicPr/>
          <p:nvPr/>
        </p:nvPicPr>
        <p:blipFill>
          <a:blip r:embed="rId2"/>
          <a:srcRect l="0" t="0" r="0" b="444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360320" y="2743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782520" y="1828800"/>
            <a:ext cx="216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9999"/>
                </a:solidFill>
                <a:latin typeface="Arial"/>
              </a:rPr>
              <a:t>zh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66"/>
          <p:cNvPicPr/>
          <p:nvPr/>
        </p:nvPicPr>
        <p:blipFill>
          <a:blip r:embed="rId2"/>
          <a:srcRect l="0" t="0" r="0" b="444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512600" y="2895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040280" y="1828800"/>
            <a:ext cx="181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Arial"/>
              </a:rPr>
              <a:t>gài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742320" y="85572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95600" y="1981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190240" y="914400"/>
            <a:ext cx="227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iǎ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878000" y="91440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á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164360" y="914400"/>
            <a:ext cx="16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uà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687600" y="3367080"/>
            <a:ext cx="246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uà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790440" y="3276720"/>
            <a:ext cx="20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hā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6479280" y="3352680"/>
            <a:ext cx="157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uà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929320" y="1981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5443920" y="1981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7501320" y="1981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1350360" y="4267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377240" y="41911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6836760" y="41911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7:56:47Z</dcterms:created>
  <dc:creator/>
  <dc:description/>
  <dc:language>en-US</dc:language>
  <cp:lastModifiedBy/>
  <dcterms:modified xsi:type="dcterms:W3CDTF">2014-03-28T00:39:4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