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385-E91B-49D3-A6B2-0C72A9FD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BFA-9663-4D27-8AA7-342BEC28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073FE-678A-43F7-A385-AE7903CD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F0AE0-4A50-4CFB-AB62-EB2DDD31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FEC76-04F6-47C2-A581-64574F25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F7950-6AEF-4BC5-AA1A-5CE9E4D0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99E26-B09B-4D77-A398-5369B26E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B2227-D4DA-4BB5-A906-EF14A8E3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B80C3-AC0B-4A3F-B292-457E8BED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1B4B4-18E3-4C3B-9050-5B6ACC0C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781D8-775B-41EC-80C9-70025E38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E4622-8A3D-43A2-A729-350950BF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4E8-6268-4CB0-B5CE-0E5845B9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3C74B-DDA7-48EF-A068-FCD4124E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F1E02-7E5D-4415-8175-541A371B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233E0-39D7-47D6-8ECD-6E9A414C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AFB0F-467B-40EF-BB2B-62491AF1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4D586-FB6F-4D1D-A648-E941BCBE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D5D9B-9E5F-4060-A3A1-772DA6EE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1A3FE-A0FD-4684-AFE2-23BC738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4286D-6E34-4065-AC24-D5BBAAFC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C9F7C-6E71-4F5F-99F8-9343CE84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E76AB-CFFD-447C-B028-932D8E80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D39-831C-4AD7-82F9-E202BECC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01962-AE4B-4DDE-ADC9-E6E2139B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521E9-B2BF-4CF7-890D-BA0F3763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7E4AC-C971-4B74-BFD1-EB0F7977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7305D-5C2F-4887-9B2D-FF207A64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B6FCA-80E3-45DC-9526-6FA62C48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03D20-FC7C-4DE8-8480-4D41E71D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C295E-BBB1-4DE2-8ABA-54405149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4E8A6-B8A7-45A1-BD6D-11718554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EB500-75DF-4AFE-95FA-382CC974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E0037-8106-4795-907F-279C1EA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3AB9-E8D8-4619-9E6C-0450F541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F386B-B4C5-412E-9C08-A15F6A97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88260-1BAE-4609-B3EC-18838019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8212D-C1C7-427A-AF9F-B3E058AE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3DAFE-E573-453E-A5A5-CEF411BC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B87BA-09A0-4072-8D4C-F047D7D2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18C30-E850-46B2-A809-305DF272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42F6B-DBFB-46AB-899D-66645BC9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CFEE4-9823-4412-AAAC-462F3E64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02F2A-4A82-4264-A699-4A140C65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1F60B-FD58-4DF0-B52D-A968C77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1E1D-7983-4F40-8846-B4F7F2FE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56969-72BF-4892-B8EC-F35F9B21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2F103-F28F-4154-A931-DC0EE637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5CF0C-D247-4C9E-A4CB-301BDABE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45A05-95D1-4428-8FAB-F014ED37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98C45-827C-4385-9753-8FEEF31F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F40B8-D43C-4222-9A48-AA032E45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0AEF8-98F5-4451-954B-BED607CD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D1324-7C92-4496-B9F1-EC2E4C41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902B1-FFFB-4D1F-80D5-A77F9683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9EFD1-3533-40EB-AF81-8471D9EE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1F57-7B48-4623-B117-8FEACC01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33ACA-3182-4B0A-BC7D-824A0505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DE6CA-3265-4482-87EF-6460CAF5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8CE55-F46A-4D90-9BFC-39E32061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96434-ADC4-445B-B2DA-9F40BA86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91641-51B4-4F66-842B-306F4EC0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B951C-5612-45FB-B1A3-EADF3655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66D42-B207-4566-9B4E-C5F8B919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E4B4-2FB4-4961-B856-FAFDB002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7B7E-5ADA-4EF4-BEC2-7B58B333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8FC2-C3A0-41B3-BF3B-B32A7995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F955-3C13-49B5-931C-A4A1064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88F-FF32-41C3-8FAF-2365E55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D0F6-4EED-4925-8D91-66F8B6C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D3DD-BD25-4A15-8C2E-B6DD378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9951-5CFA-44FE-9D9A-97EF0EBD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6806-A116-418E-9405-C602BEB7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40AC-D511-46E7-824E-5E7F2641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3C2B-B609-436F-BBB0-7E80C41F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FE5F-DB1C-4FF4-9AC1-05E03AC0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3668-774C-40BB-916B-C1F0223E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8BB5-874A-4361-92A6-B9B93A3A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B192F-8BAA-4AE0-B75B-30A03204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1D8-8FE3-4AA3-A5BC-5F1994E7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549D-FF65-460B-9919-DEC9F9ED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554A2-0771-4D9E-AF8C-71B0D065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F83D-771C-4689-8B40-4D3414C8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9C94F-4AAD-4868-BA93-309CEEFD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B3AE1-EDEA-4367-A319-2C7B9931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F794-01B4-46CA-AF1B-AE80178D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0F24-054C-437A-9F99-3C801DE1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9E546-5800-46FA-B027-95ED4A3F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333A-BCEC-4303-823D-B849A12B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2514-E704-4E31-BB30-FF0EB99C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E26-7457-4438-AA47-2F8A1BA4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64B86-21AE-4ADF-86AF-0B090409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A24F-7226-431A-B4EC-7BF1C29F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0BBD3-C21E-43F7-A112-487DC6F1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6684A-D49B-4E32-970A-3166897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F9179-85E1-4C4E-836A-A5484A8C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C902-5E1A-4BDA-B526-0F674647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6BCA-F1C0-456B-B3A4-C663617B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A9BE-7A7E-4902-A3AE-ED527476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B7429-9EA8-4485-832C-15D119FB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93368-6895-4171-BD05-3BF7347B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C3A-6FF9-4994-B9E8-F56E9186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80FFD-77F2-4676-B67C-388E2D2F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29E25-18BB-4410-9B06-4F1C8A80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88A04-A63D-4F4C-8116-017FC061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71DD1-A65B-42BD-AD85-24A3B3A0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1963F-6EC5-41AE-AD88-47249D1D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15DCC-5088-4E72-921C-132C0BBC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076FC-2BF2-4182-8148-EB99BB1F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E71B-7ACC-443D-ABED-10234493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516E-DB9F-4712-8E19-0B9C8F4D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77BE9-D784-41D2-B7BE-84A979D4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7CD-23DD-4B9E-9828-78AEBB3F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7642D-AD75-43BC-A50E-5F574BA4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4DF0-DF43-4A04-A4EF-ECD80497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9BDA-0282-455D-96C5-C5F481A1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E3C55-AB5A-46E0-9FC8-1E7DEA34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F730C-A6EA-4CB7-8F94-1128100F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1364-7CF8-4C91-BFCD-CC6FF8C5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427F6-7EAA-4AD1-9A72-AE27BD92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C5EA9-C21A-490F-8598-61D61A0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02448-9AD8-4D23-908B-46BDD596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EE51F-D07F-4037-A3F3-0BF351C5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4B8-E0AB-4C5E-865A-F0AD54F6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0CDBA-30C4-453F-9F48-52B2B6FD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E59E3-3646-472C-9055-A16F4E8C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EE38A-0AB1-49C6-A8C9-7A67FE54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474A6-1230-44F4-A957-037018D9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8E83A-B2E9-4B3A-8E88-142A259D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3C409-B563-47DE-86E9-A8D2E54A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9E7E5-C9AA-455C-B55C-CF587DCE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94FC9-12BC-4CE4-98A6-72DBA78D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75F46-FE93-4DA4-8A7A-42BAB04A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45C7-BDBE-4250-BCE4-CEE5C027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AC4-C998-407B-9F7B-7ABD06EF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CB586-EA61-4153-BE7B-1C39C4D7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E75C0-C01D-40DC-B116-CF869E2D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C451A-64A6-4FB2-A6EC-B3EDEDDD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2321B-5FBC-493D-8CBE-91492189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DC397-509B-41F9-8F94-B4278653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5A2B6-57A6-4E3A-A270-78354A4B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9554F-6573-4DFB-B69C-28E50939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82052-1C84-4CEA-9AFA-5B99F8FE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C9F1C-9AE0-4D2F-88E8-6E2732E0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E1972-6CE1-4DAF-9F8F-E0DC4B10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DB8-9466-4310-8779-D1EA23B9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E6CBD-6F6A-4448-87C4-255516CE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C1519-2A6D-4FB7-8425-3DA853BE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F6F36-3CB2-433C-9555-6F5686B9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68B73-ED5C-46CC-8A47-D533774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37973-5AC2-465B-9DCC-A65BAFB9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DE725-6203-4593-8AE5-2DC14096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545FB-E353-43D6-9054-6EEC82DE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D6235-5456-4659-AAC9-F3741724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35E9C-16FA-4687-B51E-64DDA790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38BB5-3036-4607-95BF-81C20013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C64B-0E26-474E-BCF7-F7AC5DC07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2BFB-8AB7-4063-900B-E3E9E5DF2CC6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0557-D26D-4C20-B3CC-F75D87196243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77D9-740E-4D0B-BB1C-68F1BF56DFF9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FC8C-1892-488D-8594-0CF20D1906EF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C155-C897-4334-B574-A7BB6386931A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5C5B-EB71-4A7A-BA23-6AE18F032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C1AB-B44A-435F-9AC9-69BC4C7CD9D6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C825-7539-4BD2-B761-7561E3912FF3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8B8B-1A6F-447B-AFF7-B23705B7018B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4A5D-3162-43DA-A692-124C1D477787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7BBE-740D-4162-AD25-3BC291EE1E2B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E21-6475-49EE-82BB-40119F170689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14240" y="149976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长 歌 行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节选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Franklin Gothic Medium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Franklin Gothic Medium"/>
              </a:rPr>
              <a:t>通过学习这首诗，你能体会出作者怎样 的思想感情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2852280"/>
            <a:ext cx="8686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Franklin Gothic Book"/>
              </a:rPr>
              <a:t>    </a:t>
            </a:r>
            <a:r>
              <a:rPr b="1" lang="zh-CN" sz="4400" spc="-1" strike="noStrike">
                <a:solidFill>
                  <a:srgbClr val="ff00ff"/>
                </a:solidFill>
                <a:latin typeface="Franklin Gothic Book"/>
              </a:rPr>
              <a:t>答：我能体会出作者感叹时光短暂而易逝，且一去不复返。希望人们珍惜时光，及早努力，不要等到老了再后悔叹息。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Franklin Gothic Medium"/>
              </a:rPr>
              <a:t>2.</a:t>
            </a:r>
            <a:r>
              <a:rPr b="1" lang="zh-CN" sz="4300" spc="-1" strike="noStrike">
                <a:solidFill>
                  <a:srgbClr val="000000"/>
                </a:solidFill>
                <a:latin typeface="Franklin Gothic Medium"/>
              </a:rPr>
              <a:t>诗中的哪句话，对世人有规劝的含义？</a:t>
            </a:r>
            <a:br>
              <a:rPr sz="3200"/>
            </a:br>
            <a:endParaRPr b="0" lang="en-US" sz="43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26352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Franklin Gothic Book"/>
              </a:rPr>
              <a:t>    </a:t>
            </a:r>
            <a:r>
              <a:rPr b="1" lang="zh-CN" sz="5400" spc="-1" strike="noStrike">
                <a:solidFill>
                  <a:srgbClr val="ff00ff"/>
                </a:solidFill>
                <a:latin typeface="Franklin Gothic Book"/>
              </a:rPr>
              <a:t>答：少壮不努力，老大徒伤悲。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Franklin Gothic Book"/>
              </a:rPr>
              <a:t>这是一首（</a:t>
            </a:r>
            <a:r>
              <a:rPr b="1" lang="zh-CN" sz="6000" spc="-1" strike="noStrike">
                <a:solidFill>
                  <a:srgbClr val="ff00ff"/>
                </a:solidFill>
                <a:latin typeface="Franklin Gothic Book"/>
              </a:rPr>
              <a:t>五言诗</a:t>
            </a:r>
            <a:r>
              <a:rPr b="1" lang="zh-CN" sz="6000" spc="-1" strike="noStrike">
                <a:solidFill>
                  <a:srgbClr val="000000"/>
                </a:solidFill>
                <a:latin typeface="Franklin Gothic Book"/>
              </a:rPr>
              <a:t>），它写出了壮士（</a:t>
            </a:r>
            <a:r>
              <a:rPr b="1" lang="zh-CN" sz="6000" spc="-1" strike="noStrike">
                <a:solidFill>
                  <a:srgbClr val="ff00ff"/>
                </a:solidFill>
                <a:latin typeface="Franklin Gothic Book"/>
              </a:rPr>
              <a:t>珍惜光阴，努力学习</a:t>
            </a:r>
            <a:r>
              <a:rPr b="1" lang="zh-CN" sz="6000" spc="-1" strike="noStrike">
                <a:solidFill>
                  <a:srgbClr val="000000"/>
                </a:solidFill>
                <a:latin typeface="Franklin Gothic Book"/>
              </a:rPr>
              <a:t>）的情感。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如何珍惜时间呢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598" name="内容占位符 3" descr="惜时4.png"/>
          <p:cNvPicPr/>
          <p:nvPr/>
        </p:nvPicPr>
        <p:blipFill>
          <a:blip r:embed="rId2"/>
          <a:stretch/>
        </p:blipFill>
        <p:spPr>
          <a:xfrm>
            <a:off x="485640" y="1619280"/>
            <a:ext cx="8172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3"/>
          <p:cNvSpPr/>
          <p:nvPr/>
        </p:nvSpPr>
        <p:spPr>
          <a:xfrm>
            <a:off x="4348440" y="16430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少年不知勤学苦，老来方悔读书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0" y="3357720"/>
            <a:ext cx="915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书山有路勤为径，学海无涯苦作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4342680" y="51436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更灯火五更鸡，正是男儿读书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关于珍惜时间的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3"/>
          <p:cNvSpPr/>
          <p:nvPr/>
        </p:nvSpPr>
        <p:spPr>
          <a:xfrm>
            <a:off x="285840" y="1643040"/>
            <a:ext cx="892944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歌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搜集有关劝诫后人勤奋好学的诗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2"/>
          <p:cNvSpPr/>
          <p:nvPr/>
        </p:nvSpPr>
        <p:spPr>
          <a:xfrm>
            <a:off x="642960" y="214200"/>
            <a:ext cx="335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Franklin Gothic Medium"/>
              </a:rPr>
              <a:t>长歌行</a:t>
            </a:r>
            <a:br>
              <a:rPr sz="4900"/>
            </a:br>
            <a:r>
              <a:rPr b="0" lang="zh-CN" sz="4900" spc="-1" strike="noStrike">
                <a:solidFill>
                  <a:srgbClr val="000000"/>
                </a:solidFill>
                <a:latin typeface="Franklin Gothic Medium"/>
              </a:rPr>
              <a:t>青青园中葵，朝露待日曦。         </a:t>
            </a:r>
            <a:br>
              <a:rPr sz="4900"/>
            </a:br>
            <a:r>
              <a:rPr b="0" lang="zh-CN" sz="4900" spc="-1" strike="noStrike">
                <a:solidFill>
                  <a:srgbClr val="000000"/>
                </a:solidFill>
                <a:latin typeface="Franklin Gothic Medium"/>
              </a:rPr>
              <a:t>阳春布德泽，万物生光辉。</a:t>
            </a:r>
            <a:br>
              <a:rPr sz="4900"/>
            </a:br>
            <a:r>
              <a:rPr b="0" lang="zh-CN" sz="4900" spc="-1" strike="noStrike">
                <a:solidFill>
                  <a:srgbClr val="000000"/>
                </a:solidFill>
                <a:latin typeface="Franklin Gothic Medium"/>
              </a:rPr>
              <a:t>常恐秋节至，焜黄华叶衰。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Franklin Gothic Medium"/>
              </a:rPr>
              <a:t>百川东到海，何日复西归。</a:t>
            </a: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Franklin Gothic Medium"/>
              </a:rPr>
              <a:t>少壮不努力，老大徒伤悲。</a:t>
            </a:r>
            <a:br>
              <a:rPr sz="4900"/>
            </a:br>
            <a:endParaRPr b="0" lang="en-US" sz="49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f2f"/>
                </a:solidFill>
                <a:latin typeface="Franklin Gothic Medium"/>
              </a:rPr>
              <a:t>前六句句意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5712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园子里那绿绿蔬菜上的露珠，等到太阳一出就晒干了；温暖的春天给万物带来了恩惠，使它们充满了生机，可常常担忧秋天的到来，因为一到秋天，草木枯黄，百花凋零，万物失去了生命的活力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295280" y="1089000"/>
            <a:ext cx="1600200" cy="434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葵"/>
          <p:cNvPicPr/>
          <p:nvPr/>
        </p:nvPicPr>
        <p:blipFill>
          <a:blip r:embed="rId3"/>
          <a:stretch/>
        </p:blipFill>
        <p:spPr>
          <a:xfrm>
            <a:off x="1523880" y="1695600"/>
            <a:ext cx="5867640" cy="44002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7693560" y="3276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-927000" y="-784080"/>
            <a:ext cx="1137600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3348000" y="3333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Franklin Gothic Medium"/>
              </a:rPr>
              <a:t>葵</a:t>
            </a:r>
            <a:r>
              <a:rPr b="1" lang="zh-CN" sz="6000" spc="-1" strike="noStrike">
                <a:solidFill>
                  <a:srgbClr val="2f2f2f"/>
                </a:solidFill>
                <a:latin typeface="Franklin Gothic Medium"/>
              </a:rPr>
              <a:t>：</a:t>
            </a:r>
            <a:r>
              <a:rPr b="0" lang="zh-CN" sz="6000" spc="-1" strike="noStrike">
                <a:solidFill>
                  <a:srgbClr val="2f2f2f"/>
                </a:solidFill>
                <a:latin typeface="Franklin Gothic Medium"/>
              </a:rPr>
              <a:t>一种开大花的植物。</a:t>
            </a:r>
            <a:endParaRPr b="0" lang="en-US" sz="6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0012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Franklin Gothic Book"/>
              </a:rPr>
              <a:t>葵</a:t>
            </a:r>
            <a:r>
              <a:rPr b="0" lang="en-US" sz="6000" spc="-1" strike="noStrike">
                <a:solidFill>
                  <a:srgbClr val="000000"/>
                </a:solidFill>
                <a:latin typeface="Franklin Gothic Book"/>
              </a:rPr>
              <a:t>(kuí)</a:t>
            </a:r>
            <a:r>
              <a:rPr b="0" lang="zh-CN" sz="6000" spc="-1" strike="noStrike">
                <a:solidFill>
                  <a:srgbClr val="000000"/>
                </a:solidFill>
                <a:latin typeface="Franklin Gothic Book"/>
              </a:rPr>
              <a:t>（向日葵）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Franklin Gothic Book"/>
              </a:rPr>
              <a:t>            </a:t>
            </a:r>
            <a:r>
              <a:rPr b="0" lang="zh-CN" sz="6000" spc="-1" strike="noStrike">
                <a:solidFill>
                  <a:srgbClr val="000000"/>
                </a:solidFill>
                <a:latin typeface="Franklin Gothic Book"/>
              </a:rPr>
              <a:t>（葵花）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Franklin Gothic Book"/>
              </a:rPr>
              <a:t>华</a:t>
            </a:r>
            <a:r>
              <a:rPr b="0" lang="zh-CN" sz="6000" spc="-1" strike="noStrike">
                <a:solidFill>
                  <a:srgbClr val="000000"/>
                </a:solidFill>
                <a:latin typeface="Franklin Gothic Book"/>
              </a:rPr>
              <a:t>：同“花”；花朵，花儿。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3"/>
          <p:cNvSpPr/>
          <p:nvPr/>
        </p:nvSpPr>
        <p:spPr>
          <a:xfrm>
            <a:off x="1908000" y="1052640"/>
            <a:ext cx="7236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由朗读诗歌，给诗歌画出节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合课后注释了解诗歌大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4" descr="r05"/>
          <p:cNvPicPr/>
          <p:nvPr/>
        </p:nvPicPr>
        <p:blipFill>
          <a:blip r:embed="rId2"/>
          <a:stretch/>
        </p:blipFill>
        <p:spPr>
          <a:xfrm>
            <a:off x="0" y="1916280"/>
            <a:ext cx="2016000" cy="38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5"/>
          <p:cNvSpPr/>
          <p:nvPr/>
        </p:nvSpPr>
        <p:spPr>
          <a:xfrm>
            <a:off x="0" y="1643040"/>
            <a:ext cx="9144000" cy="43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18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长歌行</a:t>
            </a:r>
            <a:br>
              <a:rPr sz="6000"/>
            </a:b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百川</a:t>
            </a:r>
            <a:r>
              <a:rPr b="1" lang="en-US" sz="5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东到海，何日</a:t>
            </a:r>
            <a:r>
              <a:rPr b="1" lang="en-US" sz="5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复西归。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少壮</a:t>
            </a:r>
            <a:r>
              <a:rPr b="1" lang="en-US" sz="5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不努力，老大</a:t>
            </a:r>
            <a:r>
              <a:rPr b="1" lang="en-US" sz="5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徒伤悲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500040" y="21420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节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Franklin Gothic Medium"/>
              </a:rPr>
              <a:t>诗歌大意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42600" y="1856880"/>
            <a:ext cx="7929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所有的河流都向冬流入大海，什么时候才能流回来呢？青少年时期不努力学习，到老了伤心后悔也没有什么用了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324000" y="0"/>
            <a:ext cx="914400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思考并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学习这首诗，你能体会出作者怎样 的思想感情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468360" y="3429000"/>
            <a:ext cx="860436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诗中的哪句话，对世人有规劝的含义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7:49:45Z</dcterms:created>
  <dc:creator/>
  <dc:description/>
  <dc:language>en-US</dc:language>
  <cp:lastModifiedBy/>
  <dcterms:modified xsi:type="dcterms:W3CDTF">2014-03-28T07:24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