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EC6-C1FB-4A13-8A2F-C51D64AC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7CD-D027-4A15-91C8-CFB1794F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853-E0BD-4CC0-98EF-9A459C79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73A-2D34-407A-8DE2-11ADC1E5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86F-F873-43E7-80CF-4E89824C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B42-6513-45BF-AF19-CAFF0876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169-AA7E-45CC-A62E-EE9B41E6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C1D-5912-4CCE-B5F0-663EB7F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0A8-0C13-4543-B42D-33AC9A8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808-B97F-452C-B359-0437CE0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847-890D-49A7-894E-38E0EBB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77D-66BA-4D29-A5C4-14E678B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1232-1FCC-4033-A382-27F94635C8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167652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小燕子进步了</a:t>
            </a:r>
            <a:endParaRPr b="1" lang="en-US" sz="7200" spc="1" strike="noStrike">
              <a:ln w="0">
                <a:noFill/>
              </a:ln>
              <a:solidFill>
                <a:srgbClr val="ff66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年义务教育西师版小学语文第二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754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66680" y="990720"/>
            <a:ext cx="914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Times New Roman"/>
                <a:ea typeface="隶书"/>
              </a:rPr>
              <a:t>教学过程设计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76252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43280" y="1484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谈话激趣、创设情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508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拓展延伸、实践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933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以读代讲、理解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2781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初读课文、学习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48720" y="5762520"/>
            <a:ext cx="1095120" cy="109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05520" y="4648320"/>
            <a:ext cx="3276360" cy="1447560"/>
          </a:xfrm>
          <a:prstGeom prst="horizontalScroll">
            <a:avLst>
              <a:gd name="adj" fmla="val 12500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习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228600"/>
            <a:ext cx="3276360" cy="1600200"/>
            <a:chOff x="533520" y="228600"/>
            <a:chExt cx="3276360" cy="1600200"/>
          </a:xfrm>
        </p:grpSpPr>
        <p:sp>
          <p:nvSpPr>
            <p:cNvPr id="96" name=""/>
            <p:cNvSpPr/>
            <p:nvPr/>
          </p:nvSpPr>
          <p:spPr>
            <a:xfrm>
              <a:off x="533520" y="228600"/>
              <a:ext cx="3276360" cy="1447920"/>
            </a:xfrm>
            <a:prstGeom prst="horizontalScroll">
              <a:avLst>
                <a:gd name="adj" fmla="val 125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自学生字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152388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28800" y="1600200"/>
            <a:ext cx="3962520" cy="1676520"/>
            <a:chOff x="1828800" y="1600200"/>
            <a:chExt cx="3962520" cy="1676520"/>
          </a:xfrm>
        </p:grpSpPr>
        <p:sp>
          <p:nvSpPr>
            <p:cNvPr id="99" name=""/>
            <p:cNvSpPr/>
            <p:nvPr/>
          </p:nvSpPr>
          <p:spPr>
            <a:xfrm>
              <a:off x="1828800" y="1600200"/>
              <a:ext cx="3962520" cy="1523880"/>
            </a:xfrm>
            <a:prstGeom prst="horizontalScroll">
              <a:avLst>
                <a:gd name="adj" fmla="val 125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小组内检查全班交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97180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05320" y="3048120"/>
            <a:ext cx="3733560" cy="1828800"/>
            <a:chOff x="3505320" y="3048120"/>
            <a:chExt cx="3733560" cy="1828800"/>
          </a:xfrm>
        </p:grpSpPr>
        <p:sp>
          <p:nvSpPr>
            <p:cNvPr id="102" name=""/>
            <p:cNvSpPr/>
            <p:nvPr/>
          </p:nvSpPr>
          <p:spPr>
            <a:xfrm>
              <a:off x="3505320" y="3048120"/>
              <a:ext cx="3733560" cy="1600200"/>
            </a:xfrm>
            <a:prstGeom prst="horizontalScroll">
              <a:avLst>
                <a:gd name="adj" fmla="val 125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游戏巩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720" y="449568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1257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14800" y="4572000"/>
            <a:ext cx="4648320" cy="17524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角色朗读演读加深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048520" y="5943600"/>
            <a:ext cx="1095480" cy="10954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8600" y="914400"/>
            <a:ext cx="4343400" cy="1981080"/>
            <a:chOff x="228600" y="914400"/>
            <a:chExt cx="4343400" cy="1981080"/>
          </a:xfrm>
        </p:grpSpPr>
        <p:sp>
          <p:nvSpPr>
            <p:cNvPr id="108" name=""/>
            <p:cNvSpPr/>
            <p:nvPr/>
          </p:nvSpPr>
          <p:spPr>
            <a:xfrm>
              <a:off x="228600" y="914400"/>
              <a:ext cx="4343400" cy="1676520"/>
            </a:xfrm>
            <a:prstGeom prst="horizont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多种形式朗读感知课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2362320"/>
              <a:ext cx="9144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981080" y="2666880"/>
            <a:ext cx="5486400" cy="2133720"/>
            <a:chOff x="1981080" y="2666880"/>
            <a:chExt cx="5486400" cy="2133720"/>
          </a:xfrm>
        </p:grpSpPr>
        <p:sp>
          <p:nvSpPr>
            <p:cNvPr id="111" name=""/>
            <p:cNvSpPr/>
            <p:nvPr/>
          </p:nvSpPr>
          <p:spPr>
            <a:xfrm>
              <a:off x="1981080" y="2666880"/>
              <a:ext cx="5486400" cy="1828800"/>
            </a:xfrm>
            <a:prstGeom prst="horizont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小组合作学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生生、师生交流理解课文含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4267080"/>
              <a:ext cx="91440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69712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124080" y="2209680"/>
            <a:ext cx="2971800" cy="244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364440" y="1600200"/>
            <a:ext cx="231768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696080" y="576252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53352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板书设计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371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燕子进步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362320"/>
            <a:ext cx="617220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燕子（图）                    燕子妈（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冬瓜（图）    茄子（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                   小                          不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                    紫                         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上有毛        柄上有刺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472428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3640" y="4724280"/>
            <a:ext cx="373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933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3200400"/>
            <a:ext cx="2895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484360" y="1916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说教学准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556000" y="9810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39337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说教学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2556000" y="29242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说教法学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000" y="1523880"/>
            <a:ext cx="1703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Times New Roman"/>
                <a:ea typeface="隶书"/>
              </a:rPr>
              <a:t>小燕子进步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494172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板书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600" y="1600200"/>
            <a:ext cx="1703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隶书"/>
                <a:ea typeface="隶书"/>
              </a:rPr>
              <a:t>说  教  材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971800" y="14479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教材简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971800" y="2514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学情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2971800" y="3581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971800" y="4648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教学重难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12000" y="576252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333360"/>
            <a:ext cx="28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教材简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484280"/>
            <a:ext cx="87357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小燕子进步了》是西南师大版小学语文第二册第六单元的一篇课文。这是一篇生动的童话故事，讲的是燕子妈妈让小燕子到菜园里去观察冬瓜和茄子有什么不一样，小燕子片面观察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获较小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妈妈的一次次鼓励下，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连去了三次，终于细致观察到了冬瓜和茄子的不同特点：冬瓜大、茄子小；冬瓜是绿的，茄子是紫的；冬瓜的皮上有细毛，茄子的柄上有小刺。全文共有八段，以小燕子与燕子妈妈的对话为主线，语言简洁明了，生动有趣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配了图画，学生易读易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5589720"/>
            <a:ext cx="10951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4936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情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77336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班学生活泼好动，具有强烈的好奇心，他们的思维方式以直观、形象为主，注意力持久性差，朗读时可能会出现唱读现象，经过一学期的学习，学生对学习已有了一定的学习经验，掌握了一些自主、合作学习的方法，但还都处于初级阶段，需要在学习过程中进一步渗透和强化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1828800"/>
            <a:ext cx="761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Times New Roman"/>
                <a:ea typeface="隶书"/>
              </a:rPr>
              <a:t>教学目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27432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能力目标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词语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选择词语造句。分角色朗读课文，能从故事中受到启发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2952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知识目标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运用自己喜欢的方式认识本课生字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42670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情感目标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“小燕子进步了”引发学生学会仔细观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6600" y="1752480"/>
            <a:ext cx="1703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Times New Roman"/>
                <a:ea typeface="隶书"/>
              </a:rPr>
              <a:t>教学重难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60020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教学重点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生字新词；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理解燕子妈妈为什么满意地笑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50532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教学难点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发学生善于观察周围的一切事物，并愿意把自己观察到的与人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77080" y="5589720"/>
            <a:ext cx="10954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828800"/>
            <a:ext cx="838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cc"/>
                </a:solidFill>
                <a:latin typeface="Times New Roman"/>
                <a:ea typeface="隶书"/>
              </a:rPr>
              <a:t>教学准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981080"/>
            <a:ext cx="358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：制作课件，实物，生字卡片、小燕子和燕子妈妈的头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：课前观察冬瓜、茄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89720"/>
            <a:ext cx="10954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1523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教法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导入法 、趣味游戏法 、以读代讲法、直观教学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学法：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赛、游戏法；自学、合作、探究法；读、思、议、评、演等方法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576252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8:53:08Z</dcterms:created>
  <dc:creator>user</dc:creator>
  <dc:description/>
  <dc:language>en-US</dc:language>
  <cp:lastModifiedBy>User</cp:lastModifiedBy>
  <dcterms:modified xsi:type="dcterms:W3CDTF">2013-04-20T08:16:07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1000000000001024120</vt:lpwstr>
  </property>
</Properties>
</file>