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76"/>
          <p:cNvSpPr/>
          <p:nvPr/>
        </p:nvSpPr>
        <p:spPr>
          <a:xfrm>
            <a:off x="1542600" y="2852640"/>
            <a:ext cx="6239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    山青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一年级下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4662360" y="225432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6300720" y="2205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图片 14345" descr="5"/>
          <p:cNvPicPr/>
          <p:nvPr/>
        </p:nvPicPr>
        <p:blipFill>
          <a:blip r:embed="rId1"/>
          <a:stretch/>
        </p:blipFill>
        <p:spPr>
          <a:xfrm>
            <a:off x="4573440" y="1844640"/>
            <a:ext cx="4608720" cy="459900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14346"/>
          <p:cNvSpPr/>
          <p:nvPr/>
        </p:nvSpPr>
        <p:spPr>
          <a:xfrm>
            <a:off x="61920" y="2952720"/>
            <a:ext cx="45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Calibri"/>
              </a:rPr>
              <a:t>春风春雨绿蒙蒙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5"/>
          <p:cNvSpPr/>
          <p:nvPr/>
        </p:nvSpPr>
        <p:spPr>
          <a:xfrm>
            <a:off x="4662360" y="225432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6300720" y="2205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15369" descr="6"/>
          <p:cNvPicPr/>
          <p:nvPr/>
        </p:nvPicPr>
        <p:blipFill>
          <a:blip r:embed="rId1"/>
          <a:stretch/>
        </p:blipFill>
        <p:spPr>
          <a:xfrm>
            <a:off x="4211640" y="2200320"/>
            <a:ext cx="4143240" cy="403524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15370"/>
          <p:cNvSpPr/>
          <p:nvPr/>
        </p:nvSpPr>
        <p:spPr>
          <a:xfrm>
            <a:off x="1187280" y="2925720"/>
            <a:ext cx="455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春雨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361800" y="4076640"/>
            <a:ext cx="2986200" cy="20890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270036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4662360" y="225432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6300720" y="2205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16393" descr="1"/>
          <p:cNvPicPr/>
          <p:nvPr/>
        </p:nvPicPr>
        <p:blipFill>
          <a:blip r:embed="rId2"/>
          <a:stretch/>
        </p:blipFill>
        <p:spPr>
          <a:xfrm>
            <a:off x="2916360" y="1197000"/>
            <a:ext cx="5702040" cy="443232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16394"/>
          <p:cNvSpPr/>
          <p:nvPr/>
        </p:nvSpPr>
        <p:spPr>
          <a:xfrm>
            <a:off x="3995640" y="1844640"/>
            <a:ext cx="379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c0504d"/>
                </a:solidFill>
                <a:latin typeface="楷体"/>
                <a:ea typeface="楷体"/>
              </a:rPr>
              <a:t>山青青，</a:t>
            </a:r>
            <a:r>
              <a:rPr b="1" lang="en-US" sz="3200" spc="-1" strike="noStrike">
                <a:solidFill>
                  <a:srgbClr val="c0504d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c0504d"/>
                </a:solidFill>
                <a:latin typeface="楷体"/>
                <a:ea typeface="楷体"/>
              </a:rPr>
              <a:t>水青青， 鸟儿鸣叫一声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cc00cc"/>
                </a:solidFill>
                <a:latin typeface="楷体"/>
                <a:ea typeface="楷体"/>
              </a:rPr>
              <a:t>树青青，</a:t>
            </a:r>
            <a:r>
              <a:rPr b="1" lang="en-US" sz="3200" spc="-1" strike="noStrike">
                <a:solidFill>
                  <a:srgbClr val="cc00cc"/>
                </a:solidFill>
                <a:latin typeface="楷体"/>
                <a:ea typeface="楷体"/>
              </a:rPr>
              <a:t>/</a:t>
            </a:r>
            <a:r>
              <a:rPr b="1" lang="zh-CN" sz="3200" spc="-1" strike="noStrike">
                <a:solidFill>
                  <a:srgbClr val="cc00cc"/>
                </a:solidFill>
                <a:latin typeface="楷体"/>
                <a:ea typeface="楷体"/>
              </a:rPr>
              <a:t>草青青， 山花朵朵笑盈盈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苗青青，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∕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田青青，春风春雨绿蒙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361800" y="4076640"/>
            <a:ext cx="2986200" cy="208908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17417"/>
          <p:cNvSpPr/>
          <p:nvPr/>
        </p:nvSpPr>
        <p:spPr>
          <a:xfrm>
            <a:off x="2987640" y="19162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苗青青，田青青，春风春雨绿蒙蒙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春天到了，植物发芽了，在春雨的滋润下，大地上呈现一派绿油油的 景象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18437"/>
          <p:cNvSpPr/>
          <p:nvPr/>
        </p:nvSpPr>
        <p:spPr>
          <a:xfrm>
            <a:off x="1044720" y="4005360"/>
            <a:ext cx="63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山青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18438"/>
          <p:cNvSpPr/>
          <p:nvPr/>
        </p:nvSpPr>
        <p:spPr>
          <a:xfrm>
            <a:off x="2703600" y="3359160"/>
            <a:ext cx="23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山、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18439"/>
          <p:cNvSpPr/>
          <p:nvPr/>
        </p:nvSpPr>
        <p:spPr>
          <a:xfrm>
            <a:off x="2700360" y="4076640"/>
            <a:ext cx="18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树、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18440"/>
          <p:cNvSpPr/>
          <p:nvPr/>
        </p:nvSpPr>
        <p:spPr>
          <a:xfrm>
            <a:off x="2700360" y="4870440"/>
            <a:ext cx="18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苗、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箭头 262"/>
          <p:cNvSpPr/>
          <p:nvPr/>
        </p:nvSpPr>
        <p:spPr>
          <a:xfrm flipV="1">
            <a:off x="2340000" y="378936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箭头 263"/>
          <p:cNvSpPr/>
          <p:nvPr/>
        </p:nvSpPr>
        <p:spPr>
          <a:xfrm>
            <a:off x="2411280" y="4365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箭头 264"/>
          <p:cNvSpPr/>
          <p:nvPr/>
        </p:nvSpPr>
        <p:spPr>
          <a:xfrm>
            <a:off x="2484360" y="4510080"/>
            <a:ext cx="36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18444"/>
          <p:cNvSpPr/>
          <p:nvPr/>
        </p:nvSpPr>
        <p:spPr>
          <a:xfrm>
            <a:off x="4141440" y="2997360"/>
            <a:ext cx="1262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Calibri"/>
                <a:ea typeface="微软雅黑"/>
              </a:rPr>
              <a:t>｝</a:t>
            </a:r>
            <a:endParaRPr b="0" lang="en-US" sz="1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18445"/>
          <p:cNvSpPr/>
          <p:nvPr/>
        </p:nvSpPr>
        <p:spPr>
          <a:xfrm>
            <a:off x="5194440" y="4213080"/>
            <a:ext cx="35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春风春雨绿蒙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1"/>
          <p:cNvSpPr/>
          <p:nvPr/>
        </p:nvSpPr>
        <p:spPr>
          <a:xfrm>
            <a:off x="1025280" y="98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图解结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9461"/>
          <p:cNvSpPr/>
          <p:nvPr/>
        </p:nvSpPr>
        <p:spPr>
          <a:xfrm>
            <a:off x="436680" y="22543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《山青青》是一篇精读课文，更是一篇活泼欢快，意趣盎然的童谣。诗歌语言简洁精练，意境清新明丽。诗人运用叠词，“青青”、“声声”、“笑盈盈”、“绿蒙蒙”，描绘出一幅充满生机的春意图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881640" y="907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概括主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20486"/>
          <p:cNvSpPr/>
          <p:nvPr/>
        </p:nvSpPr>
        <p:spPr>
          <a:xfrm>
            <a:off x="755640" y="1916280"/>
            <a:ext cx="75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通过指导朗读，培养学生的语感，激发学生对春天的热爱，对大自然的热爱。朗读整篇课文，语速稍缓慢，语调较高，第一句体现春天到了，鸟儿出来了的欢快的心情。“一声声”声音放亮一点，好像鸟儿在叫一样。朗读第二句时，体现出花儿开放了，树啊，草啊变绿了，把高兴的心情读出来。特别是读“笑盈盈”的时候面带微笑，好像自己就是一朵花儿一样。朗读第三句时要体现出春天来了，万物苏醒，好像我们也被春风和春雨滋润着。朗读时要读出韵脚，应带着兴奋、喜悦的心情来读，体会对春天的热爱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　学生在正确朗读的基础上，多读几遍。学生读熟后，再练习背诵，同学之间互相检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73800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写法点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21510"/>
          <p:cNvSpPr/>
          <p:nvPr/>
        </p:nvSpPr>
        <p:spPr>
          <a:xfrm>
            <a:off x="539640" y="1989000"/>
            <a:ext cx="73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编者对本课插图设计较为简单，目的是留给学生丰富的想象空间。学生根据自己的理解和想象给课文配插图；可以直接在教材中写写画画，也可以另外设计版面和插图。这样做不是为了检验谁的图画得漂亮，而是提供给想象的空间，每个学生可以说一说，自己为什么要这样写、这样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1"/>
          <p:cNvSpPr/>
          <p:nvPr/>
        </p:nvSpPr>
        <p:spPr>
          <a:xfrm>
            <a:off x="80928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拓展提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22534"/>
          <p:cNvSpPr/>
          <p:nvPr/>
        </p:nvSpPr>
        <p:spPr>
          <a:xfrm>
            <a:off x="1260360" y="2060640"/>
            <a:ext cx="69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学习这篇课文感受到春天的景物，绿色的树，红色的花，绿油油的田野，高山流水，小鸟双飞。加深对春天的喜爱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95400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心灵感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5940360" y="4581360"/>
            <a:ext cx="2376720" cy="166212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23558"/>
          <p:cNvSpPr/>
          <p:nvPr/>
        </p:nvSpPr>
        <p:spPr>
          <a:xfrm>
            <a:off x="684360" y="1916280"/>
            <a:ext cx="639900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我会读（加拼音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大山（　）　　雨水（　）田（　）地　　花草（　）　小鸟（　）鸣叫（　）一声声（　）　绿蒙蒙（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809280" y="98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随堂练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文本框 6152"/>
          <p:cNvSpPr/>
          <p:nvPr/>
        </p:nvSpPr>
        <p:spPr>
          <a:xfrm>
            <a:off x="828720" y="1989000"/>
            <a:ext cx="70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课文配有两幅插图，第一幅插图画的是绿色的树，红色的花，绿油油的田野；第二幅图画的是高山流水，小鸟双飞。这两幅插图直观感受春天的景物，理解重点、难点词句，加深对课文对春天的喜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2"/>
          <p:cNvSpPr/>
          <p:nvPr/>
        </p:nvSpPr>
        <p:spPr>
          <a:xfrm>
            <a:off x="664920" y="98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资料宝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24584"/>
          <p:cNvSpPr/>
          <p:nvPr/>
        </p:nvSpPr>
        <p:spPr>
          <a:xfrm>
            <a:off x="250920" y="1628640"/>
            <a:ext cx="862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．我会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山　　水　　雨　　鸟　　苗　　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绿绿的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青青的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叽叽喳喳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高高的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嫩嫩的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哗哗地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25601"/>
          <p:cNvSpPr/>
          <p:nvPr/>
        </p:nvSpPr>
        <p:spPr>
          <a:xfrm>
            <a:off x="539640" y="1341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．我会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　　）青青，（　　）青青，鸟儿鸣叫（　　）声声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树青青，草青青，（　　）花朵朵笑盈盈。（　　）青青，（　　）青青，春风春雨绿蒙蒙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76"/>
          <p:cNvSpPr/>
          <p:nvPr/>
        </p:nvSpPr>
        <p:spPr>
          <a:xfrm>
            <a:off x="395280" y="1557360"/>
            <a:ext cx="8412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山青青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完了，把你的收获和大家分享一下吧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朋友，加油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7174"/>
          <p:cNvSpPr/>
          <p:nvPr/>
        </p:nvSpPr>
        <p:spPr>
          <a:xfrm>
            <a:off x="971640" y="2276640"/>
            <a:ext cx="700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、背诵课文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、本文有几小节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、本文写 了 几种青青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881640" y="1123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预习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8200"/>
          <p:cNvSpPr/>
          <p:nvPr/>
        </p:nvSpPr>
        <p:spPr>
          <a:xfrm>
            <a:off x="971640" y="2347920"/>
            <a:ext cx="66103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草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字中间的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日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字要写扁一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青”字第四笔横要写长一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朵”字上面部分第二笔是横折弯，不是横折弯钩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09280" y="1123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字词乐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9224"/>
          <p:cNvSpPr/>
          <p:nvPr/>
        </p:nvSpPr>
        <p:spPr>
          <a:xfrm>
            <a:off x="1042920" y="1700280"/>
            <a:ext cx="685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鸣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鸣叫）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声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声音）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草地）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蒙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蒙古）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盈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笑盈盈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361800" y="4076640"/>
            <a:ext cx="2986200" cy="20890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249" descr="11"/>
          <p:cNvPicPr/>
          <p:nvPr/>
        </p:nvPicPr>
        <p:blipFill>
          <a:blip r:embed="rId2"/>
          <a:stretch/>
        </p:blipFill>
        <p:spPr>
          <a:xfrm>
            <a:off x="4067280" y="2060640"/>
            <a:ext cx="3800520" cy="389412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10250"/>
          <p:cNvSpPr/>
          <p:nvPr/>
        </p:nvSpPr>
        <p:spPr>
          <a:xfrm>
            <a:off x="828720" y="3068640"/>
            <a:ext cx="31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Calibri"/>
              </a:rPr>
              <a:t>山青青水青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809280" y="907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课文详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1273" descr="1"/>
          <p:cNvPicPr/>
          <p:nvPr/>
        </p:nvPicPr>
        <p:blipFill>
          <a:blip r:embed="rId1"/>
          <a:stretch/>
        </p:blipFill>
        <p:spPr>
          <a:xfrm>
            <a:off x="4572000" y="2060640"/>
            <a:ext cx="3652920" cy="389880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1274"/>
          <p:cNvSpPr/>
          <p:nvPr/>
        </p:nvSpPr>
        <p:spPr>
          <a:xfrm>
            <a:off x="179280" y="2924280"/>
            <a:ext cx="41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鸟儿鸣叫一声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662360" y="225432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6300720" y="2205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图片 12297" descr="3"/>
          <p:cNvPicPr/>
          <p:nvPr/>
        </p:nvPicPr>
        <p:blipFill>
          <a:blip r:embed="rId1"/>
          <a:stretch/>
        </p:blipFill>
        <p:spPr>
          <a:xfrm>
            <a:off x="4282920" y="1773360"/>
            <a:ext cx="4175280" cy="460836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12298"/>
          <p:cNvSpPr/>
          <p:nvPr/>
        </p:nvSpPr>
        <p:spPr>
          <a:xfrm>
            <a:off x="142920" y="3149640"/>
            <a:ext cx="471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山花朵朵笑盈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662360" y="225432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6300720" y="2205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13321" descr="4"/>
          <p:cNvPicPr/>
          <p:nvPr/>
        </p:nvPicPr>
        <p:blipFill>
          <a:blip r:embed="rId1"/>
          <a:stretch/>
        </p:blipFill>
        <p:spPr>
          <a:xfrm>
            <a:off x="3995640" y="2276640"/>
            <a:ext cx="4314960" cy="383364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3322"/>
          <p:cNvSpPr/>
          <p:nvPr/>
        </p:nvSpPr>
        <p:spPr>
          <a:xfrm>
            <a:off x="189000" y="3009960"/>
            <a:ext cx="366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Calibri"/>
              </a:rPr>
              <a:t>苗青青田青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05:34:07Z</dcterms:created>
  <dc:creator>Administrator</dc:creator>
  <dc:description/>
  <cp:keywords/>
  <dc:language>en-US</dc:language>
  <cp:lastModifiedBy>微软用户</cp:lastModifiedBy>
  <dcterms:modified xsi:type="dcterms:W3CDTF">2016-05-28T01:41:48Z</dcterms:modified>
  <cp:revision>5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